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7711-635E-4C0D-B9AF-77602B7DC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79D9-F72C-471C-A0AA-0862DBFD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DEC9-F7F7-4B36-94EB-358758CB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A6CE-C76B-445F-B8E6-15CE9B8A9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FF3C2-715A-4885-B245-89DDB57BE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F9257-1A01-42BC-9CD7-24F72CE2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1D639-BF77-4374-A096-16FBB72C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49809-31E9-473E-9255-50F400A1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1145C-9C6B-494B-815E-F05FE0A7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736DE-833E-47BA-B866-F5694D0A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A4D87-0F56-413A-953C-F5B8A182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1E55-5052-4EBD-A4E6-A32677A8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692D7-75B6-4485-B0AB-76D3A16C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4CF96-F47E-45A3-9869-6F64BB0D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D6045-9BD3-49F1-BD2C-B41586B9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52528-44C9-421E-AABC-281CFD4C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F9995-F0D3-4D82-A700-9ACBB3167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03AB-B6D4-45A5-A7AD-8B55FF37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DC77-578F-4AA9-B89D-93F766B4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5F3D-162B-402F-8CFA-A6AE8E7F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7149-9AB2-48EF-ACF6-178544FA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DE46-A79A-44C9-895C-B9627B8A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449A-28F3-49F4-B80D-FE630E13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6ED8-87BF-43ED-BB2C-F1EF2151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9FD7-0150-4A15-A905-83F2653E80A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7347-F8DD-4AA4-B998-65A6FD62BF9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ATENCION DEL PACIENTE TERMINAL Y DEL CADAVER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914400" y="34290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f. Asist. Mat. Nidia Canales Velásqu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TENCION DEL PACIENTE TERMINA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ASES EN LA ATENCION DEL PACIENTE TERMI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ASE 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 INICIAL DEL CONOCIMIETO DE LA EXISTENCIA DE LA ENFERME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ASE 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MBIOS SIGNIFICATIVOS E IRREVERSIBLES DE LA SITUACION CLIN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ASE 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ETAPA TERMINAL INMIN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TENCION DEL PACIENTE TERMINA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5334120" cy="33526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838080" y="2133720"/>
            <a:ext cx="73152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ASE EMOCIO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GA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AT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EPTA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TENCION DEL PACIENTE TERMINA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OMUNICACION  MEDICO PACIENTE EN LA FASE INICIAL DE CONOCIMIENTO DE LA ENFERMEDAD DEBE SER ENFOCADA HAC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VALORACION DEL CONOCIMIENTO DE LA ENFERME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ISFACER LAS DEMANDAS COGNITIVAS DEL PAC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OMISO DE DECIR SIEMPRE LA VER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ICAR EL TRAT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RECER APOYO TERAPEUTICO Y TECNICO INCONDI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TENCION DEL PACIENTE TERMINA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COMUNICACION EN LA FASE 2 DEBE CONSIDERA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ORZAR EL CONOCIMIENTO DE LA EVOLUCION DE LA ENFERME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TEAR LOS OBJETIVOS REALES DEL TRATA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YUDAR EN LA ORGANIZACION DE LA FAMI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0"/>
            <a:ext cx="38862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TENCION DEL PACIENTE TERMINA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LA FASE 3 EL ENFOQUE DEBE IR A  REFORZAR EL CONOCIMIENTO SOBRE LA ETAPA FINAL DE LA ENFERME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IDADO DEL PACIENTE SOBRE TODO EN LA ETAPA DE POSTRA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OYO A LA FAMILIA TRANSMISION DE SERENIDAD Y ASPECTOS LEG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TENCION DEL PACIENTE TERMINA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ANDO EL TRATAMIENTO CON FINES CURATIVOS FRACASA O PRESENTA COMPLICACIONES Y EL PACIENTE PASA A CUIDADOS PALIATIVOS  ES FRECUENTE QUE SE MANIFIESTEN  ABATIMIENTO Y DESAMPARO QUE INDUCE A LA REFLEXION SOBRE S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UIDADOS PALIATIVO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CONSIDERA LA TERAPIA PALIATIVA EN LAS SIGUIENTES SITUACION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FERMEDAD AVANZADA PROGRESIVA E INCUR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TA DE POSIBILIDAD RAZONABLE DE RESPUESTA A TRATAMIENTO ESPECIF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CIA NUMEROSOS PROBLEMAS Y SINTOMAS INTENSOS  MULTIFACTORIALES Y CAMBIA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N IMPACTO EMOCIONAL EN EL PACIENTE, EN LA FAMILIA Y EN EL EQUIPO DE SAL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TENCION DEL PACIENTE TERMINA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 IDEAL ES QUE EL PACIENTE TERMINAL SEA ATENDIDO EN EL DOMICILI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ESTO SE OFRECE APOYO DOMICILIARI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ENSEÑA A LA FAMILIA LOS CUIDADOS  DEL PACIENTE POSTR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TENCION DEL PACIENTE TERMINA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OFRECE HOSPITALIZACION EN LAS SIGUIENTES CIRCUNSTANCI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 EL ENFERMO NO QUIERA ESTAR EN SU C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 EL CONTROL DE LOS SINTOMA SEA COMPLICADO REALIZARLO EN EL DOMICIL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 EXISTA CLAUDICACION FAMILI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 LOS RECURSOS ECONOMICOS SEAN REDUC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 EXISTAN CONFLICTOS FAMILI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TENCION DEL PACIENTE TERMINA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CALA DE ANALGESIA DELA 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762120" y="2233440"/>
          <a:ext cx="7696080" cy="4294440"/>
        </p:xfrm>
        <a:graphic>
          <a:graphicData uri="http://schemas.openxmlformats.org/drawingml/2006/table">
            <a:tbl>
              <a:tblPr/>
              <a:tblGrid>
                <a:gridCol w="2438280"/>
                <a:gridCol w="5257800"/>
              </a:tblGrid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º ESCAL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MIZ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ACETAM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ICILAT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º ESCALO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DE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MAD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º ESCAL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F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CACION COADYUVA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IDEPRESIVOS TRICICLIC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ITRIPT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ICONVULSIVANTES CARBAMACEP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NITOIN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TICOI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ZAR LOS CUIDADOS Y ATENCION INTEGRAL QUE SE LE DEBEN BRINDAR A LA PERSONA QUE PRESENTA UNA ENFERMEDAD TERMINAL E IRREVERSIBLE INVOLUCRANDO EN DICHO ANALIS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PECTOS FISIOPATOLOGICOS DE ACUERDO A LA EVOLUCION NATURAL  DE LA ENFERMEDAD HASTA LA MUER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PECTOS PSICOLOGICOS Y SOCIALES DEL PACIENTE Y SU FAMIL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PECTOS ETICOS EN TORNO AL FINAL DE LA VI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PECTOS LEGA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TENCION DEL PACIENTE TERMINA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ANDO EL PACIENTE ESTA AGONICO SE PLANTEA EL DILEMA DE LA SEDA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TRATAMIENTO EN ESTA ETAPA  SE REALIZA CON LA INTENCION DE ALIVIAR  LOS SINTOMAS Y NO DE PRACTICAR LA EUTANAS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TENCION DEL PACIENTE TERMINAL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PACIENTE TERMINAL DEBE SER UBICADO EN UNA PIEZA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UMIN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BIENTE AGRAD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TA HACIA JARD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EMPRE ASE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OR AGRAD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ATENCION DEL PACIENTE TERMINAL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IDADOS DIARIOS DEL PACIENTE TERM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MENTAC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DRATAC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IGENAC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CION DE ESCA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TISFACCION DE NECESIDAES BÁS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NCION APOYO PSICOLOG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OYO RELIGIO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CANIA CON LA FAMILIA Y SERES QUER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143160" y="0"/>
            <a:ext cx="6000840" cy="67057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ATENCION DEL PACIENTE TERMINAL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SPECTOS LEGAL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AR A LA FAMILIA EN LOS TRAMITES LEGALES QUE DEBERA REALIZAR CUANDO OCURRA EL DECE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OBLIGACION DEL MÉDICO OTORGAR EL CERTIFICADO DE DEFUN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CRIBIR LA MUERTE EN EL REGISTRO CIVI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E DE SEPULTA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TENCION DEL CADAV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UNA VEZ COMPROBADA LA MUER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RETIRA SONDAS DRENAJES, V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REALIZA UN BAÑO DE  ESPONJ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LIMPIAN LA HERIDAS  Y SECRE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COLOCAN TAPONES EN LOS ORIF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COLOCA APOSITO EN EL PERINE Y EN LA REGION GLUT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VIS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 LA PERSONA MUERE EN EL HOSPI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ENVUELVE EN UNA SABANA EN FORMA COMPLE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COLOCA UN BRAZALETE CON LA IDENTIFICACION COMPLE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TRASLADA A ANATOMIA PATOLOG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HACE UN INVENTARIO DE SUS PERTENECIAS SE ETIQUETAN Y SE GUARD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0866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371600" y="762120"/>
            <a:ext cx="6172200" cy="59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OCI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ROMI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NEST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ONSABIL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 PROFUNDO RESPE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BRETO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066680" y="1371600"/>
            <a:ext cx="7239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TONCES UNA GRAN PAZ INVADIO A MI CUERPO Y A MI ESPIRITU Y ME QUEDE DORMID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1523880" y="304920"/>
            <a:ext cx="5257800" cy="35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RACI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AR LA ATENCION Y CUIDADOS DEL CADA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IZAR LOS ASPECTOS ETICOS EN EL CUIDADO Y LA ATENCION DEL CADA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OCER LOS TRAMITES  LEGALES PARA GUIAR A LA FAMILIA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UNA COSA ES QUE SEPAMOS QUE VAMOS A MORI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PERO ES ALGO MUY DISTINTO QUE TENGAMOS LA CERTEZA QUE NOS ESTAMOS MURIENDO Y QUE SOLO ESTAMOS ESPERANDO QUE LLEGUE EL FINAL DEFINITIVO</a:t>
            </a: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EFINIC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NFERMO TERMI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 QUE PRESUMIBLEMENTE FALLECERA EN UN FUTURO CERCANO COMO CONSECUENCIA DE UNA ENFERMEDAD O LESION DE DIAGNOSTICO CERTERO SIN POSIBILIDAD DE TRATAMIENTO CURA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SPECTOS FISIOPATOLOGICO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AS QUE AFECTAN EL ESTADO GENERAL DEL ENFERMO  DEBIDO A LA REPERCUCIÓN FUNCIONAL DE LOS DIFERENTES SISTEMAS QUE DAN MANIFESTACIONES COMU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AS ESPECIFICOS DERIVADOS DE LA DISFUCION ORGÁNICA DE LA O LAS ENFERMEDADES DE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SPECTOS FISIOPATOLOGICO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SPECTOS GENERA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PETENCIA – ANOREX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POTERMIA O HIPERTE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HIDRATAC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MI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R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IPAC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EORIS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IDAS DE DECÚBI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754680" y="2362320"/>
            <a:ext cx="23893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SPECTOS FISIOPATOLOGICO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D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FISIC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EMO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RIVADO DE LA               MIE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FERMEDAD Y SUS        SOLE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PERCUCIONES              ABANDO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IS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RDIDA GRADUAL DE 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DEPEND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2057400"/>
            <a:ext cx="1067040" cy="76212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 flipH="1" rot="10800000">
            <a:off x="1676520" y="4419360"/>
            <a:ext cx="1438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TENCION DEL PACIENTE TERMINA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SPECTOS QUE SE DEBEN CONSIDERA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DE LOS SINTO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TA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VIO DEL D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O DE MEDIDAS EXTRAORDINA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IRO DE MEDIDAS ORDINA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IDADOS PALIA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IDADOS DE ENFERM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467480" y="2133720"/>
            <a:ext cx="1676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cultad de Medicina</cp:lastModifiedBy>
  <dcterms:modified xsi:type="dcterms:W3CDTF">2008-11-17T20:10:38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