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33C3-76A7-40BB-80BC-3C23314A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FEF1-D35B-4676-988C-B765C759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D303-AE1E-4E90-A1D4-D825043C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57ED-36C1-45FC-B62A-5B91B36B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6C9E-43BC-4005-83C3-92275AC6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40E4-2FAF-4FC7-A7F8-E00F6357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1355-23BF-47A8-B97F-F61BE3E6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AAE1-BE68-4012-A969-8C060576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F819-3752-4633-95BA-EA5945D5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DB4E-58CD-40ED-A8CC-F7AD2D22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3FD2-5F59-42FF-B97A-80ED74E9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35F4-954E-4DD6-BF91-7B92E3ED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A07A-A9CE-4180-A86B-3A83C0A8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376F-0DD3-44EC-9BF2-413E1CAF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21F3-2974-4B2E-9594-2B7FE369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1140-2EB6-4BA2-A9B3-2CDD4EE1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1162-DDF9-4512-9272-1FA67AC6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5A6C-405B-489D-890D-EB6E93D9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6B9E-EF29-4F25-B911-949C7D62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685C-EDD7-4CC4-A270-EC5B01CE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D2BA-357F-4575-89F5-E58F54DB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2BE1-11B1-45D9-97D4-9CF490E5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BC89-E479-4DEF-B828-39DA8769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5D6-FADA-4A1D-A6EE-5736D2B8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3b07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6042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604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6042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604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6042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8D95-0A9A-431C-9DD7-4C31D591F674}" type="slidenum">
              <a:rPr b="0" lang="en-US" sz="1400" spc="-1" strike="noStrike">
                <a:solidFill>
                  <a:srgbClr val="4f604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a6d3f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3b07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F317-7CB9-462A-A8F9-5F53EF653CC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00"/>
                </a:solidFill>
                <a:latin typeface="Times New Roman"/>
              </a:rPr>
              <a:t>Educación para la Salud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54800" y="5867280"/>
            <a:ext cx="39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Times New Roman"/>
              </a:rPr>
              <a:t>Prof. IVONNE AHLE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57200" y="380880"/>
            <a:ext cx="1143000" cy="1752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95280" y="380880"/>
            <a:ext cx="65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Times New Roman"/>
              </a:rPr>
              <a:t>Departamento de Atención Primari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Times New Roman"/>
              </a:rPr>
              <a:t>y Salud Familiar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01102"/>
                </a:solidFill>
                <a:latin typeface="Times New Roman"/>
              </a:rPr>
              <a:t>EDUCACIÓN PARA LA SALUD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Proceso que informa, motiva y ayuda a la población y adoptar y mantener  prácticas y estilos de vida saludables, propugna los cambios ambientales y dirige la formación profesional e investigación sobre estos objetivo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La educación    para   la   salud   debe generar el desarrollo de todas aquellas potencialidades    que   transformen al individuo y la comunidad en dueños de su propio destino, en constructores de alternativas y soluciones frente a sus problemas de salu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30640" y="19692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01102"/>
                </a:solidFill>
                <a:latin typeface="Times New Roman"/>
              </a:rPr>
              <a:t>EDUCACIÓN PARA LA SALU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33"/>
                </a:solidFill>
                <a:latin typeface="Times New Roman"/>
              </a:rPr>
              <a:t>EN DEFINITIVA..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El éxito de la educación   en  salud sólo puede alcanzarse en la medida que </a:t>
            </a:r>
            <a:r>
              <a:rPr b="0" i="1" lang="es-ES_tradnl" sz="3600" spc="-1" strike="noStrike">
                <a:solidFill>
                  <a:srgbClr val="006600"/>
                </a:solidFill>
                <a:latin typeface="Times New Roman"/>
              </a:rPr>
              <a:t>el equipo de salud logre captar la confianza  y   participación de la comunidad    en   los   trabajos   de promoción de la salud,  y esto sólo es posible si se trabaja  en función de   sus    necesidades,    anhelos e inquietudes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99360" y="2514600"/>
            <a:ext cx="722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33"/>
                </a:solidFill>
                <a:latin typeface="Times New Roman"/>
              </a:rPr>
              <a:t>PROGRAMACIÓN EN SALUD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e3b07"/>
                </a:solidFill>
                <a:latin typeface="Times New Roman"/>
              </a:rPr>
              <a:t>Programacion educativa en Salud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6600"/>
                </a:solidFill>
                <a:latin typeface="Times New Roman"/>
              </a:rPr>
              <a:t>Conjunto de actividades de informacion, comunicacion y educacion a desarrollar en un periodo, como una estrategia más de intervención de los problemas  de salud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ontribuye al cumplimiento de los objetivos de salud, al estimular cambios en la conducta de las personas y de la comunidad,frente a situaciones especificas que les afectan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s-CL" sz="2800" spc="-1" strike="noStrike">
                <a:solidFill>
                  <a:srgbClr val="333333"/>
                </a:solidFill>
                <a:latin typeface="Times New Roman"/>
              </a:rPr>
              <a:t>MINS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Atributos de la programación educativ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ongruencia, oportuna, pertinente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la necesidad debe ser detectada a través de un dg. Educacional participativ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ualidades de un buen programa:Evitar la rutina, evita la improvisacion, ahorra tiempo,dinero y esfuerzo, favorecer los cambios, permite evaluar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5280" y="457200"/>
            <a:ext cx="769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e3b07"/>
                </a:solidFill>
                <a:latin typeface="Times New Roman"/>
              </a:rPr>
              <a:t>Programacion educativa en Salu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e3b07"/>
                </a:solidFill>
                <a:latin typeface="Times New Roman"/>
              </a:rPr>
              <a:t>Ventajas de la Programación Educativa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Introduce orden y priorizac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Vision de conjunt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Ahorro de tiempo, dinero y esfuerz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ontinuida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Profesionalizacion de la educacion,lo que implica un mayor respeto por el educand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Perfeccionamiento, por medio de evaluaciones formativas de nuestro rol de educado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e3b07"/>
                </a:solidFill>
                <a:latin typeface="Times New Roman"/>
              </a:rPr>
              <a:t>Aspectos a Considerar en la Programación Educativa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094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333333"/>
                </a:solidFill>
                <a:uFillTx/>
                <a:latin typeface="Times New Roman"/>
              </a:rPr>
              <a:t>Que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CL" sz="3600" spc="-1" strike="noStrike">
                <a:solidFill>
                  <a:srgbClr val="333333"/>
                </a:solidFill>
                <a:latin typeface="Times New Roman"/>
              </a:rPr>
              <a:t>aprendizaje se quiere alcanzar?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33"/>
                </a:solidFill>
                <a:latin typeface="Times New Roman"/>
              </a:rPr>
              <a:t>objetivo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333333"/>
                </a:solidFill>
                <a:uFillTx/>
                <a:latin typeface="Times New Roman"/>
              </a:rPr>
              <a:t>Como?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Mediante que situaciones de aprendizaje           ( actividades, vivencias) se pretende que los alumnos logren los objetiv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333333"/>
                </a:solidFill>
                <a:uFillTx/>
                <a:latin typeface="Times New Roman"/>
              </a:rPr>
              <a:t>Con que?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33"/>
                </a:solidFill>
                <a:latin typeface="Times New Roman"/>
              </a:rPr>
              <a:t>Que medios, materiales o recursos utilizara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e3b07"/>
                </a:solidFill>
                <a:latin typeface="Times New Roman"/>
              </a:rPr>
              <a:t>Debemos ademas considerar aspectos como: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Mecanismos de aprendizaje (niños distintos de anciano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aracterizacion del educando y sus necesida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Objetivos de las instituciones de que se forma par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Dominio por parte del docente del contenido a entreg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6600"/>
                </a:solidFill>
                <a:latin typeface="Times New Roman"/>
              </a:rPr>
              <a:t>Un buen  conocimiento   previo del grupo objetivo va a permitir que el trabajo de educación para la salud se adapte   a  la realidad local,   incrementando   así    su eficacia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1000" y="380880"/>
            <a:ext cx="879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e3b07"/>
                </a:solidFill>
                <a:latin typeface="Times New Roman"/>
              </a:rPr>
              <a:t>Debemos ademas considerar aspectos como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Times New Roman"/>
              </a:rPr>
              <a:t>MODELO DE SALUD CON ENFOQUE FAMILIAR Y EDUCACIÓN PARA LA SALUD</a:t>
            </a:r>
            <a:endParaRPr b="0" lang="en-US" sz="28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El desafío epidemiológico con que se inicia el milenio obliga a devolver protagonismo a la comunidad y sus organizaciones en el cuidado de su salu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Reorientando el rol del equipo de salud a un rol asesor y cuidador que acompaña el proceso salud – enfermedad y que potencia la capacidad de las personas de influir positivamente en su vida y su entorno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33"/>
                </a:solidFill>
                <a:latin typeface="Arial"/>
              </a:rPr>
              <a:t>Estas son competencias definidas para el equipo de salud en forma transversal, y que se articulan con el trabajo intersectori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e3b07"/>
                </a:solidFill>
                <a:latin typeface="Times New Roman"/>
              </a:rPr>
              <a:t>Proceso de la programacion educativa</a:t>
            </a:r>
            <a:endParaRPr b="0" lang="en-US" sz="40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333333"/>
                </a:solidFill>
                <a:uFillTx/>
                <a:latin typeface="Times New Roman"/>
              </a:rPr>
              <a:t>ETAPA DETERMINAT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Definicion del problem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aracterizacion de la poblac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Recursos de salud disponib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Definicion de objetiv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Generales y especific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Seleccion de metodos educativ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Elaboracion de plan de actividades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(cronograma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Formulacion de recursos y presupuesto del program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Descripcion del marco institucional del program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(Organismo responsabl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Determinacion de mecanismos de evaluac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(Criterios de evaluac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80880"/>
            <a:ext cx="791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e3b07"/>
                </a:solidFill>
                <a:latin typeface="Times New Roman"/>
              </a:rPr>
              <a:t>Proceso de la programacion educativ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e3b07"/>
                </a:solidFill>
                <a:latin typeface="Times New Roman"/>
              </a:rPr>
              <a:t>Objetivo educacional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La estructura en la redacción de un objetivo  debe describir una conducta espera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onducta :   es   la acción (verbo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manifiesta u observable que el educando realizará como demostración   de   su    aprendizaj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ontenido: es el tema o materia a través del cual   el    educando   expresará    su  nueva conducta o aprendizaj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e3b07"/>
                </a:solidFill>
                <a:latin typeface="Times New Roman"/>
              </a:rPr>
              <a:t>¿Qué  condiciones debe tener un objetivo Educativo?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Debe describir una acció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Señalar un contenido precis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La acción o conducta debe ser observada y medible por lo tanto evaluab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Debe ser expresado en función del educando y no del docente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e3b07"/>
                </a:solidFill>
                <a:latin typeface="Times New Roman"/>
              </a:rPr>
              <a:t>¿Para qué sirven los objetivos?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Facilitan el proceso de enseñanza-aprendizaje entre el educando y el facilitador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Al facilitador le permite seleccionar las actividades más apropiadas para el cumplimiento de los objetivo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Al educando le permite conocer lo que obtendrá de las nuevas experiencia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3600" spc="-1" strike="noStrike">
                <a:solidFill>
                  <a:srgbClr val="0e3b07"/>
                </a:solidFill>
                <a:latin typeface="Times New Roman"/>
              </a:rPr>
              <a:t>Qué características deben cumplir los contenidos educativos?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Deben ser seleccionados y desarrollados de acuerdo a los objetivos, </a:t>
            </a:r>
            <a:r>
              <a:rPr b="0" i="1" lang="es-ES_tradnl" sz="3600" spc="-1" strike="noStrike">
                <a:solidFill>
                  <a:srgbClr val="006600"/>
                </a:solidFill>
                <a:latin typeface="Times New Roman"/>
              </a:rPr>
              <a:t>es decir, a las conductas que se quiere logra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Estos deben ser Relevantes, Realistas, Simples y Atractivos 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e3b07"/>
                </a:solidFill>
                <a:latin typeface="Times New Roman"/>
              </a:rPr>
              <a:t>Etapa de ejecucion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orresponde a la puesta en marcha del plan de actividades propuesto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Esencial en esta etap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mecanismos de coordinacion con grupos a educ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grupos de trabajo con reuniones periodic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Toda técnica debemo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Conocerla bien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Saberla utilizar en el momento oportuno y saberla conducir correctamente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Una sola técnica por lo general, no es suficiente para trabajar un tem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Es importante saber ubicar las características particulares de cada técnica: sus posibilidades y límites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41280" y="525600"/>
            <a:ext cx="615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8120" y="100080"/>
            <a:ext cx="44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e3b07"/>
                </a:solidFill>
                <a:latin typeface="Times New Roman"/>
              </a:rPr>
              <a:t>Etapa de ejecuc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e3b07"/>
                </a:solidFill>
                <a:latin typeface="Times New Roman"/>
              </a:rPr>
              <a:t>Etapa de evaluación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4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33"/>
                </a:solidFill>
                <a:latin typeface="Times New Roman"/>
              </a:rPr>
              <a:t>Al termino 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33"/>
                </a:solidFill>
                <a:latin typeface="Times New Roman"/>
              </a:rPr>
              <a:t>Evaluamos efectividad del programa con respecto a objetivos propuesto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33"/>
                </a:solidFill>
                <a:latin typeface="Times New Roman"/>
              </a:rPr>
              <a:t>Cambios de actitud observados en la poblacion que educamo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33"/>
                </a:solidFill>
                <a:latin typeface="Times New Roman"/>
              </a:rPr>
              <a:t>Grado de participacion en acciones del program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El educador debe evaluar en forma permanent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Las prácticas de enseñanz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Los aciertos y limitacio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Las diferencias  culturales  con  los participantes que  impiden o aportan al proceso educativ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5720" y="457200"/>
            <a:ext cx="469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e3b07"/>
                </a:solidFill>
                <a:latin typeface="Times New Roman"/>
              </a:rPr>
              <a:t>Etapa de evaluació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Times New Roman"/>
              </a:rPr>
              <a:t>MODELO DE SALUD CON ENFOQUE FAMILIAR Y EDUCACIÓNPARA LA SALUD</a:t>
            </a:r>
            <a:endParaRPr b="0" lang="en-US" sz="28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El modelo de atención tiene como objetivo central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La búsqueda de una mejor calidad de vida para las personas, las familias y las comunidades, con un </a:t>
            </a:r>
            <a:r>
              <a:rPr b="1" i="1" lang="es-ES" sz="2400" spc="-1" strike="noStrike">
                <a:solidFill>
                  <a:srgbClr val="333333"/>
                </a:solidFill>
                <a:latin typeface="Arial"/>
              </a:rPr>
              <a:t>énfasis en la anticipación de los problema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Por lo tanto fuerte acento </a:t>
            </a:r>
            <a:r>
              <a:rPr b="1" i="1" lang="es-ES" sz="2400" spc="-1" strike="noStrike">
                <a:solidFill>
                  <a:srgbClr val="333333"/>
                </a:solidFill>
                <a:latin typeface="Arial"/>
              </a:rPr>
              <a:t>en promoción de la salud y prevención de la enfermedad,</a:t>
            </a: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 es decir, anticipatorio al daño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Impulsar acciones de </a:t>
            </a:r>
            <a:r>
              <a:rPr b="0" i="1" lang="es-E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333333"/>
                </a:solidFill>
                <a:latin typeface="Arial"/>
              </a:rPr>
              <a:t>promoción de la salud</a:t>
            </a:r>
            <a:r>
              <a:rPr b="1" lang="es-ES" sz="2400" spc="-1" strike="noStrike">
                <a:solidFill>
                  <a:srgbClr val="333333"/>
                </a:solidFill>
                <a:latin typeface="Arial"/>
              </a:rPr>
              <a:t> y</a:t>
            </a: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333333"/>
                </a:solidFill>
                <a:latin typeface="Arial"/>
              </a:rPr>
              <a:t>educación </a:t>
            </a: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para lograr estilos de vida y ambientes más saludab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e3b07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76176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333333"/>
                </a:solidFill>
                <a:latin typeface="Comic Sans MS"/>
              </a:rPr>
              <a:t>“</a:t>
            </a:r>
            <a:r>
              <a:rPr b="0" i="1" lang="es-ES_tradnl" sz="4000" spc="-1" strike="noStrike">
                <a:solidFill>
                  <a:srgbClr val="333333"/>
                </a:solidFill>
                <a:latin typeface="Comic Sans MS"/>
              </a:rPr>
              <a:t>El    nombre   tras      la educación es el mismo, pero no lo mismo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333333"/>
                </a:solidFill>
                <a:latin typeface="Comic Sans MS"/>
              </a:rPr>
              <a:t>   </a:t>
            </a:r>
            <a:r>
              <a:rPr b="0" i="1" lang="es-ES_tradnl" sz="4000" spc="-1" strike="noStrike">
                <a:solidFill>
                  <a:srgbClr val="333333"/>
                </a:solidFill>
                <a:latin typeface="Comic Sans MS"/>
              </a:rPr>
              <a:t>Todo mensaje      educativo   debe pretender hacer que el hombre sea el protagonista de su propio destino”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333333"/>
                </a:solidFill>
                <a:latin typeface="Comic Sans MS"/>
              </a:rPr>
              <a:t>KANT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PROMOCION DE LA SALUD Y</a:t>
            </a:r>
            <a:br>
              <a:rPr sz="2800"/>
            </a:b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PREVENCION DE LA ENFERMEDAD</a:t>
            </a:r>
            <a:br>
              <a:rPr sz="2800"/>
            </a:br>
            <a:endParaRPr b="0" lang="en-US" sz="28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Las actividad educativa es prevención  </a:t>
            </a:r>
            <a:r>
              <a:rPr b="1" i="1" lang="es-ES_tradnl" sz="2800" spc="-1" strike="noStrike" u="sng">
                <a:solidFill>
                  <a:srgbClr val="000099"/>
                </a:solidFill>
                <a:uFillTx/>
                <a:latin typeface="Times New Roman"/>
              </a:rPr>
              <a:t>evita, se anticipa al daño  </a:t>
            </a: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frente enfermedades específicas, accidentes y causas de muer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Times New Roman"/>
              </a:rPr>
              <a:t>La promoción de la salud desarrolla las potencialidades humanas, aumenta las habilidades y capacidades para mantener  la salud y calidad de vid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99"/>
                </a:solidFill>
                <a:latin typeface="Times New Roman"/>
              </a:rPr>
              <a:t>Por lo tanto...acciones que promueven la salud también evitan la enfermedad: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333333"/>
                </a:solidFill>
                <a:latin typeface="Times New Roman"/>
              </a:rPr>
              <a:t>Actividad Física, Alimentación Saludable, Ambientes Libres del Humo de Tabac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00"/>
                </a:solidFill>
                <a:latin typeface="Times New Roman"/>
              </a:rPr>
              <a:t>CONCEPTOS  DE EDUCACIÓN</a:t>
            </a:r>
            <a:r>
              <a:rPr b="0" lang="es-ES" sz="4400" spc="-1" strike="noStrike">
                <a:solidFill>
                  <a:srgbClr val="0e3b07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520" y="16002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4f604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Es un proceso de facilitación de aprendizajes deseables, por medio de los cuales la gente se percata más de los problemas de salud y se interesa activamente en obtener soluciones” </a:t>
            </a:r>
            <a:r>
              <a:rPr b="0" lang="es-ES" sz="2400" spc="-1" strike="noStrike">
                <a:solidFill>
                  <a:srgbClr val="333333"/>
                </a:solidFill>
                <a:latin typeface="Times New Roman"/>
              </a:rPr>
              <a:t>(American Public Association. 1943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3886200"/>
            <a:ext cx="807732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4f6042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Times New Roman"/>
              </a:rPr>
              <a:t>“</a:t>
            </a: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La educación en salud es una guía para que l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individuos o grupos perciban ciertas acciones saludables a medida que concuerden con sus propios valores o metas”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lang="es-ES" sz="2400" spc="-1" strike="noStrike">
                <a:solidFill>
                  <a:srgbClr val="006600"/>
                </a:solidFill>
                <a:latin typeface="Times New Roman"/>
              </a:rPr>
              <a:t>(Mc Mahon, Kassey. 1965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00"/>
                </a:solidFill>
                <a:latin typeface="Times New Roman"/>
              </a:rPr>
              <a:t>CONCEPTOS DE EDUCACIÓN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4f6042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Educación en Salud es la traducción de los conocimientos sobre salud en hábitos saludables, comportamientos positivos, que tienden a promover la salud del individuo, familia y comunidad”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591120" indent="-59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( Cuadernos Médico Sociales. 1966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591120" indent="-591120">
              <a:spcBef>
                <a:spcPts val="700"/>
              </a:spcBef>
              <a:buClr>
                <a:srgbClr val="4f6042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591120" indent="-591120">
              <a:spcBef>
                <a:spcPts val="700"/>
              </a:spcBef>
              <a:buClr>
                <a:srgbClr val="4f6042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La OMS define el concepto de Educación para la Salud, como </a:t>
            </a:r>
            <a:r>
              <a:rPr b="1" i="1" lang="es-ES" sz="2800" spc="-1" strike="noStrike">
                <a:solidFill>
                  <a:srgbClr val="401102"/>
                </a:solidFill>
                <a:latin typeface="Times New Roman"/>
              </a:rPr>
              <a:t>“una actividad educativa, diseñada para ampliar el conocimiento de la población en relación con la salud y desarrollar los valores y habilidades personales que promuevan salud”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591120" indent="-591120">
              <a:spcBef>
                <a:spcPts val="700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591120" indent="-591120">
              <a:spcBef>
                <a:spcPts val="700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591120" indent="-591120">
              <a:spcBef>
                <a:spcPts val="700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00"/>
                </a:solidFill>
                <a:latin typeface="Times New Roman"/>
              </a:rPr>
              <a:t>CONCEPTOS DE EDUCACIÓN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4f6042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Educación puede traducirse como </a:t>
            </a:r>
            <a:r>
              <a:rPr b="0" i="1" lang="es-ES" sz="3600" spc="-1" strike="noStrike">
                <a:solidFill>
                  <a:srgbClr val="006600"/>
                </a:solidFill>
                <a:latin typeface="Times New Roman"/>
              </a:rPr>
              <a:t>nutrir al individuo de aquellos elementos que forman su mundo espiritual y generar en él un desarrollo</a:t>
            </a: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, que se exterioriza en su comportamiento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585000" indent="-5850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585000" indent="-585000">
              <a:spcBef>
                <a:spcPts val="901"/>
              </a:spcBef>
              <a:buClr>
                <a:srgbClr val="4f6042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En definitiva podemos decir que educación es </a:t>
            </a:r>
            <a:r>
              <a:rPr b="0" i="1" lang="es-ES" sz="3600" spc="-1" strike="noStrike">
                <a:solidFill>
                  <a:srgbClr val="006600"/>
                </a:solidFill>
                <a:latin typeface="Times New Roman"/>
              </a:rPr>
              <a:t>“un proceso a través del cual la persona adquiere conocimientos, habilidades, destrezas, actitudes y valores que finalmente se traducen en un cambio de conducta”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Times New Roman"/>
              </a:rPr>
              <a:t>CONSIDERACIÓNES GENERALES</a:t>
            </a:r>
            <a:endParaRPr b="0" lang="en-US" sz="32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6600"/>
                </a:solidFill>
                <a:uFillTx/>
                <a:latin typeface="Times New Roman"/>
              </a:rPr>
              <a:t>El proceso de aprendizaje, está influenciado por una serie de factore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Ambientales, personales, en el ámbito cognitivo, emocional y de habilidade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00"/>
                </a:solidFill>
                <a:latin typeface="Times New Roman"/>
              </a:rPr>
              <a:t>Por lo tanto educador debe crear condiciones que faciliten el aprendizaje, en una atmósfera que anime a ser activo, aliente la confianza en uno mismo, facilite el descubrimiento y permita la confrontación de ideas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Times New Roman"/>
              </a:rPr>
              <a:t>CONSIDERACIÓNES GENERALES</a:t>
            </a:r>
            <a:endParaRPr b="0" lang="en-US" sz="32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13712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Importante es reconocer que educar no es informar, ni aconsejar o persuadir, para finalmente lograr comportamientos prescritos por el agente de salud, más bien e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s-ES" sz="3600" spc="-1" strike="noStrike">
                <a:solidFill>
                  <a:srgbClr val="333333"/>
                </a:solidFill>
                <a:latin typeface="Times New Roman"/>
              </a:rPr>
              <a:t>facilitar que las personas desarrollen capacidades que les permitan con conocimiento, tomar decisiones conscientes y autónomas sobre su propia salu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8T01:26:53Z</dcterms:created>
  <dc:creator>christel hanne</dc:creator>
  <dc:description/>
  <dc:language>en-US</dc:language>
  <cp:lastModifiedBy>Ivo</cp:lastModifiedBy>
  <cp:lastPrinted>2003-09-09T00:58:01Z</cp:lastPrinted>
  <dcterms:modified xsi:type="dcterms:W3CDTF">2008-05-05T18:31:12Z</dcterms:modified>
  <cp:revision>68</cp:revision>
  <dc:subject/>
  <dc:title>Programacion educativa en salud</dc:title>
</cp:coreProperties>
</file>