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5.wmf" ContentType="image/x-wmf"/>
  <Override PartName="/ppt/media/OVACION.WAV" ContentType="audio/x-wav"/>
  <Override PartName="/ppt/media/image15.wmf" ContentType="image/x-wmf"/>
  <Override PartName="/ppt/media/image2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21C-BCA8-4465-BD7E-AC4B7C48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651-1160-40DD-B103-9494D757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2C7-9898-42FF-8E11-42CC4E4C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F14-F333-4B7F-9AE1-D2708724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7393-97FA-42C8-B462-8379DEAC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202C-3CD2-4A4C-96D1-E9BA4F0E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F0EB-2049-40E1-8DCF-032AAB9C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FB3-76EF-4694-8D8F-CD685112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EA1A-94A0-4D22-B4E4-8E5FA7CD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5260-FF3E-4C25-B61C-B30BFA4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99BB-FCF5-4BC6-BBAA-607A0567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9DD-FD7F-4C2E-A6DA-2380F82B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DBC0-1B47-44CF-91CF-72009019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D171-4B4B-455E-A126-A750AF2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17E8-2BDE-4BC7-9D9D-04236757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D095-6B5D-4123-B841-0A455C3C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D7F4-5A01-4A2C-803B-0E16D1DE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622-F506-4DE3-880E-43D5C411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643-B5C5-4A36-B6AD-376E85E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D1D-2514-46E8-A24E-4C4FB3F6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CB9-D067-4610-80DC-26FB8EDC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E72-0F4C-4E6E-A91F-65517C90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98A-DF03-4A5F-8238-8BC5F24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8DF-6A24-44C9-A6A6-3434EB64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BEAF-2D72-4801-8873-83FC2E39E6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4337-777B-4796-9120-4DEF7B86AD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OVACION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56149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1400"/>
            </a:b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Departamento</a:t>
            </a:r>
            <a:br>
              <a:rPr sz="1400"/>
            </a:b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de Atención Primaria y Salud Fam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34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TENCIÓN PRIMARIA Y  SALUD FAMIL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.  IVONNE AH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0"/>
            <a:ext cx="151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9880" y="304920"/>
            <a:ext cx="4824360" cy="604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79640" y="1268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34136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6165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916280"/>
            <a:ext cx="244764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CIÓN INTERSEC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124080"/>
            <a:ext cx="244764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TICIP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005360"/>
            <a:ext cx="2447640" cy="649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CNOLOGÍA APROPI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DESARROLLO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013360"/>
            <a:ext cx="2447640" cy="86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CORPOR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RTES DEL S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2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342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ARROLLO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PRIMARIA EN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41720"/>
            <a:ext cx="936720" cy="1295280"/>
          </a:xfrm>
          <a:custGeom>
            <a:avLst/>
            <a:gdLst>
              <a:gd name="textAreaLeft" fmla="*/ 0 w 936720"/>
              <a:gd name="textAreaRight" fmla="*/ 937080 w 9367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1070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066680"/>
            <a:ext cx="2305080" cy="4753080"/>
          </a:xfrm>
          <a:prstGeom prst="rect">
            <a:avLst/>
          </a:prstGeom>
          <a:solidFill>
            <a:srgbClr val="b9b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819520"/>
            <a:ext cx="2303640" cy="16556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MARI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71628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258920" y="328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07640" y="342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14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3528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1280" y="1504800"/>
            <a:ext cx="17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94172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CIARIO DE ATE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5080" y="627840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PRINCIPAL  ARTICULADOR DE R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GUNAS RECOMENDACIONES  ALMA-ATA 1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4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Otorgar a la salud mayor importancia dentro de las políticas sociales y en el proceso de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Lograr mayor equidad y cobertura en la atención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Redefinir las formas de conducción y organización del sector salud: SILOS con poder de decisión y autonomía de gest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GUNAS RECOMENDACIONES  ALMA-ATA 1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...proporcionar a los pueblos los medios necesarios para mejorar su salud y ejercer un</a:t>
            </a:r>
            <a:r>
              <a:rPr b="0" lang="es-MX" sz="28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mayor control sobre la misma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...que la salud se promueve cuando se facilita una vida decente, condiciones adecuadas de trabajo, educación, cultura, descanso y recreación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649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GUNAS RECOMENDACIONES  </a:t>
            </a:r>
            <a:br>
              <a:rPr sz="2800"/>
            </a:b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MA-ATA 1978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...que el sector sanitario, por sí solo, no puede alcanzar la salu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...que en los países en desarrollo,  el progreso económico, las medidas de lucha contra la miseria, la producción de alimentos, el agua, el saneamiento, la vivienda, la protección del medio y la educación contribuyen a la salud y tienen el mismo objetivo de desarrollo h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33cccc"/>
                </a:solidFill>
                <a:latin typeface="Arial"/>
              </a:rPr>
              <a:t>SITUACIÓN ACTUAL DE SALUD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360" y="3284280"/>
            <a:ext cx="79912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ENTRO DE SALU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0480" y="63360"/>
          <a:ext cx="9021600" cy="6748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63360"/>
                    <a:ext cx="9021600" cy="67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chile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2590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2133720" y="-4898520"/>
            <a:ext cx="763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053560" cy="6553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8267760" cy="6705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el concepto de Atención Primaria en Salud (A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las características de la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la situación actual de salud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alizar los fundamentos del cambio de modelo de uno biomédico a otro biopsico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los principios del modelo de Salud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conocer las características más importantes del modelo biopsicosocial y de salud familiar v/s el modelo bio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64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ff"/>
                </a:solidFill>
                <a:latin typeface="Arial"/>
              </a:rPr>
              <a:t>Esperanza de vida al nacer por periodo </a:t>
            </a:r>
            <a:br>
              <a:rPr sz="3200"/>
            </a:br>
            <a:r>
              <a:rPr b="0" lang="es-CL" sz="3200" spc="-1" strike="noStrike">
                <a:solidFill>
                  <a:srgbClr val="0066ff"/>
                </a:solidFill>
                <a:latin typeface="Arial"/>
              </a:rPr>
              <a:t>y sexo en Chile 1950 -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6160" cy="5616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cccc"/>
                </a:solidFill>
                <a:latin typeface="Garamond"/>
              </a:rPr>
              <a:t>MORTALIDAD INFANT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cccc"/>
                </a:solidFill>
                <a:latin typeface="Garamond"/>
              </a:rPr>
              <a:t>LA BRECHA PAÍS</a:t>
            </a:r>
            <a:br>
              <a:rPr sz="3600"/>
            </a:br>
            <a:r>
              <a:rPr b="1" lang="es-ES" sz="3600" spc="-1" strike="noStrike">
                <a:solidFill>
                  <a:srgbClr val="00cccc"/>
                </a:solidFill>
                <a:latin typeface="Garamond"/>
              </a:rPr>
              <a:t>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560600"/>
            <a:ext cx="8153280" cy="529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5120" y="22860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Tasa Global de Fecund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Chile 1953-2024 (proy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316560"/>
            <a:ext cx="9144000" cy="5335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8088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-304920"/>
            <a:ext cx="9144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Arial"/>
              </a:rPr>
              <a:t>N° Casos de Saramp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Arial"/>
              </a:rPr>
              <a:t>Chile, 1990 -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PRINCIPALES PROBLEMAS DE  SALUD DE LA POBLACIÓN CHILENA...</a:t>
            </a:r>
            <a:br>
              <a:rPr sz="4000"/>
            </a:br>
            <a:br>
              <a:rPr sz="4000"/>
            </a:b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Desafíos para la 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BLEMAS SALUD PAÍS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 ENCUESTA DE SALUD AÑO 200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DENTARISMO   .................................90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IES DENTALES   .............................66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AQUISMO       ...................................42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BREPESO     ......................................39.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LIPIDEMIA ( Colesterol ) .................. 3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LORES ARTICULARES  ....................34.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PERTENSIÓN  ARTERIAL ..................33.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F.  DIGESTIVAS ( R.G.E.) ................ .29.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ESIDAD   .............................................22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F.  RESPIRATORIAS CRÓNICAS.......21.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PRESIÓN   ..........................................17.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BETES MELLITUS............................ ..4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GUERA ...............................................  2.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33cccc"/>
                </a:solidFill>
                <a:latin typeface="Comic Sans MS"/>
              </a:rPr>
              <a:t>PRINCIPALES PROBLEMAS QUE ENFRENTA LA 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Nuevo perfil epidem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Problemas de salud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Bajas coberturas en problemas preval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Estilos de vida de la población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Responder a las exigencias de los usu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Resolver los temas pendi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Mantener los logros sanitarios alcan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mbios de estilos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6cc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Promover la salud y prevenir la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5e9fb"/>
                </a:solidFill>
                <a:latin typeface="Comic Sans MS"/>
              </a:rPr>
              <a:t>Cambiar el actual modelo de atención de salu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6cc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66ff"/>
                </a:solidFill>
                <a:latin typeface="Comic Sans MS"/>
              </a:rPr>
              <a:t>Por un modelo que sea </a:t>
            </a:r>
            <a:r>
              <a:rPr b="0" i="1" lang="es-CL" sz="3200" spc="-1" strike="noStrike" u="sng">
                <a:solidFill>
                  <a:srgbClr val="0066ff"/>
                </a:solidFill>
                <a:uFillTx/>
                <a:latin typeface="Comic Sans MS"/>
              </a:rPr>
              <a:t>pertinente al perfil epidemiológico y demográfico ac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cccc"/>
                </a:solidFill>
                <a:uFillTx/>
                <a:latin typeface="Comic Sans MS"/>
              </a:rPr>
              <a:t>Recordemo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4000" spc="-1" strike="noStrike">
                <a:solidFill>
                  <a:srgbClr val="0066ff"/>
                </a:solidFill>
                <a:latin typeface="Comic Sans MS"/>
              </a:rPr>
              <a:t>Concepto de sal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Determinantes para la sal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0066ff"/>
                </a:solidFill>
                <a:latin typeface="Comic Sans MS"/>
              </a:rPr>
              <a:t>Marco jurídico de la salud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Envejecimiento pobl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Desigualdades en el acceso a la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Enfermedades relacionadas con estilos de vi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Accidentes y viol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Protección del medio ambiente físico, psicosocial, cultural y lab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Fortalecimiento estratégico de la atención prim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Ambulatorización de la atenció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Atención de carácter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Trabajar intersectorialmente Intersectori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ENFOQUE  BIOMÉDICO  V/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BIOPSICOSOCI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Subproducto del enfoque biopsicosocial en que el contexto familiar es el más relev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Busca comprender las distintas interrelaciones entre los subsistemas familiar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e7fb2d"/>
                </a:solidFill>
                <a:latin typeface="Comic Sans MS"/>
              </a:rPr>
              <a:t>...</a:t>
            </a:r>
            <a:r>
              <a:rPr b="0" i="1" lang="es-MX" sz="3200" spc="-1" strike="noStrike">
                <a:solidFill>
                  <a:srgbClr val="0066ff"/>
                </a:solidFill>
                <a:latin typeface="Comic Sans MS"/>
              </a:rPr>
              <a:t>Por tanto permite comprender las diferentes situaciones que vive cada individuo y cada fami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 un modelo de atención de  salud que para su desarrollo requiere adquirir conocimientos y habilidades específicas en el tem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l ESF  permite conocer profundamente el entorno de sus pa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5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 un modelo que permite ver a los pacientes en diferentes contex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Considera los aspectos subjetivos del proceso salud enferm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 un coordinador de recursos para el beneficio de sus pa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tá comprometido con la personas se preocupa de los distintos grados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Se considera parte de una red comunitaria y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Comprende el contexto de la sit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Cada contacto es una ocasión para la pre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Ve al conjunto de su población como una población con distintos 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Logra un mayor cumplimiento de indicaciones para curación o rehabil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679480"/>
            <a:ext cx="77724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l modelo permite y favorece una mejor utilización de los recursos famili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Permite que las acciones de salud tengan un mayor  impacto en cuanto a prevención de aparición de daño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NFOQUE BIOMÉDICO V/S BIOPSICOSOC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2920" y="2203560"/>
            <a:ext cx="3814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00200"/>
            <a:ext cx="3733920" cy="4952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663300"/>
                </a:solidFill>
                <a:uFillTx/>
                <a:latin typeface="Comic Sans MS"/>
              </a:rPr>
              <a:t>BIO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Se basa en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oncepción  patolog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cu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reducc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Separa mente-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600200"/>
            <a:ext cx="4419720" cy="495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663300"/>
                </a:solidFill>
                <a:uFillTx/>
                <a:latin typeface="Comic Sans MS"/>
              </a:rPr>
              <a:t>BIO-PSICO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Salud y enfermedad son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onti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preve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Diagnóstico contextu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Relación humana es 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Otorga una tención de sal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Comic Sans MS"/>
              </a:rPr>
              <a:t>Principios que Orientan las Políticas de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Equidad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mejorar la igualdad de oportunidades en el acceso  la sal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Eficiencia social:</a:t>
            </a: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 mejorar la asignación de recursos, hacia los sectores más necesi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Participación social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estimular el aporte de la comunidad en la identificación y priorización de sus problemas y en la ejecución y evaluación de los planes, programas y proyectos destinados a enfrentarlos.</a:t>
            </a: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NFOQUE BIOMÉDICO V/S BIOPSICOSOC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2920" y="2203560"/>
            <a:ext cx="3814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905120"/>
            <a:ext cx="4343400" cy="4343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905120"/>
            <a:ext cx="4495680" cy="4343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Diagnostica problemas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Estimula la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social e inters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Estimula el trabajo en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Además se preocup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individuo y su ento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familiar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080" y="2217600"/>
            <a:ext cx="3825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Hace diagnósticos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tablece barreras discipli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Los tratamientos son externos al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INCIPIOS DE LA 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MIL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Arial"/>
              </a:rPr>
              <a:t>PRINCIPIOS DEL MODEL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267920"/>
            <a:ext cx="78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Resolu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Human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Glob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Participación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Trabajo intersec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ontinu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oncepción de re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Arial"/>
              </a:rPr>
              <a:t>PRINCIPIOS DEL MODEL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267920"/>
            <a:ext cx="79246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Integralidad </a:t>
            </a:r>
            <a:r>
              <a:rPr b="0" i="1" lang="es-ES_tradnl" sz="2000" spc="-1" strike="noStrike">
                <a:solidFill>
                  <a:srgbClr val="0066ff"/>
                </a:solidFill>
                <a:latin typeface="Comic Sans MS"/>
              </a:rPr>
              <a:t>(fomento, prevención, rehabili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Accesi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Atención a los integrantes de l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Cuidado personaliz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Trabajo en equi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1828800"/>
          <a:ext cx="792468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7924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752480"/>
          <a:ext cx="822960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1981080"/>
          <a:ext cx="7772400" cy="39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5800" y="2050920"/>
          <a:ext cx="7772400" cy="40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0920"/>
                    <a:ext cx="777240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828800"/>
          <a:ext cx="8381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381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Comic Sans MS"/>
              </a:rPr>
              <a:t>Principios que Orientan las Políticas de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Respeto por la dignidad de las personas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trabajar por el mejoramiento de la calidad de vida de las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Solidaridad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crear oportunidades par que todos puedan participar, que sean sujetos de acción y no objetos de la acción de 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Colaboración Intersectorial,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asumiendo que e</a:t>
            </a:r>
            <a:r>
              <a:rPr b="0" i="1" lang="es-MX" sz="2400" spc="-1" strike="noStrike">
                <a:solidFill>
                  <a:srgbClr val="0066ff"/>
                </a:solidFill>
                <a:latin typeface="Comic Sans MS"/>
              </a:rPr>
              <a:t>l sector sanitario, por sí solo, no puede alcanzar la salud dado que ésta es 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responsabilidad de todos los sectores guberna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2259000"/>
          <a:ext cx="777240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59000"/>
                    <a:ext cx="77724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5800" y="1981080"/>
          <a:ext cx="7772400" cy="383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38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Comic Sans MS"/>
              </a:rPr>
              <a:t>VENTAJAS D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Comic Sans MS"/>
              </a:rPr>
              <a:t>ENFOQUE FAMIL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Comic Sans MS"/>
              </a:rPr>
              <a:t>VENTAJAS DEL ENFOQUE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66ff"/>
                </a:solidFill>
                <a:latin typeface="Comic Sans MS"/>
              </a:rPr>
              <a:t>Mejor comprensión de cómo la estructura y el sistema de relaciones entre los miembros de la familia puede ser un factor decisivo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Aparición o etiología de la enferm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Mantención de la enferm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Resolución o curso de la enfermedad y problemas de salud comu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33cccc"/>
                </a:solidFill>
                <a:latin typeface="Comic Sans MS"/>
              </a:rPr>
              <a:t>VENTAJAS DEL ENFOQUE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Apreciación real del  impacto de la enfermedad de uno de sus miembros, en la fami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Indicaciones y consejería basadas en la realidad (balance entre factores de riesgo y factores protec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907640" y="1933200"/>
            <a:ext cx="554364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blación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 de salud familia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entro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ación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ctor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04640"/>
            <a:ext cx="78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600" y="1628640"/>
            <a:ext cx="8686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Se hace responsable por la salud de una población defin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Capacidad resolu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Articulación de recurs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Orientación a 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omic Sans MS"/>
              </a:rPr>
              <a:t>Se coordina con otros niveles, otros actores y  otros sect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omic Sans MS"/>
              </a:rPr>
              <a:t>Es una unidad del Sistema Nacional de Servicios de Salu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404640"/>
            <a:ext cx="78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4716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74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100" spc="-1" strike="noStrike">
                <a:solidFill>
                  <a:srgbClr val="000000"/>
                </a:solidFill>
                <a:latin typeface="Comic Sans MS"/>
              </a:rPr>
              <a:t>Presta servicios dentro de un territorio de limitad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74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100" spc="-1" strike="noStrike">
                <a:solidFill>
                  <a:srgbClr val="000000"/>
                </a:solidFill>
                <a:latin typeface="Comic Sans MS"/>
              </a:rPr>
              <a:t>Contribuye a resolver los problemas de salud y elevar el nivel de salud de la población que allí vive y trab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spacio en el cual se establece una relación de continuidad entre un equipo de salud y las familias a su car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l individuo es atendido en salud y enfermedad, como un ser integral en su contexto familiar, laboral y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404640"/>
            <a:ext cx="7632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l equipo de salud debe planificar y evaluar  las acciones de salud en función del impacto de estas en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l equipo adquiere destrezas para incorporar la familia como la unidad de a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04640"/>
            <a:ext cx="7921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cccc"/>
                </a:solidFill>
                <a:latin typeface="Arial"/>
              </a:rPr>
              <a:t>OBJETIVOS Y TAREAS EN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e9f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acer justicia en salud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educir las actuales diferencias en el nivel de salud, en el acceso y la calidad de promoción , prevención y atención de sal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e9f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66ff"/>
                </a:solidFill>
                <a:uFillTx/>
                <a:latin typeface="Arial"/>
              </a:rPr>
              <a:t>Dar más años a la vida</a:t>
            </a:r>
            <a:r>
              <a:rPr b="0" lang="es-ES_tradnl" sz="2800" spc="-1" strike="noStrike">
                <a:solidFill>
                  <a:srgbClr val="0066ff"/>
                </a:solidFill>
                <a:latin typeface="Arial"/>
              </a:rPr>
              <a:t>: disminuyendo las muertes evitables y aumentando las expectativas de vida de los chil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e9f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ar más salud a los año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través del desarrollo de las capacidades físicas y mentales de las personas para vivir saludablemente y aspirar a una vid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1600" y="2271240"/>
            <a:ext cx="73436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Debe responder simultáneamente a las necesidades de salud local y a los objetivos generales del sector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333360"/>
            <a:ext cx="7848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Debe ser capaz de actuar sobre una realidad absolutamente dinámica, enfrentar cambios como crecimiento demográfico, envejecimiento, aumento de aspiraciones y de necesidade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Asis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De la participación social y comunitaria en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Del trabajo intersectorial que apunta al desarrollo global de su comuna o terri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3808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MBITOS DE ACCIÓN DEL CENTR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1440" y="934560"/>
            <a:ext cx="74120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Principales estrategias para enfrentar los nuevos tiem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743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Estrategias para implementar el mode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Pertinencia con el perfil epidemiológico y demográf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Protección del medio ambiente físico, psicosocial, cultural y labo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1440" y="934560"/>
            <a:ext cx="74120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Principales estrategias para enfrentar los nuevos tiem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7436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Fortalecimiento estratégico de la 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mbulatorización de la aten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tención de carácter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tención focalizada en las personas y famil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Intersectoria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ales estrategias..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Estrategias organizacionales</a:t>
            </a:r>
            <a:r>
              <a:rPr b="0" i="1" lang="es-ES_tradnl" sz="2800" spc="-1" strike="noStrike">
                <a:solidFill>
                  <a:srgbClr val="ffff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Sectorización territo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Organización de las actividades en forma planificada, programada y evalu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Organización de los establecimientos de salud por niveles de complej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Complementariedad entre los establecimientos de las diversas re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ales estrategias.....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599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A nivel local:</a:t>
            </a:r>
            <a:r>
              <a:rPr b="0" i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Implementación de fichas famili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tención de carácter grup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Nuevo modelo de segui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Creación de mecanismos simples de coordinación,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Fortalecer al equipo de sal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 programar el centro de salud debe consider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agnostico actualizado de la situación de salud de su lo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 de la acciones y programas ejecu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scenario probable en que deberá actuar en el periodo a progra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404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PROGRAMACIÓN DEL CENTR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Al programar el centro de salud debe considera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Las orientaciones programáticas y normas ministeria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Los recursos existen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Los recursos potencia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404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CIÓN DEL CENTR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Las grandes obras de las instituciones, las sueñan los santos locos, las ejecutan los luchadores natos, las disfrutan los felices cuerdos, y las critican los inútiles crónico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B. Bre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VAC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08680" y="2590920"/>
            <a:ext cx="535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ATENCIÓN PRIMA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EN 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8080" y="1600200"/>
            <a:ext cx="7772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cccc"/>
                </a:solidFill>
                <a:uFillTx/>
                <a:latin typeface="Arial"/>
              </a:rPr>
              <a:t>ATENCIÓN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63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La atención primaria es integrante, del sistema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Es el primer elemento de un proceso permanente de asistencia sani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Representa el primer nivel de contacto de los individuos, la familia y la comunidad con el sistema 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Lleva la atención de salud lo más cerca posible al lugar donde residen y trabajan las perso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En una estrategia de desarrollo social y económico global de una comu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TENCIÓN PRI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PS es definida como una estrategia de desarrollo, se le concibe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0066ff"/>
                </a:solidFill>
                <a:latin typeface="Arial"/>
              </a:rPr>
              <a:t>La asistencia sanitaria esencial basada en métodos y tecnologías prácticas, científicamente fundadas y socialmente aceptadas, puestas al alcance de todos los individuos de la comunidad, mediante su plena participación, y a un costo que la comunidad y el país puedan soportar en todas y cada una de las etapas de su desarrollo, con un espíritu de auto responsabilidad y autodetermin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23:51:26Z</dcterms:created>
  <dc:creator>Un usuario de Microsoft Office satisfecho.</dc:creator>
  <dc:description/>
  <dc:language>en-US</dc:language>
  <cp:lastModifiedBy>Usuario</cp:lastModifiedBy>
  <cp:lastPrinted>2003-07-30T08:57:20Z</cp:lastPrinted>
  <dcterms:modified xsi:type="dcterms:W3CDTF">2008-04-11T20:32:53Z</dcterms:modified>
  <cp:revision>265</cp:revision>
  <dc:subject/>
  <dc:title>DE CONSULTORIO A   CENTRO DE SALUD</dc:title>
</cp:coreProperties>
</file>