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A43-CE90-47C3-AB93-0F856E06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45A-F536-46E7-8035-AAE30CE4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C6D-544B-4313-8D79-0B954F2D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EEA-509F-4D5F-9C93-A996BD85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268C-D330-4787-A1B1-C28F1C65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061D-3FF8-4BF0-90F7-7BC3C02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F202-26DE-4F86-A2C2-445C2CA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712-5996-46ED-B3DE-CA401B0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EC85-989B-43C4-9627-5909555C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7122-FC23-4D18-B68A-13CF982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37E-BF3C-466E-B496-982D427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B71-E1C8-499B-8B01-6085783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E6C0-F7A0-44E3-B272-BFB6849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BD7C-52BA-4211-8D67-9CD7427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2681-2CB2-45F9-A0E3-83F94C1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E78-8B68-4CE7-A5E2-3A6A06F9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6A8E-A963-41F6-AB41-C2A938C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1BD-9E39-47A6-8AE7-F4AB4430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21B-B437-4D5D-9D6C-CBEA01B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15E-AAF1-44FE-8040-AFD1725C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85B-01CF-4F8D-B67D-E2C9BBFD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321-9E4D-4DFF-A594-7FEB369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260-E0DD-48C9-AFA8-5F41AC5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B22-4E98-4B11-9FD8-CD0C17C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201E-B560-4852-8D25-91D7A3636699}" type="slidenum"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a6d3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5DB1-4919-4786-8538-212B2390F30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00"/>
                </a:solidFill>
                <a:latin typeface="Times New Roman"/>
              </a:rPr>
              <a:t>Educación para la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4800" y="586728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Prof. IVONNE AHL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380880"/>
            <a:ext cx="1143000" cy="175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3808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Departamento de Atención Prima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y Salud Familiar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roceso que informa, motiva y ayuda a la población y adoptar y mantener  prácticas y estilos de vida saludables, propugna los cambios ambientales y dirige la formación profesional e investigación sobre est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La educación    para   la   salud   debe generar el desarrollo de todas aquellas potencialidades    que   transformen al individuo y la comunidad en dueños de su propio destino, en constructores de alternativas y soluciones frente a sus problemas de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0640" y="1969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EN DEFINITIVA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l éxito de la educación   en  salud sólo puede alcanzarse en la medida que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l equipo de salud logre captar la confianza  y   participación de la comunidad    en   los   trabajos   de promoción de la salud,  y esto sólo es posible si se trabaja  en función de   sus    necesidades,    anhelos e inquietu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9360" y="2514600"/>
            <a:ext cx="72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33"/>
                </a:solidFill>
                <a:latin typeface="Times New Roman"/>
              </a:rPr>
              <a:t>PROGRAMACIÓN EN SALU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00"/>
                </a:solidFill>
                <a:latin typeface="Times New Roman"/>
              </a:rPr>
              <a:t>Conjunto de actividades de informacion, comunicacion y educacion a desarrollar en un periodo, como una estrategia más de intervención de los problemas  de salu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ribuye al cumplimiento de los objetivos de salud, al estimular cambios en la conducta de las personas y de la comunidad,frente a situaciones especificas que les afecta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MIN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tributos de la programación educativ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gruencia, oportuna, pertinente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la necesidad debe ser detectada a través de un dg. Educacional particip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ualidades de un buen programa:Evitar la rutina, evita la improvisacion, ahorra tiempo,dinero y esfuerzo, favorecer los cambios, permite evalua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280" y="45720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Ventajas de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Introduce orden y prioriz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Vision de conju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horro de tiempo, dinero y esfuerz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inu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rofesionalizacion de la educacion,lo que implica un mayor respeto por el educan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erfeccionamiento, por medio de evaluaciones formativas de nuestro rol de educad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Aspectos a Considerar en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Que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prendizaje se quiere alcanzar?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mo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diante que situaciones de aprendizaje           ( actividades, vivencias) se pretende que los alumnos logren los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n que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Que medios, materiales o recursos utilizar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aprendizaje (niños distintos de ancian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l educando y sus necesida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Objetivos de las instituciones de que se forma par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ominio por parte del docente del contenido a entreg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6600"/>
                </a:solidFill>
                <a:latin typeface="Times New Roman"/>
              </a:rPr>
              <a:t>Un buen  conocimiento   previo del grupo objetivo va a permitir que el trabajo de educación para la salud se adapte   a  la realidad local,   incrementando   así    su eficac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000" y="380880"/>
            <a:ext cx="87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 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desafío epidemiológico con que se inicia el milenio obliga a devolver protagonismo a la comunidad y sus organizaciones en el cuidado de su sal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Reorientando el rol del equipo de salud a un rol asesor y cuidador que acompaña el proceso salud – enfermedad y que potencia la capacidad de las personas de influir positivamente en su vida y su entorn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stas son competencias definidas para el equipo de salud en forma transversal, y que se articulan con el trabajo intersec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333333"/>
                </a:solidFill>
                <a:uFillTx/>
                <a:latin typeface="Times New Roman"/>
              </a:rPr>
              <a:t>ETAPA DETERMIN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l proble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 la pobl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Recursos de salud disponi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enerales y especif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Seleccion de metodos educa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laboracion de plan de actividades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onogram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Formulacion de recursos y presupuesto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scripcion del marco institucional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Organismo responsa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terminacion de mecanismos de evalu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iterios de evaluac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Objetivo educacional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estructura en la redacción de un objetivo  debe describir una conducta esper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ducta :   es   la acción (verb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anifiesta u observable que el educando realizará como demostración   de   su   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tenido: es el tema o materia a través del cual   el    educando   expresará    su  nueva conducta o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Qué  condiciones debe tener un objetivo Educativo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describir una ac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ñalar un contenido preci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acción o conducta debe ser observada y medible por lo tanto evaluab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ser expresado en función del educando y no del docent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Para qué sirven los objetivos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Facilitan el proceso de enseñanza-aprendizaje entre el educando y el facilitad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facilitador le permite seleccionar las actividades más apropiadas para el cumplimiento de l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educando le permite conocer lo que obtendrá de las nuevas experienci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600" spc="-1" strike="noStrike">
                <a:solidFill>
                  <a:srgbClr val="0e3b07"/>
                </a:solidFill>
                <a:latin typeface="Times New Roman"/>
              </a:rPr>
              <a:t>Qué características deben cumplir los contenidos educativos?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n ser seleccionados y desarrollados de acuerdo a los objetivos,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s decir, a las conductas que se quiere logr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tos deben ser Relevantes, Realistas, Simples y Atractivos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rresponde a la puesta en marcha del plan de actividades propues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sencial en esta etap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coordinacion con grupos a educ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rupos de trabajo con reuniones period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Toda técnica debemo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Conocerla bie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Saberla utilizar en el momento oportuno y saberla conducir correctament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Una sola técnica por lo general, no es suficiente para trabajar un te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s importante saber ubicar las características particulares de cada técnica: sus posibilidades y límit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1280" y="52560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8120" y="10008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l termino 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Evaluamos efectividad del programa con respecto a objetivos propuest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Cambios de actitud observados en la poblacion que educam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Grado de participacion en acciones del progra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l educador debe evaluar en forma permanent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prácticas de enseñanz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os aciertos y limitac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diferencias  culturales  con  los participantes que  impiden o aportan al proceso educ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5720" y="45720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modelo de atención tiene como objetivo central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La búsqueda de una mejor calidad de vida para las personas, las familias y las comunidades, con un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énfasis en la anticipación de los proble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or lo tanto fuerte acento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n promoción de la salud y prevención de la enfermedad,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es decir, anticipatorio al dañ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Impulsar acciones de </a:t>
            </a:r>
            <a:r>
              <a:rPr b="0" i="1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promoción de la salud</a:t>
            </a:r>
            <a:r>
              <a:rPr b="1" lang="es-ES" sz="2400" spc="-1" strike="noStrike">
                <a:solidFill>
                  <a:srgbClr val="333333"/>
                </a:solidFill>
                <a:latin typeface="Arial"/>
              </a:rPr>
              <a:t> y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ducación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ara lograr estilos de vida y ambientes más salud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“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El    nombre   tras      la educación es el mismo, pero no lo mism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Todo mensaje      educativo   debe pretender hacer que el hombre sea el protagonista de su propio destino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KANT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OMOCION DE LA SALUD Y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EVENCION DE LA ENFERMEDAD</a:t>
            </a:r>
            <a:br>
              <a:rPr sz="2800"/>
            </a:b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Las actividad educativa es prevención  </a:t>
            </a:r>
            <a:r>
              <a:rPr b="1" i="1" lang="es-ES_tradnl" sz="2800" spc="-1" strike="noStrike" u="sng">
                <a:solidFill>
                  <a:srgbClr val="000099"/>
                </a:solidFill>
                <a:uFillTx/>
                <a:latin typeface="Times New Roman"/>
              </a:rPr>
              <a:t>evita, se anticipa al daño 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frente enfermedades específicas, accidentes y causas de muer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promoción de la salud desarrolla las potencialidades humanas, aumenta las habilidades y capacidades para mantener  la salud y calidad de vid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Times New Roman"/>
              </a:rPr>
              <a:t>Por lo tanto...acciones que promueven la salud también evitan la enfermedad: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33"/>
                </a:solidFill>
                <a:latin typeface="Times New Roman"/>
              </a:rPr>
              <a:t>Actividad Física, Alimentación Saludable, Ambientes Libres del Humo de Taba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 DE EDUCACIÓN</a:t>
            </a:r>
            <a:r>
              <a:rPr b="0" lang="es-ES" sz="4400" spc="-1" strike="noStrike">
                <a:solidFill>
                  <a:srgbClr val="0e3b0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s un proceso de facilitación de aprendizajes deseables, por medio de los cuales la gente se percata más de los problemas de salud y se interesa activamente en obtener soluciones” 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American Public Association. 194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886200"/>
            <a:ext cx="807732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educación en salud es una guía para que 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individuos o grupos perciban ciertas acciones saludables a medida que concuerden con sus propios valores o metas”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(Mc Mahon, Kassey. 196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ducación en Salud es la traducción de los conocimientos sobre salud en hábitos saludables, comportamientos positivos, que tienden a promover la salud del individuo, familia y comunidad”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( Cuadernos Médico Sociales. 1966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OMS define el concepto de Educación para la Salud, como </a:t>
            </a:r>
            <a:r>
              <a:rPr b="1" i="1" lang="es-ES" sz="2800" spc="-1" strike="noStrike">
                <a:solidFill>
                  <a:srgbClr val="401102"/>
                </a:solidFill>
                <a:latin typeface="Times New Roman"/>
              </a:rPr>
              <a:t>“una actividad educativa, diseñada para ampliar el conocimiento de la población en relación con la salud y desarrollar los valores y habilidades personales que promuevan salud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4f604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ducación puede traducirse como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nutrir al individuo de aquellos elementos que forman su mundo espiritual y generar en él un desarrollo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, que se exterioriza en su comportamien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buClr>
                <a:srgbClr val="4f6042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n definitiva podemos decir que educación es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“un proceso a través del cual la persona adquiere conocimientos, habilidades, destrezas, actitudes y valores que finalmente se traducen en un cambio de conducta”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00"/>
                </a:solidFill>
                <a:uFillTx/>
                <a:latin typeface="Times New Roman"/>
              </a:rPr>
              <a:t>El proceso de aprendizaje, está influenciado por una serie de facto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mbientales, personales, en el ámbito cognitivo, emocional y de habilidad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Por lo tanto educador debe crear condiciones que faciliten el aprendizaje, en una atmósfera que anime a ser activo, aliente la confianza en uno mismo, facilite el descubrimiento y permita la confrontación de ideas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Importante es reconocer que educar no es informar, ni aconsejar o persuadir, para finalmente lograr comportamientos prescritos por el agente de salud, más bien 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" sz="3600" spc="-1" strike="noStrike">
                <a:solidFill>
                  <a:srgbClr val="333333"/>
                </a:solidFill>
                <a:latin typeface="Times New Roman"/>
              </a:rPr>
              <a:t>facilitar que las personas desarrollen capacidades que les permitan con conocimiento, tomar decisiones conscientes y autónomas sobre su propi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1:26:53Z</dcterms:created>
  <dc:creator>christel hanne</dc:creator>
  <dc:description/>
  <dc:language>en-US</dc:language>
  <cp:lastModifiedBy>Ivo</cp:lastModifiedBy>
  <cp:lastPrinted>2003-09-09T00:58:01Z</cp:lastPrinted>
  <dcterms:modified xsi:type="dcterms:W3CDTF">2008-05-05T18:31:12Z</dcterms:modified>
  <cp:revision>68</cp:revision>
  <dc:subject/>
  <dc:title>Programacion educativa en salud</dc:title>
</cp:coreProperties>
</file>