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C780-C339-4A41-9FAF-F2F2113E9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9494-3C5A-4367-9A1E-97C1125B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0064-EE5B-4B46-B69E-8DF78F9DB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D599-92A1-4267-A2A2-969EBF01C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A9C3-9B7D-473B-B226-1184FEC29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437E-17EA-49BD-83A0-088BB90B5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5976-7061-4A4A-8D86-6AA16D24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2D1AF-0C35-4EC9-AD3A-9B95A15C5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7672F-A630-4AC5-885C-0197E65F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D00B6-EA14-4D17-B038-765A582B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15256-E6DB-465F-86E2-18728CD5B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A03F-D293-4CD6-82FC-2A698EFB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7C1D5-1AAF-4BA2-ACC8-85ACA4F8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F543D-9343-453E-8E93-3B6BE72F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A90C8-4629-4447-B172-A0B42B754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DD300-6061-4159-8D56-70408E7F2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D16F4-D24A-4368-897C-0E2894DE3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AB7A-48D9-40C7-83D6-F69F2DFB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F30F-286E-4113-BD95-6017EBDE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A127-CB4A-4D52-AB0C-8B3935AF3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621C-B73A-4249-ADF4-E0FE3A5A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7F2-7B42-4C00-A991-3C7F72BE8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9521-73D9-4ABD-963E-37A197AA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7235-9523-4405-8497-EB505D7D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3b07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6042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604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6042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f604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f6042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6CE6A-05D1-4F83-887A-FA8DCB936186}" type="slidenum">
              <a:rPr b="0" lang="en-US" sz="1400" spc="-1" strike="noStrike">
                <a:solidFill>
                  <a:srgbClr val="4f604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a6d3f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e3b07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AF3F-FC0F-4608-B130-8FA3617FAEF9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6600"/>
                </a:solidFill>
                <a:latin typeface="Times New Roman"/>
              </a:rPr>
              <a:t>Educación para la Salud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654800" y="5867280"/>
            <a:ext cx="39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Times New Roman"/>
              </a:rPr>
              <a:t>Prof. IVONNE AHLER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457200" y="380880"/>
            <a:ext cx="1143000" cy="1752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295280" y="380880"/>
            <a:ext cx="6553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Times New Roman"/>
              </a:rPr>
              <a:t>Departamento de Atención Primari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33"/>
                </a:solidFill>
                <a:latin typeface="Times New Roman"/>
              </a:rPr>
              <a:t>y Salud Familiar   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1102"/>
                </a:solidFill>
                <a:latin typeface="Times New Roman"/>
              </a:rPr>
              <a:t>EDUCACIÓN PARA LA SALUD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Proceso que informa, motiva y ayuda a la población y adoptar y mantener  prácticas y estilos de vida saludables, propugna los cambios ambientales y dirige la formación profesional e investigación sobre estos objetiv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La educación    para   la   salud   debe generar el desarrollo de todas aquellas potencialidades    que   transformen al individuo y la comunidad en dueños de su propio destino, en constructores de alternativas y soluciones frente a sus problemas de salu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30640" y="196920"/>
            <a:ext cx="68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401102"/>
                </a:solidFill>
                <a:latin typeface="Times New Roman"/>
              </a:rPr>
              <a:t>EDUCACIÓN PARA LA SALU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33"/>
                </a:solidFill>
                <a:latin typeface="Times New Roman"/>
              </a:rPr>
              <a:t>EN DEFINITIVA..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El éxito de la educación   en  salud sólo puede alcanzarse en la medida que </a:t>
            </a:r>
            <a:r>
              <a:rPr b="0" i="1" lang="es-ES_tradnl" sz="3600" spc="-1" strike="noStrike">
                <a:solidFill>
                  <a:srgbClr val="006600"/>
                </a:solidFill>
                <a:latin typeface="Times New Roman"/>
              </a:rPr>
              <a:t>el equipo de salud logre captar la confianza  y   participación de la comunidad    en   los   trabajos   de promoción de la salud,  y esto sólo es posible si se trabaja  en función de   sus    necesidades,    anhelos e inquietude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99360" y="2514600"/>
            <a:ext cx="722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33"/>
                </a:solidFill>
                <a:latin typeface="Times New Roman"/>
              </a:rPr>
              <a:t>PROGRAMACIÓN EN SALUD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Programacion educativa en Salud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200" spc="-1" strike="noStrike">
                <a:solidFill>
                  <a:srgbClr val="006600"/>
                </a:solidFill>
                <a:latin typeface="Times New Roman"/>
              </a:rPr>
              <a:t>Conjunto de actividades de informacion, comunicacion y educacion a desarrollar en un periodo, como una estrategia más de intervención de los problemas  de salud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ontribuye al cumplimiento de los objetivos de salud, al estimular cambios en la conducta de las personas y de la comunidad,frente a situaciones especificas que les afectan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                </a:t>
            </a:r>
            <a:r>
              <a:rPr b="0" lang="es-CL" sz="2800" spc="-1" strike="noStrike">
                <a:solidFill>
                  <a:srgbClr val="333333"/>
                </a:solidFill>
                <a:latin typeface="Times New Roman"/>
              </a:rPr>
              <a:t>MINSA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Atributos de la programación educativ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ongruencia, oportuna, pertinente,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la necesidad debe ser detectada a través de un dg. Educacional participativ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ualidades de un buen programa:Evitar la rutina, evita la improvisacion, ahorra tiempo,dinero y esfuerzo, favorecer los cambios, permite evaluar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55280" y="457200"/>
            <a:ext cx="769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Programacion educativa en Salud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e3b07"/>
                </a:solidFill>
                <a:latin typeface="Times New Roman"/>
              </a:rPr>
              <a:t>Ventajas de la Programación Educativa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Introduce orden y priorizac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Vision de conjunt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Ahorro de tiempo, dinero y esfuerz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ontinuidad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Profesionalizacion de la educacion,lo que implica un mayor respeto por el educand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Perfeccionamiento, por medio de evaluaciones formativas de nuestro rol de educado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e3b07"/>
                </a:solidFill>
                <a:latin typeface="Times New Roman"/>
              </a:rPr>
              <a:t>Aspectos a Considerar en la Programación Educativa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609480" y="15238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333333"/>
                </a:solidFill>
                <a:uFillTx/>
                <a:latin typeface="Times New Roman"/>
              </a:rPr>
              <a:t>Que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aprendizaje se quiere alcanzar?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objetivo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333333"/>
                </a:solidFill>
                <a:uFillTx/>
                <a:latin typeface="Times New Roman"/>
              </a:rPr>
              <a:t>Como?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Mediante que situaciones de aprendizaje           ( actividades, vivencias) se pretende que los alumnos logren los objetiv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 u="sng">
                <a:solidFill>
                  <a:srgbClr val="333333"/>
                </a:solidFill>
                <a:uFillTx/>
                <a:latin typeface="Times New Roman"/>
              </a:rPr>
              <a:t>Con que?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33"/>
                </a:solidFill>
                <a:latin typeface="Times New Roman"/>
              </a:rPr>
              <a:t>Que medios, materiales o recursos utilizaran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e3b07"/>
                </a:solidFill>
                <a:latin typeface="Times New Roman"/>
              </a:rPr>
              <a:t>Debemos ademas considerar aspectos como: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Mecanismos de aprendizaje (niños distintos de ancianos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aracterizacion del educando y sus necesidad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Objetivos de las instituciones de que se forma part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ominio por parte del docente del contenido a entreg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5335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4000" spc="-1" strike="noStrike">
                <a:solidFill>
                  <a:srgbClr val="006600"/>
                </a:solidFill>
                <a:latin typeface="Times New Roman"/>
              </a:rPr>
              <a:t>Un buen  conocimiento   previo del grupo objetivo va a permitir que el trabajo de educación para la salud se adapte   a  la realidad local,   incrementando   así    su eficacia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1000" y="380880"/>
            <a:ext cx="879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e3b07"/>
                </a:solidFill>
                <a:latin typeface="Times New Roman"/>
              </a:rPr>
              <a:t>Debemos ademas considerar aspectos como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Times New Roman"/>
              </a:rPr>
              <a:t>MODELO DE SALUD CON ENFOQUE FAMILIAR Y EDUCACIÓN PARA LA SALUD</a:t>
            </a:r>
            <a:endParaRPr b="0" lang="en-US" sz="28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El desafío epidemiológico con que se inicia el milenio obliga a devolver protagonismo a la comunidad y sus organizaciones en el cuidado de su salu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Reorientando el rol del equipo de salud a un rol asesor y cuidador que acompaña el proceso salud – enfermedad y que potencia la capacidad de las personas de influir positivamente en su vida y su entorno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Estas son competencias definidas para el equipo de salud en forma transversal, y que se articulan con el trabajo intersectoria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e3b07"/>
                </a:solidFill>
                <a:latin typeface="Times New Roman"/>
              </a:rPr>
              <a:t>Proceso de la programacion educativa</a:t>
            </a:r>
            <a:endParaRPr b="0" lang="en-US" sz="40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 u="sng">
                <a:solidFill>
                  <a:srgbClr val="333333"/>
                </a:solidFill>
                <a:uFillTx/>
                <a:latin typeface="Times New Roman"/>
              </a:rPr>
              <a:t>ETAPA DETERMINATIV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efinicion del problem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aracterizacion de la poblac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Recursos de salud disponibl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   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efinicion de objetiv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Generales y especific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Seleccion de metodos educativo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Elaboracion de plan de actividades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(cronograma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Formulacion de recursos y presupuesto del program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escripcion del marco institucional del program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(Organismo responsable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Determinacion de mecanismos de evaluacio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(Criterios de evaluacion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" y="380880"/>
            <a:ext cx="791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e3b07"/>
                </a:solidFill>
                <a:latin typeface="Times New Roman"/>
              </a:rPr>
              <a:t>Proceso de la programacion educativa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e3b07"/>
                </a:solidFill>
                <a:latin typeface="Times New Roman"/>
              </a:rPr>
              <a:t>Objetivo educacional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91440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a estructura en la redacción de un objetivo  debe describir una conducta esperad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onducta :   es   la acción (verbo)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manifiesta u observable que el educando realizará como demostración   de   su    aprendizaj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Contenido: es el tema o materia a través del cual   el    educando   expresará    su  nueva conducta o aprendizaj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e3b07"/>
                </a:solidFill>
                <a:latin typeface="Times New Roman"/>
              </a:rPr>
              <a:t>¿Qué  condiciones debe tener un objetivo Educativo?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Debe describir una acción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Señalar un contenido precis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a acción o conducta debe ser observada y medible por lo tanto evaluable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Debe ser expresado en función del educando y no del docente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e3b07"/>
                </a:solidFill>
                <a:latin typeface="Times New Roman"/>
              </a:rPr>
              <a:t>¿Para qué sirven los objetivos?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Facilitan el proceso de enseñanza-aprendizaje entre el educando y el facilitador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Al facilitador le permite seleccionar las actividades más apropiadas para el cumplimiento de los objetivo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Al educando le permite conocer lo que obtendrá de las nuevas experiencia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6201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3600" spc="-1" strike="noStrike">
                <a:solidFill>
                  <a:srgbClr val="0e3b07"/>
                </a:solidFill>
                <a:latin typeface="Times New Roman"/>
              </a:rPr>
              <a:t>Qué características deben cumplir los contenidos educativos?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Deben ser seleccionados y desarrollados de acuerdo a los objetivos, </a:t>
            </a:r>
            <a:r>
              <a:rPr b="0" i="1" lang="es-ES_tradnl" sz="3600" spc="-1" strike="noStrike">
                <a:solidFill>
                  <a:srgbClr val="006600"/>
                </a:solidFill>
                <a:latin typeface="Times New Roman"/>
              </a:rPr>
              <a:t>es decir, a las conductas que se quiere lograr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Estos deben ser Relevantes, Realistas, Simples y Atractivos 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Etapa de ejecucion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Corresponde a la puesta en marcha del plan de actividades propuesto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Esencial en esta etapa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mecanismos de coordinacion con grupos a educar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333333"/>
                </a:solidFill>
                <a:latin typeface="Times New Roman"/>
              </a:rPr>
              <a:t>grupos de trabajo con reuniones periodica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- </a:t>
            </a: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Toda técnica debemos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Conocerla bien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Saberla utilizar en el momento oportuno y saberla conducir correctamente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Una sola técnica por lo general, no es suficiente para trabajar un tem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333333"/>
                </a:solidFill>
                <a:latin typeface="Times New Roman"/>
              </a:rPr>
              <a:t>Es importante saber ubicar las características particulares de cada técnica: sus posibilidades y límites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41280" y="525600"/>
            <a:ext cx="6150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28120" y="100080"/>
            <a:ext cx="441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Etapa de ejecucio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Etapa de evaluación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685440" y="15998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Al termino :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Evaluamos efectividad del programa con respecto a objetivos propuesto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Cambios de actitud observados en la poblacion que educamos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spcBef>
                <a:spcPts val="901"/>
              </a:spcBef>
              <a:buClr>
                <a:srgbClr val="4f6042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333333"/>
                </a:solidFill>
                <a:latin typeface="Times New Roman"/>
              </a:rPr>
              <a:t>Grado de participacion en acciones del programa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El educador debe evaluar en forma permanente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as prácticas de enseñanza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os aciertos y limitaciones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333333"/>
                </a:solidFill>
                <a:latin typeface="Times New Roman"/>
              </a:rPr>
              <a:t>Las diferencias  culturales  con  los participantes que  impiden o aportan al proceso educativo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5720" y="457200"/>
            <a:ext cx="469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e3b07"/>
                </a:solidFill>
                <a:latin typeface="Times New Roman"/>
              </a:rPr>
              <a:t>Etapa de evaluación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6600"/>
                </a:solidFill>
                <a:latin typeface="Times New Roman"/>
              </a:rPr>
              <a:t>MODELO DE SALUD CON ENFOQUE FAMILIAR Y EDUCACIÓNPARA LA SALUD</a:t>
            </a:r>
            <a:endParaRPr b="0" lang="en-US" sz="28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El modelo de atención tiene como objetivo central: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La búsqueda de una mejor calidad de vida para las personas, las familias y las comunidades, con un </a:t>
            </a: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énfasis en la anticipación de los problema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Por lo tanto fuerte acento </a:t>
            </a: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en promoción de la salud y prevención de la enfermedad,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es decir, anticipatorio al daño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Impulsar acciones de </a:t>
            </a:r>
            <a:r>
              <a:rPr b="0" i="1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promoción de la salud</a:t>
            </a:r>
            <a:r>
              <a:rPr b="1" lang="es-ES" sz="2400" spc="-1" strike="noStrike">
                <a:solidFill>
                  <a:srgbClr val="333333"/>
                </a:solidFill>
                <a:latin typeface="Arial"/>
              </a:rPr>
              <a:t> y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i="1" lang="es-ES" sz="2400" spc="-1" strike="noStrike">
                <a:solidFill>
                  <a:srgbClr val="333333"/>
                </a:solidFill>
                <a:latin typeface="Arial"/>
              </a:rPr>
              <a:t>educación </a:t>
            </a:r>
            <a:r>
              <a:rPr b="0" lang="es-ES" sz="2400" spc="-1" strike="noStrike">
                <a:solidFill>
                  <a:srgbClr val="333333"/>
                </a:solidFill>
                <a:latin typeface="Arial"/>
              </a:rPr>
              <a:t>para lograr estilos de vida y ambientes más saludables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e3b07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761760" y="761760"/>
            <a:ext cx="79246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“</a:t>
            </a: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El    nombre   tras      la educación es el mismo, pero no lo mismo.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   </a:t>
            </a: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Todo mensaje      educativo   debe pretender hacer que el hombre sea el protagonista de su propio destino”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4000" spc="-1" strike="noStrike">
                <a:solidFill>
                  <a:srgbClr val="333333"/>
                </a:solidFill>
                <a:latin typeface="Comic Sans MS"/>
              </a:rPr>
              <a:t>KANT  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ROMOCION DE LA SALUD Y</a:t>
            </a:r>
            <a:br>
              <a:rPr sz="2800"/>
            </a:br>
            <a:r>
              <a:rPr b="1" lang="es-MX" sz="2800" spc="-1" strike="noStrike">
                <a:solidFill>
                  <a:srgbClr val="cc0000"/>
                </a:solidFill>
                <a:latin typeface="Arial"/>
              </a:rPr>
              <a:t>PREVENCION DE LA ENFERMEDAD</a:t>
            </a:r>
            <a:br>
              <a:rPr sz="2800"/>
            </a:br>
            <a:endParaRPr b="0" lang="en-US" sz="28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Las actividad educativa es prevención  </a:t>
            </a:r>
            <a:r>
              <a:rPr b="1" i="1" lang="es-ES_tradnl" sz="2800" spc="-1" strike="noStrike" u="sng">
                <a:solidFill>
                  <a:srgbClr val="000099"/>
                </a:solidFill>
                <a:uFillTx/>
                <a:latin typeface="Times New Roman"/>
              </a:rPr>
              <a:t>evita, se anticipa al daño  </a:t>
            </a:r>
            <a:r>
              <a:rPr b="0" lang="es-ES_tradnl" sz="2800" spc="-1" strike="noStrike">
                <a:solidFill>
                  <a:srgbClr val="000099"/>
                </a:solidFill>
                <a:latin typeface="Times New Roman"/>
              </a:rPr>
              <a:t>frente enfermedades específicas, accidentes y causas de muert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Times New Roman"/>
              </a:rPr>
              <a:t>La promoción de la salud desarrolla las potencialidades humanas, aumenta las habilidades y capacidades para mantener  la salud y calidad de vida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99"/>
                </a:solidFill>
                <a:latin typeface="Times New Roman"/>
              </a:rPr>
              <a:t>Por lo tanto...acciones que promueven la salud también evitan la enfermedad: 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333333"/>
                </a:solidFill>
                <a:latin typeface="Times New Roman"/>
              </a:rPr>
              <a:t>Actividad Física, Alimentación Saludable, Ambientes Libres del Humo de Tabaco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00"/>
                </a:solidFill>
                <a:latin typeface="Times New Roman"/>
              </a:rPr>
              <a:t>CONCEPTOS  DE EDUCACIÓN</a:t>
            </a:r>
            <a:r>
              <a:rPr b="0" lang="es-ES" sz="4400" spc="-1" strike="noStrike">
                <a:solidFill>
                  <a:srgbClr val="0e3b0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520" y="1600200"/>
            <a:ext cx="80773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4f6042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Es un proceso de facilitación de aprendizajes deseables, por medio de los cuales la gente se percata más de los problemas de salud y se interesa activamente en obtener soluciones” </a:t>
            </a:r>
            <a:r>
              <a:rPr b="0" lang="es-ES" sz="2400" spc="-1" strike="noStrike">
                <a:solidFill>
                  <a:srgbClr val="333333"/>
                </a:solidFill>
                <a:latin typeface="Times New Roman"/>
              </a:rPr>
              <a:t>(American Public Association. 1943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609480" indent="-609480">
              <a:spcBef>
                <a:spcPts val="601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3886200"/>
            <a:ext cx="8077320" cy="23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4f6042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La educación en salud es una guía para que lo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individuos o grupos perciban ciertas acciones saludables a medida que concuerden con sus propios valores o metas”.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6600"/>
                </a:solidFill>
                <a:latin typeface="Times New Roman"/>
              </a:rPr>
              <a:t>     </a:t>
            </a:r>
            <a:r>
              <a:rPr b="0" lang="es-ES" sz="2400" spc="-1" strike="noStrike">
                <a:solidFill>
                  <a:srgbClr val="006600"/>
                </a:solidFill>
                <a:latin typeface="Times New Roman"/>
              </a:rPr>
              <a:t>(Mc Mahon, Kassey. 1965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00"/>
                </a:solidFill>
                <a:latin typeface="Times New Roman"/>
              </a:rPr>
              <a:t>CONCEPTOS DE EDUCACIÓN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0" y="15998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Educación en Salud es la traducción de los conocimientos sobre salud en hábitos saludables, comportamientos positivos, que tienden a promover la salud del individuo, familia y comunidad”. 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33"/>
                </a:solidFill>
                <a:latin typeface="Times New Roman"/>
              </a:rPr>
              <a:t>        </a:t>
            </a:r>
            <a:r>
              <a:rPr b="0" lang="es-ES" sz="2000" spc="-1" strike="noStrike">
                <a:solidFill>
                  <a:srgbClr val="333333"/>
                </a:solidFill>
                <a:latin typeface="Times New Roman"/>
              </a:rPr>
              <a:t>( Cuadernos Médico Sociales. 1966)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Times New Roman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00"/>
                </a:solidFill>
                <a:latin typeface="Times New Roman"/>
              </a:rPr>
              <a:t>La OMS define el concepto de Educación para la Salud, como </a:t>
            </a:r>
            <a:r>
              <a:rPr b="1" i="1" lang="es-ES" sz="2800" spc="-1" strike="noStrike">
                <a:solidFill>
                  <a:srgbClr val="401102"/>
                </a:solidFill>
                <a:latin typeface="Times New Roman"/>
              </a:rPr>
              <a:t>“una actividad educativa, diseñada para ampliar el conocimiento de la población en relación con la salud y desarrollar los valores y habilidades personales que promuevan salud”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591120" indent="-591120">
              <a:spcBef>
                <a:spcPts val="700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00"/>
                </a:solidFill>
                <a:latin typeface="Times New Roman"/>
              </a:rPr>
              <a:t>CONCEPTOS DE EDUCACIÓN</a:t>
            </a:r>
            <a:endParaRPr b="0" lang="en-US" sz="36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0" y="838080"/>
            <a:ext cx="91440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85000" indent="-585000">
              <a:spcBef>
                <a:spcPts val="799"/>
              </a:spcBef>
              <a:buClr>
                <a:srgbClr val="4f6042"/>
              </a:buClr>
              <a:buFont typeface="Times New Roman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Educación puede traducirse como </a:t>
            </a:r>
            <a:r>
              <a:rPr b="0" i="1" lang="es-ES" sz="3600" spc="-1" strike="noStrike">
                <a:solidFill>
                  <a:srgbClr val="006600"/>
                </a:solidFill>
                <a:latin typeface="Times New Roman"/>
              </a:rPr>
              <a:t>nutrir al individuo de aquellos elementos que forman su mundo espiritual y generar en él un desarrollo</a:t>
            </a: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, que se exterioriza en su comportamiento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585000" indent="-58500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585000" indent="-585000">
              <a:spcBef>
                <a:spcPts val="901"/>
              </a:spcBef>
              <a:buClr>
                <a:srgbClr val="4f6042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En definitiva podemos decir que educación es </a:t>
            </a:r>
            <a:r>
              <a:rPr b="0" i="1" lang="es-ES" sz="3600" spc="-1" strike="noStrike">
                <a:solidFill>
                  <a:srgbClr val="006600"/>
                </a:solidFill>
                <a:latin typeface="Times New Roman"/>
              </a:rPr>
              <a:t>“un proceso a través del cual la persona adquiere conocimientos, habilidades, destrezas, actitudes y valores que finalmente se traducen en un cambio de conducta”.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Times New Roman"/>
              </a:rPr>
              <a:t>CONSIDERACIÓNES GENERALES</a:t>
            </a:r>
            <a:endParaRPr b="0" lang="en-US" sz="32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0" y="12952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6600"/>
                </a:solidFill>
                <a:uFillTx/>
                <a:latin typeface="Times New Roman"/>
              </a:rPr>
              <a:t>El proceso de aprendizaje, está influenciado por una serie de factor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Ambientales, personales, en el ámbito cognitivo, emocional y de habilidades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6600"/>
                </a:solidFill>
                <a:latin typeface="Times New Roman"/>
              </a:rPr>
              <a:t>Por lo tanto educador debe crear condiciones que faciliten el aprendizaje, en una atmósfera que anime a ser activo, aliente la confianza en uno mismo, facilite el descubrimiento y permita la confrontación de ideas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00"/>
                </a:solidFill>
                <a:latin typeface="Times New Roman"/>
              </a:rPr>
              <a:t>CONSIDERACIÓNES GENERALES</a:t>
            </a:r>
            <a:endParaRPr b="0" lang="en-US" sz="3200" spc="-1" strike="noStrike">
              <a:solidFill>
                <a:srgbClr val="0e3b07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f6042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Importante es reconocer que educar no es informar, ni aconsejar o persuadir, para finalmente lograr comportamientos prescritos por el agente de salud, más bien es: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es-ES" sz="3600" spc="-1" strike="noStrike">
                <a:solidFill>
                  <a:srgbClr val="333333"/>
                </a:solidFill>
                <a:latin typeface="Times New Roman"/>
              </a:rPr>
              <a:t>facilitar que las personas desarrollen capacidades que les permitan con conocimiento, tomar decisiones conscientes y autónomas sobre su propia salud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8T01:26:53Z</dcterms:created>
  <dc:creator>christel hanne</dc:creator>
  <dc:description/>
  <dc:language>en-US</dc:language>
  <cp:lastModifiedBy>Ivo</cp:lastModifiedBy>
  <cp:lastPrinted>2003-09-09T00:58:01Z</cp:lastPrinted>
  <dcterms:modified xsi:type="dcterms:W3CDTF">2008-05-05T18:31:12Z</dcterms:modified>
  <cp:revision>68</cp:revision>
  <dc:subject/>
  <dc:title>Programacion educativa en salud</dc:title>
</cp:coreProperties>
</file>