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3C4-65FE-4D47-B58F-54F0A3F3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DC6-6333-4BD6-B8A8-835F6743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6ED-BF06-4607-8C12-FAD87AB3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6C1-23C7-462C-8FC3-5FE4622D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9E56-CF38-468B-BCC3-66B09F84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0105-9AB2-4E68-B02B-42864FCA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AE80-F37E-4876-916F-5668D7A3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9619-F4D4-49AD-9BF2-BCA64344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5832-B4DB-4FBC-88CA-757DF486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45FD-6494-4205-BB58-594CFBC7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E4CF-D8E6-4B2E-B6CA-99298ECE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3C1-F5EF-4868-BAC3-F1B53341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3C7B-E9A1-4342-99DB-7BF10ECC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7700-1B5A-413D-A0AE-A585729A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EA74-CBAD-4499-85F8-0603DA37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74C5-2710-4422-A13C-605977B9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1EE4-B31C-4612-8E46-2CBF0872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77D-E868-4347-A1A6-2FD5CC37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FAD-A6BD-4163-A21F-1BBF7EA4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C24-8E62-477E-8834-E487E5BF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470-1931-48B7-93E1-6C0B7337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F8A-594F-4B90-9B35-7A838CE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A6A-25FA-49BF-92D2-E2A20F9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F8B-1292-46EE-B4F7-A8A509E6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56EC-F6E4-4B92-9318-FFA8B0BA21B4}" type="slidenum"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a6d3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ACDF-F47D-401D-A399-D913F1620A1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00"/>
                </a:solidFill>
                <a:latin typeface="Times New Roman"/>
              </a:rPr>
              <a:t>Educación para la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4800" y="5867280"/>
            <a:ext cx="39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Prof. IVONNE AHL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57200" y="380880"/>
            <a:ext cx="1143000" cy="175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3808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Departamento de Atención Prima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y Salud Familiar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Proceso que informa, motiva y ayuda a la población y adoptar y mantener  prácticas y estilos de vida saludables, propugna los cambios ambientales y dirige la formación profesional e investigación sobre est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La educación    para   la   salud   debe generar el desarrollo de todas aquellas potencialidades    que   transformen al individuo y la comunidad en dueños de su propio destino, en constructores de alternativas y soluciones frente a sus problemas de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0640" y="19692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Times New Roman"/>
              </a:rPr>
              <a:t>EN DEFINITIVA..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l éxito de la educación   en  salud sólo puede alcanzarse en la medida que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l equipo de salud logre captar la confianza  y   participación de la comunidad    en   los   trabajos   de promoción de la salud,  y esto sólo es posible si se trabaja  en función de   sus    necesidades,    anhelos e inquietud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9360" y="2514600"/>
            <a:ext cx="722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33"/>
                </a:solidFill>
                <a:latin typeface="Times New Roman"/>
              </a:rPr>
              <a:t>PROGRAMACIÓN EN SALU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6600"/>
                </a:solidFill>
                <a:latin typeface="Times New Roman"/>
              </a:rPr>
              <a:t>Conjunto de actividades de informacion, comunicacion y educacion a desarrollar en un periodo, como una estrategia más de intervención de los problemas  de salu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ribuye al cumplimiento de los objetivos de salud, al estimular cambios en la conducta de las personas y de la comunidad,frente a situaciones especificas que les afecta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MIN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tributos de la programación educativ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gruencia, oportuna, pertinente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la necesidad debe ser detectada a través de un dg. Educacional particip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ualidades de un buen programa:Evitar la rutina, evita la improvisacion, ahorra tiempo,dinero y esfuerzo, favorecer los cambios, permite evalua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280" y="45720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Ventajas de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Introduce orden y prioriz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Vision de conju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horro de tiempo, dinero y esfuerz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inuid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rofesionalizacion de la educacion,lo que implica un mayor respeto por el educan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erfeccionamiento, por medio de evaluaciones formativas de nuestro rol de educad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Aspectos a Considerar en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Que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prendizaje se quiere alcanzar?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mo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diante que situaciones de aprendizaje           ( actividades, vivencias) se pretende que los alumnos logren los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n que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Que medios, materiales o recursos utilizar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aprendizaje (niños distintos de anciano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l educando y sus necesida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Objetivos de las instituciones de que se forma par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ominio por parte del docente del contenido a entreg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6600"/>
                </a:solidFill>
                <a:latin typeface="Times New Roman"/>
              </a:rPr>
              <a:t>Un buen  conocimiento   previo del grupo objetivo va a permitir que el trabajo de educación para la salud se adapte   a  la realidad local,   incrementando   así    su eficaci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000" y="380880"/>
            <a:ext cx="87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 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desafío epidemiológico con que se inicia el milenio obliga a devolver protagonismo a la comunidad y sus organizaciones en el cuidado de su salu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Reorientando el rol del equipo de salud a un rol asesor y cuidador que acompaña el proceso salud – enfermedad y que potencia la capacidad de las personas de influir positivamente en su vida y su entorn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stas son competencias definidas para el equipo de salud en forma transversal, y que se articulan con el trabajo intersec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333333"/>
                </a:solidFill>
                <a:uFillTx/>
                <a:latin typeface="Times New Roman"/>
              </a:rPr>
              <a:t>ETAPA DETERMIN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l proble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 la pobl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Recursos de salud disponi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enerales y especif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Seleccion de metodos educa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laboracion de plan de actividades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onograma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Formulacion de recursos y presupuesto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scripcion del marco institucional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Organismo responsab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terminacion de mecanismos de evalu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iterios de evaluac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80880"/>
            <a:ext cx="79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Objetivo educacional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estructura en la redacción de un objetivo  debe describir una conducta espera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ducta :   es   la acción (verb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anifiesta u observable que el educando realizará como demostración   de   su   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tenido: es el tema o materia a través del cual   el    educando   expresará    su  nueva conducta o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Qué  condiciones debe tener un objetivo Educativo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describir una ac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ñalar un contenido preci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acción o conducta debe ser observada y medible por lo tanto evaluab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ser expresado en función del educando y no del docent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Para qué sirven los objetivos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Facilitan el proceso de enseñanza-aprendizaje entre el educando y el facilitado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facilitador le permite seleccionar las actividades más apropiadas para el cumplimiento de l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educando le permite conocer lo que obtendrá de las nuevas experiencia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600" spc="-1" strike="noStrike">
                <a:solidFill>
                  <a:srgbClr val="0e3b07"/>
                </a:solidFill>
                <a:latin typeface="Times New Roman"/>
              </a:rPr>
              <a:t>Qué características deben cumplir los contenidos educativos?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n ser seleccionados y desarrollados de acuerdo a los objetivos,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s decir, a las conductas que se quiere logra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tos deben ser Relevantes, Realistas, Simples y Atractivos 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rresponde a la puesta en marcha del plan de actividades propues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sencial en esta etap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coordinacion con grupos a educ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rupos de trabajo con reuniones period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Toda técnica debemo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Conocerla bie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Saberla utilizar en el momento oportuno y saberla conducir correctament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Una sola técnica por lo general, no es suficiente para trabajar un te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s importante saber ubicar las características particulares de cada técnica: sus posibilidades y límit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1280" y="525600"/>
            <a:ext cx="61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8120" y="100080"/>
            <a:ext cx="44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l termino 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Evaluamos efectividad del programa con respecto a objetivos propuest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Cambios de actitud observados en la poblacion que educam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Grado de participacion en acciones del progra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l educador debe evaluar en forma permanent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prácticas de enseñanz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os aciertos y limitacio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diferencias  culturales  con  los participantes que  impiden o aportan al proceso educ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5720" y="45720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modelo de atención tiene como objetivo central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La búsqueda de una mejor calidad de vida para las personas, las familias y las comunidades, con un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énfasis en la anticipación de los problem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or lo tanto fuerte acento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n promoción de la salud y prevención de la enfermedad,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es decir, anticipatorio al dañ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Impulsar acciones de </a:t>
            </a:r>
            <a:r>
              <a:rPr b="0" i="1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promoción de la salud</a:t>
            </a:r>
            <a:r>
              <a:rPr b="1" lang="es-ES" sz="2400" spc="-1" strike="noStrike">
                <a:solidFill>
                  <a:srgbClr val="333333"/>
                </a:solidFill>
                <a:latin typeface="Arial"/>
              </a:rPr>
              <a:t> y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ducación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ara lograr estilos de vida y ambientes más saludab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“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El    nombre   tras      la educación es el mismo, pero no lo mism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   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Todo mensaje      educativo   debe pretender hacer que el hombre sea el protagonista de su propio destino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KANT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OMOCION DE LA SALUD Y</a:t>
            </a:r>
            <a:br>
              <a:rPr sz="2800"/>
            </a:b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EVENCION DE LA ENFERMEDAD</a:t>
            </a:r>
            <a:br>
              <a:rPr sz="2800"/>
            </a:b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Las actividad educativa es prevención  </a:t>
            </a:r>
            <a:r>
              <a:rPr b="1" i="1" lang="es-ES_tradnl" sz="2800" spc="-1" strike="noStrike" u="sng">
                <a:solidFill>
                  <a:srgbClr val="000099"/>
                </a:solidFill>
                <a:uFillTx/>
                <a:latin typeface="Times New Roman"/>
              </a:rPr>
              <a:t>evita, se anticipa al daño 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frente enfermedades específicas, accidentes y causas de muer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La promoción de la salud desarrolla las potencialidades humanas, aumenta las habilidades y capacidades para mantener  la salud y calidad de vid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Times New Roman"/>
              </a:rPr>
              <a:t>Por lo tanto...acciones que promueven la salud también evitan la enfermedad: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33"/>
                </a:solidFill>
                <a:latin typeface="Times New Roman"/>
              </a:rPr>
              <a:t>Actividad Física, Alimentación Saludable, Ambientes Libres del Humo de Tabac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 DE EDUCACIÓN</a:t>
            </a:r>
            <a:r>
              <a:rPr b="0" lang="es-ES" sz="4400" spc="-1" strike="noStrike">
                <a:solidFill>
                  <a:srgbClr val="0e3b0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600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s un proceso de facilitación de aprendizajes deseables, por medio de los cuales la gente se percata más de los problemas de salud y se interesa activamente en obtener soluciones” </a:t>
            </a: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(American Public Association. 194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886200"/>
            <a:ext cx="807732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educación en salud es una guía para que l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individuos o grupos perciban ciertas acciones saludables a medida que concuerden con sus propios valores o metas”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(Mc Mahon, Kassey. 196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ducación en Salud es la traducción de los conocimientos sobre salud en hábitos saludables, comportamientos positivos, que tienden a promover la salud del individuo, familia y comunidad”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( Cuadernos Médico Sociales. 1966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OMS define el concepto de Educación para la Salud, como </a:t>
            </a:r>
            <a:r>
              <a:rPr b="1" i="1" lang="es-ES" sz="2800" spc="-1" strike="noStrike">
                <a:solidFill>
                  <a:srgbClr val="401102"/>
                </a:solidFill>
                <a:latin typeface="Times New Roman"/>
              </a:rPr>
              <a:t>“una actividad educativa, diseñada para ampliar el conocimiento de la población en relación con la salud y desarrollar los valores y habilidades personales que promuevan salud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4f6042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ducación puede traducirse como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nutrir al individuo de aquellos elementos que forman su mundo espiritual y generar en él un desarrollo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, que se exterioriza en su comportamien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901"/>
              </a:spcBef>
              <a:buClr>
                <a:srgbClr val="4f6042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n definitiva podemos decir que educación es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“un proceso a través del cual la persona adquiere conocimientos, habilidades, destrezas, actitudes y valores que finalmente se traducen en un cambio de conducta”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6600"/>
                </a:solidFill>
                <a:uFillTx/>
                <a:latin typeface="Times New Roman"/>
              </a:rPr>
              <a:t>El proceso de aprendizaje, está influenciado por una serie de facto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Ambientales, personales, en el ámbito cognitivo, emocional y de habilidad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Por lo tanto educador debe crear condiciones que faciliten el aprendizaje, en una atmósfera que anime a ser activo, aliente la confianza en uno mismo, facilite el descubrimiento y permita la confrontación de ideas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Importante es reconocer que educar no es informar, ni aconsejar o persuadir, para finalmente lograr comportamientos prescritos por el agente de salud, más bien 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" sz="3600" spc="-1" strike="noStrike">
                <a:solidFill>
                  <a:srgbClr val="333333"/>
                </a:solidFill>
                <a:latin typeface="Times New Roman"/>
              </a:rPr>
              <a:t>facilitar que las personas desarrollen capacidades que les permitan con conocimiento, tomar decisiones conscientes y autónomas sobre su propi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1:26:53Z</dcterms:created>
  <dc:creator>christel hanne</dc:creator>
  <dc:description/>
  <dc:language>en-US</dc:language>
  <cp:lastModifiedBy>Ivo</cp:lastModifiedBy>
  <cp:lastPrinted>2003-09-09T00:58:01Z</cp:lastPrinted>
  <dcterms:modified xsi:type="dcterms:W3CDTF">2008-05-05T18:31:12Z</dcterms:modified>
  <cp:revision>68</cp:revision>
  <dc:subject/>
  <dc:title>Programacion educativa en salud</dc:title>
</cp:coreProperties>
</file>