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8AB-4D41-4899-AC7B-9EB1AD0C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D87-8D37-4DF3-8B42-5A914B02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2D0-3058-445B-BE32-7FF30520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848-D95E-4616-BC62-E3AACE58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3F73-2EBF-4607-860F-42EA3111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7369-FB8C-4C0B-A422-A222A35E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966A-B359-4042-B65D-5961645A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1C8C-55FF-4672-A1FF-0A994F10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557F-C808-431C-B66C-737518D5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1C74-9551-4042-942C-8C42DDA2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792A-9D19-4EBB-9BD1-AC68AE2B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C4C-C7EC-4FEB-BC92-554800CB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A1BE-E1DE-4044-A342-FADA4112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1BCF-8A96-47D1-9BA2-38162019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7198-2BE2-4051-9065-892DA94D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333F-3241-4D15-A75B-BDF0BD5D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AF53-1162-4871-8C45-12A3B107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610-3810-4104-930A-69115754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39D-065C-47FD-950B-D2009187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403-F2EA-48B0-9888-49CEFEB6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E73-81CA-4E53-AB72-4B4BF503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E68-5BFD-4169-8C15-165353BC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81E-D8D5-4E63-A6FC-6B55F979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594-BAE9-470A-BC56-1BA165DD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3b0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6042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604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6042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604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6042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73A2-8108-40B5-B821-675CD6765D95}" type="slidenum">
              <a:rPr b="0" lang="en-US" sz="1400" spc="-1" strike="noStrike">
                <a:solidFill>
                  <a:srgbClr val="4f604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a6d3f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3b0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1CF6-6B7A-4D07-B4B2-00549626618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00"/>
                </a:solidFill>
                <a:latin typeface="Times New Roman"/>
              </a:rPr>
              <a:t>Educación para la Salud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4800" y="5867280"/>
            <a:ext cx="39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Times New Roman"/>
              </a:rPr>
              <a:t>Prof. IVONNE AHL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57200" y="380880"/>
            <a:ext cx="1143000" cy="1752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95280" y="38088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Times New Roman"/>
              </a:rPr>
              <a:t>Departamento de Atención Primari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Times New Roman"/>
              </a:rPr>
              <a:t>y Salud Familiar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1102"/>
                </a:solidFill>
                <a:latin typeface="Times New Roman"/>
              </a:rPr>
              <a:t>EDUCACIÓN PARA LA SALUD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Proceso que informa, motiva y ayuda a la población y adoptar y mantener  prácticas y estilos de vida saludables, propugna los cambios ambientales y dirige la formación profesional e investigación sobre estos objetiv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La educación    para   la   salud   debe generar el desarrollo de todas aquellas potencialidades    que   transformen al individuo y la comunidad en dueños de su propio destino, en constructores de alternativas y soluciones frente a sus problemas de salu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30640" y="19692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1102"/>
                </a:solidFill>
                <a:latin typeface="Times New Roman"/>
              </a:rPr>
              <a:t>EDUCACIÓN PARA LA SALU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33"/>
                </a:solidFill>
                <a:latin typeface="Times New Roman"/>
              </a:rPr>
              <a:t>EN DEFINITIVA..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El éxito de la educación   en  salud sólo puede alcanzarse en la medida que </a:t>
            </a:r>
            <a:r>
              <a:rPr b="0" i="1" lang="es-ES_tradnl" sz="3600" spc="-1" strike="noStrike">
                <a:solidFill>
                  <a:srgbClr val="006600"/>
                </a:solidFill>
                <a:latin typeface="Times New Roman"/>
              </a:rPr>
              <a:t>el equipo de salud logre captar la confianza  y   participación de la comunidad    en   los   trabajos   de promoción de la salud,  y esto sólo es posible si se trabaja  en función de   sus    necesidades,    anhelos e inquietude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9360" y="2514600"/>
            <a:ext cx="722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33"/>
                </a:solidFill>
                <a:latin typeface="Times New Roman"/>
              </a:rPr>
              <a:t>PROGRAMACIÓN EN SALU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Programacion educativa en Salud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6600"/>
                </a:solidFill>
                <a:latin typeface="Times New Roman"/>
              </a:rPr>
              <a:t>Conjunto de actividades de informacion, comunicacion y educacion a desarrollar en un periodo, como una estrategia más de intervención de los problemas  de salud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ntribuye al cumplimiento de los objetivos de salud, al estimular cambios en la conducta de las personas y de la comunidad,frente a situaciones especificas que les afectan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s-CL" sz="2800" spc="-1" strike="noStrike">
                <a:solidFill>
                  <a:srgbClr val="333333"/>
                </a:solidFill>
                <a:latin typeface="Times New Roman"/>
              </a:rPr>
              <a:t>MINS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Atributos de la programación educativ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ngruencia, oportuna, pertinente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la necesidad debe ser detectada a través de un dg. Educacional participativ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ualidades de un buen programa:Evitar la rutina, evita la improvisacion, ahorra tiempo,dinero y esfuerzo, favorecer los cambios, permite evalua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5280" y="457200"/>
            <a:ext cx="769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Programacion educativa en Salu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Ventajas de la Programación Educativa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Introduce orden y priorizac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Vision de conju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Ahorro de tiempo, dinero y esfuerz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ntinuid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Profesionalizacion de la educacion,lo que implica un mayor respeto por el educand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Perfeccionamiento, por medio de evaluaciones formativas de nuestro rol de educado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Aspectos a Considerar en la Programación Educativa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333333"/>
                </a:solidFill>
                <a:uFillTx/>
                <a:latin typeface="Times New Roman"/>
              </a:rPr>
              <a:t>Que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aprendizaje se quiere alcanzar?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333333"/>
                </a:solidFill>
                <a:uFillTx/>
                <a:latin typeface="Times New Roman"/>
              </a:rPr>
              <a:t>Como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Mediante que situaciones de aprendizaje           ( actividades, vivencias) se pretende que los alumnos logren los objetiv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333333"/>
                </a:solidFill>
                <a:uFillTx/>
                <a:latin typeface="Times New Roman"/>
              </a:rPr>
              <a:t>Con que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33"/>
                </a:solidFill>
                <a:latin typeface="Times New Roman"/>
              </a:rPr>
              <a:t>Que medios, materiales o recursos utilizar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Debemos ademas considerar aspectos como: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Mecanismos de aprendizaje (niños distintos de anciano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aracterizacion del educando y sus necesida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Objetivos de las instituciones de que se forma par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ominio por parte del docente del contenido a entreg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6600"/>
                </a:solidFill>
                <a:latin typeface="Times New Roman"/>
              </a:rPr>
              <a:t>Un buen  conocimiento   previo del grupo objetivo va a permitir que el trabajo de educación para la salud se adapte   a  la realidad local,   incrementando   así    su eficacia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1000" y="380880"/>
            <a:ext cx="87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Debemos ademas considerar aspectos como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MODELO DE SALUD CON ENFOQUE FAMILIAR Y EDUCACIÓN PARA LA SALUD</a:t>
            </a:r>
            <a:endParaRPr b="0" lang="en-US" sz="28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El desafío epidemiológico con que se inicia el milenio obliga a devolver protagonismo a la comunidad y sus organizaciones en el cuidado de su salu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Reorientando el rol del equipo de salud a un rol asesor y cuidador que acompaña el proceso salud – enfermedad y que potencia la capacidad de las personas de influir positivamente en su vida y su entorno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Estas son competencias definidas para el equipo de salud en forma transversal, y que se articulan con el trabajo intersec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e3b07"/>
                </a:solidFill>
                <a:latin typeface="Times New Roman"/>
              </a:rPr>
              <a:t>Proceso de la programacion educativa</a:t>
            </a:r>
            <a:endParaRPr b="0" lang="en-US" sz="40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333333"/>
                </a:solidFill>
                <a:uFillTx/>
                <a:latin typeface="Times New Roman"/>
              </a:rPr>
              <a:t>ETAPA DETERMINAT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finicion del problem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aracterizacion de la poblac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Recursos de salud disponib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finicion de objetiv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Generales y especific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Seleccion de metodos educativ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Elaboracion de plan de actividades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(cronograma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Formulacion de recursos y presupuesto del program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scripcion del marco institucional del program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(Organismo responsab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terminacion de mecanismos de evaluac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(Criterios de evaluac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80880"/>
            <a:ext cx="79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e3b07"/>
                </a:solidFill>
                <a:latin typeface="Times New Roman"/>
              </a:rPr>
              <a:t>Proceso de la programacion educativ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Objetivo educacional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 estructura en la redacción de un objetivo  debe describir una conducta espera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ducta :   es   la acción (verb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manifiesta u observable que el educando realizará como demostración   de   su    aprendizaj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tenido: es el tema o materia a través del cual   el    educando   expresará    su  nueva conducta o aprendizaj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¿Qué  condiciones debe tener un objetivo Educativo?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Debe describir una ac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Señalar un contenido precis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 acción o conducta debe ser observada y medible por lo tanto evaluab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Debe ser expresado en función del educando y no del docente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¿Para qué sirven los objetivos?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Facilitan el proceso de enseñanza-aprendizaje entre el educando y el facilitador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Al facilitador le permite seleccionar las actividades más apropiadas para el cumplimiento de los objetiv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Al educando le permite conocer lo que obtendrá de las nuevas experiencia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3600" spc="-1" strike="noStrike">
                <a:solidFill>
                  <a:srgbClr val="0e3b07"/>
                </a:solidFill>
                <a:latin typeface="Times New Roman"/>
              </a:rPr>
              <a:t>Qué características deben cumplir los contenidos educativos?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Deben ser seleccionados y desarrollados de acuerdo a los objetivos, </a:t>
            </a:r>
            <a:r>
              <a:rPr b="0" i="1" lang="es-ES_tradnl" sz="3600" spc="-1" strike="noStrike">
                <a:solidFill>
                  <a:srgbClr val="006600"/>
                </a:solidFill>
                <a:latin typeface="Times New Roman"/>
              </a:rPr>
              <a:t>es decir, a las conductas que se quiere logra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stos deben ser Relevantes, Realistas, Simples y Atractivos 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jecucion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rresponde a la puesta en marcha del plan de actividades propuest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Esencial en esta etap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mecanismos de coordinacion con grupos a educ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grupos de trabajo con reuniones periodic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Toda técnica debemo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Conocerla bien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Saberla utilizar en el momento oportuno y saberla conducir correctament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Una sola técnica por lo general, no es suficiente para trabajar un tem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Es importante saber ubicar las características particulares de cada técnica: sus posibilidades y límite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41280" y="525600"/>
            <a:ext cx="615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8120" y="100080"/>
            <a:ext cx="44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jecuc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valuación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4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Al termino 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Evaluamos efectividad del programa con respecto a objetivos propuest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Cambios de actitud observados en la poblacion que educam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Grado de participacion en acciones del program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l educador debe evaluar en forma permanent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s prácticas de enseñanz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os aciertos y limitacio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s diferencias  culturales  con  los participantes que  impiden o aportan al proceso educativ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5720" y="45720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valuació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MODELO DE SALUD CON ENFOQUE FAMILIAR Y EDUCACIÓNPARA LA SALUD</a:t>
            </a:r>
            <a:endParaRPr b="0" lang="en-US" sz="28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El modelo de atención tiene como objetivo central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La búsqueda de una mejor calidad de vida para las personas, las familias y las comunidades, con un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énfasis en la anticipación de los problem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Por lo tanto fuerte acento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en promoción de la salud y prevención de la enfermedad,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es decir, anticipatorio al dañ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Impulsar acciones de </a:t>
            </a:r>
            <a:r>
              <a:rPr b="0" i="1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promoción de la salud</a:t>
            </a:r>
            <a:r>
              <a:rPr b="1" lang="es-ES" sz="2400" spc="-1" strike="noStrike">
                <a:solidFill>
                  <a:srgbClr val="333333"/>
                </a:solidFill>
                <a:latin typeface="Arial"/>
              </a:rPr>
              <a:t> y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educación 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para lograr estilos de vida y ambientes más saludab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76176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“</a:t>
            </a: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El    nombre   tras      la educación es el mismo, pero no lo mismo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   </a:t>
            </a: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Todo mensaje      educativo   debe pretender hacer que el hombre sea el protagonista de su propio destino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KANT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ROMOCION DE LA SALUD Y</a:t>
            </a:r>
            <a:br>
              <a:rPr sz="2800"/>
            </a:b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REVENCION DE LA ENFERMEDAD</a:t>
            </a:r>
            <a:br>
              <a:rPr sz="2800"/>
            </a:br>
            <a:endParaRPr b="0" lang="en-US" sz="28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Las actividad educativa es prevención  </a:t>
            </a:r>
            <a:r>
              <a:rPr b="1" i="1" lang="es-ES_tradnl" sz="2800" spc="-1" strike="noStrike" u="sng">
                <a:solidFill>
                  <a:srgbClr val="000099"/>
                </a:solidFill>
                <a:uFillTx/>
                <a:latin typeface="Times New Roman"/>
              </a:rPr>
              <a:t>evita, se anticipa al daño 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frente enfermedades específicas, accidentes y causas de muer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imes New Roman"/>
              </a:rPr>
              <a:t>La promoción de la salud desarrolla las potencialidades humanas, aumenta las habilidades y capacidades para mantener  la salud y calidad de vid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99"/>
                </a:solidFill>
                <a:latin typeface="Times New Roman"/>
              </a:rPr>
              <a:t>Por lo tanto...acciones que promueven la salud también evitan la enfermedad: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33"/>
                </a:solidFill>
                <a:latin typeface="Times New Roman"/>
              </a:rPr>
              <a:t>Actividad Física, Alimentación Saludable, Ambientes Libres del Humo de Tabac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00"/>
                </a:solidFill>
                <a:latin typeface="Times New Roman"/>
              </a:rPr>
              <a:t>CONCEPTOS  DE EDUCACIÓN</a:t>
            </a:r>
            <a:r>
              <a:rPr b="0" lang="es-ES" sz="4400" spc="-1" strike="noStrike">
                <a:solidFill>
                  <a:srgbClr val="0e3b0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520" y="16002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4f604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Es un proceso de facilitación de aprendizajes deseables, por medio de los cuales la gente se percata más de los problemas de salud y se interesa activamente en obtener soluciones” </a:t>
            </a:r>
            <a:r>
              <a:rPr b="0" lang="es-ES" sz="2400" spc="-1" strike="noStrike">
                <a:solidFill>
                  <a:srgbClr val="333333"/>
                </a:solidFill>
                <a:latin typeface="Times New Roman"/>
              </a:rPr>
              <a:t>(American Public Association. 194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886200"/>
            <a:ext cx="807732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La educación en salud es una guía para que l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individuos o grupos perciban ciertas acciones saludables a medida que concuerden con sus propios valores o metas”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006600"/>
                </a:solidFill>
                <a:latin typeface="Times New Roman"/>
              </a:rPr>
              <a:t>(Mc Mahon, Kassey. 1965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00"/>
                </a:solidFill>
                <a:latin typeface="Times New Roman"/>
              </a:rPr>
              <a:t>CONCEPTOS DE EDUCACIÓN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Educación en Salud es la traducción de los conocimientos sobre salud en hábitos saludables, comportamientos positivos, que tienden a promover la salud del individuo, familia y comunidad”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( Cuadernos Médico Sociales. 1966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La OMS define el concepto de Educación para la Salud, como </a:t>
            </a:r>
            <a:r>
              <a:rPr b="1" i="1" lang="es-ES" sz="2800" spc="-1" strike="noStrike">
                <a:solidFill>
                  <a:srgbClr val="401102"/>
                </a:solidFill>
                <a:latin typeface="Times New Roman"/>
              </a:rPr>
              <a:t>“una actividad educativa, diseñada para ampliar el conocimiento de la población en relación con la salud y desarrollar los valores y habilidades personales que promuevan salud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00"/>
                </a:solidFill>
                <a:latin typeface="Times New Roman"/>
              </a:rPr>
              <a:t>CONCEPTOS DE EDUCACIÓN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4f6042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Educación puede traducirse como </a:t>
            </a:r>
            <a:r>
              <a:rPr b="0" i="1" lang="es-ES" sz="3600" spc="-1" strike="noStrike">
                <a:solidFill>
                  <a:srgbClr val="006600"/>
                </a:solidFill>
                <a:latin typeface="Times New Roman"/>
              </a:rPr>
              <a:t>nutrir al individuo de aquellos elementos que forman su mundo espiritual y generar en él un desarrollo</a:t>
            </a: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, que se exterioriza en su comportamient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585000" indent="-585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585000" indent="-585000">
              <a:spcBef>
                <a:spcPts val="901"/>
              </a:spcBef>
              <a:buClr>
                <a:srgbClr val="4f6042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En definitiva podemos decir que educación es </a:t>
            </a:r>
            <a:r>
              <a:rPr b="0" i="1" lang="es-ES" sz="3600" spc="-1" strike="noStrike">
                <a:solidFill>
                  <a:srgbClr val="006600"/>
                </a:solidFill>
                <a:latin typeface="Times New Roman"/>
              </a:rPr>
              <a:t>“un proceso a través del cual la persona adquiere conocimientos, habilidades, destrezas, actitudes y valores que finalmente se traducen en un cambio de conducta”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Times New Roman"/>
              </a:rPr>
              <a:t>CONSIDERACIÓNES GENERALES</a:t>
            </a:r>
            <a:endParaRPr b="0" lang="en-US" sz="32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6600"/>
                </a:solidFill>
                <a:uFillTx/>
                <a:latin typeface="Times New Roman"/>
              </a:rPr>
              <a:t>El proceso de aprendizaje, está influenciado por una serie de facto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Ambientales, personales, en el ámbito cognitivo, emocional y de habilidad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00"/>
                </a:solidFill>
                <a:latin typeface="Times New Roman"/>
              </a:rPr>
              <a:t>Por lo tanto educador debe crear condiciones que faciliten el aprendizaje, en una atmósfera que anime a ser activo, aliente la confianza en uno mismo, facilite el descubrimiento y permita la confrontación de ideas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Times New Roman"/>
              </a:rPr>
              <a:t>CONSIDERACIÓNES GENERALES</a:t>
            </a:r>
            <a:endParaRPr b="0" lang="en-US" sz="32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Importante es reconocer que educar no es informar, ni aconsejar o persuadir, para finalmente lograr comportamientos prescritos por el agente de salud, más bien 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s-ES" sz="3600" spc="-1" strike="noStrike">
                <a:solidFill>
                  <a:srgbClr val="333333"/>
                </a:solidFill>
                <a:latin typeface="Times New Roman"/>
              </a:rPr>
              <a:t>facilitar que las personas desarrollen capacidades que les permitan con conocimiento, tomar decisiones conscientes y autónomas sobre su propia salu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01:26:53Z</dcterms:created>
  <dc:creator>christel hanne</dc:creator>
  <dc:description/>
  <dc:language>en-US</dc:language>
  <cp:lastModifiedBy>Ivo</cp:lastModifiedBy>
  <cp:lastPrinted>2003-09-09T00:58:01Z</cp:lastPrinted>
  <dcterms:modified xsi:type="dcterms:W3CDTF">2008-05-05T18:31:12Z</dcterms:modified>
  <cp:revision>68</cp:revision>
  <dc:subject/>
  <dc:title>Programacion educativa en salud</dc:title>
</cp:coreProperties>
</file>