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5.wmf" ContentType="image/x-wmf"/>
  <Override PartName="/ppt/media/OVACION.WAV" ContentType="audio/x-wav"/>
  <Override PartName="/ppt/media/image15.wmf" ContentType="image/x-wmf"/>
  <Override PartName="/ppt/media/image2.wmf" ContentType="image/x-wmf"/>
  <Override PartName="/ppt/media/image6.png" ContentType="image/png"/>
  <Override PartName="/ppt/media/image14.wmf" ContentType="image/x-wmf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32600" cy="996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C5A4-FE4C-42FC-B1D6-1E87C8B0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7D72-4D1D-47BE-BD9A-CD378ECF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937-641C-48DF-B3B6-4F5FD0A4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9EC-BAAD-4074-A53B-F8B7C096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E54A-C919-4487-9259-40F7A941A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C6B8-44B8-4C45-ADB0-D5F179D6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D84E-8320-4ECC-A7C8-C9682164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F177-1810-4BEF-BBA4-78645D42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A99E-8D48-450E-BBF1-12AC22F1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FDC2-6110-49D3-BA02-65D4DC49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C5FB-FA46-488B-9FD9-9FAC5097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800-52AA-4D67-B968-A8EFD0C1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0118-5B8B-44E0-AC5A-75D3B6C6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4D4F-B03B-4475-8743-EFAF4218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C25A-C3C8-467B-9E01-E8DF6670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0CC7-AF49-4ED0-88E5-C82D8C34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EA43-4216-4AD2-91A4-E8B591D2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F4A-8F23-4BCC-A4E3-9E0166AD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DA6-4D18-4912-A9B0-00577D43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2D74-6F68-45BB-9981-F4DD0CC7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585-937D-4616-9FAA-FF0533C3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CB5-C8ED-4D2C-94A7-59D3203C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56F-59FF-414D-BB3C-E1F456DD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CD4F-0B8B-4377-A3D1-C4332F3E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6CE3-FDF2-4BB4-8118-FBE9F6157BC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B7E4-6DBD-4841-90C1-1CBEB65BC0D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OVACION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561492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UNIVERSIDAD DE CHILE</a:t>
            </a:r>
            <a:br>
              <a:rPr sz="1400"/>
            </a:b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Departamento</a:t>
            </a:r>
            <a:br>
              <a:rPr sz="1400"/>
            </a:b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de Atención Primaria y Salud Famil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34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TENCIÓN PRIMARIA Y  SALUD FAMILI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F.  IVONNE AH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04920" y="0"/>
            <a:ext cx="1512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9880" y="304920"/>
            <a:ext cx="4824360" cy="604836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579640" y="126828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1341360"/>
            <a:ext cx="0" cy="489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08720" y="6165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1916280"/>
            <a:ext cx="2447640" cy="720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CIÓN INTERSEC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3124080"/>
            <a:ext cx="2447640" cy="720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RTICIP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UNI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2000" y="4005360"/>
            <a:ext cx="2447640" cy="649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ECNOLOGÍA APROPI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 DESARROLLO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5013360"/>
            <a:ext cx="2447640" cy="865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CORPORA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ORTES DEL SA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P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2276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3429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4365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0000" y="54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600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ARROLLO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ENCIÓN PRIMARIA EN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41720"/>
            <a:ext cx="936720" cy="1295280"/>
          </a:xfrm>
          <a:custGeom>
            <a:avLst/>
            <a:gdLst>
              <a:gd name="textAreaLeft" fmla="*/ 0 w 936720"/>
              <a:gd name="textAreaRight" fmla="*/ 937080 w 9367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1070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066680"/>
            <a:ext cx="2305080" cy="4753080"/>
          </a:xfrm>
          <a:prstGeom prst="rect">
            <a:avLst/>
          </a:prstGeom>
          <a:solidFill>
            <a:srgbClr val="b9b2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2819520"/>
            <a:ext cx="2303640" cy="165564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I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IMARI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3716280"/>
            <a:ext cx="13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328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258920" y="3284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07640" y="342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414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835280" y="4365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1280" y="1504800"/>
            <a:ext cx="175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I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CUND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A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4941720"/>
            <a:ext cx="20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I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RCIARIO DE ATEN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5080" y="6278400"/>
            <a:ext cx="79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aramond"/>
              </a:rPr>
              <a:t>PRINCIPAL  ARTICULADOR DE RE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66ff"/>
                </a:solidFill>
                <a:latin typeface="Comic Sans MS"/>
              </a:rPr>
              <a:t>ALGUNAS RECOMENDACIONES  ALMA-ATA 19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443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Otorgar a la salud mayor importancia dentro de las políticas sociales y en el proceso de desarro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Lograr mayor equidad y cobertura en la atención de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Redefinir las formas de conducción y organización del sector salud: SILOS con poder de decisión y autonomía de gest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66ff"/>
                </a:solidFill>
                <a:latin typeface="Comic Sans MS"/>
              </a:rPr>
              <a:t>ALGUNAS RECOMENDACIONES  ALMA-ATA 19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...proporcionar a los pueblos los medios necesarios para mejorar su salud y ejercer un</a:t>
            </a:r>
            <a:r>
              <a:rPr b="0" lang="es-MX" sz="28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mayor control sobre la misma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...que la salud se promueve cuando se facilita una vida decente, condiciones adecuadas de trabajo, educación, cultura, descanso y recreación..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6492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s-MX" sz="2800" spc="-1" strike="noStrike">
                <a:solidFill>
                  <a:srgbClr val="0066ff"/>
                </a:solidFill>
                <a:latin typeface="Comic Sans MS"/>
              </a:rPr>
              <a:t>ALGUNAS RECOMENDACIONES  </a:t>
            </a:r>
            <a:br>
              <a:rPr sz="2800"/>
            </a:br>
            <a:r>
              <a:rPr b="1" i="1" lang="es-MX" sz="2800" spc="-1" strike="noStrike">
                <a:solidFill>
                  <a:srgbClr val="0066ff"/>
                </a:solidFill>
                <a:latin typeface="Comic Sans MS"/>
              </a:rPr>
              <a:t>ALMA-ATA 1978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...que el sector sanitario, por sí solo, no puede alcanzar la salu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...que en los países en desarrollo,  el progreso económico, las medidas de lucha contra la miseria, la producción de alimentos, el agua, el saneamiento, la vivienda, la protección del medio y la educación contribuyen a la salud y tienen el mismo objetivo de desarrollo hum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33cccc"/>
                </a:solidFill>
                <a:latin typeface="Arial"/>
              </a:rPr>
              <a:t>SITUACIÓN ACTUAL DE SALUD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4360" y="3284280"/>
            <a:ext cx="799128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ENTRO DE SALU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0480" y="63360"/>
          <a:ext cx="9021600" cy="6748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63360"/>
                    <a:ext cx="9021600" cy="67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chile" descr=""/>
          <p:cNvPicPr/>
          <p:nvPr/>
        </p:nvPicPr>
        <p:blipFill>
          <a:blip r:embed="rId3"/>
          <a:stretch/>
        </p:blipFill>
        <p:spPr>
          <a:xfrm>
            <a:off x="5943600" y="304920"/>
            <a:ext cx="2590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2133720" y="-4898520"/>
            <a:ext cx="7632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77724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8053560" cy="6553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8267760" cy="6705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icar el concepto de Atención Primaria en Salud (AP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icar las características de la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icar la situación actual de salud en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nalizar los fundamentos del cambio de modelo de uno biomédico a otro biopsicoso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icar los principios del modelo de Salud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Reconocer las características más importantes del modelo biopsicosocial y de salud familiar v/s el modelo bioméd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64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229600" cy="5715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ff"/>
                </a:solidFill>
                <a:latin typeface="Arial"/>
              </a:rPr>
              <a:t>Esperanza de vida al nacer por periodo </a:t>
            </a:r>
            <a:br>
              <a:rPr sz="3200"/>
            </a:br>
            <a:r>
              <a:rPr b="0" lang="es-CL" sz="3200" spc="-1" strike="noStrike">
                <a:solidFill>
                  <a:srgbClr val="0066ff"/>
                </a:solidFill>
                <a:latin typeface="Arial"/>
              </a:rPr>
              <a:t>y sexo en Chile 1950 - 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626160" cy="5616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cccc"/>
                </a:solidFill>
                <a:latin typeface="Garamond"/>
              </a:rPr>
              <a:t>MORTALIDAD INFANTI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cccc"/>
                </a:solidFill>
                <a:latin typeface="Garamond"/>
              </a:rPr>
              <a:t>LA BRECHA PAÍS</a:t>
            </a:r>
            <a:br>
              <a:rPr sz="3600"/>
            </a:br>
            <a:r>
              <a:rPr b="1" lang="es-ES" sz="3600" spc="-1" strike="noStrike">
                <a:solidFill>
                  <a:srgbClr val="00cccc"/>
                </a:solidFill>
                <a:latin typeface="Garamond"/>
              </a:rPr>
              <a:t>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1560600"/>
            <a:ext cx="8153280" cy="5297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905120" y="228600"/>
            <a:ext cx="5486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Tasa Global de Fecund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Arial"/>
              </a:rPr>
              <a:t>Chile 1953-2024 (proye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316560"/>
            <a:ext cx="9144000" cy="5335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8088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-304920"/>
            <a:ext cx="91440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Arial"/>
              </a:rPr>
              <a:t>N° Casos de Saramp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Arial"/>
              </a:rPr>
              <a:t>Chile, 1990 -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763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PRINCIPALES PROBLEMAS DE  SALUD DE LA POBLACIÓN CHILENA...</a:t>
            </a:r>
            <a:br>
              <a:rPr sz="4000"/>
            </a:br>
            <a:br>
              <a:rPr sz="4000"/>
            </a:b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Desafíos para la 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BLEMAS SALUD PAÍS </a:t>
            </a: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 ENCUESTA DE SALUD AÑO 200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DENTARISMO   .................................90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IES DENTALES   .............................66.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BAQUISMO       ...................................42.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BREPESO     ......................................39.3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LIPIDEMIA ( Colesterol ) .................. 35.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LORES ARTICULARES  ....................34.3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IPERTENSIÓN  ARTERIAL ..................33.7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F.  DIGESTIVAS ( R.G.E.) ................ .29.9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ESIDAD   .............................................22.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F.  RESPIRATORIAS CRÓNICAS.......21.7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PRESIÓN   ..........................................17.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BETES MELLITUS............................ ..4.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EGUERA ...............................................  2.6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33cccc"/>
                </a:solidFill>
                <a:latin typeface="Comic Sans MS"/>
              </a:rPr>
              <a:t>PRINCIPALES PROBLEMAS QUE ENFRENTA LA 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Nuevo perfil epidemi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Problemas de salud emer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Bajas coberturas en problemas preval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omic Sans MS"/>
              </a:rPr>
              <a:t>Estilos de vida de la población Chil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s-ES_tradnl" sz="3600" spc="-1" strike="noStrike">
                <a:solidFill>
                  <a:srgbClr val="ff9900"/>
                </a:solidFill>
                <a:latin typeface="Comic Sans MS"/>
              </a:rPr>
              <a:t>Desafíos sanitarios para Chile en el nuevo sigl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686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Responder a las exigencias de los usua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Resolver los temas pendien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Mantener los logros sanitarios alcanz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Cambios de estilos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s-ES_tradnl" sz="3600" spc="-1" strike="noStrike">
                <a:solidFill>
                  <a:srgbClr val="ff9900"/>
                </a:solidFill>
                <a:latin typeface="Comic Sans MS"/>
              </a:rPr>
              <a:t>Desafíos sanitarios para Chile en el nuevo sigl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66cc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Comic Sans MS"/>
              </a:rPr>
              <a:t>Promover la salud y prevenir la enferm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5e9fb"/>
                </a:solidFill>
                <a:latin typeface="Comic Sans MS"/>
              </a:rPr>
              <a:t>Cambiar el actual modelo de atención de salu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66cc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66ff"/>
                </a:solidFill>
                <a:latin typeface="Comic Sans MS"/>
              </a:rPr>
              <a:t>Por un modelo que sea </a:t>
            </a:r>
            <a:r>
              <a:rPr b="0" i="1" lang="es-CL" sz="3200" spc="-1" strike="noStrike" u="sng">
                <a:solidFill>
                  <a:srgbClr val="0066ff"/>
                </a:solidFill>
                <a:uFillTx/>
                <a:latin typeface="Comic Sans MS"/>
              </a:rPr>
              <a:t>pertinente al perfil epidemiológico y demográfico act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cccc"/>
                </a:solidFill>
                <a:uFillTx/>
                <a:latin typeface="Comic Sans MS"/>
              </a:rPr>
              <a:t>Recordemo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4000" spc="-1" strike="noStrike">
                <a:solidFill>
                  <a:srgbClr val="0066ff"/>
                </a:solidFill>
                <a:latin typeface="Comic Sans MS"/>
              </a:rPr>
              <a:t>Concepto de sal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Determinantes para la sal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1001"/>
              </a:spcBef>
              <a:buClr>
                <a:srgbClr val="66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0066ff"/>
                </a:solidFill>
                <a:latin typeface="Comic Sans MS"/>
              </a:rPr>
              <a:t>Marco jurídico de la salud en 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9900"/>
                </a:solidFill>
                <a:latin typeface="Comic Sans MS"/>
              </a:rPr>
              <a:t>Desafíos sanitarios para Chile en el nuevo sig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omic Sans MS"/>
              </a:rPr>
              <a:t>Envejecimiento pobla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omic Sans MS"/>
              </a:rPr>
              <a:t>Desigualdades en el acceso a la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omic Sans MS"/>
              </a:rPr>
              <a:t>Enfermedades relacionadas con estilos de vid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omic Sans MS"/>
              </a:rPr>
              <a:t>Accidentes y viol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9900"/>
                </a:solidFill>
                <a:latin typeface="Comic Sans MS"/>
              </a:rPr>
              <a:t>Desafíos sanitarios para Chile en el nuevo sigl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Comic Sans MS"/>
              </a:rPr>
              <a:t>Protección del medio ambiente físico, psicosocial, cultural y labo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Comic Sans MS"/>
              </a:rPr>
              <a:t>Fortalecimiento estratégico de la atención prim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Comic Sans MS"/>
              </a:rPr>
              <a:t>Ambulatorización de la atenció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Comic Sans MS"/>
              </a:rPr>
              <a:t>Atención de carácter educa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Comic Sans MS"/>
              </a:rPr>
              <a:t>Trabajar intersectorialmente Intersectori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0000"/>
                </a:solidFill>
                <a:latin typeface="Times New Roman"/>
              </a:rPr>
              <a:t>ENFOQUE  BIOMÉDICO  V/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MX" sz="4000" spc="-1" strike="noStrike">
                <a:solidFill>
                  <a:srgbClr val="000000"/>
                </a:solidFill>
                <a:latin typeface="Times New Roman"/>
              </a:rPr>
              <a:t>BIOPSICOSOCI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33cccc"/>
                </a:solidFill>
                <a:latin typeface="Comic Sans MS"/>
              </a:rPr>
              <a:t>¿QUÉ ES EL ENFOQUE FAMILI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Subproducto del enfoque biopsicosocial en que el contexto familiar es el más relev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Comic Sans MS"/>
              </a:rPr>
              <a:t>Busca comprender las distintas interrelaciones entre los subsistemas familiar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e7fb2d"/>
                </a:solidFill>
                <a:latin typeface="Comic Sans MS"/>
              </a:rPr>
              <a:t>...</a:t>
            </a:r>
            <a:r>
              <a:rPr b="0" i="1" lang="es-MX" sz="3200" spc="-1" strike="noStrike">
                <a:solidFill>
                  <a:srgbClr val="0066ff"/>
                </a:solidFill>
                <a:latin typeface="Comic Sans MS"/>
              </a:rPr>
              <a:t>Por tanto permite comprender las diferentes situaciones que vive cada individuo y cada famil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33cccc"/>
                </a:solidFill>
                <a:latin typeface="Comic Sans MS"/>
              </a:rPr>
              <a:t>¿QUÉ ES EL ENFOQUE FAMILI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Es un modelo de atención de  salud que para su desarrollo requiere adquirir conocimientos y habilidades específicas en el tema fami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El ESF  permite conocer profundamente el entorno de sus pa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500" spc="-1" strike="noStrike">
                <a:solidFill>
                  <a:srgbClr val="33cccc"/>
                </a:solidFill>
                <a:latin typeface="Comic Sans MS"/>
              </a:rPr>
              <a:t>¿QUÉ ES EL ENFOQUE FAMILIA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Es un modelo que permite ver a los pacientes en diferentes contex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Considera los aspectos subjetivos del proceso salud enferm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Es un coordinador de recursos para el beneficio de sus pa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cccc"/>
                </a:solidFill>
                <a:latin typeface="Comic Sans MS"/>
              </a:rPr>
              <a:t>¿QUÉ ES EL ENFOQUE FAMIL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5364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Está comprometido con la personas se preocupa de los distintos grados de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Se considera parte de una red comunitaria y de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Comprende el contexto de la situ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cccc"/>
                </a:solidFill>
                <a:latin typeface="Comic Sans MS"/>
              </a:rPr>
              <a:t>¿QUÉ ES EL ENFOQUE FAMIL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Cada contacto es una ocasión para la prev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Ve al conjunto de su población como una población con distintos  ries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Logra un mayor cumplimiento de indicaciones para curación o rehabil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33cccc"/>
                </a:solidFill>
                <a:latin typeface="Comic Sans MS"/>
              </a:rPr>
              <a:t>¿QUÉ ES EL ENFOQUE FAMILI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679480"/>
            <a:ext cx="777240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El modelo permite y favorece una mejor utilización de los recursos famili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Permite que las acciones de salud tengan un mayor  impacto en cuanto a prevención de aparición de daños en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ENFOQUE BIOMÉDICO V/S BIOPSICOSOCIA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2920" y="2203560"/>
            <a:ext cx="38149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00200"/>
            <a:ext cx="3733920" cy="4952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663300"/>
                </a:solidFill>
                <a:uFillTx/>
                <a:latin typeface="Comic Sans MS"/>
              </a:rPr>
              <a:t>BIOMÉD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Se basa en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concepción  patolog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Es cu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Es reduccio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Es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Separa mente-cue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1600200"/>
            <a:ext cx="4419720" cy="4952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663300"/>
                </a:solidFill>
                <a:uFillTx/>
                <a:latin typeface="Comic Sans MS"/>
              </a:rPr>
              <a:t>BIO-PSICO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Salud y enfermedad son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contin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Es preven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Diagnóstico contextu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Relación humana es relev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Otorga una tención de salu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  </a:t>
            </a: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 u="sng">
                <a:solidFill>
                  <a:srgbClr val="000000"/>
                </a:solidFill>
                <a:uFillTx/>
                <a:latin typeface="Comic Sans MS"/>
              </a:rPr>
              <a:t>Principios que Orientan las Políticas de 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0066ff"/>
                </a:solidFill>
                <a:uFillTx/>
                <a:latin typeface="Comic Sans MS"/>
              </a:rPr>
              <a:t>Equidad:</a:t>
            </a: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 mejorar la igualdad de oportunidades en el acceso  la sal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Eficiencia social:</a:t>
            </a: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 mejorar la asignación de recursos, hacia los sectores más necesi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0066ff"/>
                </a:solidFill>
                <a:uFillTx/>
                <a:latin typeface="Comic Sans MS"/>
              </a:rPr>
              <a:t>Participación social:</a:t>
            </a: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 estimular el aporte de la comunidad en la identificación y priorización de sus problemas y en la ejecución y evaluación de los planes, programas y proyectos destinados a enfrentarlos.</a:t>
            </a:r>
            <a:r>
              <a:rPr b="0" i="1" lang="es-ES_tradnl" sz="2800" spc="-1" strike="noStrike" u="sng">
                <a:solidFill>
                  <a:srgbClr val="0066ff"/>
                </a:solidFill>
                <a:uFillTx/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ENFOQUE BIOMÉDICO V/S BIOPSICOSOCIA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2920" y="2203560"/>
            <a:ext cx="38149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905120"/>
            <a:ext cx="4343400" cy="4343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1905120"/>
            <a:ext cx="4495680" cy="4343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Diagnostica problemas de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Estimula la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social e intersec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Estimula el trabajo en equ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Además se preocupa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individuo y su ento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0066ff"/>
                </a:solidFill>
                <a:latin typeface="Comic Sans MS"/>
              </a:rPr>
              <a:t>familiar y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080" y="2217600"/>
            <a:ext cx="3825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Hace diagnósticos bio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Establece barreras disciplin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Los tratamientos son externos al pa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PRINCIPIOS DE LA SAL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FAMILI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cc"/>
                </a:solidFill>
                <a:latin typeface="Arial"/>
              </a:rPr>
              <a:t>PRINCIPIOS DEL MODELO DE SALUD FAMILI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267920"/>
            <a:ext cx="7848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Resolu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Humaniz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Globa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Participación so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Trabajo intersecto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Continu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Concepción de re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cccc"/>
                </a:solidFill>
                <a:latin typeface="Arial"/>
              </a:rPr>
              <a:t>PRINCIPIOS DEL MODELO DE SALUD FAMILI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1267920"/>
            <a:ext cx="79246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Integralidad </a:t>
            </a:r>
            <a:r>
              <a:rPr b="0" i="1" lang="es-ES_tradnl" sz="2000" spc="-1" strike="noStrike">
                <a:solidFill>
                  <a:srgbClr val="0066ff"/>
                </a:solidFill>
                <a:latin typeface="Comic Sans MS"/>
              </a:rPr>
              <a:t>(fomento, prevención, rehabilit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Accesibi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Ca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Atención a los integrantes de la fam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Cuidado personaliz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Trabajo en equi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PRINCIPIOS DE LA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33520" y="1828800"/>
          <a:ext cx="7924680" cy="434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7924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PRINCIPIOS DE LA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752480"/>
          <a:ext cx="822960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29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PRINCIPIOS DE LA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85800" y="1981080"/>
          <a:ext cx="7772400" cy="39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PRINCIPIOS DE LA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85800" y="2050920"/>
          <a:ext cx="7772400" cy="40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0920"/>
                    <a:ext cx="777240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PRINCIPIOS DE LA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752480"/>
          <a:ext cx="822960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229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PRINCIPIOS DE LA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1828800"/>
          <a:ext cx="838188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381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 u="sng">
                <a:solidFill>
                  <a:srgbClr val="000000"/>
                </a:solidFill>
                <a:uFillTx/>
                <a:latin typeface="Comic Sans MS"/>
              </a:rPr>
              <a:t>Principios que Orientan las Políticas de 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66ff"/>
                </a:solidFill>
                <a:uFillTx/>
                <a:latin typeface="Comic Sans MS"/>
              </a:rPr>
              <a:t>Respeto por la dignidad de las personas:</a:t>
            </a: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 trabajar por el mejoramiento de la calidad de vida de las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66ff"/>
                </a:solidFill>
                <a:uFillTx/>
                <a:latin typeface="Comic Sans MS"/>
              </a:rPr>
              <a:t>Solidaridad:</a:t>
            </a: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 crear oportunidades par que todos puedan participar, que sean sujetos de acción y no objetos de la acción de 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66ff"/>
                </a:solidFill>
                <a:uFillTx/>
                <a:latin typeface="Comic Sans MS"/>
              </a:rPr>
              <a:t>Colaboración Intersectorial,</a:t>
            </a: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 asumiendo que e</a:t>
            </a:r>
            <a:r>
              <a:rPr b="0" i="1" lang="es-MX" sz="2400" spc="-1" strike="noStrike">
                <a:solidFill>
                  <a:srgbClr val="0066ff"/>
                </a:solidFill>
                <a:latin typeface="Comic Sans MS"/>
              </a:rPr>
              <a:t>l sector sanitario, por sí solo, no puede alcanzar la salud dado que ésta es </a:t>
            </a: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responsabilidad de todos los sectores gubernam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PRINCIPIOS DE LA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5800" y="2259000"/>
          <a:ext cx="7772400" cy="37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59000"/>
                    <a:ext cx="77724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PRINCIPIOS DE LA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5800" y="1981080"/>
          <a:ext cx="7772400" cy="383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38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Comic Sans MS"/>
              </a:rPr>
              <a:t>VENTAJAS D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Comic Sans MS"/>
              </a:rPr>
              <a:t>ENFOQUE FAMILI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Comic Sans MS"/>
              </a:rPr>
              <a:t>VENTAJAS DEL ENFOQUE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66ff"/>
                </a:solidFill>
                <a:latin typeface="Comic Sans MS"/>
              </a:rPr>
              <a:t>Mejor comprensión de cómo la estructura y el sistema de relaciones entre los miembros de la familia puede ser un factor decisivo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Aparición o etiología de la enferm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Mantención de la enferm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Resolución o curso de la enfermedad y problemas de salud comu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33cccc"/>
                </a:solidFill>
                <a:latin typeface="Comic Sans MS"/>
              </a:rPr>
              <a:t>VENTAJAS DEL ENFOQUE FAMILI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219060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Apreciación real del  impacto de la enfermedad de uno de sus miembros, en la fami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Comic Sans MS"/>
              </a:rPr>
              <a:t>Indicaciones y consejería basadas en la realidad (balance entre factores de riesgo y factores protec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907640" y="1933200"/>
            <a:ext cx="554364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blación a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 de salud familia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entro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gramación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ctoriz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404640"/>
            <a:ext cx="784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CARACTERÍSTICAS DE UN CENTRO DE SALUD FAMILI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600" y="1628640"/>
            <a:ext cx="8686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0000"/>
                </a:solidFill>
                <a:latin typeface="Comic Sans MS"/>
              </a:rPr>
              <a:t>Se hace responsable por la salud de una población defini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0000"/>
                </a:solidFill>
                <a:latin typeface="Comic Sans MS"/>
              </a:rPr>
              <a:t>Capacidad resolu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0000"/>
                </a:solidFill>
                <a:latin typeface="Comic Sans MS"/>
              </a:rPr>
              <a:t>Articulación de recurs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000" spc="-1" strike="noStrike">
                <a:solidFill>
                  <a:srgbClr val="000000"/>
                </a:solidFill>
                <a:latin typeface="Comic Sans MS"/>
              </a:rPr>
              <a:t>Orientación a result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Comic Sans MS"/>
              </a:rPr>
              <a:t>Se coordina con otros niveles, otros actores y  otros secto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51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000000"/>
                </a:solidFill>
                <a:latin typeface="Comic Sans MS"/>
              </a:rPr>
              <a:t>Es una unidad del Sistema Nacional de Servicios de Salu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5280" y="404640"/>
            <a:ext cx="784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66ff"/>
                </a:solidFill>
                <a:latin typeface="Comic Sans MS"/>
              </a:rPr>
              <a:t>CARACTERÍSTICAS DE UN CENTRO DE SALUD FAMILI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14716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0066ff"/>
                </a:solidFill>
                <a:latin typeface="Comic Sans MS"/>
              </a:rPr>
              <a:t>CARACTERÍSTICAS DE UN CENTRO DE SALUD FAMILI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268360"/>
            <a:ext cx="77724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74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100" spc="-1" strike="noStrike">
                <a:solidFill>
                  <a:srgbClr val="000000"/>
                </a:solidFill>
                <a:latin typeface="Comic Sans MS"/>
              </a:rPr>
              <a:t>Presta servicios dentro de un territorio de limitad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74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100" spc="-1" strike="noStrike">
                <a:solidFill>
                  <a:srgbClr val="000000"/>
                </a:solidFill>
                <a:latin typeface="Comic Sans MS"/>
              </a:rPr>
              <a:t>Contribuye a resolver los problemas de salud y elevar el nivel de salud de la población que allí vive y trabaja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Espacio en el cual se establece una relación de continuidad entre un equipo de salud y las familias a su car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El individuo es atendido en salud y enfermedad, como un ser integral en su contexto familiar, laboral y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404640"/>
            <a:ext cx="76327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Comic Sans MS"/>
              </a:rPr>
              <a:t>CARACTERÍSTICAS DE UN CENTRO DE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El equipo de salud debe planificar y evaluar  las acciones de salud en función del impacto de estas en la salud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El equipo adquiere destrezas para incorporar la familia como la unidad de a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404640"/>
            <a:ext cx="7921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ccff"/>
                </a:solidFill>
                <a:latin typeface="Arial"/>
              </a:rPr>
              <a:t> </a:t>
            </a: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CARACTERÍSTICAS DE UN CENTRO DE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33cccc"/>
                </a:solidFill>
                <a:latin typeface="Arial"/>
              </a:rPr>
              <a:t>OBJETIVOS Y TAREAS EN SAL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e9f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Hacer justicia en salud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reducir las actuales diferencias en el nivel de salud, en el acceso y la calidad de promoción , prevención y atención de sal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e9f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66ff"/>
                </a:solidFill>
                <a:uFillTx/>
                <a:latin typeface="Arial"/>
              </a:rPr>
              <a:t>Dar más años a la vida</a:t>
            </a:r>
            <a:r>
              <a:rPr b="0" lang="es-ES_tradnl" sz="2800" spc="-1" strike="noStrike">
                <a:solidFill>
                  <a:srgbClr val="0066ff"/>
                </a:solidFill>
                <a:latin typeface="Arial"/>
              </a:rPr>
              <a:t>: disminuyendo las muertes evitables y aumentando las expectativas de vida de los chile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5e9fb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Dar más salud a los años: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 través del desarrollo de las capacidades físicas y mentales de las personas para vivir saludablemente y aspirar a una vid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1600" y="2271240"/>
            <a:ext cx="73436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omic Sans MS"/>
              </a:rPr>
              <a:t>Debe responder simultáneamente a las necesidades de salud local y a los objetivos generales del sector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333360"/>
            <a:ext cx="78487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CARACTERÍSTICAS DE UN CENTRO DE SALUD FAMILI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es-ES_tradnl" sz="3200" spc="-1" strike="noStrike">
                <a:solidFill>
                  <a:srgbClr val="0066ff"/>
                </a:solidFill>
                <a:latin typeface="Comic Sans MS"/>
              </a:rPr>
              <a:t>CARACTERÍSTICAS DE UN CENTRO DE SALUD FAMILIAR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2268360"/>
            <a:ext cx="777240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omic Sans MS"/>
              </a:rPr>
              <a:t>Debe ser capaz de actuar sobre una realidad absolutamente dinámica, enfrentar cambios como crecimiento demográfico, envejecimiento, aumento de aspiraciones y de necesidades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Times New Roman"/>
              </a:rPr>
              <a:t>De 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Times New Roman"/>
              </a:rPr>
              <a:t>Asist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Times New Roman"/>
              </a:rPr>
              <a:t>De la participación social y comunitaria en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Times New Roman"/>
              </a:rPr>
              <a:t>Del trabajo intersectorial que apunta al desarrollo global de su comuna o territo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3808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ÁMBITOS DE ACCIÓN DEL CENTRO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1440" y="934560"/>
            <a:ext cx="741204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Principales estrategias para enfrentar los nuevos tiemp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743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Estrategias para implementar el model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Pertinencia con el perfil epidemiológico y demográf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Protección del medio ambiente físico, psicosocial, cultural y labo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1440" y="934560"/>
            <a:ext cx="741204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Principales estrategias para enfrentar los nuevos tiemp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7436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Fortalecimiento estratégico de la A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Ambulatorización de la aten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Atención de carácter educa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Atención focalizada en las personas y famil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Intersectoria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ales estrategias..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067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Estrategias organizacionales</a:t>
            </a:r>
            <a:r>
              <a:rPr b="0" i="1" lang="es-ES_tradnl" sz="2800" spc="-1" strike="noStrike">
                <a:solidFill>
                  <a:srgbClr val="ffff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Sectorización territo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Organización de las actividades en forma planificada, programada y evalu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Organización de los establecimientos de salud por niveles de complej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Complementariedad entre los establecimientos de las diversas re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ncipales estrategias.....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599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66ff"/>
                </a:solidFill>
                <a:latin typeface="Comic Sans MS"/>
              </a:rPr>
              <a:t>A nivel local:</a:t>
            </a:r>
            <a:r>
              <a:rPr b="0" i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Implementación de fichas famili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Atención de carácter grup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Nuevo modelo de segui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Creación de mecanismos simples de coordinación, comun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Comic Sans MS"/>
              </a:rPr>
              <a:t>Fortalecer al equipo de sal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8686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 programar el centro de salud debe consider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agnostico actualizado de la situación de salud de su lo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 de la acciones y programas ejecu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scenario probable en que deberá actuar en el periodo a program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404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ff"/>
                </a:solidFill>
                <a:latin typeface="Arial"/>
              </a:rPr>
              <a:t>PROGRAMACIÓN DEL CENTRO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66ff"/>
                </a:solidFill>
                <a:latin typeface="Times New Roman"/>
              </a:rPr>
              <a:t>Al programar el centro de salud debe considera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66ff"/>
                </a:solidFill>
                <a:latin typeface="Times New Roman"/>
              </a:rPr>
              <a:t>Las orientaciones programáticas y normas ministeria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66ff"/>
                </a:solidFill>
                <a:latin typeface="Times New Roman"/>
              </a:rPr>
              <a:t>Los recursos existent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66ff"/>
                </a:solidFill>
                <a:latin typeface="Times New Roman"/>
              </a:rPr>
              <a:t>Los recursos potencia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404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GRAMACIÓN DEL CENTRO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Las grandes obras de las instituciones, las sueñan los santos locos, las ejecutan los luchadores natos, las disfrutan los felices cuerdos, y las critican los inútiles crónico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i="1" lang="es-ES_tradnl" sz="3600" spc="-1" strike="noStrike">
                <a:solidFill>
                  <a:srgbClr val="000000"/>
                </a:solidFill>
                <a:latin typeface="Comic Sans MS"/>
              </a:rPr>
              <a:t>B. Brec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OVAC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308680" y="2590920"/>
            <a:ext cx="535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Comic Sans MS"/>
              </a:rPr>
              <a:t>ATENCIÓN PRIMARI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Comic Sans MS"/>
              </a:rPr>
              <a:t>EN  SAL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8080" y="1600200"/>
            <a:ext cx="77724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1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 u="sng">
                <a:solidFill>
                  <a:srgbClr val="00cccc"/>
                </a:solidFill>
                <a:uFillTx/>
                <a:latin typeface="Arial"/>
              </a:rPr>
              <a:t>ATENCIÓN PRI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3631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La atención primaria es integrante, del sistema</a:t>
            </a:r>
            <a:r>
              <a:rPr b="0" i="1" lang="es-MX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nacional de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Es el primer elemento de un proceso permanente de asistencia sanit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Representa el primer nivel de contacto de los individuos, la familia y la comunidad con el sistema nacional de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Lleva la atención de salud lo más cerca posible al lugar donde residen y trabajan las person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Comic Sans MS"/>
              </a:rPr>
              <a:t>En una estrategia de desarrollo social y económico global de una comun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TENCIÓN PRIM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APS es definida como una estrategia de desarrollo, se le concibe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32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0066ff"/>
                </a:solidFill>
                <a:latin typeface="Arial"/>
              </a:rPr>
              <a:t>La asistencia sanitaria esencial basada en métodos y tecnologías prácticas, científicamente fundadas y socialmente aceptadas, puestas al alcance de todos los individuos de la comunidad, mediante su plena participación, y a un costo que la comunidad y el país puedan soportar en todas y cada una de las etapas de su desarrollo, con un espíritu de auto responsabilidad y autodeterminació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23:51:26Z</dcterms:created>
  <dc:creator>Un usuario de Microsoft Office satisfecho.</dc:creator>
  <dc:description/>
  <dc:language>en-US</dc:language>
  <cp:lastModifiedBy>Usuario</cp:lastModifiedBy>
  <cp:lastPrinted>2003-07-30T08:57:20Z</cp:lastPrinted>
  <dcterms:modified xsi:type="dcterms:W3CDTF">2008-04-11T20:32:53Z</dcterms:modified>
  <cp:revision>265</cp:revision>
  <dc:subject/>
  <dc:title>DE CONSULTORIO A   CENTRO DE SALUD</dc:title>
</cp:coreProperties>
</file>