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090-27EF-4075-B364-8F681131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95F-64C4-46CE-86A2-3B09F461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FE6-1E6F-4E50-8771-1640C2CE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F62-F382-40EF-A583-12E66C0C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ADF-942B-46BA-91B3-42708F2B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C135-483F-4DEB-929B-F13D7613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600-6F5E-40D4-BD79-68B364B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CAED-169E-400D-879E-4C8D2691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1F3-F605-4D66-8B88-20F441F9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D3D7-CAE8-41B5-8ADA-63E71D67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090C-78F4-431F-AD06-6EF1DAD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19D-10A5-4DB5-82D0-4FE5E637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70B-324D-44C5-BED7-E9D3250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AC6A-E4C7-4C12-8F68-03AD4711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7B96-D445-46FF-B60C-54613A0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2CBB-ED0B-4E32-B910-3369F4B8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37A4-FFC8-4487-A44B-94C17206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9CB-6480-4780-A5E7-21C50A7B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0A0-7465-471A-BBA8-12D104B3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12E-1BC3-42B3-88C2-D5E9164D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20B-1871-4654-B4DD-3289BF64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13E-4A4A-4667-B70A-C4A81A2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230-61FA-4130-8AB9-86334AD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BE5-2DF4-454D-A98E-30AA854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B3FA-CCD9-4523-BEAA-048598D67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3C2E-EC68-4053-B773-D110C1CE6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MODULO DE ELECTROCARDIOGRAFIA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R. VICTOR ROSSEL MARIANG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536840"/>
            <a:ext cx="74678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1125360"/>
            <a:ext cx="7643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CÁLCULO DE LA FC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55720" y="2486160"/>
            <a:ext cx="5875200" cy="360"/>
            <a:chOff x="855720" y="2486160"/>
            <a:chExt cx="5875200" cy="360"/>
          </a:xfrm>
        </p:grpSpPr>
        <p:sp>
          <p:nvSpPr>
            <p:cNvPr id="118" name=""/>
            <p:cNvSpPr/>
            <p:nvPr/>
          </p:nvSpPr>
          <p:spPr>
            <a:xfrm>
              <a:off x="855720" y="248616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48616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6705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2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Aplicar la fórmul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500/nº de cuadrados pequeño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000" y="2886120"/>
            <a:ext cx="5875200" cy="360"/>
            <a:chOff x="27000" y="2886120"/>
            <a:chExt cx="5875200" cy="360"/>
          </a:xfrm>
        </p:grpSpPr>
        <p:sp>
          <p:nvSpPr>
            <p:cNvPr id="124" name=""/>
            <p:cNvSpPr/>
            <p:nvPr/>
          </p:nvSpPr>
          <p:spPr>
            <a:xfrm>
              <a:off x="27000" y="288612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000" y="288612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39290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846000" y="2735280"/>
            <a:ext cx="7451640" cy="1387440"/>
            <a:chOff x="846000" y="2735280"/>
            <a:chExt cx="7451640" cy="1387440"/>
          </a:xfrm>
        </p:grpSpPr>
        <p:sp>
          <p:nvSpPr>
            <p:cNvPr id="128" name=""/>
            <p:cNvSpPr/>
            <p:nvPr/>
          </p:nvSpPr>
          <p:spPr>
            <a:xfrm>
              <a:off x="846000" y="2735280"/>
              <a:ext cx="7451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6000" y="2735280"/>
              <a:ext cx="651528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207120" cy="9828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826920" y="2708280"/>
            <a:ext cx="7451640" cy="1401840"/>
            <a:chOff x="826920" y="2708280"/>
            <a:chExt cx="7451640" cy="1401840"/>
          </a:xfrm>
        </p:grpSpPr>
        <p:sp>
          <p:nvSpPr>
            <p:cNvPr id="132" name=""/>
            <p:cNvSpPr/>
            <p:nvPr/>
          </p:nvSpPr>
          <p:spPr>
            <a:xfrm>
              <a:off x="826920" y="2708280"/>
              <a:ext cx="7451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2708280"/>
              <a:ext cx="651528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62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b7"/>
                </a:solidFill>
                <a:uFillTx/>
                <a:latin typeface="Arial Black"/>
              </a:rPr>
              <a:t>Ritmo cardíaco:</a:t>
            </a:r>
            <a:br>
              <a:rPr sz="3200"/>
            </a:b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Fibrilación auricular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41600" y="3013200"/>
            <a:ext cx="49068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b7"/>
                </a:solidFill>
                <a:uFillTx/>
                <a:latin typeface="Arial Black"/>
              </a:rPr>
              <a:t>Ritmo cardíaco:</a:t>
            </a:r>
            <a:br>
              <a:rPr sz="3200"/>
            </a:b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Ritmo de marcapaso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7239240" cy="2879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68520" y="1913040"/>
            <a:ext cx="5329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CONDUCCION INTRAVENTRICULAR ANORMAL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1640" y="2852640"/>
            <a:ext cx="655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BLOQUEOS DE RAMA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44080"/>
            <a:ext cx="772632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BLOQUEO COMPLETO DE RAMA DERECHA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102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2920" y="244440"/>
            <a:ext cx="7201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BLOQUEO COMPLETO DE RAMA IZQUIERDA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9339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1640" y="2852640"/>
            <a:ext cx="655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CRECIMIENTO DE CAVIDADE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1640" y="2852640"/>
            <a:ext cx="655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SINDROMES CORONARIOS 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EVALUACION DEL SEGMENTO ST.</a:t>
            </a:r>
            <a:br>
              <a:rPr sz="3200"/>
            </a:b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PUNTO J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68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44440"/>
            <a:ext cx="7870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b7"/>
                </a:solidFill>
                <a:uFillTx/>
                <a:latin typeface="Arial Black"/>
              </a:rPr>
              <a:t>ELEVACION SEGMENTO ST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2836440"/>
            <a:ext cx="33022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evación del segmento ST indica injuria subepicárdica agu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39243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b7"/>
                </a:solidFill>
                <a:uFillTx/>
                <a:latin typeface="Arial Black"/>
              </a:rPr>
              <a:t>INFRADESNIVEL SEGMENTO ST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30120" y="2449080"/>
            <a:ext cx="3190680" cy="27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radesnivel ST tipo pueden ser de diferente tip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24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CONDUCCION A- V  ANORMA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1640" y="2852640"/>
            <a:ext cx="655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BLOQUEOS A - 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Orden en la evaluación del ECG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di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del rit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de la condu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cripción de la forma de las on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ARRITMIAS SUPRAVENTRICULARE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ARRITMIAS VENTRICULARE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432080"/>
            <a:ext cx="73915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Medicione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recuencia cardia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ervalo P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uración del Q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ervalo Q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 QRS en plano fron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38400" y="1209600"/>
            <a:ext cx="666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Análisis de la conducción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ducción 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ducción AV. (bloqueos 1er., 2do. y 3er. Gra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ducción IV. (bloqueos de rama, fasciculares y bloqueos no específico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Descripción de la forma de onda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ndas P: altas, anchas, ectóp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lejos QRS: ondas Q patológicas, voltaje a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gmento ST: elevación o depresión a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ndas T: ondas T invertidas, acumin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ndas U: ondas U prominentes o invert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Comparar con trazados previo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 existe un trazado previo, el ECG actual debería ser comparado para ver si hay alteraciones significa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ejemplo: alteraciones de la repolarización sugerentes de isquemia estaban o no presentes previamen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0T23:26:05Z</dcterms:created>
  <dc:creator>GEYNOR CARRERA</dc:creator>
  <dc:description/>
  <dc:language>en-US</dc:language>
  <cp:lastModifiedBy> VICTOR ROSSEL MARIANGEL</cp:lastModifiedBy>
  <dcterms:modified xsi:type="dcterms:W3CDTF">2004-08-27T12:16:18Z</dcterms:modified>
  <cp:revision>12</cp:revision>
  <dc:subject/>
  <dc:title>Diapositiva 1</dc:title>
</cp:coreProperties>
</file>