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0AA-B393-4925-8917-41EDD86A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B17-03D9-4224-95C8-FA42B9F6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080-8939-46D9-94A3-B5B1B70C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495-30D5-49F0-89E3-BD03CF6D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B62-BA86-4D2D-BED3-49DACC47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A36-E5DA-4AE4-8685-2D208B93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1D0-F17C-4833-BD8D-B03629F8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CDB-39D1-4D7E-983B-C9C451C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FDE-75BC-4E2C-9FDD-9EEB1E5D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864-741C-4292-BF7E-4CA13957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324-30A4-441D-BA81-4A46938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0C7-8956-4C54-AD3D-7EDA331E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15D5-6974-43E3-BD31-22169A27B62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2400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440" y="2133720"/>
          <a:ext cx="4076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440" y="2133720"/>
                    <a:ext cx="4076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El Klgo. Deportivo evalúa el riesgo de lesiones asociadas con la participación de un atleta en un deporte específico o en el contexto de una actividad física. Debe informar y entrenar al atleta y a otros  profesionales para disminuir la ocurrencia y recurrencia de les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15920"/>
            <a:ext cx="8282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 la 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25542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pueden realizar en la consulta, campo de entrenamiento o en un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trabaja en un contexto multi-disciplinario, donde la información del K. colabora con el desarrollo de un perfil completo del at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los efectos del entrenamiento específico para el deporte en lo referente a la anatomía, biomecánica y fisiología del ejercicio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r el conocimiento científico y deportivo para describir los mecanismos de producción de lesiones y la probable severidad de ésta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os diferentes riesgos de lesiones, tanto intrínsecos como extrínsecos, asociados a diferentes grupos de edades y gén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a epidemiología de lesiones específicas del deporte en relación a diferentes grupos de edades y género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el impacto potencial de las reglas y del equipamiento específico del deporte en el riesgo de lesione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os efectos probables de agentes farmacológicos y el estado nutricional en el riesgo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Estar atento de los efectos, riesgos y relación con la regulación antidopaje de los fármacos y sustancias nutricionales emple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técnicas de evaluación específicas o protocolos, para establecer perfiles de desempeño y riegos potenciales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estrategias de intervención disponible para minimizar los riegos específicos del deporte, en diferentes contextos (ej: vendaje funcional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el impacto social de la práctica del deporte (y la eventual ocurrencia de una lesión) en el deportista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os riesgos de la adicción y del sobreentr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Trabajo autoaprendizaje (Portafolio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-5832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que para el deporte que le será asignado, ejemplos de los aspectos que fueron consignados en la cl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-5832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Elabore un documento en Word y súbalo a Aula digital en “Material Alumnos”, identificando a los integrantes del grupo (deben ser los mismos asignados durante la cl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dcterms:modified xsi:type="dcterms:W3CDTF">2008-07-29T12:18:57Z</dcterms:modified>
  <cp:revision>35</cp:revision>
  <dc:subject/>
  <dc:title>PowerPoint Presentation</dc:title>
</cp:coreProperties>
</file>