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6E34-A2EF-4046-B173-7F892A57A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71E6-C5AB-4E25-B6F3-681B3214B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94F6-786F-47E6-B798-659989AF3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F33C-ED58-4BB8-89C9-0ACC1FF07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A872-447E-461E-8EC9-945C3375F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F90C-9778-41DA-B12E-C01762D75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0A7C-E59F-411A-AA83-A58BAA059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2EB6-D757-4194-9746-4444F9778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8CAF-2F60-47E3-A1FF-E9050999F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0755-218F-41E7-9908-93CCF1E1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F35F-AD49-47B1-A9EC-1E0B73E6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A479-C58E-41F1-83F2-599AA9D2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7EC00-88E9-4B0E-8DE8-7E8DE6E2870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24000" y="1196640"/>
            <a:ext cx="5470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9900"/>
                </a:solidFill>
                <a:latin typeface="Century Gothic"/>
              </a:rPr>
              <a:t>Prevención de Lesiones en el Depor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560" y="6453360"/>
            <a:ext cx="87058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9900"/>
                </a:solidFill>
                <a:latin typeface="Century Gothic"/>
              </a:rPr>
              <a:t>Kinesiología del Deporte 2008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5032440" y="2133720"/>
          <a:ext cx="40766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32440" y="2133720"/>
                    <a:ext cx="40766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24000" y="2276640"/>
            <a:ext cx="827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9900"/>
                </a:solidFill>
                <a:latin typeface="Century Gothic"/>
              </a:rPr>
              <a:t>	</a:t>
            </a:r>
            <a:r>
              <a:rPr b="0" lang="es-ES" sz="3000" spc="-1" strike="noStrike">
                <a:solidFill>
                  <a:srgbClr val="ff9900"/>
                </a:solidFill>
                <a:latin typeface="Century Gothic"/>
              </a:rPr>
              <a:t>El Klgo. Deportivo evalúa el riesgo de lesiones asociadas con la participación de un atleta en un deporte específico o en el contexto de una actividad física. Debe informar y entrenar al atleta y a otros  profesionales para disminuir la ocurrencia y recurrencia de lesio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115920"/>
            <a:ext cx="828216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9900"/>
                </a:solidFill>
                <a:latin typeface="Century Gothic"/>
              </a:rPr>
              <a:t>Prevención de Lesiones en el Depor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6453360"/>
            <a:ext cx="8705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9900"/>
                </a:solidFill>
                <a:latin typeface="Century Gothic"/>
              </a:rPr>
              <a:t>Kinesiología del Deporte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9900"/>
                </a:solidFill>
                <a:latin typeface="Century Gothic"/>
              </a:rPr>
              <a:t>Contexto de la prevención de le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9280" y="2554200"/>
            <a:ext cx="878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Se pueden realizar en la consulta, campo de entrenamiento o en una competenc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Se trabaja en un contexto multi-disciplinario, donde la información del K. colabora con el desarrollo de un perfil completo del atle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6453360"/>
            <a:ext cx="8705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9900"/>
                </a:solidFill>
                <a:latin typeface="Century Gothic"/>
              </a:rPr>
              <a:t>Kinesiología del Deporte 2008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-2736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Century Gothic"/>
              </a:rPr>
              <a:t>Conocimiento de 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29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lvl="1" marL="817920" indent="-4978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Analizar los efectos del entrenamiento específico para el deporte en lo referente a la anatomía, biomecánica y fisiología del ejercicio en diferentes contex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7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7920" indent="-4978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Integrar el conocimiento científico y deportivo para describir los mecanismos de producción de lesiones y la probable severidad de éstas en diferentes contex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7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7920" indent="-4978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Discutir los diferentes riesgos de lesiones, tanto intrínsecos como extrínsecos, asociados a diferentes grupos de edades y géne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7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6453360"/>
            <a:ext cx="8705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9900"/>
                </a:solidFill>
                <a:latin typeface="Century Gothic"/>
              </a:rPr>
              <a:t>Kinesiología del Deporte 2008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Century Gothic"/>
              </a:rPr>
              <a:t>Conocimiento de 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29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lvl="1" marL="829440" indent="-50472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Discutir la epidemiología de lesiones específicas del deporte en relación a diferentes grupos de edades y géneros en diferentes contex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9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9440" indent="-50472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Analizar el impacto potencial de las reglas y del equipamiento específico del deporte en el riesgo de lesiones en diferentes contex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9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9440" indent="-50472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Describir los efectos probables de agentes farmacológicos y el estado nutricional en el riesgo de les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9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6453360"/>
            <a:ext cx="8705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9900"/>
                </a:solidFill>
                <a:latin typeface="Century Gothic"/>
              </a:rPr>
              <a:t>Kinesiología del Deporte 2008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Century Gothic"/>
              </a:rPr>
              <a:t>Conocimiento de 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817640"/>
            <a:ext cx="9144000" cy="29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Estar atento de los efectos, riesgos y relación con la regulación antidopaje de los fármacos y sustancias nutricionales emplea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8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Identificar técnicas de evaluación específicas o protocolos, para establecer perfiles de desempeño y riegos potenciales de les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8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8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6453360"/>
            <a:ext cx="8705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9900"/>
                </a:solidFill>
                <a:latin typeface="Century Gothic"/>
              </a:rPr>
              <a:t>Kinesiología del Deporte 2008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Century Gothic"/>
              </a:rPr>
              <a:t>Conocimiento de 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817640"/>
            <a:ext cx="9144000" cy="29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lvl="1" marL="899640" indent="-54756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Identificar estrategias de intervención disponible para minimizar los riegos específicos del deporte, en diferentes contextos (ej: vendaje funcional)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9640" indent="-54756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Discutir el impacto social de la práctica del deporte (y la eventual ocurrencia de una lesión) en el deportista y su entor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9640" indent="-54756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Identificar los riesgos de la adicción y del sobreentrena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6453360"/>
            <a:ext cx="8705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9900"/>
                </a:solidFill>
                <a:latin typeface="Century Gothic"/>
              </a:rPr>
              <a:t>Kinesiología del Deporte 2008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9900"/>
                </a:solidFill>
                <a:latin typeface="Century Gothic"/>
              </a:rPr>
              <a:t>Trabajo autoaprendizaje (Portafolio 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817640"/>
            <a:ext cx="9144000" cy="29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lvl="1" marL="957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7960" indent="-58320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Identifique para el deporte que le será asignado, ejemplos de los aspectos que fueron consignados en la cl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7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7960" indent="-58320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Elabore un documento en Word y súbalo a Aula digital en “Material Alumnos”, identificando a los integrantes del grupo (deben ser los mismos asignados durante la clas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7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7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7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0920" y="6453360"/>
            <a:ext cx="8705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9900"/>
                </a:solidFill>
                <a:latin typeface="Century Gothic"/>
              </a:rPr>
              <a:t>Kinesiología del Deporte 2008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ac. de Medicina</cp:lastModifiedBy>
  <dcterms:modified xsi:type="dcterms:W3CDTF">2008-07-29T12:18:57Z</dcterms:modified>
  <cp:revision>35</cp:revision>
  <dc:subject/>
  <dc:title>PowerPoint Presentation</dc:title>
</cp:coreProperties>
</file>