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8A12-34B3-4666-B2B0-3FC67F5AC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52F-739A-46D7-983F-94BC544D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61C0-A247-4053-A6CE-CA0C2ED33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F9B4-D5CA-406A-BDBA-6568A433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2F46-13AA-449F-8880-0072E7C9B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8AB3-791D-4952-9EC4-8620B103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B032-5316-4534-A90A-A0D82DB7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FA0-DE87-4983-A6EB-DD574DA5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2B89-EC18-43B8-87E8-5558BB6EC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3F0F4-CE9B-49A5-8D9F-5D441C58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D300-48D6-48EE-AF90-07D565DC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2A0-115E-446F-B615-B25FFF4E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4E7D5-D203-4808-9894-DA40E2CE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F80A-53B2-4E07-A865-799B75F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A92E-9A0A-4418-8EC0-8204A96C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CD75-4BAA-409C-9FD9-B2ABBEE13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7BC06-9436-41C4-9D55-73316B20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B251-668D-4FE6-86FD-E082BFDC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88DA-1895-44BE-A4AA-1FF8B0F5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9E2B-F550-481D-8D10-37B338DE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591-B142-4895-8F9C-7344145F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5DCD-D67A-4751-BB2E-1130F95E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670-C110-4BB0-BD0F-2C290805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68D2-029B-4B1F-A452-57851C1A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2363-CEBF-4291-A981-762468B08ACC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9E57-5C82-43F0-8942-E31DE26C8FA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8360" y="2421000"/>
            <a:ext cx="746136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ETAPA DE LA ADULTEZ TARDÍ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	</a:t>
            </a:r>
            <a:r>
              <a:rPr b="0" lang="es-ES_tradnl" sz="3200" spc="-1" strike="noStrike">
                <a:solidFill>
                  <a:srgbClr val="0000cc"/>
                </a:solidFill>
                <a:latin typeface="Impact"/>
              </a:rPr>
              <a:t>     </a:t>
            </a:r>
            <a:r>
              <a:rPr b="0" lang="es-ES_tradnl" sz="2400" spc="-1" strike="noStrike">
                <a:solidFill>
                  <a:srgbClr val="0000cc"/>
                </a:solidFill>
                <a:latin typeface="Impact"/>
              </a:rPr>
              <a:t>65 AÑOS HASTA LA MUERTE</a:t>
            </a:r>
            <a:r>
              <a:rPr b="0" lang="es-ES_tradnl" sz="3600" spc="-1" strike="noStrike">
                <a:solidFill>
                  <a:srgbClr val="0000cc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125360"/>
            <a:ext cx="80150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7d47d"/>
                </a:solidFill>
                <a:latin typeface="Impact"/>
              </a:rPr>
              <a:t>ASPECTOS PSICOLÓGICOS DE LAS ETAPAS DEL CICLO VITAL</a:t>
            </a:r>
            <a:endParaRPr b="0" lang="en-US" sz="3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292640"/>
            <a:ext cx="4572000" cy="1618560"/>
          </a:xfrm>
          <a:prstGeom prst="rect">
            <a:avLst/>
          </a:prstGeom>
          <a:noFill/>
          <a:ln w="57240">
            <a:solidFill>
              <a:srgbClr val="0404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Evaluación de la vida: obtuve logros o fracasos en mi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f1311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Impact"/>
              </a:rPr>
              <a:t>Jubilación: fin de la vida laboral y socialmente ac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1628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VIST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ficultad para percibir la profundidad o el colo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o realizar actividades como leer, coser, ir de compras o cocinar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1640" y="35114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de la mitad de las personas mayores de 65 añ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sarrollan catarata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(nubes o áreas opacas en el cristalino), lo cual origina visión borros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1640" y="47466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problemas de visión pueden causar accid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537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on frecuencia, muchos problemas visuales moderados pueden corregirse con lentes, tratamiento médico o quirúrgic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 GUSTO Y OLFA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22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pérdida de estos dos sentidos puede ser consecuencia normal del envejecimiento, aunque también puede ser causada por una amplia vari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fermedades y medicament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irug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por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osición a sustancias noc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n el entorn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uando los ancianos se quejan de que sus alimentos ya no saben bien, puede ser porque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iene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papilas gustativ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porque los receptores del sabor no funcionan de manera adecuad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bulbo olfativ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(órgano cerebral encargado del sentido del olfato) u otras estructuras cerebrales relacionada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añ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1557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Funcionamiento Sensorial y Psicomotor 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FUNCIONAMIENTO PSICOMOTO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2349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unque los ancianos pueden realizar con más lentitud la mayoría de las actividades que ejecutan las personas jóvenes, tienen menos fortaleza de la que tuvieron y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imitados en actividades que requieren resiste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capacidad para transportar cargas pesa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0305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los 70-80 años, algunas personas tienen sólo la mitad de la fortaleza que tenían a los 30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1640" y="479736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ancianos son particularmente susceptibles a las caídas debido a qu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ye la sensibilidad de las células receptoras que llevan información al cerebro sobre la posición del cuerpo en el espac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información necesaria para mantener el equilibri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un hombre saludable sexualmente activo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 continuar alguna forma de expresión sexual activ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a los 70-80 añ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71640" y="3726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mujeres está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tadas fisiológicamente para mantener actividad sexu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mientras viva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edad adulta tardí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ctividad sexual es diferent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lo que fue en épocas anterio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Funcionamiento Sexu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71640" y="198900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Normalmente los homb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ardan más en lograr la erección y eyacula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ueden necesitar más estimulación manual y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ben experimentar mayores intervalos entre las erecci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función eréctil puede incrementars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La respiración entrecortada y otros signos de excitación sexual son menos intens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71640" y="5157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s mujeres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gina es menos flexible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puede necesitar lubricación artifici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71640" y="155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muchos países industrializados los ancianos tienen un estándar de vida más elevado y más conocimiento sobre sus cuerpos que a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781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ejoramiento de las condiciones de salud y el uso extendido de antibióticos han contribuido a mejorar la salud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71640" y="3933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n embarg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junto con estos cambios positivos han sobrevenido otros negativos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ás agentes cancerígenos en los alimentos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ugares de trabajo y aire contamin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itmo de vida más acelerado que contribuye a la hipertensión     enfermedades cardiovascula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general, la mayoría de los ancianos tiene buena salud, aunque no tan buena en promedio como los adultos más jóvenes y de median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3933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medida que las personas envejecen tienden a experimentar más problemas de salud persistentes y potencialmente incapacitador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do de Salud y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492280"/>
            <a:ext cx="849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as personas ancianas tiene una o má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olencias físicas crónic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artritis, hipertensión, cataratas, enfermedades cardíacas, diabetes, asma, cáncer y deficiencias visuales, auditivas y ortop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4221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artriti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el grupo de trastornos frecuentes que afectan las articulaciones (inflamación), causando dolor y pérdida de movimiento. Es el problema de salud crónico más común entre los ancian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fluencias en la Salu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ctividad física, la nutrición y otros factores de estilo de vida influyen en la salud y la enferm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71640" y="3213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jercicio regul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rolonga la vida y puede ayudar a reducir pérdidas relacionadas con el envejecimien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71640" y="414972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relación a la nutrición, muchas personas ancianas no comen tan bien como deben, ya sea por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sminución de la capacidad gustativa u olfativ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dent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ificultad para comprar y preparar los alimen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ngresos inadecuad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presion o episodios depresivos, etc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22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mencia es el término general aplicado al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eterioro cognitivo y de comportamient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origen fisiológico, suficiente para afectar la vid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erca de dos terceras partes de los casos de demencia pueden originarse en 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lzheime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trastorno cerebral degenerativo, progresivo, caracterizado por deterioro irreversible de la memoria, la inteligencia, la conciencia y el control de las funciones corporales, que eventualmente conducen a la muert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2205000"/>
            <a:ext cx="82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Verdana"/>
              </a:rPr>
              <a:t>DESARROLLO FÍSICO, COGNITIVO Y PSICOSOCIAL</a:t>
            </a:r>
            <a:r>
              <a:rPr b="1" lang="es-ES" sz="2400" spc="-1" strike="noStrike">
                <a:solidFill>
                  <a:srgbClr val="2f1311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7d47d"/>
                </a:solidFill>
                <a:latin typeface="Verdana"/>
              </a:rPr>
              <a:t>ADULTEZ TARDÍ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Verdana"/>
              </a:rPr>
              <a:t>(DE 65 AÑOS EN ADELANT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457956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7d47d"/>
                </a:solidFill>
                <a:latin typeface="Verdana"/>
              </a:rPr>
              <a:t>TERCERA EDAD</a:t>
            </a:r>
            <a:endParaRPr b="0" lang="en-US" sz="20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lud Física y Menta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971640" y="1557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roblemas Mentales y de Comporta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nfermedad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arkinson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el segundo trastorno más común, que incluye degeneración neurológica progresiva, se caracteriza por temblores, rigidez, movimientos lentos y posición inestabl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71640" y="3860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as dos enfermedades junto con la demencia multiinfarto, causada por una serie de pequeñas parálisis, son la causa de por lo menos 8 de cada 10 casos de demencia, todos irreversibl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98100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a inteligencia cristalizada se mantiene en el adulto mayor, la habilidad para  considerar distintas facetas de la información acumulada mejora con los años, hasta pueden decir de 5 formas distintas lo mism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71640" y="299736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edir la inteligencia de los ancianos es complicado. Varios factores físicos y psicológicos pueden influir en el puntaje de sus pruebas y conducir a subestimar su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os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roblemas neurofisiológico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la presión arterial elevada u otros problemas cardiovasculares, que pueden afectar el flujo de la sangre al cerebro,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ueden interferir el desempeño cognitiv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54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demás los problemas audiovisuales pueden causar dificultad para comprender las instrucciones de una prueba psicológ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telige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18446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ía de los ancianos tiene dificultades con los límites de tiempo de la mayor parte de las pruebas de inteligenc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2844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e cree que el principal contribuyente en cambios en las habilidades cognitivas y en la eficiencia de procesamiento de información sea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disminución general del funcionamiento del sistema nervioso centr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443700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on frecuencia, el deterioro cognitivo puede estar relacionado con el desu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71640" y="1844640"/>
            <a:ext cx="7993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a corto plaz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evalúa pidiendo a una persona que repita una secuencia de números, ya sea en el orden presentado o en el orden inverso. La habilidad de repetir las cifras en el mismo orden se mantiene bien en la edad avanzada, pero no la de repetir las cifras en orden invers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3933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emoria a largo plazo se divide en tres grandes componentes: episódica, semántica y procediment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1640" y="1557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Qué desayunó esta mañana?, ¿Cerró su auto cuando lo estacionó?. Tal información se almacena en la memoria episódica, el componente de la memoria a largo plazo que más se deteriora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971640" y="3060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semánt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e parece a una enciclopedia mental que mantiene almacenado el conocimiento de los hechos históricos, localizaciones geográficas, costumbres sociales, significados de palabras, etc. La memoria semántica no muestra mucha declinación con la 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71640" y="4869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cordar cómo andar en bicicleta es un ejemplo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moria procedimental o implícit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. Este componente incluye habilidades motrices, hábitos y maneras de hacer cosas que pueden recordarse sin esfuerzo consciente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71640" y="177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rikson plantea que la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 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un aspecto del desarrollo de la edad adulta tardí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971640" y="303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s investigadores define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mo una extensión del pensamiento posformal, una síntesis de razón y emo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4292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enfoque, sustentado en la filosofía oriental, se centra en el dominio espiritual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71640" y="1773360"/>
            <a:ext cx="79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obert Sternberg, define la sabiduría como una forma especial de inteligencia práctica basada en el conocimiento tácito y está dirigida a lograr el bien común a través del equilibrio de intereses múltiples que con frecuencia entran en conflicto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 diferencia de otras formas de inteligencia,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sabiduría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implica juicios de valor sobre los fines que son buenos y la mejor manera de conseguirl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66000" y="549360"/>
            <a:ext cx="41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COGNITIV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971640" y="177336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242100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jubilación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o sólo altera los ingresos del hogar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sino que también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carrea cambios en la división del trabaj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tera la calidad de la relación matrimonial-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odifica la distribución de poder y la toma de decision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71640" y="4149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Quizá haya más tiempo para tener contacto con la familia extensa y los amigos o para cuidar a los nieto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71640" y="5013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urante los primeros años de jubilación, las personas pueden tener necesidad de apoyo emocional para sentirse valiosas y para enfrentar los cambios de sus vid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2852640"/>
            <a:ext cx="77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7d4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CENTRADO EN LA FAMILIA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ste es el tipo de patrón más común. Consiste en realizar actividades accesibles, de bajo costo, que giren en torno a la familia, el hogar y los compañeros: conversación, ver televisión, visitar a familiares y amigos, entretenimiento informal, juegos de carta o hacer “lo que salga juntos”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Trabajo, Jubilación y Tiempo Libre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71640" y="220500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¿Cómo emplean los jubilados su tiempo?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971640" y="2852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INVERSIÓN EQUILIBRA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 típico de personas mejor educadas que distribuyen su tiempo más equitativamente entre la familia, el trabajo y el tiempo libre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71640" y="4149720"/>
            <a:ext cx="777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IEMPO LIBRE SERI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Este tercer patrón de estilo  está dominado por actividades que exigen habilidad, atención y compromiso. Con frecuencia, los pintores dominicales, los carpinteros aficionados y otros que han hecho esfuerzos para dominar un oficio o buscar una actividad continua hacen de esa pasión el eje central de sus vidas durante la jubilació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1413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 y Envejecimient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234936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expectativa de vida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es la 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edad estadísticamente probable de vid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una persona según época y lugar de nacimiento y dado su actual estado de salu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3789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“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Longevidad”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hace referencia a cuántos años vive en realidad una person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71640" y="227664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i 4 de cada 5 ancianos que viven solos son viudos y casi la mitad no tienen hijos ni familiares que vivan cerca. La gran mayorí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alora su independencia y prefieren valerse por sí mismo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71640" y="41497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de avanzada edad viven con hijos adultos. El éxito de tal situación depende en gran medida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lidad de la relación en el pasado y de la capacidad de ambas generaciones para comunicarse con total franqueza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971640" y="162864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Sitios para Vivir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Casas de repos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Residencias de adultos mayor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teles de adul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spitales de día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971640" y="407664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uchos ancianos no desean vivir en instituciones y la mayoría de los miembros de la familia no desean que esto ocurra. Con frecuencia, los ancianos sienten que ingresar en una institución es signo de rechazo e ingresan a regañadient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71640" y="328464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encia Fís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con ánimo de causar les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71640" y="4221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uso emocional o psicológic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que puede incluir insultos y amenazas (como la amenaza de abandono o de ingreso en una institución)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stilo De Vida y Aspectos Sociale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71640" y="162864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Maltrato de Ancian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7800" y="549360"/>
            <a:ext cx="44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PSICOSOCI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71640" y="227664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maltrato de ancianos puede clasificarse en las siguientes categoría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71640" y="31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3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xplotación mater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o apropiación indebida de dinero o alguna propiedad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71640" y="404172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4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bandono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dejar de satisfacer con intención o sin ésta las necesidades de ancianos dependient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71640" y="494172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5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Violación de los derechos personal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como los derechos del anciano a la privacidad y a tomar sus propias decisiones personales y médic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213372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la actualidad, la mayoría de las personas pueden tener la esperanza de llegar a viejos, incluso a una vejez avanzada. En el mundo,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la expectativa de vida media se ha elevado</a:t>
            </a:r>
            <a:r>
              <a:rPr b="0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n un      37% desde 1955, de 48 a 66 años, y se espera que llegue a      73 años para el 2025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1640" y="4005360"/>
            <a:ext cx="7777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Hoy en día la vida dura más debido a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reducción de la mortalidad durante la infanci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ocurr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s muertes en la edad adulta tempran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,      particularmente en los part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xistencia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nuevos tratamientos 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para muchas enfermedades hasta hace poco incurables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un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oblación más consciente de la salud y mejor educa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2133720"/>
            <a:ext cx="777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mayor longevidad de las mujeres se ha atribuido a varios factores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la tendencia 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uidar de sí misma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y buscar asistencia médica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buClr>
                <a:srgbClr val="2f131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 elevado nivel de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apoyo soci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de que disfrutan las mujeres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-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menor vulnerabilidad biológ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que los varone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4005360"/>
            <a:ext cx="7777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66720" y="692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4360" y="141300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Tendencias y Factores en la Expectativa de Vida y la Mortalidad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2133720"/>
            <a:ext cx="7777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“diferencias de género” en “las expectativas de vida”  indican que las mujeres ancianas sobrepasan en número a los hombres ancianos en proporción de 3 a 2. A los 80 años, la razón de mujeres a hombres es casi 2 a 1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Ellos tienen más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en la infanci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varones adolescentes y los hombres jóvenes tienen mayor probabilidad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SIDA o de accidentes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; los hombres de edad mediana o los ancianos tienen más probabilidad que las mujeres de </a:t>
            </a:r>
            <a:r>
              <a:rPr b="0" lang="es-MX" sz="2000" spc="-1" strike="noStrike">
                <a:solidFill>
                  <a:srgbClr val="f7d47d"/>
                </a:solidFill>
                <a:latin typeface="Arial"/>
              </a:rPr>
              <a:t>morir a causa de enfermedades cardiovasculares u otras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71640" y="177336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249228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Algunos sistemas corporales se deterioran con más rapidez que otros. El sistema digestivo permanece relativamente eficiente.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Entre los más severos cambios están los que afectan el coraz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407664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estatura disminuye desde la edad adulta temprana hasta la vejez, en promedio poco más de una pulgada en los hombres y dos pulgadas en las mujere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1. Cambios Orgánicos y Sistém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71640" y="249228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s personas tienden a dormir menos y a soñar menos en los últimos años de su vid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71640" y="364500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Otro cambio importante que puede afectar la salud  es     la reducción de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pacidad de reserva o reserva orgánica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: capacidad de los órganos y sistemas corporales para realizar entre 4 y 10 veces más esfuerzo que el normal bajo estrés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66720" y="54936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2f1311"/>
                </a:solidFill>
                <a:latin typeface="Arial"/>
              </a:rPr>
              <a:t>DESARROLLO FÍSIC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1054080"/>
            <a:ext cx="73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7d4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Cambios Físicos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1700280"/>
            <a:ext cx="77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2. Envejecimiento del Cerebro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Después de los 30 años, el cerebro pierde peso ligeramente, luego con más rapidez. A los 90 años, el cerebro puede haber perdido el 10% de su peso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71640" y="3645000"/>
            <a:ext cx="777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Junto con la </a:t>
            </a:r>
            <a:r>
              <a:rPr b="1" lang="es-MX" sz="2000" spc="-1" strike="noStrike">
                <a:solidFill>
                  <a:srgbClr val="f7d47d"/>
                </a:solidFill>
                <a:latin typeface="Arial"/>
              </a:rPr>
              <a:t>pérdida de material cerebral</a:t>
            </a: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 puede venir una disminución gradual de las respuestas, que comienza en la edad adulta intermedia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4797360"/>
            <a:ext cx="777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2f1311"/>
                </a:solidFill>
                <a:latin typeface="Arial"/>
              </a:rPr>
              <a:t>La alteración del sistema nervioso central puede afectar no sólo la coordinación física, sino la cognición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19:14:13Z</dcterms:created>
  <dc:creator>Fac. de Medicina</dc:creator>
  <dc:description/>
  <dc:language>en-US</dc:language>
  <cp:lastModifiedBy>Fac. de Medicina</cp:lastModifiedBy>
  <dcterms:modified xsi:type="dcterms:W3CDTF">2008-10-29T17:08:02Z</dcterms:modified>
  <cp:revision>11</cp:revision>
  <dc:subject/>
  <dc:title>SESIÓN 13</dc:title>
</cp:coreProperties>
</file>