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E239-5224-4EB2-88B1-23DB265EC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C519-0B6E-4112-8D72-8982D0239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1502-4589-479E-8AAF-EE7408062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63420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5414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7272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63420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5414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DBBB-8E62-453D-BF49-ED09CA6C0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93E31-363D-40CA-913F-134D5763D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C2B6E-731A-4115-BFB4-E4C75F424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21AB3-0746-4AB0-924D-C6BB94A92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62DCC-F7A9-47DF-8BA1-0F8248E7D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11123-D280-4C46-99A8-09E6984CD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800" y="1369800"/>
            <a:ext cx="6966000" cy="9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EA38B-9E4A-4581-B5B6-15A5C8789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F74FD-3830-4D3C-9B65-5B0DDB52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FF8F-74FA-4A58-99E0-E9578045A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819BE-CC7B-4690-934B-6AA359BFE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8C47E-6FE1-4033-941D-94CC1F6D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6010A-6FA6-4CE7-A9A7-420035BDB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CD63D-9C25-4DDF-8BB7-8D2D2B2D3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63420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5414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7272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63420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5414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9328C-8E04-4265-9C65-F38A792DA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E4DA-7454-4222-A00B-E7A6C0675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620A-C284-498E-AB79-C32742D22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6D7F-CA9D-4F36-9CE0-24203C9C0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800" y="1369800"/>
            <a:ext cx="6966000" cy="9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2D44-2788-4251-916B-C8EAEF4F0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1AFF-DAE5-4A1A-8F0D-BA666DAB2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79E2-3A8E-43EA-8FB3-3D08BEB0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5A1E-F3C9-4AA7-8BFE-04E79DF62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004DD-47B4-4919-83A0-CA2887F6FEC5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FEC06-91AD-4712-AAC5-0247E4D6A510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68360" y="2421000"/>
            <a:ext cx="7461360" cy="12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cc"/>
                </a:solidFill>
                <a:latin typeface="Impact"/>
              </a:rPr>
              <a:t>ETAPA DE LA ADULTEZ TARDÍA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cc"/>
                </a:solidFill>
                <a:latin typeface="Impact"/>
              </a:rPr>
              <a:t>	</a:t>
            </a:r>
            <a:r>
              <a:rPr b="0" lang="es-ES_tradnl" sz="3200" spc="-1" strike="noStrike">
                <a:solidFill>
                  <a:srgbClr val="0000cc"/>
                </a:solidFill>
                <a:latin typeface="Impact"/>
              </a:rPr>
              <a:t>	</a:t>
            </a:r>
            <a:r>
              <a:rPr b="0" lang="es-ES_tradnl" sz="3200" spc="-1" strike="noStrike">
                <a:solidFill>
                  <a:srgbClr val="0000cc"/>
                </a:solidFill>
                <a:latin typeface="Impact"/>
              </a:rPr>
              <a:t>     </a:t>
            </a:r>
            <a:r>
              <a:rPr b="0" lang="es-ES_tradnl" sz="2400" spc="-1" strike="noStrike">
                <a:solidFill>
                  <a:srgbClr val="0000cc"/>
                </a:solidFill>
                <a:latin typeface="Impact"/>
              </a:rPr>
              <a:t>65 AÑOS HASTA LA MUERTE</a:t>
            </a:r>
            <a:r>
              <a:rPr b="0" lang="es-ES_tradnl" sz="3600" spc="-1" strike="noStrike">
                <a:solidFill>
                  <a:srgbClr val="0000cc"/>
                </a:solidFill>
                <a:latin typeface="Impact"/>
              </a:rPr>
              <a:t>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0920" y="1125360"/>
            <a:ext cx="80150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7d47d"/>
                </a:solidFill>
                <a:latin typeface="Impact"/>
              </a:rPr>
              <a:t>ASPECTOS PSICOLÓGICOS DE LAS ETAPAS DEL CICLO VITAL</a:t>
            </a:r>
            <a:endParaRPr b="0" lang="en-US" sz="3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908000" y="4292640"/>
            <a:ext cx="4572000" cy="1618560"/>
          </a:xfrm>
          <a:prstGeom prst="rect">
            <a:avLst/>
          </a:prstGeom>
          <a:noFill/>
          <a:ln w="57240">
            <a:solidFill>
              <a:srgbClr val="0404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2f1311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Impact"/>
              </a:rPr>
              <a:t>Evaluación de la vida: obtuve logros o fracasos en mi vida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f1311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Impact"/>
              </a:rPr>
              <a:t>Jubilación: fin de la vida laboral y socialmente activa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666720" y="549360"/>
            <a:ext cx="34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1311"/>
                </a:solidFill>
                <a:latin typeface="Arial"/>
              </a:rPr>
              <a:t>DESARROLLO FÍSIC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4360" y="1054080"/>
            <a:ext cx="73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7d4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Cambios Físico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971640" y="1628640"/>
            <a:ext cx="77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3. Funcionamiento Sensorial y Psicomotor : VISTA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971640" y="2276640"/>
            <a:ext cx="777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Muchos ancianos tienen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dificultad para percibir la profundidad o el color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, o realizar actividades como leer, coser, ir de compras o cocinar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971640" y="3511440"/>
            <a:ext cx="777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Más de la mitad de las personas mayores de 65 años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desarrollan cataratas 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(nubes o áreas opacas en el cristalino), lo cual origina visión borrosa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71640" y="4746600"/>
            <a:ext cx="77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Los problemas de visión pueden causar accidentes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971640" y="5372280"/>
            <a:ext cx="777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Con frecuencia, muchos problemas visuales moderados pueden corregirse con lentes, tratamiento médico o quirúrgico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666720" y="549360"/>
            <a:ext cx="34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1311"/>
                </a:solidFill>
                <a:latin typeface="Arial"/>
              </a:rPr>
              <a:t>DESARROLLO FÍSIC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84360" y="1054080"/>
            <a:ext cx="73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7d4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Cambios Físico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71640" y="162864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3. Funcionamiento Sensorial y Psicomotor : GUSTO Y OLFATO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71640" y="2276640"/>
            <a:ext cx="7777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La pérdida de estos dos sentidos puede ser consecuencia normal del envejecimiento, aunque también puede ser causada por una amplia variedad de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enfermedades y medicamentos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, por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cirugía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 o por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exposición a sustancias nocivas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 en el entorno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971640" y="4005360"/>
            <a:ext cx="7777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Cuando los ancianos se quejan de que sus alimentos ya no saben bien, puede ser porque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tienen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menos papilas gustativas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, porque los receptores del sabor no funcionan de manera adecuada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el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bulbo olfativo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 (órgano cerebral encargado del sentido del olfato) u otras estructuras cerebrales relacionadas están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dañadas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666720" y="549360"/>
            <a:ext cx="34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1311"/>
                </a:solidFill>
                <a:latin typeface="Arial"/>
              </a:rPr>
              <a:t>DESARROLLO FÍSIC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84360" y="1054080"/>
            <a:ext cx="73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7d4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Cambios Físico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71640" y="1557360"/>
            <a:ext cx="79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3. Funcionamiento Sensorial y Psicomotor 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FUNCIONAMIENTO PSICOMOTOR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971640" y="2349360"/>
            <a:ext cx="7777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Aunque los ancianos pueden realizar con más lentitud la mayoría de las actividades que ejecutan las personas jóvenes, tienen menos fortaleza de la que tuvieron y están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limitados en actividades que requieren resistencia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 o capacidad para transportar cargas pesadas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971640" y="4030560"/>
            <a:ext cx="77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A los 70-80 años, algunas personas tienen sólo la mitad de la fortaleza que tenían a los 30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971640" y="4797360"/>
            <a:ext cx="7777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Los ancianos son particularmente susceptibles a las caídas debido a que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disminuye la sensibilidad de las células receptoras que llevan información al cerebro sobre la posición del cuerpo en el espacio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, información necesaria para mantener el equilibrio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66720" y="549360"/>
            <a:ext cx="34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1311"/>
                </a:solidFill>
                <a:latin typeface="Arial"/>
              </a:rPr>
              <a:t>DESARROLLO FÍSIC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84360" y="1054080"/>
            <a:ext cx="73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7d4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Cambios Físico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971640" y="155736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4. Funcionamiento Sexua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971640" y="2349360"/>
            <a:ext cx="777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En general, un hombre saludable sexualmente activo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puede continuar alguna forma de expresión sexual activa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 a los 70-80 años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71640" y="3726000"/>
            <a:ext cx="77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Las mujeres están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dotadas fisiológicamente para mantener actividad sexual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 mientras vivan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971640" y="4797360"/>
            <a:ext cx="77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En la edad adulta tardía, la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actividad sexual es diferente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 de lo que fue en épocas anteriores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666720" y="549360"/>
            <a:ext cx="34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1311"/>
                </a:solidFill>
                <a:latin typeface="Arial"/>
              </a:rPr>
              <a:t>DESARROLLO FÍSIC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84360" y="1054080"/>
            <a:ext cx="73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7d4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Cambios Físico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971640" y="155736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4. Funcionamiento Sexua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971640" y="1989000"/>
            <a:ext cx="7777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Normalmente los hombres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tardan más en lograr la erección y eyacular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pueden necesitar más estimulación manual y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deben experimentar mayores intervalos entre las erecciones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La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disfunción eréctil puede incrementarse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. La respiración entrecortada y otros signos de excitación sexual son menos intensos que antes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971640" y="5157720"/>
            <a:ext cx="77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En las mujeres la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vagina es menos flexible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 y puede necesitar lubricación artificial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666720" y="549360"/>
            <a:ext cx="34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1311"/>
                </a:solidFill>
                <a:latin typeface="Arial"/>
              </a:rPr>
              <a:t>DESARROLLO FÍSIC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84360" y="1054080"/>
            <a:ext cx="73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7d4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Salud Física y Menta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971640" y="1557360"/>
            <a:ext cx="799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En muchos países industrializados los ancianos tienen un estándar de vida más elevado y más conocimiento sobre sus cuerpos que antes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971640" y="2781360"/>
            <a:ext cx="77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El mejoramiento de las condiciones de salud y el uso extendido de antibióticos han contribuido a mejorar la salud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971640" y="3933720"/>
            <a:ext cx="7777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Sin embargo,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junto con estos cambios positivos han sobrevenido otros negativos: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más agentes cancerígenos en los alimentos,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lugares de trabajo y aire contaminado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ritmo de vida más acelerado que contribuye a la hipertensión     enfermedades cardiovasculares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666720" y="549360"/>
            <a:ext cx="34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1311"/>
                </a:solidFill>
                <a:latin typeface="Arial"/>
              </a:rPr>
              <a:t>DESARROLLO FÍSIC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4360" y="1054080"/>
            <a:ext cx="73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7d4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Salud Física y Menta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971640" y="155736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Estado de Salud y Asistencia Médica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971640" y="2492280"/>
            <a:ext cx="777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En general, la mayoría de los ancianos tiene buena salud, aunque no tan buena en promedio como los adultos más jóvenes y de mediana edad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971640" y="3933720"/>
            <a:ext cx="777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A medida que las personas envejecen tienden a experimentar más problemas de salud persistentes y potencialmente incapacitadores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666720" y="549360"/>
            <a:ext cx="34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1311"/>
                </a:solidFill>
                <a:latin typeface="Arial"/>
              </a:rPr>
              <a:t>DESARROLLO FÍSIC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4360" y="1054080"/>
            <a:ext cx="73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7d4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Salud Física y Menta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71640" y="155736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Estado de Salud y Asistencia Médica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24000" y="2492280"/>
            <a:ext cx="849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La mayoría de las personas ancianas tiene una o más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dolencias físicas crónicas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: artritis, hipertensión, cataratas, enfermedades cardíacas, diabetes, asma, cáncer y deficiencias visuales, auditivas y ortopédicas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971640" y="4221000"/>
            <a:ext cx="777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La artritis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 es el grupo de trastornos frecuentes que afectan las articulaciones (inflamación), causando dolor y pérdida de movimiento. Es el problema de salud crónico más común entre los ancianos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666720" y="549360"/>
            <a:ext cx="34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1311"/>
                </a:solidFill>
                <a:latin typeface="Arial"/>
              </a:rPr>
              <a:t>DESARROLLO FÍSIC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4360" y="1054080"/>
            <a:ext cx="73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7d4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Salud Física y Menta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971640" y="155736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Influencias en la Salud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71640" y="2276640"/>
            <a:ext cx="77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La actividad física, la nutrición y otros factores de estilo de vida influyen en la salud y la enfermedad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971640" y="3213000"/>
            <a:ext cx="77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El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ejercicio regular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 prolonga la vida y puede ayudar a reducir pérdidas relacionadas con el envejecimiento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971640" y="4149720"/>
            <a:ext cx="7777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En relación a la nutrición, muchas personas ancianas no comen tan bien como deben, ya sea por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disminución de la capacidad gustativa u olfativa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problemas dentale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dificultad para comprar y preparar los alimento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ingresos inadecuado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Depresion o episodios depresivos, etc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666720" y="549360"/>
            <a:ext cx="34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1311"/>
                </a:solidFill>
                <a:latin typeface="Arial"/>
              </a:rPr>
              <a:t>DESARROLLO FÍSIC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84360" y="1054080"/>
            <a:ext cx="73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7d4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Salud Física y Menta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971640" y="155736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Problemas Mentales y de Comportamiento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971640" y="2276640"/>
            <a:ext cx="777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Demencia es el término general aplicado al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deterioro cognitivo y de comportamiento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 de origen fisiológico, suficiente para afectar la vida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971640" y="3573360"/>
            <a:ext cx="7777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Cerca de dos terceras partes de los casos de demencia pueden originarse en la enfermedad de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Alzheimer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, trastorno cerebral degenerativo, progresivo, caracterizado por deterioro irreversible de la memoria, la inteligencia, la conciencia y el control de las funciones corporales, que eventualmente conducen a la muerte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79280" y="2205000"/>
            <a:ext cx="820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Verdana"/>
              </a:rPr>
              <a:t>DESARROLLO FÍSICO, COGNITIVO Y PSICOSOCIAL</a:t>
            </a:r>
            <a:r>
              <a:rPr b="1" lang="es-ES" sz="2400" spc="-1" strike="noStrike">
                <a:solidFill>
                  <a:srgbClr val="2f1311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7d47d"/>
                </a:solidFill>
                <a:latin typeface="Verdana"/>
              </a:rPr>
              <a:t>ADULTEZ TARDÍA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1311"/>
                </a:solidFill>
                <a:latin typeface="Verdana"/>
              </a:rPr>
              <a:t>(DE 65 AÑOS EN ADELANTE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4360" y="4579560"/>
            <a:ext cx="777240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7d47d"/>
                </a:solidFill>
                <a:latin typeface="Verdana"/>
              </a:rPr>
              <a:t>TERCERA EDAD</a:t>
            </a: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666720" y="549360"/>
            <a:ext cx="34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1311"/>
                </a:solidFill>
                <a:latin typeface="Arial"/>
              </a:rPr>
              <a:t>DESARROLLO FÍSIC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84360" y="1054080"/>
            <a:ext cx="73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7d4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Salud Física y Menta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971640" y="155736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Problemas Mentales y de Comportamiento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971640" y="2276640"/>
            <a:ext cx="777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La enfermedad de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Parkinson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, el segundo trastorno más común, que incluye degeneración neurológica progresiva, se caracteriza por temblores, rigidez, movimientos lentos y posición inestable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971640" y="3860640"/>
            <a:ext cx="777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Estas dos enfermedades junto con la demencia multiinfarto, causada por una serie de pequeñas parálisis, son la causa de por lo menos 8 de cada 10 casos de demencia, todos irreversibles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666000" y="549360"/>
            <a:ext cx="41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1311"/>
                </a:solidFill>
                <a:latin typeface="Arial"/>
              </a:rPr>
              <a:t>DESARROLLO COGNITIV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11280" y="981000"/>
            <a:ext cx="7345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7d4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Inteligencia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buClr>
                <a:srgbClr val="f7d4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La inteligencia cristalizada se mantiene en el adulto mayor, la habilidad para  considerar distintas facetas de la información acumulada mejora con los años, hasta pueden decir de 5 formas distintas lo mismo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71640" y="2997360"/>
            <a:ext cx="799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Medir la inteligencia de los ancianos es complicado. Varios factores físicos y psicológicos pueden influir en el puntaje de sus pruebas y conducir a subestimar su inteligencia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971640" y="4149720"/>
            <a:ext cx="777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Los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problemas neurofisiológicos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, la presión arterial elevada u otros problemas cardiovasculares, que pueden afectar el flujo de la sangre al cerebro,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pueden interferir el desempeño cognitivo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971640" y="5445000"/>
            <a:ext cx="777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Además los problemas audiovisuales pueden causar dificultad para comprender las instrucciones de una prueba psicológica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684360" y="1054080"/>
            <a:ext cx="73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7d4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Inteligencia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971640" y="1844640"/>
            <a:ext cx="79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La mayoría de los ancianos tiene dificultades con los límites de tiempo de la mayor parte de las pruebas de inteligencia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971640" y="2844720"/>
            <a:ext cx="777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Se cree que el principal contribuyente en cambios en las habilidades cognitivas y en la eficiencia de procesamiento de información sea la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disminución general del funcionamiento del sistema nervioso central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71640" y="4437000"/>
            <a:ext cx="77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Con frecuencia, el deterioro cognitivo puede estar relacionado con el desuso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66000" y="549360"/>
            <a:ext cx="41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1311"/>
                </a:solidFill>
                <a:latin typeface="Arial"/>
              </a:rPr>
              <a:t>DESARROLLO COGNITIV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684360" y="1054080"/>
            <a:ext cx="73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7d4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Memoria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971640" y="1844640"/>
            <a:ext cx="7993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La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memoria a corto plazo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 se evalúa pidiendo a una persona que repita una secuencia de números, ya sea en el orden presentado o en el orden inverso. La habilidad de repetir las cifras en el mismo orden se mantiene bien en la edad avanzada, pero no la de repetir las cifras en orden inverso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971640" y="3933720"/>
            <a:ext cx="77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La memoria a largo plazo se divide en tres grandes componentes: episódica, semántica y procedimental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66000" y="549360"/>
            <a:ext cx="41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1311"/>
                </a:solidFill>
                <a:latin typeface="Arial"/>
              </a:rPr>
              <a:t>DESARROLLO COGNITIV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684360" y="1054080"/>
            <a:ext cx="73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7d4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Memoria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971640" y="1557360"/>
            <a:ext cx="7993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¿Qué desayunó esta mañana?, ¿Cerró su auto cuando lo estacionó?. Tal información se almacena en la memoria episódica, el componente de la memoria a largo plazo que más se deteriora con la edad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971640" y="3060720"/>
            <a:ext cx="7777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La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memoria semántica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 se parece a una enciclopedia mental que mantiene almacenado el conocimiento de los hechos históricos, localizaciones geográficas, costumbres sociales, significados de palabras, etc. La memoria semántica no muestra mucha declinación con la edad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971640" y="4869000"/>
            <a:ext cx="777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Recordar cómo andar en bicicleta es un ejemplo de la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memoria procedimental o implícita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. Este componente incluye habilidades motrices, hábitos y maneras de hacer cosas que pueden recordarse sin esfuerzo consciente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66000" y="549360"/>
            <a:ext cx="41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1311"/>
                </a:solidFill>
                <a:latin typeface="Arial"/>
              </a:rPr>
              <a:t>DESARROLLO COGNITIV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684360" y="1054080"/>
            <a:ext cx="73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7d4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Sabiduría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971640" y="1773360"/>
            <a:ext cx="79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Erikson plantea que la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 sabiduría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 es un aspecto del desarrollo de la edad adulta tardía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971640" y="3032280"/>
            <a:ext cx="77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Otros investigadores definen la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sabiduría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 como una extensión del pensamiento posformal, una síntesis de razón y emoción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971640" y="4292640"/>
            <a:ext cx="77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Otro enfoque, sustentado en la filosofía oriental, se centra en el dominio espiritual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66000" y="549360"/>
            <a:ext cx="41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1311"/>
                </a:solidFill>
                <a:latin typeface="Arial"/>
              </a:rPr>
              <a:t>DESARROLLO COGNITIV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684360" y="1054080"/>
            <a:ext cx="73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7d4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Sabiduría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71640" y="1773360"/>
            <a:ext cx="7993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Robert Sternberg, define la sabiduría como una forma especial de inteligencia práctica basada en el conocimiento tácito y está dirigida a lograr el bien común a través del equilibrio de intereses múltiples que con frecuencia entran en conflicto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971640" y="3645000"/>
            <a:ext cx="777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A diferencia de otras formas de inteligencia, la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sabiduría 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implica juicios de valor sobre los fines que son buenos y la mejor manera de conseguirlos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66000" y="549360"/>
            <a:ext cx="41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1311"/>
                </a:solidFill>
                <a:latin typeface="Arial"/>
              </a:rPr>
              <a:t>DESARROLLO COGNITIV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684360" y="1054080"/>
            <a:ext cx="73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7d4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Estilo De Vida y Aspectos Sociale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971640" y="177336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Trabajo, Jubilación y Tiempo Libre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971640" y="2421000"/>
            <a:ext cx="7777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La jubilación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no sólo altera los ingresos del hogar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 sino que también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acarrea cambios en la división del trabajo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altera la calidad de la relación matrimonial-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modifica la distribución de poder y la toma de decisiones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67800" y="549360"/>
            <a:ext cx="44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1311"/>
                </a:solidFill>
                <a:latin typeface="Arial"/>
              </a:rPr>
              <a:t>DESARROLLO PSICOSOCIA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971640" y="4149720"/>
            <a:ext cx="77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Quizá haya más tiempo para tener contacto con la familia extensa y los amigos o para cuidar a los nietos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971640" y="5013360"/>
            <a:ext cx="777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Durante los primeros años de jubilación, las personas pueden tener necesidad de apoyo emocional para sentirse valiosas y para enfrentar los cambios de sus vidas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684360" y="1054080"/>
            <a:ext cx="73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7d4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Estilo De Vida y Aspectos Sociale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971640" y="162864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Trabajo, Jubilación y Tiempo Libre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71640" y="2205000"/>
            <a:ext cx="77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¿Cómo emplean los jubilados su tiempo?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67800" y="549360"/>
            <a:ext cx="44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1311"/>
                </a:solidFill>
                <a:latin typeface="Arial"/>
              </a:rPr>
              <a:t>DESARROLLO PSICOSOCIA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971640" y="2852640"/>
            <a:ext cx="7777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7d4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ESTILO DE VIDA CENTRADO EN LA FAMILIA: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Este es el tipo de patrón más común. Consiste en realizar actividades accesibles, de bajo costo, que giren en torno a la familia, el hogar y los compañeros: conversación, ver televisión, visitar a familiares y amigos, entretenimiento informal, juegos de carta o hacer “lo que salga juntos”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684360" y="1054080"/>
            <a:ext cx="73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7d4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Estilo De Vida y Aspectos Sociale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971640" y="162864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Trabajo, Jubilación y Tiempo Libre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971640" y="2205000"/>
            <a:ext cx="77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¿Cómo emplean los jubilados su tiempo?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67800" y="549360"/>
            <a:ext cx="44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1311"/>
                </a:solidFill>
                <a:latin typeface="Arial"/>
              </a:rPr>
              <a:t>DESARROLLO PSICOSOCIA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971640" y="2852640"/>
            <a:ext cx="777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2.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INVERSIÓN EQUILIBRADA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: Es típico de personas mejor educadas que distribuyen su tiempo más equitativamente entre la familia, el trabajo y el tiempo libre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971640" y="4149720"/>
            <a:ext cx="7777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3.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TIEMPO LIBRE SERIO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: Este tercer patrón de estilo  está dominado por actividades que exigen habilidad, atención y compromiso. Con frecuencia, los pintores dominicales, los carpinteros aficionados y otros que han hecho esfuerzos para dominar un oficio o buscar una actividad continua hacen de esa pasión el eje central de sus vidas durante la jubilación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666720" y="692280"/>
            <a:ext cx="34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1311"/>
                </a:solidFill>
                <a:latin typeface="Arial"/>
              </a:rPr>
              <a:t>DESARROLLO FÍSIC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71640" y="1413000"/>
            <a:ext cx="73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7d4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Longevidad y Envejecimiento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71640" y="2349360"/>
            <a:ext cx="777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La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“expectativa de vida”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 es la </a:t>
            </a:r>
            <a:r>
              <a:rPr b="0" lang="es-MX" sz="2000" spc="-1" strike="noStrike">
                <a:solidFill>
                  <a:srgbClr val="2f1311"/>
                </a:solidFill>
                <a:latin typeface="Arial"/>
              </a:rPr>
              <a:t>edad estadísticamente probable de vida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 de una persona según época y lugar de nacimiento y dado su actual estado de salud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71640" y="3789360"/>
            <a:ext cx="77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“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Longevidad”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 hace referencia a cuántos años vive en realidad una persona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684360" y="1054080"/>
            <a:ext cx="73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7d4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Estilo De Vida y Aspectos Sociale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971640" y="162864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Sitios para Vivir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67800" y="549360"/>
            <a:ext cx="44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1311"/>
                </a:solidFill>
                <a:latin typeface="Arial"/>
              </a:rPr>
              <a:t>DESARROLLO PSICOSOCIA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971640" y="2276640"/>
            <a:ext cx="777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Casi 4 de cada 5 ancianos que viven solos son viudos y casi la mitad no tienen hijos ni familiares que vivan cerca. La gran mayoría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valora su independencia y prefieren valerse por sí mismos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971640" y="4149720"/>
            <a:ext cx="777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Muchos ancianos de avanzada edad viven con hijos adultos. El éxito de tal situación depende en gran medida de la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calidad de la relación en el pasado y de la capacidad de ambas generaciones para comunicarse con total franqueza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684360" y="1054080"/>
            <a:ext cx="73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7d4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Estilo De Vida y Aspectos Sociale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971640" y="1628640"/>
            <a:ext cx="7993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Sitios para Vivir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Casas de reposo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Residencias de adultos mayore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Hoteles de adulto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Hospitales de día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67800" y="549360"/>
            <a:ext cx="44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1311"/>
                </a:solidFill>
                <a:latin typeface="Arial"/>
              </a:rPr>
              <a:t>DESARROLLO PSICOSOCIA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971640" y="4076640"/>
            <a:ext cx="7777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Muchos ancianos no desean vivir en instituciones y la mayoría de los miembros de la familia no desean que esto ocurra. Con frecuencia, los ancianos sienten que ingresar en una institución es signo de rechazo e ingresan a regañadientes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684360" y="1054080"/>
            <a:ext cx="73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7d4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Estilo De Vida y Aspectos Sociale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71640" y="162864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Maltrato de Anciano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67800" y="549360"/>
            <a:ext cx="44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1311"/>
                </a:solidFill>
                <a:latin typeface="Arial"/>
              </a:rPr>
              <a:t>DESARROLLO PSICOSOCIA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971640" y="2276640"/>
            <a:ext cx="77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El maltrato de ancianos puede clasificarse en las siguientes categorías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971640" y="3284640"/>
            <a:ext cx="77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1.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Violencia Física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 con ánimo de causar lesión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971640" y="4221000"/>
            <a:ext cx="777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2.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Abuso emocional o psicológico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, que puede incluir insultos y amenazas (como la amenaza de abandono o de ingreso en una institución)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684360" y="1054080"/>
            <a:ext cx="73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7d4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Estilo De Vida y Aspectos Sociale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971640" y="162864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Maltrato de Anciano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67800" y="549360"/>
            <a:ext cx="44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1311"/>
                </a:solidFill>
                <a:latin typeface="Arial"/>
              </a:rPr>
              <a:t>DESARROLLO PSICOSOCIA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71640" y="2276640"/>
            <a:ext cx="77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El maltrato de ancianos puede clasificarse en las siguientes categorías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971640" y="3141720"/>
            <a:ext cx="77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3.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Explotación material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 o apropiación indebida de dinero o alguna propiedad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971640" y="4041720"/>
            <a:ext cx="77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4.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Abandono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, dejar de satisfacer con intención o sin ésta las necesidades de ancianos dependientes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971640" y="4941720"/>
            <a:ext cx="777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5.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Violación de los derechos personales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, como los derechos del anciano a la privacidad y a tomar sus propias decisiones personales y médicas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666720" y="692280"/>
            <a:ext cx="34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1311"/>
                </a:solidFill>
                <a:latin typeface="Arial"/>
              </a:rPr>
              <a:t>DESARROLLO FÍSIC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84360" y="1413000"/>
            <a:ext cx="79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Tendencias y Factores en la Expectativa de Vida y la Mortalidad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71640" y="2133720"/>
            <a:ext cx="7777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En la actualidad, la mayoría de las personas pueden tener la esperanza de llegar a viejos, incluso a una vejez avanzada. En el mundo, </a:t>
            </a:r>
            <a:r>
              <a:rPr b="0" lang="es-MX" sz="2000" spc="-1" strike="noStrike">
                <a:solidFill>
                  <a:srgbClr val="f7d47d"/>
                </a:solidFill>
                <a:latin typeface="Arial"/>
              </a:rPr>
              <a:t>la expectativa de vida media se ha elevado</a:t>
            </a:r>
            <a:r>
              <a:rPr b="0" lang="es-MX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en un      37% desde 1955, de 48 a 66 años, y se espera que llegue a      73 años para el 2025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71640" y="4005360"/>
            <a:ext cx="7777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Hoy en día la vida dura más debido a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- la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reducción de la mortalidad durante la infancia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la ocurrencia de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menos muertes en la edad adulta temprana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,      particularmente en los parto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la existencia de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nuevos tratamientos 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para muchas enfermedades hasta hace poco incurables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-una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población más consciente de la salud y mejor educada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666720" y="692280"/>
            <a:ext cx="34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1311"/>
                </a:solidFill>
                <a:latin typeface="Arial"/>
              </a:rPr>
              <a:t>DESARROLLO FÍSIC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4360" y="1413000"/>
            <a:ext cx="79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Tendencias y Factores en la Expectativa de Vida y la Mortalidad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71640" y="2133720"/>
            <a:ext cx="7777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La mayor longevidad de las mujeres se ha atribuido a varios factores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-la tendencia a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cuidar de sí mismas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 y buscar asistencia médica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el elevado nivel de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apoyo social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 de que disfrutan las mujeres 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- la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menor vulnerabilidad biológica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 que los varones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71640" y="4005360"/>
            <a:ext cx="7777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66720" y="692280"/>
            <a:ext cx="34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1311"/>
                </a:solidFill>
                <a:latin typeface="Arial"/>
              </a:rPr>
              <a:t>DESARROLLO FÍSIC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84360" y="1413000"/>
            <a:ext cx="79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Tendencias y Factores en la Expectativa de Vida y la Mortalidad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71640" y="2133720"/>
            <a:ext cx="7777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Las “diferencias de género” en “las expectativas de vida”  indican que las mujeres ancianas sobrepasan en número a los hombres ancianos en proporción de 3 a 2. A los 80 años, la razón de mujeres a hombres es casi 2 a 1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Ellos tienen más probabilidad de </a:t>
            </a:r>
            <a:r>
              <a:rPr b="0" lang="es-MX" sz="2000" spc="-1" strike="noStrike">
                <a:solidFill>
                  <a:srgbClr val="f7d47d"/>
                </a:solidFill>
                <a:latin typeface="Arial"/>
              </a:rPr>
              <a:t>morir en la infancia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; los varones adolescentes y los hombres jóvenes tienen mayor probabilidad de </a:t>
            </a:r>
            <a:r>
              <a:rPr b="0" lang="es-MX" sz="2000" spc="-1" strike="noStrike">
                <a:solidFill>
                  <a:srgbClr val="f7d47d"/>
                </a:solidFill>
                <a:latin typeface="Arial"/>
              </a:rPr>
              <a:t>morir a causa de SIDA o de accidentes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; los hombres de edad mediana o los ancianos tienen más probabilidad que las mujeres de </a:t>
            </a:r>
            <a:r>
              <a:rPr b="0" lang="es-MX" sz="2000" spc="-1" strike="noStrike">
                <a:solidFill>
                  <a:srgbClr val="f7d47d"/>
                </a:solidFill>
                <a:latin typeface="Arial"/>
              </a:rPr>
              <a:t>morir a causa de enfermedades cardiovasculares u otras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66720" y="549360"/>
            <a:ext cx="34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1311"/>
                </a:solidFill>
                <a:latin typeface="Arial"/>
              </a:rPr>
              <a:t>DESARROLLO FÍSIC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84360" y="1054080"/>
            <a:ext cx="73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7d4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Cambios Físico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971640" y="1773360"/>
            <a:ext cx="77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1. Cambios Orgánicos y Sistémico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71640" y="2492280"/>
            <a:ext cx="777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Algunos sistemas corporales se deterioran con más rapidez que otros. El sistema digestivo permanece relativamente eficiente.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Entre los más severos cambios están los que afectan el corazón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71640" y="4076640"/>
            <a:ext cx="777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La estatura disminuye desde la edad adulta temprana hasta la vejez, en promedio poco más de una pulgada en los hombres y dos pulgadas en las mujeres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66720" y="549360"/>
            <a:ext cx="34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1311"/>
                </a:solidFill>
                <a:latin typeface="Arial"/>
              </a:rPr>
              <a:t>DESARROLLO FÍSIC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84360" y="1054080"/>
            <a:ext cx="73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7d4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Cambios Físico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971640" y="1700280"/>
            <a:ext cx="77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1. Cambios Orgánicos y Sistémico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71640" y="2492280"/>
            <a:ext cx="77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Las personas tienden a dormir menos y a soñar menos en los últimos años de su vida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971640" y="3645000"/>
            <a:ext cx="777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Otro cambio importante que puede afectar la salud  es     la reducción de la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capacidad de reserva o reserva orgánica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: capacidad de los órganos y sistemas corporales para realizar entre 4 y 10 veces más esfuerzo que el normal bajo estrés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666720" y="549360"/>
            <a:ext cx="34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1311"/>
                </a:solidFill>
                <a:latin typeface="Arial"/>
              </a:rPr>
              <a:t>DESARROLLO FÍSIC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4360" y="1054080"/>
            <a:ext cx="73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7d4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Cambios Físico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71640" y="1700280"/>
            <a:ext cx="77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2. Envejecimiento del Cerebro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971640" y="2492280"/>
            <a:ext cx="777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Después de los 30 años, el cerebro pierde peso ligeramente, luego con más rapidez. A los 90 años, el cerebro puede haber perdido el 10% de su peso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71640" y="3645000"/>
            <a:ext cx="777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Junto con la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pérdida de material cerebral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 puede venir una disminución gradual de las respuestas, que comienza en la edad adulta intermedia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971640" y="4797360"/>
            <a:ext cx="77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La alteración del sistema nervioso central puede afectar no sólo la coordinación física, sino la cognición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19:14:13Z</dcterms:created>
  <dc:creator>Fac. de Medicina</dc:creator>
  <dc:description/>
  <dc:language>en-US</dc:language>
  <cp:lastModifiedBy>Fac. de Medicina</cp:lastModifiedBy>
  <dcterms:modified xsi:type="dcterms:W3CDTF">2008-10-29T17:08:02Z</dcterms:modified>
  <cp:revision>11</cp:revision>
  <dc:subject/>
  <dc:title>SESIÓN 13</dc:title>
</cp:coreProperties>
</file>