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01E-41FF-465A-B79D-033E3250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0FF-8FB8-4171-B308-231B2407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FE9-54C8-445D-8F20-CA3EEB9C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23F-DF29-4B66-9B21-3668B29D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FB1C-67A5-421C-94BB-69C130C9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EF63-9C15-4658-BFD9-846A2B56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5754-8057-4E20-BE2E-3E16BD42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6C12-347C-43F4-8E20-27F7156C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BB46-89A0-4407-B028-16E59270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9FE4-8B7B-4514-A0CA-8B61651C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DEEB-AE32-42D7-80FC-DC19683D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B26-AB81-4300-AA55-1FB17C25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700C-B793-46E7-A3BA-0CB9CDA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3997-7D07-463E-9C30-0DA0C2B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1397-80FE-4277-86A2-233A0B43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06DC-66B8-4353-B8BA-92EE2E73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255A-BDAB-4DFE-AFFC-8E3F680A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3EF-5A78-45C6-8518-5C1577C1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C86-B986-4551-BA22-863B0397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61C-62D9-4655-A35C-1BCD2FA1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DAE-5328-43D0-BC70-7CE43F7E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F62-0B09-4A17-B9F9-081CE075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BF3-DBCF-4DA7-A7D4-0DC011EB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469-ED67-4B53-B262-7B997B65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5696-20A1-4985-B983-090396516EB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2996-DC30-45A0-B088-609B21C59C6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8360" y="2421000"/>
            <a:ext cx="746136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ETAPA DE LA ADULTEZ TARDÍA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     </a:t>
            </a:r>
            <a:r>
              <a:rPr b="0" lang="es-ES_tradnl" sz="2400" spc="-1" strike="noStrike">
                <a:solidFill>
                  <a:srgbClr val="0000cc"/>
                </a:solidFill>
                <a:latin typeface="Impact"/>
              </a:rPr>
              <a:t>65 AÑOS HASTA LA MUERTE</a:t>
            </a:r>
            <a:r>
              <a:rPr b="0" lang="es-ES_tradnl" sz="3600" spc="-1" strike="noStrike">
                <a:solidFill>
                  <a:srgbClr val="0000cc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125360"/>
            <a:ext cx="80150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7d47d"/>
                </a:solidFill>
                <a:latin typeface="Impact"/>
              </a:rPr>
              <a:t>ASPECTOS PSICOLÓGICOS DE LAS ETAPAS DEL CICLO VITAL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4292640"/>
            <a:ext cx="4572000" cy="1618560"/>
          </a:xfrm>
          <a:prstGeom prst="rect">
            <a:avLst/>
          </a:prstGeom>
          <a:noFill/>
          <a:ln w="57240">
            <a:solidFill>
              <a:srgbClr val="0404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2f1311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Impact"/>
              </a:rPr>
              <a:t>Evaluación de la vida: obtuve logros o fracasos en mi vid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Impact"/>
              </a:rPr>
              <a:t>Jubilación: fin de la vida laboral y socialmente activ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1628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Funcionamiento Sensorial y Psicomotor : VIST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2276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uchos ancianos tiene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ficultad para percibir la profundidad o el colo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o realizar actividades como leer, coser, ir de compras o cocina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35114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ás de la mitad de las personas mayores de 65 años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esarrollan cataratas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(nubes o áreas opacas en el cristalino), lo cual origina visión borros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47466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os problemas de visión pueden causar accide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5372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on frecuencia, muchos problemas visuales moderados pueden corregirse con lentes, tratamiento médico o quirúrgic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Funcionamiento Sensorial y Psicomotor : GUSTO Y OLFA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227664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pérdida de estos dos sentidos puede ser consecuencia normal del envejecimiento, aunque también puede ser causada por una amplia variedad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nfermedades y medicamento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por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irugí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o por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xposición a sustancias nociv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n el entorn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4005360"/>
            <a:ext cx="777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uando los ancianos se quejan de que sus alimentos ya no saben bien, puede ser porque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iene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nos papilas gustativ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porque los receptores del sabor no funcionan de manera adecuad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bulbo olfativ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(órgano cerebral encargado del sentido del olfato) u otras estructuras cerebrales relacionadas está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añad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1557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Funcionamiento Sensorial y Psicomotor 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FUNCIONAMIENTO PSICOMOTO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23493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unque los ancianos pueden realizar con más lentitud la mayoría de las actividades que ejecutan las personas jóvenes, tienen menos fortaleza de la que tuvieron y está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imitados en actividades que requieren resistenci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o capacidad para transportar cargas pesad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40305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 los 70-80 años, algunas personas tienen sólo la mitad de la fortaleza que tenían a los 30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640" y="47973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os ancianos son particularmente susceptibles a las caídas debido a qu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sminuye la sensibilidad de las células receptoras que llevan información al cerebro sobre la posición del cuerpo en el espaci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información necesaria para mantener el equilibrio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4. Funcionamiento Sexu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2349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general, un hombre saludable sexualmente activo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uede continuar alguna forma de expresión sexual activ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a los 70-80 añ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3726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s mujeres está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otadas fisiológicamente para mantener actividad sexu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mientras viva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797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la edad adulta tardía,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ctividad sexual es diferente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lo que fue en épocas anterior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4. Funcionamiento Sexu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1989000"/>
            <a:ext cx="777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Normalmente los hombre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ardan más en lograr la erección y eyacula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ueden necesitar más estimulación manual 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ben experimentar mayores intervalos entre las ereccion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sfunción eréctil puede incrementarse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. La respiración entrecortada y otros signos de excitación sexual son menos intensos que a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5157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las mujeres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agina es menos flexible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y puede necesitar lubricación artifici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1557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muchos países industrializados los ancianos tienen un estándar de vida más elevado y más conocimiento sobre sus cuerpos que a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781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mejoramiento de las condiciones de salud y el uso extendido de antibióticos han contribuido a mejorar la salud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3933720"/>
            <a:ext cx="77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in embargo,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junto con estos cambios positivos han sobrevenido otros negativos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ás agentes cancerígenos en los alimentos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ugares de trabajo y aire contaminad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itmo de vida más acelerado que contribuye a la hipertensión     enfermedades cardiovascular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ado de Salud y Asistencia Méd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2492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general, la mayoría de los ancianos tiene buena salud, aunque no tan buena en promedio como los adultos más jóvenes y de mediana 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393372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 medida que las personas envejecen tienden a experimentar más problemas de salud persistentes y potencialmente incapacitador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ado de Salud y Asistencia Méd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249228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ayoría de las personas ancianas tiene una o más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olencias físicas crónic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artritis, hipertensión, cataratas, enfermedades cardíacas, diabetes, asma, cáncer y deficiencias visuales, auditivas y ortopédic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4221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a artriti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s el grupo de trastornos frecuentes que afectan las articulaciones (inflamación), causando dolor y pérdida de movimiento. Es el problema de salud crónico más común entre los ancian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Influencias en la Salu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2276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actividad física, la nutrición y otros factores de estilo de vida influyen en la salud y la enferm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3213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jercicio regula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prolonga la vida y puede ayudar a reducir pérdidas relacionadas con el envejecimien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4149720"/>
            <a:ext cx="77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relación a la nutrición, muchas personas ancianas no comen tan bien como deben, ya sea por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isminución de la capacidad gustativa u olfativ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roblemas dent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ificultad para comprar y preparar los aliment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ingresos inadecuad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presion o episodios depresivos, etc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roblemas Mentales y de Comportamien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2276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mencia es el término general aplicado al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eterioro cognitivo y de comportamient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origen fisiológico, suficiente para afectar la vida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77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erca de dos terceras partes de los casos de demencia pueden originarse en la enfermedad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lzheime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trastorno cerebral degenerativo, progresivo, caracterizado por deterioro irreversible de la memoria, la inteligencia, la conciencia y el control de las funciones corporales, que eventualmente conducen a la muert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220500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Verdana"/>
              </a:rPr>
              <a:t>DESARROLLO FÍSICO, COGNITIVO Y PSICOSOCIAL</a:t>
            </a:r>
            <a:r>
              <a:rPr b="1" lang="es-ES" sz="2400" spc="-1" strike="noStrike">
                <a:solidFill>
                  <a:srgbClr val="2f1311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d47d"/>
                </a:solidFill>
                <a:latin typeface="Verdana"/>
              </a:rPr>
              <a:t>ADULTEZ TARDÍ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Verdana"/>
              </a:rPr>
              <a:t>(DE 65 AÑOS EN ADELA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457956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7d47d"/>
                </a:solidFill>
                <a:latin typeface="Verdana"/>
              </a:rPr>
              <a:t>TERCERA EDAD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roblemas Mentales y de Comportamien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227664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enfermedad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arkinson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el segundo trastorno más común, que incluye degeneración neurológica progresiva, se caracteriza por temblores, rigidez, movimientos lentos y posición inestabl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386064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as dos enfermedades junto con la demencia multiinfarto, causada por una serie de pequeñas parálisis, son la causa de por lo menos 8 de cada 10 casos de demencia, todos irreversibl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98100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Inteligenc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a inteligencia cristalizada se mantiene en el adulto mayor, la habilidad para  considerar distintas facetas de la información acumulada mejora con los años, hasta pueden decir de 5 formas distintas lo mism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71640" y="2997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edir la inteligencia de los ancianos es complicado. Varios factores físicos y psicológicos pueden influir en el puntaje de sus pruebas y conducir a subestimar su inteligenci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4149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os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roblemas neurofisiológico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la presión arterial elevada u otros problemas cardiovasculares, que pueden afectar el flujo de la sangre al cerebro,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ueden interferir el desempeño cognitiv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5445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demás los problemas audiovisuales pueden causar dificultad para comprender las instrucciones de una prueba psicológ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Inteligenc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71640" y="18446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ayoría de los ancianos tiene dificultades con los límites de tiempo de la mayor parte de las pruebas de inteligenci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2844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e cree que el principal contribuyente en cambios en las habilidades cognitivas y en la eficiencia de procesamiento de información sea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sminución general del funcionamiento del sistema nervioso centr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4437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on frecuencia, el deterioro cognitivo puede estar relacionado con el desuso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184464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 a corto plaz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se evalúa pidiendo a una persona que repita una secuencia de números, ya sea en el orden presentado o en el orden inverso. La habilidad de repetir las cifras en el mismo orden se mantiene bien en la edad avanzada, pero no la de repetir las cifras en orden invers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3933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emoria a largo plazo se divide en tres grandes componentes: episódica, semántica y procediment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71640" y="155736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¿Qué desayunó esta mañana?, ¿Cerró su auto cuando lo estacionó?. Tal información se almacena en la memoria episódica, el componente de la memoria a largo plazo que más se deteriora con la 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306072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 semánt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se parece a una enciclopedia mental que mantiene almacenado el conocimiento de los hechos históricos, localizaciones geográficas, costumbres sociales, significados de palabras, etc. La memoria semántica no muestra mucha declinación con la 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71640" y="4869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ecordar cómo andar en bicicleta es un ejemplo de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 procedimental o implícit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. Este componente incluye habilidades motrices, hábitos y maneras de hacer cosas que pueden recordarse sin esfuerzo consciente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71640" y="1773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rikson plantea que la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 sabidurí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s un aspecto del desarrollo de la edad adulta tard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71640" y="3032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Otros investigadores definen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como una extensión del pensamiento posformal, una síntesis de razón y emoc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4292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Otro enfoque, sustentado en la filosofía oriental, se centra en el dominio espiritu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177336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obert Sternberg, define la sabiduría como una forma especial de inteligencia práctica basada en el conocimiento tácito y está dirigida a lograr el bien común a través del equilibrio de intereses múltiples que con frecuencia entran en conflic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645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 diferencia de otras formas de inteligencia,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implica juicios de valor sobre los fines que son buenos y la mejor manera de conseguirl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71640" y="1773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rabajo, Jubilación y Tiempo Lib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242100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jubilació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no sólo altera los ingresos del hoga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sino que tambié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carrea cambios en la división del trabaj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ltera la calidad de la relación matrimonial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odifica la distribución de poder y la toma de decision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71640" y="4149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Quizá haya más tiempo para tener contacto con la familia extensa y los amigos o para cuidar a los nieto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71640" y="5013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urante los primeros años de jubilación, las personas pueden tener necesidad de apoyo emocional para sentirse valiosas y para enfrentar los cambios de sus vid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rabajo, Jubilación y Tiempo Lib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2205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¿Cómo emplean los jubilados su tiempo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2852640"/>
            <a:ext cx="77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CENTRADO EN LA FAMILIA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e es el tipo de patrón más común. Consiste en realizar actividades accesibles, de bajo costo, que giren en torno a la familia, el hogar y los compañeros: conversación, ver televisión, visitar a familiares y amigos, entretenimiento informal, juegos de carta o hacer “lo que salga juntos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rabajo, Jubilación y Tiempo Lib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71640" y="2205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¿Cómo emplean los jubilados su tiempo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2852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INVERSIÓN EQUILIBRAD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Es típico de personas mejor educadas que distribuyen su tiempo más equitativamente entre la familia, el trabajo y el tiempo libr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4149720"/>
            <a:ext cx="77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IEMPO LIBRE SERI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Este tercer patrón de estilo  está dominado por actividades que exigen habilidad, atención y compromiso. Con frecuencia, los pintores dominicales, los carpinteros aficionados y otros que han hecho esfuerzos para dominar un oficio o buscar una actividad continua hacen de esa pasión el eje central de sus vidas durante la jubilació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1413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ongevidad y Envejecimien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2349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“expectativa de vida”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s la </a:t>
            </a:r>
            <a:r>
              <a:rPr b="0" lang="es-MX" sz="2000" spc="-1" strike="noStrike">
                <a:solidFill>
                  <a:srgbClr val="2f1311"/>
                </a:solidFill>
                <a:latin typeface="Arial"/>
              </a:rPr>
              <a:t>edad estadísticamente probable de vid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una persona según época y lugar de nacimiento y dado su actual estado de salu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3789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“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ongevidad”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hace referencia a cuántos años vive en realidad una person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itios para Vivi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71640" y="227664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asi 4 de cada 5 ancianos que viven solos son viudos y casi la mitad no tienen hijos ni familiares que vivan cerca. La gran mayorí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alora su independencia y prefieren valerse por sí mism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71640" y="4149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uchos ancianos de avanzada edad viven con hijos adultos. El éxito de tal situación depende en gran medida de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lidad de la relación en el pasado y de la capacidad de ambas generaciones para comunicarse con total franqueza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1628640"/>
            <a:ext cx="79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itios para Vivi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asas de repos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esidencias de adultos mayor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Hoteles de adult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Hospitales de día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1640" y="407664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uchos ancianos no desean vivir en instituciones y la mayoría de los miembros de la familia no desean que esto ocurra. Con frecuencia, los ancianos sienten que ingresar en una institución es signo de rechazo e ingresan a regañadient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altrato de Ancian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2276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maltrato de ancianos puede clasificarse en las siguientes categoría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71640" y="3284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1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iolencia Fís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con ánimo de causar les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71640" y="4221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buso emocional o psicológic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que puede incluir insultos y amenazas (como la amenaza de abandono o de ingreso en una institución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altrato de Ancian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71640" y="2276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maltrato de ancianos puede clasificarse en las siguientes categoría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141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xplotación materi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o apropiación indebida de dinero o alguna propi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71640" y="4041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4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bandon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dejar de satisfacer con intención o sin ésta las necesidades de ancianos dependie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71640" y="494172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5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iolación de los derechos personale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como los derechos del anciano a la privacidad y a tomar sus propias decisiones personales y médic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14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endencias y Factores en la Expectativa de Vida y la Mortalida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213372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la actualidad, la mayoría de las personas pueden tener la esperanza de llegar a viejos, incluso a una vejez avanzada. En el mundo,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la expectativa de vida media se ha elevado</a:t>
            </a:r>
            <a:r>
              <a:rPr b="0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un      37% desde 1955, de 48 a 66 años, y se espera que llegue a      73 años para el 2025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4005360"/>
            <a:ext cx="777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Hoy en día la vida dura más debido 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reducción de la mortalidad durante la infanc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ocurrencia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nos muertes en la edad adulta tempran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     particularmente en los part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existencia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nuevos tratamientos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ara muchas enfermedades hasta hace poco incurable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un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oblación más consciente de la salud y mejor educad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14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endencias y Factores en la Expectativa de Vida y la Mortalida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2133720"/>
            <a:ext cx="777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ayor longevidad de las mujeres se ha atribuido a varios factore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la tendencia 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uidar de sí mism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y buscar asistencia méd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elevado nivel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poyo soci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que disfrutan las mujeres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nor vulnerabilidad biológ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que los varon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4005360"/>
            <a:ext cx="777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14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endencias y Factores en la Expectativa de Vida y la Mortalida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2133720"/>
            <a:ext cx="7777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s “diferencias de género” en “las expectativas de vida”  indican que las mujeres ancianas sobrepasan en número a los hombres ancianos en proporción de 3 a 2. A los 80 años, la razón de mujeres a hombres es casi 2 a 1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los tienen más probabilidad de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morir en la infanci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; los varones adolescentes y los hombres jóvenes tienen mayor probabilidad de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morir a causa de SIDA o de accidente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; los hombres de edad mediana o los ancianos tienen más probabilidad que las mujeres de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morir a causa de enfermedades cardiovasculares u otr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177336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1. Cambios Orgánicos y Sistém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249228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lgunos sistemas corporales se deterioran con más rapidez que otros. El sistema digestivo permanece relativamente eficiente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ntre los más severos cambios están los que afectan el coraz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076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estatura disminuye desde la edad adulta temprana hasta la vejez, en promedio poco más de una pulgada en los hombres y dos pulgadas en las mujer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1700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1. Cambios Orgánicos y Sistém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2492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s personas tienden a dormir menos y a soñar menos en los últimos años de su vid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3645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Otro cambio importante que puede afectar la salud  es     la reducción de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pacidad de reserva o reserva orgán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capacidad de los órganos y sistemas corporales para realizar entre 4 y 10 veces más esfuerzo que el normal bajo estré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1700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2. Envejecimiento del Cereb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spués de los 30 años, el cerebro pierde peso ligeramente, luego con más rapidez. A los 90 años, el cerebro puede haber perdido el 10% de su peso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3645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Junto con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érdida de material cerebr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puede venir una disminución gradual de las respuestas, que comienza en la edad adulta intermedi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4797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alteración del sistema nervioso central puede afectar no sólo la coordinación física, sino la cognic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9:14:13Z</dcterms:created>
  <dc:creator>Fac. de Medicina</dc:creator>
  <dc:description/>
  <dc:language>en-US</dc:language>
  <cp:lastModifiedBy>Fac. de Medicina</cp:lastModifiedBy>
  <dcterms:modified xsi:type="dcterms:W3CDTF">2008-10-29T17:08:02Z</dcterms:modified>
  <cp:revision>11</cp:revision>
  <dc:subject/>
  <dc:title>SESIÓN 13</dc:title>
</cp:coreProperties>
</file>