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0A46-D3B6-4A79-900D-A5A4C55FF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9E77-8789-4D52-B062-1AC934B5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C0BF-D23C-46BA-90BB-6A5C1AC57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D8E3-CA01-4DAC-B8A7-829B93F23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A7EA6E-A87F-4EC8-955A-B33168727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DDEE56-B4EB-42CE-8B97-A7576B3D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0D5E18-FD32-4841-873C-1BB4DE8A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30DB2-958E-45B8-BE3A-3EF84F326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ECA42C-C2BE-465B-B92B-7C8F6BB2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7A94DB-0E1E-403D-A623-ABDF712E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53E8EE-BCC5-4922-8D8A-7A053960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9DD0-1C0D-49A4-B3DD-CD6B0A0D0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261D3-05F3-434A-AE39-18482603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AB3E87-40A4-4E23-A084-65A8A210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7F3FBD-1C85-495F-A8DE-46C537C4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94D27F-3654-4F7A-94AA-0B3A52ECA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2E79A-B2CC-4311-A06E-3EC5CA2A1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83C9-E413-4BFB-BCCD-99C25E76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1906-5746-4DF7-978F-0CAAA3BB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D438-5E7B-4A90-BC9F-C6CA5381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D185-F6DD-40A3-BD15-61990B9C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A6CA-8A5C-4EFE-8F5E-E9B265F1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4D17-E81E-4286-B41B-B56DFD25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5D12-B079-4A3C-851C-61DB2042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fab"/>
              </a:gs>
              <a:gs pos="100000">
                <a:srgbClr val="66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9b5b8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eabae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EEBC-AFCB-47D0-B10F-FB25902E5E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fab"/>
              </a:gs>
              <a:gs pos="100000">
                <a:srgbClr val="66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9b5b8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eabae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E96A-1E56-4E3D-8471-3DC74295A8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edff"/>
                </a:solidFill>
                <a:latin typeface="Arial"/>
              </a:rPr>
              <a:t>ADULTEZ  MEDIA</a:t>
            </a: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centes: Flora Andrade 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fredo Lorca 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66000" y="69228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F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71640" y="1268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Funcionamiento Sensorial y Psicomo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71640" y="191628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e experimentan cambios en la audición, en especial en la disminución de la capacidad de sonidos con frecuencia más alta lo que se conoce como presbiacu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71640" y="3400560"/>
            <a:ext cx="74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1 de cada 4 personas experimentan una pérdida significativa de la audi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71640" y="4581360"/>
            <a:ext cx="748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n relación a la pérdida del olfato y el gusto, como las papilas gustativas pierden sensibilidad, las personas en la adultez intermedia pueden sentir algunos alimentos insípidos que en edades anteriores encontraban sabros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66000" y="69228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F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71640" y="1268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Funcionamiento Sensorial y Psicomo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1916280"/>
            <a:ext cx="741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os adultos empiezan a perder la sensibilidad al tacto después de los 45 años y al dolor después de los 50, sin embargo la función protectora contra el dolor se mantie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71640" y="3247920"/>
            <a:ext cx="748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sí mismo la fortaleza muscular y la coordinación motora disminuyen de manera gradual, después de alcanzar su máximo  a los 20 años de e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71640" y="4581360"/>
            <a:ext cx="74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mente y el cuerpo, sin embargo, se encargan de compensar los cambios que ocurr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66000" y="69228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F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71640" y="1268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Funcionamiento Sensorial y Psicomo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1916280"/>
            <a:ext cx="741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mayoría de la gente en edad adulta madura es realista para aceptar los cambios en la apariencia, el funcionamiento sensorial, motor y sistémico e incluso la capacidad sexual y reproductora, que en muchos casos se experimenta como un renac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71640" y="3706920"/>
            <a:ext cx="748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n esta etapa se da una perdida de la resistencia por una baja en la tasa del metabolismo basal, que es el empleo de energía para mantener las funciones vita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71640" y="4888080"/>
            <a:ext cx="748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e ven disminuidos de manera gradual,  “el tiempo de reacción” ante situaciones que implican dar respuestas rápidas tanto verbal como manualm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66000" y="69228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F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971640" y="1268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Funcionamiento Sensorial y Psicomo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71640" y="1697040"/>
            <a:ext cx="74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lgunos cambios estructurales y sistémicos pueden ser perceptibles durante la edad adulta madur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71640" y="2637000"/>
            <a:ext cx="7488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 piel se va poniendo menos tersa y unifor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cabello puede escasear y encanecer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s personas tienden a transpirar menos,  a ganar peso y perder estatur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 densidad de los huesos desminuye en la medida que se absorbe más calcio del que se es capaz de reemplaza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s articulaciones pueden ser menos flexibles a medida que los tendones y ligamentos se hacen menos eficien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66000" y="69228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F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71640" y="1268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exualidad y Funcionamiento Reproduc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71640" y="1947960"/>
            <a:ext cx="74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mbos sexos experimentan una disminución en la capacidad reproductora, es decir, en las mujeres la incapacidad de concebir y disminución en la fertilidad en los homb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71640" y="3824280"/>
            <a:ext cx="74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l placer sexual sin embargo  no cambia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66000" y="69228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F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1640" y="1268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enopausi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71640" y="1947960"/>
            <a:ext cx="74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n esta etapa las mujeres experimentan la cesación de la menstruación y la consecuencia de la incapacidad para concebir hijos, lo que típicamente se  presenta alrededor de los 50 años aproximadam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71640" y="3824280"/>
            <a:ext cx="748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lrededor de los 50 años, los ovarios comienzan a producir menos hormonas femeninas (estrógenos), la menstruación se torna irregular y presenta menos flujo que en edades anteri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66000" y="69228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F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71640" y="1268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enopausi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71640" y="1844640"/>
            <a:ext cx="74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visión que una mujer tenga de la menopausia va a depender 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71640" y="2852640"/>
            <a:ext cx="7488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Valor que esta le asigne a su ser joven y atracti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u actitud hacia los papeles femenin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us propias circunstancias que están determinadas por la significación que culturalmente se le 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66000" y="69228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F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71640" y="1268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enopausi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71640" y="1844640"/>
            <a:ext cx="741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mayoría de las mujeres no experimenta molestias o muy pocas durante el periodo perimenopáusico (periodo anterior a la menopausia), siendo los más comu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16000" y="2997360"/>
            <a:ext cx="7056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os  “accesos repentinos de calor” (sensación repentina de calor en todo el cuerpo debido a la expansión y contracción de los vasos sanguíne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olestias físicas que se pueden experimentar son dolor muscular, sequedad  y ardor vaginal, dolor de cabeza, insomnio, fatiga, aumento de peso y resfriado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sí mismo pueden acompañar este periodo alteraciones a nivel  psicológicos como la irritabilidad, nerviosismo, ansiedad, entre otr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66000" y="69228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F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71640" y="1268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enopausi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71640" y="2278080"/>
            <a:ext cx="741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l síndrome menopáusico está más asociado a características personales o experiencias anteriores que con la menopausia propiamente t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66000" y="69228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F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71640" y="1268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sfunción Eréct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71640" y="1844640"/>
            <a:ext cx="741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a disfunción eréctil es la incapacidad del hombre para lograr o mantener erecto el pene para el desempeño sexual satisfacto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16000" y="3359160"/>
            <a:ext cx="70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e estima que el 39% de los hombres a los 40 años contra un 67% a los 70 años, experimentan disfunción eréct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39640" y="2749680"/>
            <a:ext cx="7461360" cy="12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Impact"/>
              </a:rPr>
              <a:t>ETAPA DE LA ADULTEZ MEDI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Impact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Impact"/>
              </a:rPr>
              <a:t>	</a:t>
            </a:r>
            <a:r>
              <a:rPr b="0" lang="en-US" sz="3200" spc="-1" strike="noStrike">
                <a:solidFill>
                  <a:srgbClr val="0000cc"/>
                </a:solidFill>
                <a:latin typeface="Impact"/>
              </a:rPr>
              <a:t>	</a:t>
            </a:r>
            <a:r>
              <a:rPr b="0" lang="en-US" sz="3600" spc="-1" strike="noStrike">
                <a:solidFill>
                  <a:srgbClr val="0000cc"/>
                </a:solidFill>
                <a:latin typeface="Impact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Impact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Impact"/>
              </a:rPr>
              <a:t>40 A 60 AÑOS</a:t>
            </a:r>
            <a:r>
              <a:rPr b="0" lang="en-US" sz="3600" spc="-1" strike="noStrike">
                <a:solidFill>
                  <a:srgbClr val="0000cc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620640"/>
            <a:ext cx="7886520" cy="21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b3edff"/>
                </a:solidFill>
                <a:latin typeface="Impact"/>
              </a:rPr>
              <a:t>ASPECTOS PSICOLÓGICOS DE LAS ETAPAS DEL CICLO VIT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19280" y="4653000"/>
            <a:ext cx="5761080" cy="1356120"/>
          </a:xfrm>
          <a:prstGeom prst="rect">
            <a:avLst/>
          </a:prstGeom>
          <a:noFill/>
          <a:ln w="57240">
            <a:solidFill>
              <a:srgbClr val="0404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Impact"/>
              </a:rPr>
              <a:t>Cambios físicos importantes (menopausia, disminución de la potencia sexu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Impact"/>
              </a:rPr>
              <a:t>Trabajo (satisfacción y desgas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66000" y="69228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F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71640" y="1268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sfunción Eréct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71640" y="1844640"/>
            <a:ext cx="74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No sólo el aumento de edad tiene relación con esta situación sino que también puede estar asociada a factores mórbidos como la diabetes, la hipertensión arterial, las fallas renales, las enfermedades crónicas, entre otr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71640" y="3645000"/>
            <a:ext cx="7345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n la actualidad los logros en la medicina y la apertura social a estos temas han permitido que las personas tengan más conciencia de que la actividad sexual puede llegar en esta etapa de la vida a ser parte importante de sus vi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66000" y="54936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F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8360" y="1125360"/>
            <a:ext cx="849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ocupación por la salud: “Estilo de vida y la  influencia del Estré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5640" y="21337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Muchos adultos maduros se preocupan por las señales de disminución en su capacidad física en cuanto a pote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55640" y="306864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Ya no se tiene tanta resistencia como antes y es muy probable que se contraigan algunas enfermedades y que su recuperación sea más tardí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5640" y="414972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Existen algunos factores que influyen de manera indirecta en el estado general de salud como  son:  la pobreza, las influencias en cuanto a género y los factores étnic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55640" y="515772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Las conductas de poca responsabilidad para con  la salud como el consumo de cigarros, alcohol, drogas y mantener un estilo de vida sedentario con poca actividad física hacen que la incidencia de enfermedades en la adultez sea may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66000" y="54936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F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8360" y="1125360"/>
            <a:ext cx="84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ocupación por la salud: Estilo de vida y la  influencia del Estr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5640" y="177336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Cuanto más estresantes sean los cambios en la vida de la persona, mayor es la probabilidad de enfermarse dentro de los años siguien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5640" y="30402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En la actualidad el estrés se encuentra en observación creciente por su posible incidencia en las enfermedades como la hipertensión y enfermedades cardiovasculares, ulceras y el cánc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55640" y="458136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Los síntomas físicos más comunes son el dolor de cabeza, de estómago y la tensión muscular junto con la fatiga. Los síntomas psicológicos asociados son el nerviosismo, la ansiedad, la tensión, la ira, la irritabilidad y la depre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66000" y="54936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F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68360" y="1125360"/>
            <a:ext cx="84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ocupación por la salud: Estilo de vida y la  influencia del Estr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55640" y="1773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Las reacciones psicológicas ante el estrés puede aumentar la incidencia de enfermedad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5640" y="276552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Las personas que enfrentan las situaciones estresantes inadecuadamente tienen más probabilidades de adquirir enfermedades, ya que el mantenerse experimentando situaciones sostenidas de estrés puede debilitar el sistema inmunológic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55640" y="458136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El estrés está directamente relacionado con: el tipo de trabajo que se realiza, el bienestar asociado a este en relación a los ingresos económicos que implica, el agotamiento que provoca y la eventual posibilidad de perderl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189080" y="2205000"/>
            <a:ext cx="719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DESARROLLO COGNI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EN LA ADULTEZ INTERMED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65640" y="54936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SARROLLO COGNI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55640" y="177336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s personas en esta etapa de la vida se encuentran en su máximo rendimiento intelectu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302436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n apariencia el desarrollo cognitivo no es uniforme en la edad adulta madura, ya que implica pérdidas y ganancias en diferentes habilidades y en diferentes époc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55640" y="458136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n la mitad del camino de la edad adulta intermedia se produce el desempeño máximo en 4 habilidades intelectual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65640" y="54936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SARROLLO COGNI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5640" y="177336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as cuatro habilidades s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47640" y="2349360"/>
            <a:ext cx="684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Razonamiento inducti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Relaciones espaci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Vocabula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Memoria verb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665640" y="54936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SARROLLO COGNI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55640" y="1197000"/>
            <a:ext cx="7632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INTELIGENCIA FLU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s la facultad de aplicar la capacidad mental a problemas nuevos que requieren poco o ningún conocimiento previo e implica la relación entre percepciones, formación de conceptos e infer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lcanza su máximo desempeño en esta etapa e incluso tiende a declinar con la e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55640" y="4100400"/>
            <a:ext cx="7632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INTELIGENCIA CRISTALIZA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s la capacidad para recordar y emplear información adquirida durante toda la vida y que son habilidades que dependen de la educación y la experiencia cultur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sta se mantiene e incluso mejoran con la e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65640" y="54936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SARROLLO COGNI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55640" y="119700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racterísticas distintivas de la Cognición Adul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5640" y="213372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Una forma de inteligencia cristalizada es la capacidad de   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esarrollar el conocimiento especializ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5640" y="3573360"/>
            <a:ext cx="7632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os progresos en la experiencia continúan por lo menos hasta la edad adulta intermedia y son relativamente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independientes de las capacidades generales de la inteligencia y de algún desgates en la capacidad de la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memo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65640" y="54936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SARROLLO COGNI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55640" y="119700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racterísticas distintivas de la Cognición Adul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5640" y="1773360"/>
            <a:ext cx="7632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>
              <a:lnSpc>
                <a:spcPct val="100000"/>
              </a:lnSpc>
              <a:tabLst>
                <a:tab algn="l" pos="0"/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A EXPERI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l procesamiento de la información y las habilidades fluidas se encapsulan o se dedican a tipos específicos de conocimiento, lo que permite acceder, aumentar y emplear dicho conocimiento con más faci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55640" y="4005360"/>
            <a:ext cx="763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tabLst>
                <a:tab algn="l" pos="0"/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l pensamiento experto se hace en esta etapa más intuitivo y automático. Este tipo de pensamiento intuitivo basado en la experiencia es característico de lo que se ha llamado pensamiento posform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55640" y="573408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tabLst>
                <a:tab algn="l" pos="0"/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ste tipo de pensamiento se caracteriza por ser subjetivo y relativi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89080" y="1052640"/>
            <a:ext cx="7199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DESARROLLO FISICO, COGNITIVO Y PSICOSOCI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EN LA ADULTEZ INTERMED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(De los 40 a los 65 añ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457956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200" spc="-1" strike="noStrike">
              <a:solidFill>
                <a:srgbClr val="b3ed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65640" y="54936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SARROLLO COGNI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55640" y="119700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racterísticas distintivas de la Cognición Adul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55640" y="177336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Una característica importante del pensamiento posformal es su naturaleza  integrado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55640" y="387972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tabLst>
                <a:tab algn="l" pos="0"/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capacidad creativa, que implica utilizar la perspicacia de tres maneras, esto 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55640" y="4724280"/>
            <a:ext cx="763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ecoger información pertinente al proble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Ver relaciones entre partes en apariencia aislad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Ver analogías entre uno nuevo y otro ya solucionad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55640" y="256536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os adultos en esta etapa integran la lógica con la intuición y la emoción así como también integran hechos e ideas contradicto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65640" y="54936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SARROLLO COGNI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5640" y="119700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TRABAJO Y EDUC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5640" y="1773360"/>
            <a:ext cx="76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n las distintas sociedades industrializadas, la estructura vital tradicional está diferenciada por edad, por lo tanto los papeles se basan en la e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55640" y="3247920"/>
            <a:ext cx="76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n la juventud se es estudiante, en la adultez se es trabajador y los adultos mayores organizan su vida alrededor de la jubilación y el tiempo lib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55640" y="4724280"/>
            <a:ext cx="777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n una sociedad integrada por la edad, los papeles principales, el aprendizaje, trabajo y juego están abiertos a los adultos de todas las edades y pueden ampliarse  a toda la v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665640" y="549360"/>
            <a:ext cx="44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SARROLLO COGNI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55640" y="119700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TRABAJO Y EDUC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55640" y="1989000"/>
            <a:ext cx="7920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iertos tipos de trabajo incrementan las habilidades cognitivas, por ejemplo un arquitecto va a desarrollar la capacidad de visualizar relaciones espaciales mucho más que alguien que se desarrolle en otro campo labor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5640" y="4076640"/>
            <a:ext cx="792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as personas que tienen un trabajo sustantivamente complejo, que exija criterio y pensamiento independiente, tienden a ser cognitivamente más flexi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5640" y="5300640"/>
            <a:ext cx="807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SARROLLO COGNITIVO</a:t>
            </a:r>
            <a:br>
              <a:rPr sz="2400"/>
            </a:br>
            <a:endParaRPr b="0" lang="en-US" sz="2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TRABAJO Y EDUC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 esta manera el acumular experiencia y el conocimiento que se deriva de él, a medida que las personas comprometidas con su trabajo envejecen tienden a mostrar un mayor desempeño cognitivo en relación a sus pa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Utilizar la creatividad y las elecciones morales revelan que el cerebro continúa en desarrollo durante la edad adulta, vinculando también el aspecto cognitivo del desarrollo y sus aspectos tanto sociales como  emocion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11280" y="22050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DESARROLLO PSICOSOCI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EN LA ADULTEZ INTERME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67800" y="549360"/>
            <a:ext cx="48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5640" y="119700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ambios en la Edad Adulta Intermed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55640" y="200664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os cambios y los aspectos continuos en esta etapa deben ser vistos desde la perspectiva de todo el ciclo vit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55640" y="3247920"/>
            <a:ext cx="76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os papeles personales y laborales son interdependientes, y están afectados por lo que determina la sociedad en su conjunto y las oportunidades que esta nos brin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755640" y="119700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arl  Jung  y  Eric Erik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55640" y="1844640"/>
            <a:ext cx="76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Jung, como primer teórico importante que habla sobre el desarrollo adulto, determinó que el desarrollo saludable en la edad adulta intermedia explica la individualiz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55640" y="324792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e da el surgimiento del verdadero Yo gracias al equilibrio y la integración de las partes de la personalidad en conflic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55640" y="4221000"/>
            <a:ext cx="763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asta los 40 años los adultos se concentran en sus obligaciones como la familia y la sociedad, por lo tanto desarrollan aquellos aspectos de su personalidad que le sirven para alcanzar dichos objetiv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67800" y="549360"/>
            <a:ext cx="48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755640" y="119700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arl  Jung  y  Eric Eriks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55640" y="1844640"/>
            <a:ext cx="76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n esta etapa de la vida se experimentan dos tareas difíciles como los son renunciar a la imagen juvenil y reconocer que somos seres mor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55640" y="324792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sto implica la búsqueda de sentido dentro del YO, como un viraje hacia el interi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7800" y="549360"/>
            <a:ext cx="48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755640" y="119700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Generatividad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frente al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 Estanc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55640" y="184464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rikson por su parte, fue el teórico que se refirió a la edad adulta intermedia como una época de “viraje al interior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55640" y="324792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De los 40 años en adelante es la época en que las personas van hacia la 7° crisis normati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67800" y="549360"/>
            <a:ext cx="48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755640" y="119700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Generatividad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frente al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 Estanc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55640" y="1844640"/>
            <a:ext cx="7632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>
              <a:lnSpc>
                <a:spcPct val="100000"/>
              </a:lnSpc>
              <a:tabLst>
                <a:tab algn="l" pos="0"/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GENERATIVIDA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eocupación de los adultos por encaminar y guiar a la generación que le sigue y de esa manera perpetuarse, sintiendo la necesidad de dejar un legado para seguir participando en la vi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i no se encuentra una salida para la generatividad las personas se tornan ensimismadas o se estancan en la inactiv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67800" y="549360"/>
            <a:ext cx="48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55640" y="5084640"/>
            <a:ext cx="76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La virtud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de este periodo es el cuidado, es decir, el compromiso cada vez más de las personas, productos e ideas que se han aprendido a cuid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71040" y="692280"/>
            <a:ext cx="47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ONSTRUCCION CULTURAL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1640" y="1844640"/>
            <a:ext cx="73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l concepto de edad adulta intermedia es relativamente nue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292428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a edad adulta intermedia se describe como una etapa que se ha construido socialmente y que se le ha dado un significado a nivel cultur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71640" y="436572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tapa comprendida entre los 40 y los 65 años de e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755640" y="119700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l YO  en la edad adulta intermed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55640" y="1844640"/>
            <a:ext cx="76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risis de la edad adulta intermedia o más conocida como la crisis de los 40 años, período en el que se revisa y reevalúa la vida en cada perso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7800" y="549360"/>
            <a:ext cx="48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55640" y="330984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os cambios que se viven en la personalidad y el estilo de vida en la edad adulta madura se atribuyen a esta cr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55640" y="4470480"/>
            <a:ext cx="763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onceptualizada como crisis de identidad o lo que se llamó “segunda adolescencia”. La que trae una conciencia de la condición de mortal en el ser humano. Se reevalúa lo que no se alcanzó a realizar y que si se quiere logar se debe actuar con rapidez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755640" y="119700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l YO  en la edad adulta intermed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7800" y="549360"/>
            <a:ext cx="48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55640" y="198900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n apariencia esta etapa se vive sólo como  una transición en la vida que implica una visión introspectiva y de replante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5640" y="3095640"/>
            <a:ext cx="76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sta revisión puede ser un punto de cambio psicológico, un tiempo de revisión y de reestructuración del Yo y efectuar correctivos en el diseño y la trayectoria de la vi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5640" y="4508640"/>
            <a:ext cx="763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Que esta etapa de transición se convierta en crisis va  a depender más de las circunstancias individuales, los recursos personales y de la capacidad de adaptación a los distintos episodios que se viven en esta etap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755640" y="119700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l YO  en la edad adulta intermed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67800" y="549360"/>
            <a:ext cx="48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5640" y="1989000"/>
            <a:ext cx="763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a formación de la identidad en la edad adulta puede dar paso a la construcción de varios “YO posibles”, que impliquen una evaluación personal y hacia los demá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55640" y="3330720"/>
            <a:ext cx="76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stos YO o identidades tienen mucho que ver con los roles o papeles sociales y compromisos que se deben cumpli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55640" y="467208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a generatividad puede verse como un aspecto de la formación de la ident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755640" y="119700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ambios en las relaciones durante la edad adulta intermed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800" y="549360"/>
            <a:ext cx="48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55640" y="1844640"/>
            <a:ext cx="763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ara la mayoría de las personas de edad adulta madura las relaciones con los demás se hacen más importantes que en épocas anteriores de la v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55640" y="321300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xisten algunas teorías del contacto social que dan explicación a est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55640" y="4365720"/>
            <a:ext cx="763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LA TEORÍA DE LA CARAVANA SOCIAL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, plantea que las personas avanzan en la vida rodeadas por caravanas sociales, es decir,  rodeados de círculos de amigos y miembros de la familia en los cuales buscar apoy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755640" y="119700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ambios en las relaciones durante la edad adulta intermed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67800" y="549360"/>
            <a:ext cx="48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55640" y="242100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</a:rPr>
              <a:t>LA TEORÍA DE LA SELECTIVIDAD SOCIAL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, plantea tres objetivos principales en la interacción soci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55640" y="4005360"/>
            <a:ext cx="7561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20824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er fuente de inform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20824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20824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yuda a que las personas tengan sentido de si mism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20824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208240" indent="-34308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Fuente de placer y bienestar so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755640" y="119700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as relaciones en la edad adulta intermedia también puede presentar exigencias que pueden ser estresantes y restrictiv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67800" y="549360"/>
            <a:ext cx="48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00000" y="2637000"/>
            <a:ext cx="74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20824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MÁS” no necesariamente significa “MEJOR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00000" y="3500280"/>
            <a:ext cx="748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20824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o que si cuenta es la calidad de la relación más que la cantidad de amigos que se teng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00000" y="4653000"/>
            <a:ext cx="748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20824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Uniones como el matrimonio en la edad adulta intermedia han experimentado muchos camb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755640" y="1197000"/>
            <a:ext cx="7632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a calidad de las amistades en la edad adulta intermedia compensa la cantidad de tiempo dedicado a estas. Por lo general los adultos recurren a sus amistades buscando apoyo emocional, guía, alivio, buena compañía y conversación, en especial cuando se presentan crisis como el divorcio o la ida de los hijos del hog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67800" y="549360"/>
            <a:ext cx="48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55640" y="3860640"/>
            <a:ext cx="748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20824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a relación con los hijos en esta etapa, resulta un proceso de maduración continua que generalmente alcanza su punto máximo en la edad adulta madu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55640" y="5157720"/>
            <a:ext cx="748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20824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n esta edad se deben enfrentar diversos conflictos con los hijos que pronto dejarán el ni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755640" y="1197000"/>
            <a:ext cx="76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os padres con hijos adolescentes deben enfrentar la rebeldía y el rechazo a las reglas que  estos imponen estableciendo una relación de aceptación y maduración mutu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7800" y="549360"/>
            <a:ext cx="48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55640" y="3068640"/>
            <a:ext cx="748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20824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uando los hijos en edad más madura deciden dejar el hogar como una forma de crecimiento, es una señal de transición hacia una nueva etapa: la relación entre padre e hijo adul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55640" y="4941720"/>
            <a:ext cx="748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20824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Mientras dure el vinculo padre-hijo los hijos pueden volver al hogar por circunstancias divers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755640" y="1197000"/>
            <a:ext cx="763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Aún después que se termina la etapa de crianza activa, los padres de jóvenes adultos descubren nuevos aspectos y se reclaman nuevas actitudes y comportamientos de ambas gener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67800" y="549360"/>
            <a:ext cx="48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55640" y="2870280"/>
            <a:ext cx="748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20824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Tanto padres como hijos en esta etapa generalmente disfrutan de la compañía del otro y se llevan bi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55640" y="3933720"/>
            <a:ext cx="748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20824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n la edad adulta intermedia, los primeros vínculos de parentesco  pueden reafirmarse de manera distinta a medida que la responsabilidad de cuidar y apoyar a los padres ancianos empieza a cambiar a los hijos de esta edad, se comienza una nueva relación y nuevo papel: la calidad de abuel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755640" y="155736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71468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l vínculo entre hijos en edad adulta intermedia y sus padres ancianos es fuer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67800" y="549360"/>
            <a:ext cx="48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55640" y="2870280"/>
            <a:ext cx="748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208240" indent="-343080" algn="just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a mayoría de las personas en edad adulta intermedia con padres ancianos mantienen relaciones estrechas basadas en el contacto frecuente y de ayuda mutua, son concientes de las obligaciones con sus padres y con frecuencia esperan más de los padres que éstos de ell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71040" y="692280"/>
            <a:ext cx="47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ONSTRUCCION CULTURAL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71640" y="1844640"/>
            <a:ext cx="734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l significado de la edad adulta intermedia varía con la salud, el género, los factores étnicos, la condición socioeconóm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71640" y="3429000"/>
            <a:ext cx="777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tapa que invita a mirar hacia atrás y hacia delante, hacia los años vividos y los que quedan por vivir, de replantear metas y aspiraciones, de evaluar y aprovechar mejor el resto de la vida que está por delant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89080" y="2205000"/>
            <a:ext cx="719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DESARROLLO FÍSIC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EN LA ADULTEZ INTERMED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66000" y="69228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F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71640" y="1268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Funcionamiento Sensorial y Psicomo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71640" y="191628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Cambios biológicos gradu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261936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os cambios físicos son apenas perceptibles hasta que aparecen falencias en la visión, en la capacidad sexual y reproductora entre otr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3933720"/>
            <a:ext cx="777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os cambios que se presentan en la capacidad psicomotora y sensorial son bastante pequeños, pero que en alguna medida afectan de alguna manera el auto concepto y su interacción con los demá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66000" y="69228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F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71640" y="1268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Funcionamiento Sensorial y Psicomo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191628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 presbicia o hipermetropía, que es la visión lejana esta asociada al envejecimiento y se origina cuando el lente del ojo pierde elastic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71640" y="329256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iopía o visión corta  también asociada al envejecimiento, aumenta durante la edad madu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71640" y="436572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n esta edad las personas experimentan también pérdida de agudeza visual debido a los cambios que experimenta la pupi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66000" y="69228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ESARROLLO FIS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71640" y="1268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Funcionamiento Sensorial y Psicomo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71640" y="191628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os problemas visuales con relación a la edad pueden ocurrir en 5 áre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71640" y="2857680"/>
            <a:ext cx="777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4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Visión cerca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4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Visión dinám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4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Sensibilidad a la lu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4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Búsqueda visual 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4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Velocidad de procesamiento en la agudeza vis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2:55:01Z</dcterms:created>
  <dc:creator>WinuE</dc:creator>
  <dc:description/>
  <dc:language>en-US</dc:language>
  <cp:lastModifiedBy>Fac. de Medicina</cp:lastModifiedBy>
  <dcterms:modified xsi:type="dcterms:W3CDTF">2008-10-22T17:32:24Z</dcterms:modified>
  <cp:revision>11</cp:revision>
  <dc:subject/>
  <dc:title>Diapositiva 1</dc:title>
</cp:coreProperties>
</file>