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7EC-AA57-431E-8365-C20A7E99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A72E-9AE8-45DD-B17A-F99E0AEC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E05-9639-4B62-8BBC-C47A0659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5076-4A7E-401E-85B2-563102E0C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7CC8D-18CA-422E-9081-C9F5032AB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E0B19-896B-4B1A-AB14-8FA655B1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3A432-E5CD-4147-8670-8BEB110F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76910-4D51-4212-94B1-75C5775B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460C1-309F-4EA6-AAB3-417E2C2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A0A8B-1F7B-47AE-BE41-36C6AD620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B838C-FB26-4712-8A9A-48362BFD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5F39-6D2D-4497-98A9-399011C2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6FA86-3361-486E-B67E-EA71A19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E1A6D-CEA9-4320-9AFA-AA1009D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0EF85-B99B-4877-9B02-9BFA3D4E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B0F63-3A21-4DF2-BCC6-038DB6E1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EA4CD0-BA73-405A-8B63-24EB3689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DC4-B422-4B36-9B67-7EADC612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4845-C20C-4F4A-BA06-4C9A62DC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7374-40AE-4ACA-866A-4CB4D718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3316-D6FE-41DA-BA31-219A03F8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6AE-6A83-411F-9A72-7C58C584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0C28-E4F0-4B76-8747-ED2196AC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0799-1419-4B36-ABFE-FFCD3430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4E1-D1AB-4B6A-AD86-CFE872942D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0C89-9BC9-42C0-AEE4-C82739CD8A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ADULTEZ  MEDIA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entes: Flora Andrade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redo Lorca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916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experimentan cambios en la audición, en especial en la disminución de la capacidad de sonidos con frecuencia más alta lo que se conoce como presbiacu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4005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 de cada 4 personas experimentan una pérdida significativa de la aud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58136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relación a la pérdida del olfato y el gusto, como las papilas gustativas pierden sensibilidad, las personas en la adultez intermedia pueden sentir algunos alimentos insípidos que en edades anteriores encontraban sabro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adultos empiezan a perder la sensibilidad al tacto después de los 45 años y al dolor después de los 50, sin embargo la función protectora contra el dolor se manti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324792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í mismo la fortaleza muscular y la coordinación motora disminuyen de manera gradual, después de alcanzar su máximo  a los 20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581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ente y el cuerpo, sin embargo, se encargan de compensar los cambios que ocur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916280"/>
            <a:ext cx="74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de la gente en edad adulta madura es realista para aceptar los cambios en la apariencia, el funcionamiento sensorial, motor y sistémico e incluso la capacidad sexual y reproductora, que en muchos casos se experimenta como un renac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70692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sta etapa se da una perdida de la resistencia por una baja en la tasa del metabolismo basal, que es el empleo de energía para mantener las funciones v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48880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ven disminuidos de manera gradual,  “el tiempo de reacción” ante situaciones que implican dar respuestas rápidas tanto verbal como manual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6970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gunos cambios estructurales y sistémicos pueden ser perceptibles durante la edad adulta madu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2637000"/>
            <a:ext cx="74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piel se va poniendo menos tersa y unifor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abello puede escasear y encanecer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personas tienden a transpirar menos,  a ganar peso y perder estatu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densidad de los huesos desminuye en la medida que se absorbe más calcio del que se es capaz de reemplaz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articulaciones pueden ser menos flexibles a medida que los tendones y ligamentos se hacen menos efic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xualidad y Funcionamiento Reprod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47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bos sexos experimentan una disminución en la capacidad reproductora, es decir, en las mujeres la incapacidad de concebir y disminución en la fertilidad en los homb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82428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placer sexual sin embargo  no cambi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1947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tapa las mujeres experimentan la cesación de la menstruación y la consecuencia de la incapacidad para concebir hijos, lo que típicamente se  presenta alrededor de los 50 años aproxim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82428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rededor de los 50 años, los ovarios comienzan a producir menos hormonas femeninas (estrógenos), la menstruación se torna irregular y presenta menos flujo que en edade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8446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visión que una mujer tenga de la menopausia va a depender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852640"/>
            <a:ext cx="74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 que esta le asigne a su ser joven y atra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actitud hacia los papeles femen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s propias circunstancias que están determinadas por la significación que culturalmente se le 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844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de las mujeres no experimenta molestias o muy pocas durante el periodo perimenopáusico (periodo anterior a la menopausia), siendo los más comu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299736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 “accesos repentinos de calor” (sensación repentina de calor en todo el cuerpo debido a la expansión y contracción de los vasos sanguíne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físicas que se pueden experimentar son dolor muscular, sequedad  y ardor vaginal, dolor de cabeza, insomnio, fatiga, aumento de peso y resfri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í mismo pueden acompañar este periodo alteraciones a nivel  psicológicos como la irritabilidad, nerviosismo, ansiedad, entre ot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2780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síndrome menopáusico está más asociado a características personales o experiencias anteriores que con la menopausia propiamente 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44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disfunción eréctil es la incapacidad del hombre para lograr o mantener erecto el pene para el desempeño sexual satisfa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335916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estima que el 39% de los hombres a los 40 años contra un 67% a los 70 años, experimentan 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2749680"/>
            <a:ext cx="746136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ETAPA DE LA ADULTEZ MED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40 A 60 AÑOS</a:t>
            </a:r>
            <a:r>
              <a:rPr b="0" lang="en-US" sz="36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20640"/>
            <a:ext cx="78865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b3edff"/>
                </a:solidFill>
                <a:latin typeface="Impact"/>
              </a:rPr>
              <a:t>ASPECTOS PSICOLÓGICOS DE LAS ETAPAS DEL CICLO VI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4653000"/>
            <a:ext cx="5761080" cy="1356120"/>
          </a:xfrm>
          <a:prstGeom prst="rect">
            <a:avLst/>
          </a:prstGeom>
          <a:noFill/>
          <a:ln w="57240">
            <a:solidFill>
              <a:srgbClr val="0404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Cambios físicos importantes (menopausia, disminución de la potencia sexu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Trabajo (satisfacción y desga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184464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ólo el aumento de edad tiene relación con esta situación sino que también puede estar asociada a factores mórbidos como la diabetes, la hipertensión arterial, las fallas renales, las enfermedades crónicas, entre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364500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la actualidad los logros en la medicina y la apertura social a estos temas han permitido que las personas tengan más conciencia de que la actividad sexual puede llegar en esta etapa de la vida a ser parte importante de sus v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“Estilo de vida y la  influencia del Estré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1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uchos adultos maduros se preocupan por las señales de disminución en su capacidad física en cuanto a pot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06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Ya no se tiene tanta resistencia como antes y es muy probable que se contraigan algunas enfermedades y que su recuperación sea más tard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149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isten algunos factores que influyen de manera indirecta en el estado general de salud como  son:  la pobreza, las influencias en cuanto a género y los factores étn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5157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conductas de poca responsabilidad para con  la salud como el consumo de cigarros, alcohol, drogas y mantener un estilo de vida sedentario con poca actividad física hacen que la incidencia de enfermedades en la adultez sea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125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Estilo de vida y la  influencia del Est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773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uanto más estresantes sean los cambios en la vida de la persona, mayor es la probabilidad de enfermarse dentro de los años sigu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0402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n la actualidad el estrés se encuentra en observación creciente por su posible incidencia en las enfermedades como la hipertensión y enfermedades cardiovasculares, ulceras y el cá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58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s síntomas físicos más comunes son el dolor de cabeza, de estómago y la tensión muscular junto con la fatiga. Los síntomas psicológicos asociados son el nerviosismo, la ansiedad, la tensión, la ira, la irritabilidad y la de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125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Estilo de vida y la  influencia del Est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reacciones psicológicas ante el estrés puede aumentar la incidencia de enferme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76552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personas que enfrentan las situaciones estresantes inadecuadamente tienen más probabilidades de adquirir enfermedades, ya que el mantenerse experimentando situaciones sostenidas de estrés puede debilitar el sistema inmuno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458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l estrés está directamente relacionado con: el tipo de trabajo que se realiza, el bienestar asociado a este en relación a los ingresos económicos que implica, el agotamiento que provoca y la eventual posibilidad de perder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89080" y="2205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773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s personas en esta etapa de la vida se encuentran en su máximo rendimiento intelectu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3024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apariencia el desarrollo cognitivo no es uniforme en la edad adulta madura, ya que implica pérdidas y ganancias en diferentes habilidades y en diferentes épo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81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mitad del camino de la edad adulta intermedia se produce el desempeño máximo en 4 habilidades intelectu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77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cuatro habilidade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2349360"/>
            <a:ext cx="68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zonamiento induc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laciones espa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moria ver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19700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TELIGENCIA FLU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la facultad de aplicar la capacidad mental a problemas nuevos que requieren poco o ningún conocimiento previo e implica la relación entre percepciones, formación de conceptos e inf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canza su máximo desempeño en esta etapa e incluso tiende a declinar con la 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410040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TELIGENCIA CRISTALI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la capacidad para recordar y emplear información adquirida durante toda la vida y que son habilidades que dependen de la educación y la experiencia cul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 se mantiene e incluso mejoran con la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1337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a forma de inteligencia cristalizada es la capacidad de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arrollar el conocimiento especia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5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gresos en la experiencia continúan por lo menos hasta la edad adulta intermedia y son relativamente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dependientes de las capacidades generales de la inteligencia y de algún desgates en la capacidad de l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7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procesamiento de la información y las habilidades fluidas se encapsulan o se dedican a tipos específicos de conocimiento, lo que permite acceder, aumentar y emplear dicho conocimiento con más fac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400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ensamiento experto se hace en esta etapa más intuitivo y automático. Este tipo de pensamiento intuitivo basado en la experiencia es característico de lo que se ha llamado pensamiento posf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57340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tipo de pensamiento se caracteriza por ser subjetivo y rela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89080" y="1052640"/>
            <a:ext cx="719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FISICO, COGNITIVO Y PSICO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De los 40 a los 65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579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b3ed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773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a característica importante del pensamiento posformal es su naturaleza  integrad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87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capacidad creativa, que implica utilizar la perspicacia de tres maneras, esto 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4724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coger información pertinente al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r relaciones entre partes en apariencia ais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r analogías entre uno nuevo y otro ya solucio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2565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adultos en esta etapa integran la lógica con la intuición y la emoción así como también integran hechos e ideas contradic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1773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s distintas sociedades industrializadas, la estructura vital tradicional está diferenciada por edad, por lo tanto los papeles se basan en la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32479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juventud se es estudiante, en la adultez se es trabajador y los adultos mayores organizan su vida alrededor de la jubilación y el tiempo li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472428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una sociedad integrada por la edad, los papeles principales, el aprendizaje, trabajo y juego están abiertos a los adultos de todas las edades y pueden ampliarse  a toda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1989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ertos tipos de trabajo incrementan las habilidades cognitivas, por ejemplo un arquitecto va a desarrollar la capacidad de visualizar relaciones espaciales mucho más que alguien que se desarrolle en otro campo lab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076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personas que tienen un trabajo sustantivamente complejo, que exija criterio y pensamiento independiente, tienden a ser cognitivamente más flex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5300640"/>
            <a:ext cx="80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br>
              <a:rPr sz="2400"/>
            </a:b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 esta manera el acumular experiencia y el conocimiento que se deriva de él, a medida que las personas comprometidas con su trabajo envejecen tienden a mostrar un mayor desempeño cognitivo en relación a sus p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tilizar la creatividad y las elecciones morales revelan que el cerebro continúa en desarrollo durante la edad adulta, vinculando también el aspecto cognitivo del desarrollo y sus aspectos tanto sociales como  emoci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220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PSICO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0066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y los aspectos continuos en esta etapa deben ser vistos desde la perspectiva de todo el ciclo vi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32479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apeles personales y laborales son interdependientes, y están afectados por lo que determina la sociedad en su conjunto y las oportunidades que esta nos brin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rl  Jung  y  Eric Eri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Jung, como primer teórico importante que habla sobre el desarrollo adulto, determinó que el desarrollo saludable en la edad adulta intermedia explica la individu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da el surgimiento del verdadero Yo gracias al equilibrio y la integración de las partes de la personalidad en confli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422100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asta los 40 años los adultos se concentran en sus obligaciones como la familia y la sociedad, por lo tanto desarrollan aquellos aspectos de su personalidad que le sirven para alcanzar dichos obje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rl  Jung  y  Eric Eri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tapa de la vida se experimentan dos tareas difíciles como los son renunciar a la imagen juvenil y reconocer que somos seres mor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o implica la búsqueda de sentido dentro del YO, como un viraje hacia 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Generatividad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rente al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Estanc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18446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rikson por su parte, fue el teórico que se refirió a la edad adulta intermedia como una época de “viraje al interio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los 40 años en adelante es la época en que las personas van hacia la 7° crisis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Generatividad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rente al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Estanc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1844640"/>
            <a:ext cx="76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RATIV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de los adultos por encaminar y guiar a la generación que le sigue y de esa manera perpetuarse, sintiendo la necesidad de dejar un legado para seguir participando en l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no se encuentra una salida para la generatividad las personas se tornan ensimismadas o se estancan en la in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08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irtud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de este periodo es el cuidado, es decir, el compromiso cada vez más de las personas, productos e ideas que se han aprendido a cui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71040" y="69228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TRUCCION CULTURAL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84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concepto de edad adulta intermedia es relativamente 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924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edad adulta intermedia se describe como una etapa que se ha construido socialmente y que se le ha dado un significado a nivel cul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365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tapa comprendida entre los 40 y los 65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isis de la edad adulta intermedia o más conocida como la crisis de los 40 años, período en el que se revisa y reevalúa la vida en cad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33098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que se viven en la personalidad y el estilo de vida en la edad adulta madura se atribuyen a esta 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4704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eptualizada como crisis de identidad o lo que se llamó “segunda adolescencia”. La que trae una conciencia de la condición de mortal en el ser humano. Se reevalúa lo que no se alcanzó a realizar y que si se quiere logar se debe actuar con rapide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19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apariencia esta etapa se vive sólo como  una transición en la vida que implica una visión introspectiva y de replan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3095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 revisión puede ser un punto de cambio psicológico, un tiempo de revisión y de reestructuración del Yo y efectuar correctivos en el diseño y la trayectoria de l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450864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Que esta etapa de transición se convierta en crisis va  a depender más de las circunstancias individuales, los recursos personales y de la capacidad de adaptación a los distintos episodios que se viven en esta eta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98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formación de la identidad en la edad adulta puede dar paso a la construcción de varios “YO posibles”, que impliquen una evaluación personal y hacia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33307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os YO o identidades tienen mucho que ver con los roles o papeles sociales y compromisos que se deben cumpl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6720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neratividad puede verse como un aspecto de la formación de la ident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55640" y="1197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s relaciones durante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844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 la mayoría de las personas de edad adulta madura las relaciones con los demás se hacen más importantes que en épocas anteriores d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3213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xisten algunas teorías del contacto social que dan explicación a e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436572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TEORÍA DE LA CARAVANA SOCIAL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plantea que las personas avanzan en la vida rodeadas por caravanas sociales, es decir,  rodeados de círculos de amigos y miembros de la familia en los cuales buscar apo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55640" y="1197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s relaciones durante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2421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TEORÍA DE LA SELECTIVIDAD SOCIAL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plantea tres objetivos principales en la interacción soci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400536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r fuente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yuda a que las personas tengan sentido de si mis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ente de placer y bienestar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55640" y="1197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relaciones en la edad adulta intermedia también puede presentar exigencias que pueden ser estresantes y restric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2637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ÁS” no necesariamente significa “MEJO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3500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 que si cuenta es la calidad de la relación más que la cantidad de amigos que se teng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465300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ones como el matrimonio en la edad adulta intermedia han experimentado muchos cam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55640" y="119700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alidad de las amistades en la edad adulta intermedia compensa la cantidad de tiempo dedicado a estas. Por lo general los adultos recurren a sus amistades buscando apoyo emocional, guía, alivio, buena compañía y conversación, en especial cuando se presentan crisis como el divorcio o la ida de los hijos del hog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relación con los hijos en esta etapa, resulta un proceso de maduración continua que generalmente alcanza su punto máximo en la edad adulta mad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515772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dad se deben enfrentar diversos conflictos con los hijos que pronto dejarán el n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55640" y="1197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adres con hijos adolescentes deben enfrentar la rebeldía y el rechazo a las reglas que  estos imponen estableciendo una relación de aceptación y maduración mut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306864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uando los hijos en edad más madura deciden dejar el hogar como una forma de crecimiento, es una señal de transición hacia una nueva etapa: la relación entre padre e hijo adul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494172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ientras dure el vinculo padre-hijo los hijos pueden volver al hogar por circunstancias di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55640" y="1197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ún después que se termina la etapa de crianza activa, los padres de jóvenes adultos descubren nuevos aspectos y se reclaman nuevas actitudes y comportamientos de ambas gen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2870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nto padres como hijos en esta etapa generalmente disfrutan de la compañía del otro y se llevan bi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393372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edad adulta intermedia, los primeros vínculos de parentesco  pueden reafirmarse de manera distinta a medida que la responsabilidad de cuidar y apoyar a los padres ancianos empieza a cambiar a los hijos de esta edad, se comienza una nueva relación y nuevo papel: la calidad de abue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55640" y="1557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vínculo entre hijos en edad adulta intermedia y sus padres ancianos es f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287028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mayoría de las personas en edad adulta intermedia con padres ancianos mantienen relaciones estrechas basadas en el contacto frecuente y de ayuda mutua, son concientes de las obligaciones con sus padres y con frecuencia esperan más de los padres que éstos de ell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040" y="69228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TRUCCION CULTURAL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84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significado de la edad adulta intermedia varía con la salud, el género, los factores étnicos, la condición socioeconó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3429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tapa que invita a mirar hacia atrás y hacia delante, hacia los años vividos y los que quedan por vivir, de replantear metas y aspiraciones, de evaluar y aprovechar mejor el resto de la vida que está por dela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89080" y="2205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FÍS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916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biológicos grad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1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físicos son apenas perceptibles hasta que aparecen falencias en la visión, en la capacidad sexual y reproductora entre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933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que se presentan en la capacidad psicomotora y sensorial son bastante pequeños, pero que en alguna medida afectan de alguna manera el auto concepto y su interacción con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916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presbicia o hipermetropía, que es la visión lejana esta asociada al envejecimiento y se origina cuando el lente del ojo pierde elastic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3292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opía o visión corta  también asociada al envejecimiento, aumenta durante la edad mad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365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sta edad las personas experimentan también pérdida de agudeza visual debido a los cambios que experimenta la pup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916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blemas visuales con relación a la edad pueden ocurrir en 5 á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85768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isión cerc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isión diná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nsibilidad a la lu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úsqueda visual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elocidad de procesamiento en la agudeza vi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2:55:01Z</dcterms:created>
  <dc:creator>WinuE</dc:creator>
  <dc:description/>
  <dc:language>en-US</dc:language>
  <cp:lastModifiedBy>Fac. de Medicina</cp:lastModifiedBy>
  <dcterms:modified xsi:type="dcterms:W3CDTF">2008-10-22T17:32:24Z</dcterms:modified>
  <cp:revision>11</cp:revision>
  <dc:subject/>
  <dc:title>Diapositiva 1</dc:title>
</cp:coreProperties>
</file>