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0105-35D4-46DB-A720-95EA2A11C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BD1-C92C-4B0F-AAC0-425C9D6C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5B3-A64A-469D-AB57-5771FB0B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5CB-C757-4A7B-965A-153B3A92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079-795F-4297-9B87-4237FF12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60B75-3797-417B-973D-7A9F0C90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E2B17-E69D-49A2-AB0F-422599A9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0B898-7CFA-4E99-93E9-8288C848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4E9E6-B807-429F-8B59-83DB415F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10367-DF49-4EE6-A110-0FF1572B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BFCEA-E1E4-4325-8E93-6DA5C96C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93896-8C91-46E4-BB06-94012096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89A-C47D-46DC-BF27-F55A89C7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7F689-7FC9-49EA-A960-44315ADE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C9475-E498-4785-9B80-FEDC649D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F15CE-3EC6-44BB-B626-C05242B5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21CC3-B391-4B2B-975A-C7FE3C2A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55D11-844B-4A0F-B6BB-C5153A44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4A9-2C62-4923-A137-C24CB045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D02-ABC2-4C46-8230-D58D71B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F27-3BA1-4A01-A238-B5050251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A3B-D959-47EF-B240-09C4E512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06E-6C5C-41DC-AC97-219272CB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170-8C25-4A6E-94A7-5C22FDCF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28E-45EE-4D26-A504-6EB696E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A090-B3FE-42BF-A1F2-36907EB774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03BB-F2EC-4E4D-804C-1AABC774F9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98984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 U B E R T A D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Brush Script MT"/>
              </a:rPr>
              <a:t>EL   FIN   DE   LA   INFANCIA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entes: E.U y Psc. Flora Andrade 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c. Alfredo Lorca 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ATRACCIÓN SEXUAL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relacionada con la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renarquia”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uración de las glándulas suprarrenales ( glándulas ubicadas por encima de los riñones) que secretan andrógenos sobre todo “deshidroepiandrosterona”(DHEA) cuyos niveles de ella a los 10 años es 10 veces lo que fueron entre el primero y los 4 años de edad.Esta DHEA es la responsable del brote inici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l vello pub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l crecimiento más ráp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l aumento de la grasa en la piel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l desarrollo del olor corpo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TRES SUBETAPAS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a Krauskopf (2000) desde una perspectiva de las tareas evolutivas, plantea 3 subetapas en el desarrollo adolescente de acuerdo a 3 tipos de preocup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rana(10 a 13 años), preocupación por lo físico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emocional</a:t>
            </a:r>
            <a:r>
              <a:rPr b="1" lang="en-US" sz="2400" spc="-1" strike="noStrike">
                <a:solidFill>
                  <a:srgbClr val="46341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(14 a 16 años), preocupación por la afi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-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( 17 a 19 años), preocupación por la rel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TRANSCURSO, SECUENCIA E INDICIOS DE LA MADURACIÓN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cas pequeñas con el pecho plano y jovencitas con el pecho y cuerpo completamente desarrol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cos delgados y pequeños y jovencitos de hombros anchos y musculos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cambios empiezan antes en las chicas que en los ch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cambios en ambos incluy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rón de crecimiento de la adolesc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sarrollo del vello pub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ngrosamiento de la v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recimiento musc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EL ESTIRON DEL CRECIMIENTO DE LA ADOLESCENCI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842840"/>
            <a:ext cx="8218440" cy="42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 normalmente 2 años, poco después de terminar se alcanza la madurez sex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rre antes en las chicas que en los chicos, esto hace que ellas sean: más altas, de más peso corporal y más fuertes entre los 11 y 13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ués del estirón del crecimiento los jóvenes vuelven a ser más grandes que el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nto unos como otras alcanzan la estatura completa a los 18 años de 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EL ESTIRON DEL CRECIMIENTO DE LA ADOLESCENCI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2199960"/>
            <a:ext cx="81471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o que cada uno de los cambios del estirón del crecimiento sigue su propio programa de tiempo, partes del cuerpo, pueden salirse de proporción durante cierto lapso dando lugar a 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tendencia desgarbada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los púberes, la cual acompaña el desequilibrado y acelerado crecimiento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CARACTERISTICAS SEXUALES PRIMARIA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los órganos necesarios para la reprodu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as chicas son:ovarios, trompas de falopio, útero y vag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os chicos son: testículos, pene, escroto, vesículas seminales y próst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os chicos el primer indicio de la pubertad es el crecimiento de los testículos y escro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las chicas el crecimiento de las características sexuales primarias no es evidente pues estos órganos son inter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CARACTERISTICAS SEXUALES SECUNDARIA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 indicios fisiológicos de maduración sexual que no se relacionan directamente con los órganos sexu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AS                                                        CH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sto                                                     Vello pub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lo pubico                                           Vello de las axi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lo de las axilas                                  Desarrollo musc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bios en la voz                                 Vello fa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bios en la piel                                 Cambios en la v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en la anchura y profundidad   Cambios en la pi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la pelvis                                             Ensanchamiento de los hom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 muscular                               b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NDICIOS DE MADUREZ SEXUAL EN CHICO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ción de espe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rmarquia: primera eyaculación involuntaria de semen (sueño húmedo) a veces relacionada con un sueño eró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rre en promedio a los 13 años.En un estudio la mayoría de los chicos informaron reacciones positivas, aunque más o menos dos terceras partes se sintieron algo asustados (Gaddis y Brooks-Gunn,198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NDICIOS DE MADUREZ SEXUAL EN CHICA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struación: expulsión mensual de tejidos de la pared del ut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eriodo de aparición normal de la menstruación varia entre los 10 y 16 y medio años de 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edad de la primera menstruación suele ser similar a la de la mad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chicas más grandes y aquellas cuyo busto esta más desarrollado tienden a menstruar 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jercicio agotador, como en los deportes competitivos, puede postergar la menarqu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NDICIOS DE MADUREZ SEXUAL EN CHICA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chicas con menarquias tempranas suelen ser agresivas o depresivas o tener relaciones familiares deficientes. (Ellis y Garber, 2000; Graber Brooks-Gunn y Warren, 1995; Steinberg, 199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un estudio se vio que el desarrollo puberal posterior tenia relación con un padre afectivo y comprome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 muy clara la influencia de las relaciones familiares en el desarrollo de la pubert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INTRODUCCION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general se considera que la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bertad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el fin de la infancia y la entrada a 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dolescencia como proceso que conduce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ADUREZ SEXUAL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o la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ERTILIDAD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(capacidad de reproducció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RAMIFICACIONES PSICOLOGICAS DEL ESTIRON DEL CRECIMIENTO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cambios físicos a veces vividos como dramá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preocupa más su apariencia física que cualquier otro aspecto de su persona y a muchos no les gusta lo que ven en el esp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chicas suelen sentirse menos felices con su apariencia que los ch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chicas avanzadas en el desarrollo de la pubertad, suelen pensar que están demasiado obesas y esta imagen negativa les puede generar problemas alimen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eocupación por la imagen corporal posiblemente se relacione con el despertar de la atracción sexual(9 a 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COMPORTAMIENTO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obstinación y formas negativas de conducta cesan repentinamente primero en las niñas que en los varones, pudiendo llegar a los 15 años y má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enza la fase de la introversión activa que reemplaza a la introversión pasiva prepub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DESCUBRIMIENTO DEL YO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hombre sufre una de las más grandes transformaciones anímicas al pasar de la infancia a la pubertad, y que atañe a las relaciones co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situación psíquica segura, este bienestar paradisíaco en el aquí y ahora, sufre una sacudida al pasar el hombre de niño a adul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nsecuencia más importante de estos cambios y de la introversión es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ubrimiento del y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por lo tanto de la individu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AREA COGNITIV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incipiente surgimiento del pensar abstracto, le permite ahora el acceso a los valores absolutos de verdad, justicia y bon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ensamiento se hace racionalista, intransigente y radical, tiende a simplificar, generalizar y racionalizar, lo que finalmente lo lleva a una ceguera frente a las realidades más cotidianas de la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 es blanco o negro, sin matices. Es antihistórico y antitradicion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AREA EMOCIONAL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sentimientos tienden a profundizarse en comparación con los sentimientos prepuber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den a compadecerse de si mismos y a buscar la compasión de los dem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lama la atención su pobreza en el contacto afectivo, su egocentrismo (afectivo, ya no cognitivo) determina que en el “tu” también se busquen a si mis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MPULSO SEXUAL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ca amistades entre personas de su mismo sexo. Las chicas no encuentran atrayentes a los púberes va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y una sobrevaloración del amigo, que le ayuda a formar su propia ident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ste periodo pueden ocurrir juegos o experiencias homosexuales que no deberían tener mayor trascendencia, en la medida que sean bien manejadas y no se les atribuya una significación diferente a la que tie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SUMISION A LA AUTORIDAD RECONOCIDA INTERIORMENT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ora hay una búsqueda de autoridad externa, pero debe ser elegida y aceptada por él mismo. Mientras sigue siendo rebelde a la autoridad externa que se le quiere imponer por la fuerza, es capaz de reconocer incondicionalmente una autoridad reconocida i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eren igualar a los adultos en todo. Los varones hacen despliegues de virilidad frente a sus pares: es frecuente que consuman alcohol y cigarro en actitudes arrogantes, a diferencia del prepuber que se escondían para hac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68360" y="1052640"/>
          <a:ext cx="8229600" cy="5848200"/>
        </p:xfrm>
        <a:graphic>
          <a:graphicData uri="http://schemas.openxmlformats.org/drawingml/2006/table">
            <a:tbl>
              <a:tblPr/>
              <a:tblGrid>
                <a:gridCol w="1074600"/>
                <a:gridCol w="1125720"/>
                <a:gridCol w="1206360"/>
                <a:gridCol w="1204920"/>
                <a:gridCol w="1055880"/>
                <a:gridCol w="1204920"/>
                <a:gridCol w="1357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arrollo cognosci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arrollo del lengua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arrollo emo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arrollo Social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arrollo del yo, el genero y la identida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arrollo mora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-11 año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umenta la capacidad para considerar diversas perspectiva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joran las estrategias de memorización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 comprensión de las sintaxis y la estructura de los enunciados es  mas compleja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minuye el habla privada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principal crecimiento es en las habilidades practica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umenta la regulación y comprensión de las emocione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niño entiende mejor la diferencia entre culpa y vergüenza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dre e hijo comparten la regulación del conflicto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s conflictos con hermanos ayudan en el desarrollo de habilidades para la resolución de conflicto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s amistades se vuelven mas intima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 imagen corporal se vuelve cada vez mas importante, sobre todo para las niñas puede desminuir la autoestima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sentido de justicia orienta  cada vez mas el razonamiento moral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niño desea ser "bueno" y  mantener el orden social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 agresividad se transforma de manifiesta en relacional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-15 añ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adolescente puede alcanzar la etapa  de las operaciones formales; recurre a la abstracción y al razonamiento hipotético- deductivo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alcance de la memoria crece a seis dígito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principal crecimiento sigue siendo en habilidades práctica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habla adolescente es marca de desarrollo de la identidad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s cambios de ánimos pueden volverse cada vez más frecuentes; pueden incluir sensaciones de pena, timidez, soledad y depresió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deseo creciente de autonomia coexiste con la necesidad de intimidad con y apoyo de los padre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s conflictos entre padre e hijos alcanzan su punto máximo y luego disminuyen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 autoestima repun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desarrollo de la identidad se convierte en un aspecto medular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 identidad sexual se vuelve una preocupación fundamental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 razonamiento moral refleja una mayor conciencia de la equidad y la elaboración de reglas cooperación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3e3ff"/>
                </a:solidFill>
                <a:latin typeface="Arial"/>
              </a:rPr>
              <a:t>Hitos del desarrollo de 9 a 15 año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TRANSICIÓN DE LA PUBERTAD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LA TRANSICIÓN A LA PUBERTAD PUEDE EMPEZAR EN FORMA MÁS TEMPRANA Y SER MÁS GRADUAL DE LO QUE SE RECONOCE 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ENERA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POSIBLE QUE LA PUBERTAD CONSISTA EN 2 ETAP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 MADURACIÓN DE LAS GLANDULAS SUPRARRENALES, SEGUIDA UN PAR DE AÑOS DESPUES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 MADURACION DE LOS ORGANOS SEXUALES Y LOS CAMBIOS DE LA PUBERTAD MÁS EVID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F I 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P R E S E N T A C I O 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! MUCHAS GRACIAS 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RODUCC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184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épocas anteriores al siglo XX, en las culturas occidentales, los niños entraban en el mundo adulto cuando alcanzaban la madurez física o cuando comenzaban un aprendizaje profesional, lo que ha cambiado con la 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CLARACION DE LOS DERECHOS DEL NIÑ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a partir de 1924.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RODUCC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la actualidad la entrada en la edad adulta toma más tiempo y es más preci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ci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ológic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ideran personas adultas a aquellas que se valen por si mismas, contraen matrimonio, han elegido una carrera, han formado una famil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RODUCC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ciones psicológicas en relación a la madurez de una persona se refieren como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UREZ COGNITIV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uando el joven a logrado desarrollar el pensamiento abstracto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UREZ EMOC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uando ha logrado su identidad propia, se ha independizado de los padres y a desarrollado un sistema de valores y construido relaciones interpersonales y so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AMBIOS EN LA PUBERTAD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inicia un aumento acentuado en la producción de hormonas sexuales que dependen al parecer de que la persona alcance u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vel de peso cruc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 que explicaría el adelanto de la pubertad en chicas con sobrepes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e 5-9 años glándulas suprarrenales secretan grandes cantidades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ógenos con función importante 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AMBIOS EN LA PUBERTAD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je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mb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cimiento vello puberal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cimiento vello pub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cimiento vello axilar.         Crecimiento vello axi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cimiento vello en rostro.    Crecimiento vello en ros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cimiento de genitales.       Crecimiento de geni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 del busto.               Desarrollo de masa muscular y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 de panículo adi-     vello corp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AMBIOS EN LA PUBERTAD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investigaciones plante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mbios hormonales          aumento emotividad y cambios aní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influencias com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eramen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eden moderar o anular los influjos hormonales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565360"/>
            <a:ext cx="760680" cy="360360"/>
          </a:xfrm>
          <a:prstGeom prst="rightArrow">
            <a:avLst>
              <a:gd name="adj1" fmla="val 50000"/>
              <a:gd name="adj2" fmla="val 5277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AMBIOS EN LA PUBERTAD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hormonas se relacionan má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echamente con los estados anímicos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hic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 de las chicas, sobretodo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jovencitos que atraviesan por 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lescencia temprana y que aún está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ándose a los cambios que ocurren 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ubertad.(Buchanan, Ecles y Beck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20:41:01Z</dcterms:created>
  <dc:creator>WinuE</dc:creator>
  <dc:description/>
  <dc:language>en-US</dc:language>
  <cp:lastModifiedBy>WinuE</cp:lastModifiedBy>
  <dcterms:modified xsi:type="dcterms:W3CDTF">2008-08-24T11:25:19Z</dcterms:modified>
  <cp:revision>45</cp:revision>
  <dc:subject/>
  <dc:title>Diapositiva 1</dc:title>
</cp:coreProperties>
</file>