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3D5AF-4DEC-40A6-9138-75678B38B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4EAF-10FB-49A7-A1BD-B00956C9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2BD31-6F46-4E3B-92B4-F6CA11DFF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29BA1-F04E-4FFA-A984-97ECC7878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D1E85E-8BE3-4419-A1B0-CD3A03D24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D3FE4E-074F-4472-BCD7-2A5F5123A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574E9F-4FE9-432E-A5D4-A1C19EB26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E1810A-E9E7-494E-AC97-C4D6461AE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FD3D6D-2019-4144-9925-506FF2688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740230-9DC2-49CB-9C49-19FAE0C59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082C48-460D-4184-8F0D-64D9B5DF6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67AA-ED4E-46B1-8746-0CF93DF8B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99C543-6F65-4606-B664-1BD510827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5402C5-91D9-4043-A7C7-C976365F1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38B0C3-0BF3-4F63-BC46-7D950F259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1825E0-91C6-4946-8520-67DC1E1FB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7987324-9E70-4DA6-88BC-63F1928A4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0A74-A5EB-4FAB-B9E9-3408EBA0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D87C5-994D-4F73-A31B-E81BE2A7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4B425-6FEC-423C-837E-400B2AFB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0A15B-4985-4450-B134-B10E8C7FA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F73F-5BDC-4BF7-95A7-081B024F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58FA-717A-4F39-9EB7-0FA39031E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8260-6228-4D36-9DC0-0103A8DDE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A9F9-62C5-4BD2-8E3C-C4CC57858C6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E1B8-6E90-4953-8D29-15978904114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920"/>
            <a:ext cx="91440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PSICOLOGIA EVOLUTIVA</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ERÍODO PRENATAL: DESDE LA FECUNDACIÓN AL NACIMIE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TAPA DE LOS PRIMEROS PASOS: DESDE 0 A 3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 FUNDAMENTOS EMPIRICOS</a:t>
            </a:r>
            <a:endParaRPr b="0" lang="en-US" sz="32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ha estudiado entre otros, la  relación entre el cuidado materno y el apego establecido; entre éstos y el desarrollo cognitivo, afectivo y social posterior del niño; y entre variables temperamentales del niño, la interacción con la madre y el apego.  Así mismo, se han estudiado estos fenómenos en diferentes culturas y en poblaciones particulares (por ejemplo, niños con necesidades especiales, madres con diagnóstico de depres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FENOMENOS ESTUDIADOS EN DIFERENTES CULTURAS Y POBLACIONES PARTICULARES</a:t>
            </a:r>
            <a:endParaRPr b="0" lang="en-US" sz="28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endParaRPr b="0" lang="en-US" sz="3200" spc="-1" strike="noStrike">
              <a:solidFill>
                <a:srgbClr val="ffffff"/>
              </a:solidFill>
              <a:latin typeface="Arial"/>
            </a:endParaRPr>
          </a:p>
        </p:txBody>
      </p:sp>
      <p:sp>
        <p:nvSpPr>
          <p:cNvPr id="166" name=""/>
          <p:cNvSpPr/>
          <p:nvPr/>
        </p:nvSpPr>
        <p:spPr>
          <a:xfrm>
            <a:off x="0" y="171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7" name="" descr=""/>
          <p:cNvPicPr/>
          <p:nvPr/>
        </p:nvPicPr>
        <p:blipFill>
          <a:blip r:embed="rId1"/>
          <a:stretch/>
        </p:blipFill>
        <p:spPr>
          <a:xfrm>
            <a:off x="468360" y="1484280"/>
            <a:ext cx="8207280" cy="4465800"/>
          </a:xfrm>
          <a:prstGeom prst="rect">
            <a:avLst/>
          </a:prstGeom>
          <a:ln w="0">
            <a:noFill/>
          </a:ln>
        </p:spPr>
      </p:pic>
      <p:sp>
        <p:nvSpPr>
          <p:cNvPr id="168" name=""/>
          <p:cNvSpPr/>
          <p:nvPr/>
        </p:nvSpPr>
        <p:spPr>
          <a:xfrm>
            <a:off x="1800" y="4872960"/>
            <a:ext cx="231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EJOR FORMA DE COMPRENDER Y EVALUAR A LOS RECIEN NACIDOS Y NIÑOS DE ESTA ETAPA ES COMPRENDIENDO SU DESARROLLO PSICOMO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 TANTO REVISAREMOS E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
          <p:cNvSpPr/>
          <p:nvPr/>
        </p:nvSpPr>
        <p:spPr>
          <a:xfrm>
            <a:off x="900000" y="357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FISICO</a:t>
            </a:r>
            <a:endParaRPr b="0" lang="en-US" sz="1800" spc="-1" strike="noStrike">
              <a:solidFill>
                <a:srgbClr val="ffffff"/>
              </a:solidFill>
              <a:latin typeface="Arial"/>
            </a:endParaRPr>
          </a:p>
        </p:txBody>
      </p:sp>
      <p:sp>
        <p:nvSpPr>
          <p:cNvPr id="172" name=""/>
          <p:cNvSpPr/>
          <p:nvPr/>
        </p:nvSpPr>
        <p:spPr>
          <a:xfrm>
            <a:off x="900000" y="4508640"/>
            <a:ext cx="3384720" cy="5760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COGNITIVO</a:t>
            </a:r>
            <a:endParaRPr b="0" lang="en-US" sz="1800" spc="-1" strike="noStrike">
              <a:solidFill>
                <a:srgbClr val="ffffff"/>
              </a:solidFill>
              <a:latin typeface="Arial"/>
            </a:endParaRPr>
          </a:p>
        </p:txBody>
      </p:sp>
      <p:sp>
        <p:nvSpPr>
          <p:cNvPr id="173" name=""/>
          <p:cNvSpPr/>
          <p:nvPr/>
        </p:nvSpPr>
        <p:spPr>
          <a:xfrm>
            <a:off x="900000" y="544500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PSICO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iste un orden definido y progresivo en la adquisición de destrezas motrices. El desarrollo de las habilidades motrices van de lo simple a lo complejo y de movimientos individuales hacia actos cada vez más coordinados.</a:t>
            </a:r>
            <a:r>
              <a:rPr b="0" lang="es-ES_tradnl" sz="2000" spc="-1" strike="noStrike">
                <a:solidFill>
                  <a:srgbClr val="000000"/>
                </a:solidFill>
                <a:latin typeface="PLOIDO+ArialMT"/>
              </a:rPr>
              <a:t>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77" name=""/>
          <p:cNvSpPr/>
          <p:nvPr/>
        </p:nvSpPr>
        <p:spPr>
          <a:xfrm>
            <a:off x="533520" y="213372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3 FUNCIONES BÁSICAS EN EL RECIÉN NACIDO:</a:t>
            </a:r>
            <a:endParaRPr b="0" lang="en-US" sz="2000" spc="-1" strike="noStrike">
              <a:solidFill>
                <a:srgbClr val="ffffff"/>
              </a:solidFill>
              <a:latin typeface="Arial"/>
            </a:endParaRPr>
          </a:p>
        </p:txBody>
      </p:sp>
      <p:sp>
        <p:nvSpPr>
          <p:cNvPr id="178" name=""/>
          <p:cNvSpPr/>
          <p:nvPr/>
        </p:nvSpPr>
        <p:spPr>
          <a:xfrm>
            <a:off x="838080" y="2666880"/>
            <a:ext cx="6172200" cy="1262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REGULACIÓN DE TEMPERATURA</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PATRÓN DE SUEÑO</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REFLE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a los tres meses el bebé comenzaría a rodar sobre si mismo, a los seis meses lograría sentarse sin apoyo y comenzaría a moverse de formas variadas (gate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a a los 10 meses podría desplazarse por todas partes con mayor propiedad y muy pronto podría mantenerse parad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rededor del primer año la mayoría de los niños lograrían ponerse de pie por sí mismos.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nto darían sus primeros pasos (primero con ayuda u apoyo en algún objeto y luego sin apoyo) adquiriendo cada vez más estabilidad, equilibro y soltura.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5" name=""/>
          <p:cNvSpPr/>
          <p:nvPr/>
        </p:nvSpPr>
        <p:spPr>
          <a:xfrm>
            <a:off x="838080" y="2284560"/>
            <a:ext cx="756144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édicos examinan y observan los </a:t>
            </a:r>
            <a:r>
              <a:rPr b="0" lang="en-US" sz="2000" spc="-1" strike="noStrike">
                <a:solidFill>
                  <a:srgbClr val="ff0000"/>
                </a:solidFill>
                <a:latin typeface="Arial"/>
              </a:rPr>
              <a:t>reflejos infantiles</a:t>
            </a:r>
            <a:r>
              <a:rPr b="0" lang="en-US" sz="2000" spc="-1" strike="noStrike">
                <a:solidFill>
                  <a:srgbClr val="ffffff"/>
                </a:solidFill>
                <a:latin typeface="Arial"/>
              </a:rPr>
              <a:t> para evaluar  la función y el desarrollo neurológic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usencia de reflejos o presencia de reflejos anormales en un niño menor de un año, la persistencia de un reflejo después de la edad en que normalmente éste desaparece o la manifestación de un reflejo infantil en un niño mayor o en el adulto, puede indicar problemas sev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9" name=""/>
          <p:cNvSpPr/>
          <p:nvPr/>
        </p:nvSpPr>
        <p:spPr>
          <a:xfrm>
            <a:off x="0" y="2133720"/>
            <a:ext cx="2840040" cy="28645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tónico-cervical</a:t>
            </a:r>
            <a:br>
              <a:rPr sz="1400"/>
            </a:br>
            <a:r>
              <a:rPr b="0" lang="en-US" sz="1400" spc="-1" strike="noStrike">
                <a:solidFill>
                  <a:srgbClr val="463416"/>
                </a:solidFill>
                <a:latin typeface="Impact"/>
              </a:rPr>
              <a:t>Cuando se vuelve la cabeza de u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bebé hacia un lado, el brazo de e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lado se estira y el brazo opuesto 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obla por el codo. Esto a menud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denomina "posición de esgrim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0" name=""/>
          <p:cNvSpPr/>
          <p:nvPr/>
        </p:nvSpPr>
        <p:spPr>
          <a:xfrm>
            <a:off x="2819520" y="2133720"/>
            <a:ext cx="2522520" cy="243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búsqueda</a:t>
            </a:r>
            <a:br>
              <a:rPr sz="1400"/>
            </a:br>
            <a:r>
              <a:rPr b="0" lang="en-US" sz="1400" spc="-1" strike="noStrike">
                <a:solidFill>
                  <a:srgbClr val="463416"/>
                </a:solidFill>
                <a:latin typeface="Impact"/>
              </a:rPr>
              <a:t>Se toca o acaricia la esquin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la boca del bebé.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vuelve la cabeza y abre la boc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ara seguir y "buscar" en l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irección de la caricia. El reflej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búsqueda ayuda a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encontrar el seno o el biberón.</a:t>
            </a:r>
            <a:endParaRPr b="0" lang="en-US" sz="1400" spc="-1" strike="noStrike">
              <a:solidFill>
                <a:srgbClr val="ffffff"/>
              </a:solidFill>
              <a:latin typeface="Arial"/>
            </a:endParaRPr>
          </a:p>
        </p:txBody>
      </p:sp>
      <p:sp>
        <p:nvSpPr>
          <p:cNvPr id="191" name=""/>
          <p:cNvSpPr/>
          <p:nvPr/>
        </p:nvSpPr>
        <p:spPr>
          <a:xfrm>
            <a:off x="5334120" y="2133720"/>
            <a:ext cx="187164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succión</a:t>
            </a:r>
            <a:br>
              <a:rPr sz="1400"/>
            </a:br>
            <a:r>
              <a:rPr b="0" lang="en-US" sz="1400" spc="-1" strike="noStrike">
                <a:solidFill>
                  <a:srgbClr val="463416"/>
                </a:solidFill>
                <a:latin typeface="Impact"/>
              </a:rPr>
              <a:t>Cuando se toca el paladar del bebé</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on el seno o la tetina del biber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mpieza a succiona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2" name=""/>
          <p:cNvSpPr/>
          <p:nvPr/>
        </p:nvSpPr>
        <p:spPr>
          <a:xfrm>
            <a:off x="7162920" y="2133720"/>
            <a:ext cx="1692000" cy="222516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prensión</a:t>
            </a:r>
            <a:br>
              <a:rPr sz="1400"/>
            </a:br>
            <a:r>
              <a:rPr b="0" lang="en-US" sz="1400" spc="-1" strike="noStrike">
                <a:solidFill>
                  <a:srgbClr val="463416"/>
                </a:solidFill>
                <a:latin typeface="Impact"/>
              </a:rPr>
              <a:t>El acariciar la palma de la mano del bebé provoca que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cierre los dedos en un apret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3" name=""/>
          <p:cNvSpPr/>
          <p:nvPr/>
        </p:nvSpPr>
        <p:spPr>
          <a:xfrm>
            <a:off x="-250920" y="3962520"/>
            <a:ext cx="3905280" cy="1798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Moro</a:t>
            </a:r>
            <a:br>
              <a:rPr sz="1400"/>
            </a:br>
            <a:r>
              <a:rPr b="0" lang="en-US" sz="1400" spc="-1" strike="noStrike">
                <a:solidFill>
                  <a:srgbClr val="463416"/>
                </a:solidFill>
                <a:latin typeface="Impact"/>
              </a:rPr>
              <a:t>También llamado reflejo de sobresal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produce cuando el bebé se sobresalt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or  un sonido o movimiento estrepitos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cha  la cabeza hacia atrás, ab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los brazos y piernas, llora, y después vuelv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colocar los brazos y piernas en l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posición original. </a:t>
            </a:r>
            <a:endParaRPr b="0" lang="en-US" sz="1400" spc="-1" strike="noStrike">
              <a:solidFill>
                <a:srgbClr val="ffffff"/>
              </a:solidFill>
              <a:latin typeface="Arial"/>
            </a:endParaRPr>
          </a:p>
        </p:txBody>
      </p:sp>
      <p:sp>
        <p:nvSpPr>
          <p:cNvPr id="194" name=""/>
          <p:cNvSpPr/>
          <p:nvPr/>
        </p:nvSpPr>
        <p:spPr>
          <a:xfrm>
            <a:off x="3352680" y="3962520"/>
            <a:ext cx="2664000" cy="222516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Reflejo de Babinski</a:t>
            </a:r>
            <a:br>
              <a:rPr sz="1400"/>
            </a:br>
            <a:r>
              <a:rPr b="0" lang="es-ES" sz="1400" spc="-1" strike="noStrike">
                <a:solidFill>
                  <a:srgbClr val="463416"/>
                </a:solidFill>
                <a:latin typeface="Impact"/>
              </a:rPr>
              <a:t>Con el reflejo de Babinski, cuand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se acaricia firmemente la plant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 </a:t>
            </a:r>
            <a:r>
              <a:rPr b="0" lang="es-ES" sz="1400" spc="-1" strike="noStrike">
                <a:solidFill>
                  <a:srgbClr val="463416"/>
                </a:solidFill>
                <a:latin typeface="Impact"/>
              </a:rPr>
              <a:t>del pie, el dedo gordo se dobla hacia la parte superior del pie y los otros dedos se despliegan en aban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5" name=""/>
          <p:cNvSpPr/>
          <p:nvPr/>
        </p:nvSpPr>
        <p:spPr>
          <a:xfrm>
            <a:off x="6019920" y="3853440"/>
            <a:ext cx="2879640" cy="2012040"/>
          </a:xfrm>
          <a:prstGeom prst="rect">
            <a:avLst/>
          </a:prstGeom>
          <a:solidFill>
            <a:srgbClr val="3399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la marcha</a:t>
            </a:r>
            <a:br>
              <a:rPr sz="1400"/>
            </a:br>
            <a:r>
              <a:rPr b="0" lang="en-US" sz="1400" spc="-1" strike="noStrike">
                <a:solidFill>
                  <a:srgbClr val="463416"/>
                </a:solidFill>
                <a:latin typeface="Impact"/>
              </a:rPr>
              <a:t>También se denomina reflejo 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aminar o de baile porque pare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que el bebé está dando pasos 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bailando cuando se lo sostie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pie con los pies tocando un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uperficie sólid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
          <p:cNvSpPr/>
          <p:nvPr/>
        </p:nvSpPr>
        <p:spPr>
          <a:xfrm>
            <a:off x="415800" y="152388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199" name=""/>
          <p:cNvSpPr/>
          <p:nvPr/>
        </p:nvSpPr>
        <p:spPr>
          <a:xfrm>
            <a:off x="4648320" y="144792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pic>
        <p:nvPicPr>
          <p:cNvPr id="200" name="" descr=""/>
          <p:cNvPicPr/>
          <p:nvPr/>
        </p:nvPicPr>
        <p:blipFill>
          <a:blip r:embed="rId1"/>
          <a:stretch/>
        </p:blipFill>
        <p:spPr>
          <a:xfrm>
            <a:off x="380880" y="2590920"/>
            <a:ext cx="830592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
          <p:cNvSpPr/>
          <p:nvPr/>
        </p:nvSpPr>
        <p:spPr>
          <a:xfrm>
            <a:off x="415800" y="144792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204" name=""/>
          <p:cNvSpPr/>
          <p:nvPr/>
        </p:nvSpPr>
        <p:spPr>
          <a:xfrm>
            <a:off x="4648320" y="129528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sp>
        <p:nvSpPr>
          <p:cNvPr id="205" name=""/>
          <p:cNvSpPr/>
          <p:nvPr/>
        </p:nvSpPr>
        <p:spPr>
          <a:xfrm>
            <a:off x="609480" y="2209680"/>
            <a:ext cx="792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incipales adquisiciones durante el período sensorio-motriz</a:t>
            </a:r>
            <a:r>
              <a:rPr b="1" lang="es-ES_tradnl" sz="2000" spc="-1" strike="noStrike">
                <a:solidFill>
                  <a:srgbClr val="000000"/>
                </a:solidFill>
                <a:latin typeface="Arial"/>
              </a:rPr>
              <a:t> </a:t>
            </a:r>
            <a:endParaRPr b="0" lang="en-US" sz="2000" spc="-1" strike="noStrike">
              <a:solidFill>
                <a:srgbClr val="ffffff"/>
              </a:solidFill>
              <a:latin typeface="Arial"/>
            </a:endParaRPr>
          </a:p>
        </p:txBody>
      </p:sp>
      <p:sp>
        <p:nvSpPr>
          <p:cNvPr id="206" name=""/>
          <p:cNvSpPr/>
          <p:nvPr/>
        </p:nvSpPr>
        <p:spPr>
          <a:xfrm>
            <a:off x="457200" y="274320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NOCION DE OBJETO: PERMANENCIA DE OBJETO, LOS OBJETOS EXISTEN, INDEPENDIENTE DE MI PERCEPCIÓN.</a:t>
            </a:r>
            <a:endParaRPr b="0" lang="en-US" sz="1800" spc="-1" strike="noStrike">
              <a:solidFill>
                <a:srgbClr val="ffffff"/>
              </a:solidFill>
              <a:latin typeface="Arial"/>
            </a:endParaRPr>
          </a:p>
        </p:txBody>
      </p:sp>
      <p:sp>
        <p:nvSpPr>
          <p:cNvPr id="207" name=""/>
          <p:cNvSpPr/>
          <p:nvPr/>
        </p:nvSpPr>
        <p:spPr>
          <a:xfrm>
            <a:off x="457200" y="358128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CAUSALIDAD: CAPACIDAD PARA RECONOCER QUE CIERTOS HECHOS PROVOCAN OTROS.</a:t>
            </a:r>
            <a:endParaRPr b="0" lang="en-US" sz="1800" spc="-1" strike="noStrike">
              <a:solidFill>
                <a:srgbClr val="ffffff"/>
              </a:solidFill>
              <a:latin typeface="Arial"/>
            </a:endParaRPr>
          </a:p>
        </p:txBody>
      </p:sp>
      <p:sp>
        <p:nvSpPr>
          <p:cNvPr id="208" name=""/>
          <p:cNvSpPr/>
          <p:nvPr/>
        </p:nvSpPr>
        <p:spPr>
          <a:xfrm>
            <a:off x="457200" y="4419720"/>
            <a:ext cx="8001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IFERENCIACION YO – MUNDO EXTERNO: CONCIENCIA DEL SÍ MISMO COMO ALGO DIFERENTE A LOS DEMÁS, REQUIERE TENER LA NOCIÓN DE OBJETO INTERNALIZADA.</a:t>
            </a:r>
            <a:endParaRPr b="0" lang="en-US" sz="1800" spc="-1" strike="noStrike">
              <a:solidFill>
                <a:srgbClr val="ffffff"/>
              </a:solidFill>
              <a:latin typeface="Arial"/>
            </a:endParaRPr>
          </a:p>
        </p:txBody>
      </p:sp>
      <p:sp>
        <p:nvSpPr>
          <p:cNvPr id="209" name=""/>
          <p:cNvSpPr/>
          <p:nvPr/>
        </p:nvSpPr>
        <p:spPr>
          <a:xfrm>
            <a:off x="457200" y="556272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SIMBOLIZACION: REPRESENTACIÓN MENTAL DE OBJETOS EN LA MEMO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3" name=""/>
          <p:cNvSpPr/>
          <p:nvPr/>
        </p:nvSpPr>
        <p:spPr>
          <a:xfrm>
            <a:off x="228600" y="2895480"/>
            <a:ext cx="85345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AMILIA ES EL SISTEMA SOCIAL DE MAYOR RELEVANC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ESCENARIO DE MUCHAS INTERACCIONES Y DIVERSAS VINCULACIO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IVERSOS FACTORES QUE INFLUENCIAN EL DESARROLLO SOCIO A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OCESO QUE COMIENZA CUANDO EL ESPERMATOZOIDE ATRAVIESA LA PARED DEL ÓV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 es una etapa del desarrollo de alta vulnerabilidad a las influencias externas. A las madres que están en el periodo de embarazo se les prohíbe fumar, estar expuestas al plomo, a pesticidas, ec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
          <p:cNvSpPr/>
          <p:nvPr/>
        </p:nvSpPr>
        <p:spPr>
          <a:xfrm>
            <a:off x="826920" y="2852640"/>
            <a:ext cx="148608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ÓVULO</a:t>
            </a:r>
            <a:endParaRPr b="0" lang="en-US" sz="1600" spc="-1" strike="noStrike">
              <a:solidFill>
                <a:srgbClr val="ffffff"/>
              </a:solidFill>
              <a:latin typeface="Arial"/>
            </a:endParaRPr>
          </a:p>
        </p:txBody>
      </p:sp>
      <p:sp>
        <p:nvSpPr>
          <p:cNvPr id="127" name=""/>
          <p:cNvSpPr/>
          <p:nvPr/>
        </p:nvSpPr>
        <p:spPr>
          <a:xfrm>
            <a:off x="2797560" y="285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
            </a:r>
            <a:endParaRPr b="0" lang="en-US" sz="2400" spc="-1" strike="noStrike">
              <a:solidFill>
                <a:srgbClr val="ffffff"/>
              </a:solidFill>
              <a:latin typeface="Arial"/>
            </a:endParaRPr>
          </a:p>
        </p:txBody>
      </p:sp>
      <p:sp>
        <p:nvSpPr>
          <p:cNvPr id="128" name=""/>
          <p:cNvSpPr/>
          <p:nvPr/>
        </p:nvSpPr>
        <p:spPr>
          <a:xfrm>
            <a:off x="3564000" y="2852640"/>
            <a:ext cx="181620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ESPERMATOZOIDE</a:t>
            </a:r>
            <a:endParaRPr b="0" lang="en-US" sz="1600" spc="-1" strike="noStrike">
              <a:solidFill>
                <a:srgbClr val="ffffff"/>
              </a:solidFill>
              <a:latin typeface="Arial"/>
            </a:endParaRPr>
          </a:p>
        </p:txBody>
      </p:sp>
      <p:sp>
        <p:nvSpPr>
          <p:cNvPr id="129" name=""/>
          <p:cNvSpPr/>
          <p:nvPr/>
        </p:nvSpPr>
        <p:spPr>
          <a:xfrm>
            <a:off x="5724360" y="3068640"/>
            <a:ext cx="7430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837840" y="2924280"/>
            <a:ext cx="1153080" cy="3988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rPr>
              <a:t>CIGO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7" name=""/>
          <p:cNvSpPr/>
          <p:nvPr/>
        </p:nvSpPr>
        <p:spPr>
          <a:xfrm>
            <a:off x="533520" y="228600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ínculo temprano madre-hij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ntiende una relación de afecto entre ambos que es activa y recíproca.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un principio madre e hijo participan en una compleja interacción donde el comportamiento de uno es regulado por el comportamiento del otr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otras, palabras tanto el bebé como la madre contribuyen en su interacc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1" name=""/>
          <p:cNvSpPr/>
          <p:nvPr/>
        </p:nvSpPr>
        <p:spPr>
          <a:xfrm>
            <a:off x="533520" y="236232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el nacimiento, el bebe abandona el estado intrauterino donde sus necesidades eran automáticamente satisfecha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bé está en un estado de dependencia total y requiere de alguien que ponga sus necesidades en primer plan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ta un “cuidado materno” (brindado por la madre o una figura sustituta), el cual no se limita al cuidado físico pues el bebé necesita tanto atención y afecto como alimentación y condiciones higiénica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5" name=""/>
          <p:cNvSpPr/>
          <p:nvPr/>
        </p:nvSpPr>
        <p:spPr>
          <a:xfrm>
            <a:off x="533520" y="2133720"/>
            <a:ext cx="80769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icialmente las sensaciones corporales están tan ligadas a la experiencia psicológica que la satisfacción de necesidades físicas responden al mismo tiempo a necesidades emocionale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con la alimentación el bebé no sólo recibe leche sino que una “experiencia afectiva” donde comienza a aprender de sí mismo y del mundo.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adre, al interpretar adecuadamente los gestos, sonidos, miradas del bebé, dándoles significado contribuye a la organización e integración psicológica de la experiencia del lactant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9" name=""/>
          <p:cNvSpPr/>
          <p:nvPr/>
        </p:nvSpPr>
        <p:spPr>
          <a:xfrm>
            <a:off x="533520" y="2133720"/>
            <a:ext cx="80769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oría del apego: relación estrecha entre el recién nacido y su madre o figura cuidadora.</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p:txBody>
      </p:sp>
      <p:sp>
        <p:nvSpPr>
          <p:cNvPr id="230" name=""/>
          <p:cNvSpPr/>
          <p:nvPr/>
        </p:nvSpPr>
        <p:spPr>
          <a:xfrm>
            <a:off x="429480" y="3048120"/>
            <a:ext cx="36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FUNCIONES DEL APEGO</a:t>
            </a:r>
            <a:endParaRPr b="0" lang="en-US" sz="2400" spc="-1" strike="noStrike">
              <a:solidFill>
                <a:srgbClr val="ffffff"/>
              </a:solidFill>
              <a:latin typeface="Arial"/>
            </a:endParaRPr>
          </a:p>
        </p:txBody>
      </p:sp>
      <p:sp>
        <p:nvSpPr>
          <p:cNvPr id="231" name=""/>
          <p:cNvSpPr/>
          <p:nvPr/>
        </p:nvSpPr>
        <p:spPr>
          <a:xfrm>
            <a:off x="609480" y="3657600"/>
            <a:ext cx="5105520" cy="19234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AVORECER LA SUPERVIVENCI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BUSCAR SEGURIDAD</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REGULAR LA ESTIMULACIÓN</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OMENTAR SALUD FÍSICA Y PSÍQUIC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INFLUYE EN EL DESARROLLO SOCIAL</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ES UN JUEGO PLACENT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35" name=""/>
          <p:cNvSpPr/>
          <p:nvPr/>
        </p:nvSpPr>
        <p:spPr>
          <a:xfrm>
            <a:off x="38088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S DEL APEGO</a:t>
            </a:r>
            <a:endParaRPr b="0" lang="en-US" sz="1800" spc="-1" strike="noStrike">
              <a:solidFill>
                <a:srgbClr val="ffffff"/>
              </a:solidFill>
              <a:latin typeface="Arial"/>
            </a:endParaRPr>
          </a:p>
        </p:txBody>
      </p:sp>
      <p:sp>
        <p:nvSpPr>
          <p:cNvPr id="236" name=""/>
          <p:cNvSpPr/>
          <p:nvPr/>
        </p:nvSpPr>
        <p:spPr>
          <a:xfrm>
            <a:off x="3733920" y="2362320"/>
            <a:ext cx="1584360" cy="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48640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TIPOS DE APEGO</a:t>
            </a:r>
            <a:endParaRPr b="0" lang="en-US" sz="1800" spc="-1" strike="noStrike">
              <a:solidFill>
                <a:srgbClr val="ffffff"/>
              </a:solidFill>
              <a:latin typeface="Arial"/>
            </a:endParaRPr>
          </a:p>
        </p:txBody>
      </p:sp>
      <p:sp>
        <p:nvSpPr>
          <p:cNvPr id="238" name=""/>
          <p:cNvSpPr/>
          <p:nvPr/>
        </p:nvSpPr>
        <p:spPr>
          <a:xfrm>
            <a:off x="0" y="3124080"/>
            <a:ext cx="4103640" cy="33858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1: ORIENTACIÓN HACIA LAS PERSONAS SIN RECONOCIMIENTO DE LAS FIGURAS QUE LO CUIDAN (O-3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2: INTERACCIÓN PRIVILEGIADA CON LAS FIGURAS FAMILIARES SIN RECHAZAR A LOS EXTRAÑOS (3-7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3: VINCULACIÓN Y MIEDO A LOS EXTRAÑOS (8-12 MESES)</a:t>
            </a:r>
            <a:r>
              <a:rPr b="0" lang="es-ES_tradnl" sz="1600" spc="-1" strike="noStrike">
                <a:solidFill>
                  <a:srgbClr val="ffffff"/>
                </a:solidFill>
                <a:latin typeface="Impact"/>
              </a:rPr>
              <a:t>               </a:t>
            </a:r>
            <a:endParaRPr b="0" lang="en-US" sz="1600" spc="-1" strike="noStrike">
              <a:solidFill>
                <a:srgbClr val="ffffff"/>
              </a:solidFill>
              <a:latin typeface="Arial"/>
            </a:endParaRPr>
          </a:p>
        </p:txBody>
      </p:sp>
      <p:sp>
        <p:nvSpPr>
          <p:cNvPr id="239" name=""/>
          <p:cNvSpPr/>
          <p:nvPr/>
        </p:nvSpPr>
        <p:spPr>
          <a:xfrm>
            <a:off x="5040360" y="3124080"/>
            <a:ext cx="4103640" cy="1813320"/>
          </a:xfrm>
          <a:prstGeom prst="rect">
            <a:avLst/>
          </a:prstGeom>
          <a:solidFill>
            <a:srgbClr val="3399ff"/>
          </a:solidFill>
          <a:ln w="0">
            <a:noFill/>
          </a:ln>
        </p:spPr>
        <p:style>
          <a:lnRef idx="0"/>
          <a:fillRef idx="0"/>
          <a:effectRef idx="0"/>
          <a:fontRef idx="minor"/>
        </p:style>
        <p:txBody>
          <a:bodyPr lIns="90000" rIns="90000" tIns="46800" bIns="46800" anchor="t">
            <a:spAutoFit/>
          </a:bodyPr>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SEGURO</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ANSIOSO AMBIVALENTE</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EVITATIVO</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pic>
        <p:nvPicPr>
          <p:cNvPr id="243" name="" descr=""/>
          <p:cNvPicPr/>
          <p:nvPr/>
        </p:nvPicPr>
        <p:blipFill>
          <a:blip r:embed="rId1"/>
          <a:stretch/>
        </p:blipFill>
        <p:spPr>
          <a:xfrm>
            <a:off x="228600" y="2057400"/>
            <a:ext cx="8686800" cy="432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br>
              <a:rPr sz="3200"/>
            </a:br>
            <a:r>
              <a:rPr b="1" lang="es-ES_tradnl" sz="2000" spc="-1" strike="noStrike">
                <a:solidFill>
                  <a:srgbClr val="ffffff"/>
                </a:solidFill>
                <a:latin typeface="Arial"/>
              </a:rPr>
              <a:t>FACTORES QUE INFLUYEN EN EL DESARROLLO PSICO-MOTOR DEL NIÑO</a:t>
            </a:r>
            <a:br>
              <a:rPr sz="2000"/>
            </a:br>
            <a:endParaRPr b="0" lang="en-US" sz="20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533520" y="1447920"/>
            <a:ext cx="7924680" cy="473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gramas de estimulación temprana</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Estimulación temprana es definida como el conjunto de acciones tendientes a proporcionar al niño las experiencias que éste necesita desde su nacimiento para desarrollar al máximo su potencial psicológico (UNICEF).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logra a través de la presencia de personas y objetos en cantidad y oportunidad adecuadas y en el contexto de situaciones de variada complejidad que generan en el niño un cierto grado de interés y actividad.</a:t>
            </a:r>
            <a:r>
              <a:rPr b="0" lang="es-ES_tradnl" sz="2000" spc="-1" strike="noStrike">
                <a:solidFill>
                  <a:srgbClr val="000000"/>
                </a:solidFill>
                <a:latin typeface="PLOIDO+ArialMT"/>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
          <p:cNvSpPr/>
          <p:nvPr/>
        </p:nvSpPr>
        <p:spPr>
          <a:xfrm>
            <a:off x="533520" y="1738440"/>
            <a:ext cx="7924680" cy="444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400" spc="-1" strike="noStrike">
                <a:solidFill>
                  <a:srgbClr val="ffffff"/>
                </a:solidFill>
                <a:latin typeface="Arial"/>
              </a:rPr>
              <a:t>Desarrollo psicomotor como variable integral</a:t>
            </a:r>
            <a:r>
              <a:rPr b="1" lang="es-ES_tradnl"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bien los grupos sociales en situación de desventaja pueden considerarse como “grupos de riesgo”, se observa que en un ambiente aparentemente similar una proporción importante de niños crece y se desarrolla normalmente. </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fecto, no todos los niños de sectores marginales presentan déficit en su desarrollo. Por ejemplo, en el estudio de la UNICEF citado anteriormente, se observó que un 53% de los niños estaban en un buen estado nutricional y adecuado nivel de desarrollo psicomot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PROCESO COMPRENDE 3 ETAP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
          <p:cNvSpPr/>
          <p:nvPr/>
        </p:nvSpPr>
        <p:spPr>
          <a:xfrm>
            <a:off x="3780000" y="285264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50920" y="234936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GERMI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 FECUND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2 SEMANAS</a:t>
            </a:r>
            <a:endParaRPr b="0" lang="en-US" sz="1800" spc="-1" strike="noStrike">
              <a:solidFill>
                <a:srgbClr val="ffffff"/>
              </a:solidFill>
              <a:latin typeface="Arial"/>
            </a:endParaRPr>
          </a:p>
        </p:txBody>
      </p:sp>
      <p:sp>
        <p:nvSpPr>
          <p:cNvPr id="135" name=""/>
          <p:cNvSpPr/>
          <p:nvPr/>
        </p:nvSpPr>
        <p:spPr>
          <a:xfrm>
            <a:off x="250920" y="386064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EMBRION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S 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8 ó 12 SEMA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250920" y="5373720"/>
            <a:ext cx="3406680" cy="100800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FE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8 ó 1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EL NACIMIENTO</a:t>
            </a:r>
            <a:endParaRPr b="0" lang="en-US" sz="1800" spc="-1" strike="noStrike">
              <a:solidFill>
                <a:srgbClr val="ffffff"/>
              </a:solidFill>
              <a:latin typeface="Arial"/>
            </a:endParaRPr>
          </a:p>
        </p:txBody>
      </p:sp>
      <p:sp>
        <p:nvSpPr>
          <p:cNvPr id="137" name=""/>
          <p:cNvSpPr/>
          <p:nvPr/>
        </p:nvSpPr>
        <p:spPr>
          <a:xfrm>
            <a:off x="3780000" y="436572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780000" y="580536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2060640"/>
            <a:ext cx="4392720" cy="143964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ASTA QUE EL CIGOTO SE ADHIE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 </a:t>
            </a:r>
            <a:r>
              <a:rPr b="1" lang="es-MX" sz="1800" spc="-1" strike="noStrike">
                <a:solidFill>
                  <a:srgbClr val="000099"/>
                </a:solidFill>
                <a:latin typeface="Arial"/>
              </a:rPr>
              <a:t>A LA PARED DEL ÚTERO</a:t>
            </a:r>
            <a:endParaRPr b="0" lang="en-US" sz="1800" spc="-1" strike="noStrike">
              <a:solidFill>
                <a:srgbClr val="ffffff"/>
              </a:solidFill>
              <a:latin typeface="Arial"/>
            </a:endParaRPr>
          </a:p>
        </p:txBody>
      </p:sp>
      <p:sp>
        <p:nvSpPr>
          <p:cNvPr id="140" name=""/>
          <p:cNvSpPr/>
          <p:nvPr/>
        </p:nvSpPr>
        <p:spPr>
          <a:xfrm>
            <a:off x="4572000" y="3500280"/>
            <a:ext cx="4392720" cy="1584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SARROLLO Y DIFERENCI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 SISTEMAS CORPORA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572000" y="5157720"/>
            <a:ext cx="4392720" cy="151128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CRECIMIENTO DEL NEONA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ORMALIDADES O ALTERACIONES CROMOSOM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FERMEDADES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468360" y="285264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SINDROME DE DOWN</a:t>
            </a:r>
            <a:endParaRPr b="0" lang="en-US" sz="1800" spc="-1" strike="noStrike">
              <a:solidFill>
                <a:srgbClr val="ffffff"/>
              </a:solidFill>
              <a:latin typeface="Arial"/>
            </a:endParaRPr>
          </a:p>
        </p:txBody>
      </p:sp>
      <p:sp>
        <p:nvSpPr>
          <p:cNvPr id="145" name=""/>
          <p:cNvSpPr/>
          <p:nvPr/>
        </p:nvSpPr>
        <p:spPr>
          <a:xfrm>
            <a:off x="4932360" y="285264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SINDROME DE TURN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419640" y="4797360"/>
            <a:ext cx="187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RUBEOLA</a:t>
            </a:r>
            <a:endParaRPr b="0" lang="en-US" sz="1800" spc="-1" strike="noStrike">
              <a:solidFill>
                <a:srgbClr val="ffffff"/>
              </a:solidFill>
              <a:latin typeface="Arial"/>
            </a:endParaRPr>
          </a:p>
        </p:txBody>
      </p:sp>
      <p:sp>
        <p:nvSpPr>
          <p:cNvPr id="147" name=""/>
          <p:cNvSpPr/>
          <p:nvPr/>
        </p:nvSpPr>
        <p:spPr>
          <a:xfrm>
            <a:off x="25092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NFERMEDAD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VENEREAS</a:t>
            </a:r>
            <a:endParaRPr b="0" lang="en-US" sz="1800" spc="-1" strike="noStrike">
              <a:solidFill>
                <a:srgbClr val="ffffff"/>
              </a:solidFill>
              <a:latin typeface="Arial"/>
            </a:endParaRPr>
          </a:p>
        </p:txBody>
      </p:sp>
      <p:sp>
        <p:nvSpPr>
          <p:cNvPr id="148" name=""/>
          <p:cNvSpPr/>
          <p:nvPr/>
        </p:nvSpPr>
        <p:spPr>
          <a:xfrm>
            <a:off x="565164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IPERTEN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MATER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NUTRICIÓN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GESTIÓN DE SUSTANCI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DO EMOCIONAL DE LA MADRE</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a:off x="684360" y="357336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ALCOHOL</a:t>
            </a:r>
            <a:endParaRPr b="0" lang="en-US" sz="1800" spc="-1" strike="noStrike">
              <a:solidFill>
                <a:srgbClr val="ffffff"/>
              </a:solidFill>
              <a:latin typeface="Arial"/>
            </a:endParaRPr>
          </a:p>
        </p:txBody>
      </p:sp>
      <p:sp>
        <p:nvSpPr>
          <p:cNvPr id="152" name=""/>
          <p:cNvSpPr/>
          <p:nvPr/>
        </p:nvSpPr>
        <p:spPr>
          <a:xfrm>
            <a:off x="5003640" y="357336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NICOTI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2771640" y="501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PATOLOGIA MEN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VINCULO TEMPRANO</a:t>
            </a:r>
            <a:endParaRPr b="0" lang="en-US" sz="32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vínculos tempranos constituyen factores determinantes en nuestro desarrollo.  La persona que generalmente establece este vínculo con el bebé es la madre, de allí que a continuación nos referiremos al vínculo temprano “madre-hijo” pese a que este vínculo puede establecerse con la persona que cumple la función de cuidador principal del bebé.</a:t>
            </a:r>
            <a:endParaRPr b="0" lang="en-US" sz="2400" spc="-1" strike="noStrike">
              <a:solidFill>
                <a:srgbClr val="ffffff"/>
              </a:solidFill>
              <a:latin typeface="Arial"/>
            </a:endParaRPr>
          </a:p>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bé debe desarrollar un aparato mental para sobrevivir, manejarse a sí mismo y relacionarse con los demás y el mundo que le rodea. Para ello está equipado con un potencial genético, pero su vínculo mental con la madre le permitirá desplegar su potencial  y completar este desarroll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CEPTO VINCULO TEMPRANO</a:t>
            </a:r>
            <a:endParaRPr b="0" lang="en-US" sz="32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temprano  vínculo madre-hijo entendemos una relación de afecto, activa y recíproca.  Es decir, desde un principio madre (o cuidador) e hijo participan en una compleja interacción donde el comportamiento de uno es regulado por el comportamiento del otro. Tanto el bebé como la madre contribuyen en su interacción y se influyen mutuamente.</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a:t>
            </a:r>
            <a:endParaRPr b="0" lang="en-US" sz="32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e contexto Bowlby hace una nueva propuesta señalando que el vínculo social es una necesidad primaria (no secundaria a otra necesidad).  El lazo con la madre según este autor no resulta de un proceso de aprendizaje ni por asociación, sino que emerge como resultado de presiones evolutivas. De esta manera, formar lazos de apego es inherente a la naturaleza humana, así como lo es el brindar cuidados (papel complementario a la conducta de apego).</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DUCTA DE APEGO</a:t>
            </a:r>
            <a:endParaRPr b="0" lang="en-US" sz="3200" spc="-1" strike="noStrike">
              <a:solidFill>
                <a:srgbClr val="e3e3ff"/>
              </a:solidFill>
              <a:latin typeface="Arial"/>
            </a:endParaRPr>
          </a:p>
        </p:txBody>
      </p:sp>
      <p:sp>
        <p:nvSpPr>
          <p:cNvPr id="161" name="PlaceHolder 2"/>
          <p:cNvSpPr>
            <a:spLocks noGrp="1"/>
          </p:cNvSpPr>
          <p:nvPr>
            <p:ph/>
          </p:nvPr>
        </p:nvSpPr>
        <p:spPr>
          <a:xfrm>
            <a:off x="457200" y="181296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fecto, la conducta de apego se organiza mediante un sistema de control dentro del sistema nervioso central, análogo a los sistemas de control fisiológico. Es decir, de un modo análogo a la homeostasis fisiológica, existiría una “homeostasis ambiental”. El sistema de control del apego mantiene la conexión de una persona con su figura de apego entre ciertos límites de distancia y accesibilidad, usando para ello métodos de comunicación cada vez más sofisticados.</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8:49Z</dcterms:created>
  <dc:creator>airp</dc:creator>
  <dc:description/>
  <dc:language>en-US</dc:language>
  <cp:lastModifiedBy>WinuE</cp:lastModifiedBy>
  <dcterms:modified xsi:type="dcterms:W3CDTF">2008-08-12T03:13:55Z</dcterms:modified>
  <cp:revision>8</cp:revision>
  <dc:subject/>
  <dc:title>PSICOLOGIA EVOLUTIVA</dc:title>
</cp:coreProperties>
</file>