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835-EAA0-494C-87CA-79808FC4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584A-BCB2-4138-B7D7-B30DD775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C68E-EDDD-46B4-82AF-DF6B61EF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2247-71DB-4B30-ADEB-BD3F0E27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428-7A91-4ED4-AF54-09061763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3A4C-6F60-4CCA-89FD-2418D2B02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AE1-D7F1-472E-981E-E1B4FB05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4A7-D40D-4477-B743-ED8322B4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76FA-A2A6-488C-860E-433394CD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577-9D28-4132-AC09-7ABA7D6D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5AD6-A888-4247-9462-09B665AB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79C-EF1D-4FC1-BAE3-D5D84973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8F89-8466-4D0C-8320-B89CE923D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cn.ch/LFCbenefits.jpg" TargetMode="External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nife.edu.pe/salud/salud4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844280"/>
            <a:ext cx="8226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" sz="4000" spc="-1" strike="noStrike">
                <a:solidFill>
                  <a:srgbClr val="3333cc"/>
                </a:solidFill>
                <a:latin typeface="Arial"/>
              </a:rPr>
              <a:t>Confidencialidad </a:t>
            </a:r>
            <a:br>
              <a:rPr sz="4000"/>
            </a:br>
            <a:r>
              <a:rPr b="1" lang="es-ES" sz="4000" spc="-1" strike="noStrike">
                <a:solidFill>
                  <a:srgbClr val="3333cc"/>
                </a:solidFill>
                <a:latin typeface="Arial"/>
              </a:rPr>
              <a:t>y   </a:t>
            </a:r>
            <a:br>
              <a:rPr sz="4000"/>
            </a:br>
            <a:r>
              <a:rPr b="1" lang="es-ES" sz="4000" spc="-1" strike="noStrike">
                <a:solidFill>
                  <a:srgbClr val="3333cc"/>
                </a:solidFill>
                <a:latin typeface="Arial"/>
              </a:rPr>
              <a:t>Relación Clín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914400" y="609480"/>
          <a:ext cx="914400" cy="144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609480"/>
                    <a:ext cx="9144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743200" y="44370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ura Rueda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ioética en Preg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cultad Medic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deliberativo/compart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53188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50021"/>
                </a:solidFill>
                <a:latin typeface="Arial"/>
              </a:rPr>
              <a:t>Valores del pa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50021"/>
                </a:solidFill>
                <a:latin typeface="Arial"/>
              </a:rPr>
              <a:t>Autonom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50021"/>
                </a:solidFill>
                <a:latin typeface="Arial"/>
              </a:rPr>
              <a:t>Obligación del prof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50021"/>
                </a:solidFill>
                <a:latin typeface="Arial"/>
              </a:rPr>
              <a:t>Rol prof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124080" y="1598760"/>
            <a:ext cx="601992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biertos a discusión y rev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todesarrollo valores relev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ructurar y persuadir propuestas mejores, informar, imple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rientador, maes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deliberativo/compart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289548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a50021"/>
                </a:solidFill>
                <a:latin typeface="Arial"/>
              </a:rPr>
              <a:t>Intercambio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a50021"/>
                </a:solidFill>
                <a:latin typeface="Arial"/>
              </a:rPr>
              <a:t>Delib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a50021"/>
                </a:solidFill>
                <a:latin typeface="Arial"/>
              </a:rPr>
              <a:t>Dec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4960" y="1523520"/>
            <a:ext cx="5638680" cy="49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dico              paciente; información médica y personal; para tomar dec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dico y paciente (+ otros potenci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ional y pa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1676520"/>
            <a:ext cx="1067040" cy="295200"/>
          </a:xfrm>
          <a:prstGeom prst="leftRightArrow">
            <a:avLst>
              <a:gd name="adj1" fmla="val 50000"/>
              <a:gd name="adj2" fmla="val 71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Arial"/>
              </a:rPr>
              <a:t>Modelo Interpretativo/Contr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3224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50021"/>
                </a:solidFill>
                <a:latin typeface="Arial"/>
              </a:rPr>
              <a:t>Valores del pa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50021"/>
                </a:solidFill>
                <a:latin typeface="Arial"/>
              </a:rPr>
              <a:t>Autonom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50021"/>
                </a:solidFill>
                <a:latin typeface="Arial"/>
              </a:rPr>
              <a:t>Obligación prof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50021"/>
                </a:solidFill>
                <a:latin typeface="Arial"/>
              </a:rPr>
              <a:t>Rol prof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92360" y="1598760"/>
            <a:ext cx="518976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co definidos, a aclar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tocomprensión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terminar, interpretar, informar, imple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ultor, conse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Arial"/>
              </a:rPr>
              <a:t>Modelo Interpretativo/Contra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281916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a50021"/>
                </a:solidFill>
                <a:latin typeface="Arial"/>
              </a:rPr>
              <a:t>Intercambio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a50021"/>
                </a:solidFill>
                <a:latin typeface="Arial"/>
              </a:rPr>
              <a:t>Delib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a50021"/>
                </a:solidFill>
                <a:latin typeface="Arial"/>
              </a:rPr>
              <a:t>Dec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76720" y="1598760"/>
            <a:ext cx="586728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bre todo, médico                   paciente; información médica; relev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ciente (+ otros potenci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175248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Arial"/>
              </a:rPr>
              <a:t>Modelo Informativo/Técn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53224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50021"/>
                </a:solidFill>
                <a:latin typeface="Arial"/>
              </a:rPr>
              <a:t>Valores del pa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50021"/>
                </a:solidFill>
                <a:latin typeface="Arial"/>
              </a:rPr>
              <a:t>Autonom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50021"/>
                </a:solidFill>
                <a:latin typeface="Arial"/>
              </a:rPr>
              <a:t>Obligación prof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50021"/>
                </a:solidFill>
                <a:latin typeface="Arial"/>
              </a:rPr>
              <a:t>Rol profe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92360" y="1598760"/>
            <a:ext cx="534672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inidos, fijos, cono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ec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ar información e implementar decisión del pa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entífico, técn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Arial"/>
              </a:rPr>
              <a:t>Modelo Informativo/Técn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2895480" cy="49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a50021"/>
                </a:solidFill>
                <a:latin typeface="Arial"/>
              </a:rPr>
              <a:t>Intercambio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a50021"/>
                </a:solidFill>
                <a:latin typeface="Arial"/>
              </a:rPr>
              <a:t>Delib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a50021"/>
                </a:solidFill>
                <a:latin typeface="Arial"/>
              </a:rPr>
              <a:t>Dec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2360" y="1598760"/>
            <a:ext cx="518976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esional                      paciente; información médica; relev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1828800"/>
            <a:ext cx="865440" cy="216000"/>
          </a:xfrm>
          <a:prstGeom prst="rightArrow">
            <a:avLst>
              <a:gd name="adj1" fmla="val 50000"/>
              <a:gd name="adj2" fmla="val 1001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oceso de Consentir informadamente en Atención de la Sal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3733920"/>
            <a:ext cx="1981440" cy="213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914400" y="609480"/>
          <a:ext cx="91440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609480"/>
                    <a:ext cx="9144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00"/>
                </a:solidFill>
                <a:latin typeface="Arial"/>
              </a:rPr>
              <a:t>¿ Porqué es un procedimiento étic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cc"/>
                </a:solidFill>
                <a:latin typeface="Arial"/>
              </a:rPr>
              <a:t>Corresponde a la ética de Máx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cc"/>
                </a:solidFill>
                <a:latin typeface="Arial"/>
              </a:rPr>
              <a:t>Evaluación de capacidad y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cc"/>
                </a:solidFill>
                <a:latin typeface="Arial"/>
              </a:rPr>
              <a:t>Respeto de la Autonom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cc"/>
                </a:solidFill>
                <a:latin typeface="Arial"/>
              </a:rPr>
              <a:t>Relación inter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4038480"/>
            <a:ext cx="13716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28240" y="1523520"/>
            <a:ext cx="3505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465120" indent="-46512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peto a  las person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Autonomí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191120" y="1600200"/>
            <a:ext cx="4952520" cy="990720"/>
            <a:chOff x="4191120" y="1600200"/>
            <a:chExt cx="4952520" cy="990720"/>
          </a:xfrm>
        </p:grpSpPr>
        <p:sp>
          <p:nvSpPr>
            <p:cNvPr id="94" name=""/>
            <p:cNvSpPr/>
            <p:nvPr/>
          </p:nvSpPr>
          <p:spPr>
            <a:xfrm>
              <a:off x="4191120" y="1662120"/>
              <a:ext cx="1007280" cy="682200"/>
            </a:xfrm>
            <a:prstGeom prst="rightArrow">
              <a:avLst>
                <a:gd name="adj1" fmla="val 50000"/>
                <a:gd name="adj2" fmla="val 3691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66160" y="1600200"/>
              <a:ext cx="37774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31840" algn="ctr">
                <a:lnSpc>
                  <a:spcPct val="100000"/>
                </a:lnSpc>
                <a:spcBef>
                  <a:spcPts val="799"/>
                </a:spcBef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990000"/>
                  </a:solidFill>
                  <a:latin typeface="Arial"/>
                </a:rPr>
                <a:t>Consentimiento Informa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85800" y="3733920"/>
            <a:ext cx="36576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1200" indent="-511200" algn="ctr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eneficen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1200" indent="-511200" algn="ctr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5105520"/>
            <a:ext cx="37339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1200" indent="-511200" algn="ctr">
              <a:lnSpc>
                <a:spcPct val="100000"/>
              </a:lnSpc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usti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3276720"/>
            <a:ext cx="2057400" cy="1143000"/>
          </a:xfrm>
          <a:custGeom>
            <a:avLst/>
            <a:gdLst>
              <a:gd name="textAreaLeft" fmla="*/ 685800 w 2057400"/>
              <a:gd name="textAreaRight" fmla="*/ 1762200 w 2057400"/>
              <a:gd name="textAreaTop" fmla="*/ 658440 h 1143000"/>
              <a:gd name="textAreaBottom" fmla="*/ 97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2819520"/>
            <a:ext cx="914400" cy="1904760"/>
          </a:xfrm>
          <a:prstGeom prst="upArrow">
            <a:avLst>
              <a:gd name="adj1" fmla="val 50000"/>
              <a:gd name="adj2" fmla="val 520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533520"/>
            <a:ext cx="81536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CONSENTIMIENTO INFORM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Consiste en la explicación, a un paciente atento y </a:t>
            </a:r>
            <a:r>
              <a:rPr b="0" lang="en-US" sz="3200" spc="-1" strike="noStrike">
                <a:solidFill>
                  <a:srgbClr val="339966"/>
                </a:solidFill>
                <a:latin typeface="Comic Sans MS"/>
              </a:rPr>
              <a:t>mentalmente competente</a:t>
            </a: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, la naturaleza de su enfermedad, así como del balance entre los efectos de la misma y los riesgos y beneficios de los procedimientos terapéuticos recomendados, para a continuación solicitarle  su aprobación para ser sometido a esos procedimien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a confianza, la clave de la relación con el client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una fórmula, la confianza es igual a la credibilidad más la confiabilidad más la intimidad sobre la ori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ortancia de la formación de un clima de confianza en las relaciones con el cliente / pacient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MSF en Colombia"/>
          <p:cNvPicPr/>
          <p:nvPr/>
        </p:nvPicPr>
        <p:blipFill>
          <a:blip r:embed="rId2"/>
          <a:stretch/>
        </p:blipFill>
        <p:spPr>
          <a:xfrm>
            <a:off x="1828800" y="1219320"/>
            <a:ext cx="5257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 Unicode MS"/>
              </a:rPr>
              <a:t>CONSENTIMIENTO INFORM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205000"/>
            <a:ext cx="769608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 Unicode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Unicode MS"/>
              </a:rPr>
              <a:t>Reconocer el derecho a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 Unicode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Unicode MS"/>
              </a:rPr>
              <a:t>Evaluar la necesidad de información del pa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 Unicode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Unicode MS"/>
              </a:rPr>
              <a:t>Evaluar las dificultades del paciente para recibir la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 Unicode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Unicode MS"/>
              </a:rPr>
              <a:t>Detectar la posición de la familia con respecto a la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 Unicode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Unicode MS"/>
              </a:rPr>
              <a:t>Decidir que información debe darse al pac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 Unicode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Unicode MS"/>
              </a:rPr>
              <a:t>Desarrollar habilidades para comunicar situaciones difíc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Arial Unicode M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 Unicode MS"/>
              </a:rPr>
              <a:t>Decidir quién debe ofrecer los distintos contenidos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981000"/>
            <a:ext cx="72392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Unicode MS"/>
              </a:rPr>
              <a:t>CRITERIOS A SEGUIR PARA INFORM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Unicode MS"/>
              </a:rPr>
              <a:t>La información debe ser continuada , tanto verbal como escrita y ha de ser adaptada a quien va dirig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Unicode MS"/>
              </a:rPr>
              <a:t>Favorecer la comprensión de la información mediante su simplificación pero sin que ello la haga insu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Unicode MS"/>
              </a:rPr>
              <a:t>Conocer las situaciones de excepciones al consentimiento inform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4360" y="765000"/>
            <a:ext cx="723888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Unicode MS"/>
              </a:rPr>
              <a:t>CONTENIDOS DE LA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Unicode MS"/>
              </a:rPr>
              <a:t>Descripción del procedimiento propuesto, objetivos y  técn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Unicode MS"/>
              </a:rPr>
              <a:t>Riesgos, molestias y posibles efectos secundar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Unicode MS"/>
              </a:rPr>
              <a:t>Beneficios del procedimiento a corto, medio y larg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Unicode MS"/>
              </a:rPr>
              <a:t>Efectos previsibles sino se lleva a cabo ningún proced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Unicode MS"/>
              </a:rPr>
              <a:t>Informar de la libertad que posee el paciente para reconsiderar la decisión tom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 RELACIÓN A LA AUTONOM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00"/>
                </a:solidFill>
                <a:latin typeface="Tahoma"/>
              </a:rPr>
              <a:t>Diferencia entre Capacidad y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00"/>
                </a:solidFill>
                <a:latin typeface="Tahoma"/>
              </a:rPr>
              <a:t>Escala móvil de Capacidad (J. Drane 198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00"/>
                </a:solidFill>
                <a:latin typeface="Tahoma"/>
              </a:rPr>
              <a:t>Consentimiento Informado (Competenc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00"/>
                </a:solidFill>
                <a:latin typeface="Tahoma"/>
              </a:rPr>
              <a:t>Sustitución de la autonomía hacia otro integrante de la Fami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00"/>
                </a:solidFill>
                <a:latin typeface="Tahoma"/>
              </a:rPr>
              <a:t>Teoría del menor mad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TECCIÓN de la VULNERAB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ahoma"/>
              </a:rPr>
              <a:t>FUNDAME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ÉTICA del CUID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ÉTICA de la FRAG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 Unicode MS"/>
              </a:rPr>
              <a:t>CONSENTIMIENTO INFORM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2120" y="2057400"/>
            <a:ext cx="75438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00"/>
                </a:solidFill>
                <a:latin typeface="Arial Unicode MS"/>
              </a:rPr>
              <a:t>1º Capacidad Juríd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Unicode MS"/>
              </a:rPr>
              <a:t>Es la aptitud para ser sujeto de derechos y obligaciones que tiene todo ser humano por el mero hecho de ser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Unicode MS"/>
              </a:rPr>
              <a:t>Toda persona tiene por definición capacidad juríd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Unicode MS"/>
              </a:rPr>
              <a:t>Es un concepto está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 Unicode MS"/>
              </a:rPr>
              <a:t>CONSENTIMIENTO INFORM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2362320"/>
            <a:ext cx="746784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 Unicode MS"/>
              </a:rPr>
              <a:t>2º Capacidad de obrar</a:t>
            </a:r>
            <a:r>
              <a:rPr b="1" lang="en-US" sz="2800" spc="-1" strike="noStrike">
                <a:solidFill>
                  <a:srgbClr val="990000"/>
                </a:solidFill>
                <a:latin typeface="Arial Unicode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Unicode MS"/>
              </a:rPr>
              <a:t>Es la aptitud de la persona para gobernar los derechos y obligaciones de que es titular, ejercitando unos o cumpliendo ot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Unicode MS"/>
              </a:rPr>
              <a:t>Toda persona tiene por definición capacidad de obrar, pero puede perde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 Unicode MS"/>
              </a:rPr>
              <a:t>Es un concepto dinám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1447920"/>
            <a:ext cx="72388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 Unicode MS"/>
              </a:rPr>
              <a:t>EXCEPCIONES AL CONSENTIMIENTO INFORM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Unicode MS"/>
              </a:rPr>
              <a:t>Rechazo explícito de toda información por el pa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Unicode MS"/>
              </a:rPr>
              <a:t>Grave peligro para la salud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Unicode MS"/>
              </a:rPr>
              <a:t>Situación real y grave que no permite dem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Unicode MS"/>
              </a:rPr>
              <a:t>Imperativo leg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Unicode MS"/>
              </a:rPr>
              <a:t>Incompetencia/incapacidad del enfer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 Unicode MS"/>
              </a:rPr>
              <a:t>Privilegio terapéu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redibilid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ncuentra en las palabras, en la confianza del cliente / paciente, en lo que yo como profesional le digo. Se incrementa en la medida que la persona perciba que se le habla con la verdad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nfiabilid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refiere a las acciones, a la confianza del usuario en el servicio. Se mejora a través de la prestación de más y mejores servicios o atenciones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timida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asunto de seguridad. Explica la confianza del usuario respecto de la discrecionalidad que le brinda el servicio y la empatía que surge en la relación. Es decir, opera esa conexión emocional en la relación. Se mide en la confianza de la persona para asumir riesgos y sentirse respaldada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Orientac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fine la forma en que el usuario recibe atención y es orientado en todos los procesos. Cuando se presenta en mayor grado, la confianza se incrementa. El cliente necesita sentirse bien atendido, que el servicio / equipo se preocupa por él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6913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s-ES" sz="4400" spc="-1" strike="noStrike">
                <a:solidFill>
                  <a:srgbClr val="3333cc"/>
                </a:solidFill>
                <a:latin typeface="Arial"/>
              </a:rPr>
              <a:t>La Relación Clí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0328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Unicode MS"/>
              </a:rPr>
              <a:t>Modelos de relación clí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Unicode MS"/>
              </a:rPr>
              <a:t>Resumen de los modelos de Veatch, Emanuel y Char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cc"/>
                </a:solidFill>
                <a:latin typeface="Arial"/>
              </a:rPr>
              <a:t>Modelo paternali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3065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Valores del pa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Obligación del 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Rol del profe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819160" y="1219320"/>
            <a:ext cx="6019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ivos, a compartir entre médico y pa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sumir los valores mèd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omover bienestar del paciente, independiente de sus 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uardián, “protect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paternali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306540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a50021"/>
                </a:solidFill>
                <a:latin typeface="Arial"/>
              </a:rPr>
              <a:t>Intercambio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a50021"/>
                </a:solidFill>
                <a:latin typeface="Arial"/>
              </a:rPr>
              <a:t>Delib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a50021"/>
                </a:solidFill>
                <a:latin typeface="Arial"/>
              </a:rPr>
              <a:t>Deci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00400" y="1294920"/>
            <a:ext cx="5410080" cy="49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dico              paciente, información médica; mínimo marcado por la 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los profes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 los profes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057400"/>
            <a:ext cx="720720" cy="216000"/>
          </a:xfrm>
          <a:prstGeom prst="rightArrow">
            <a:avLst>
              <a:gd name="adj1" fmla="val 50000"/>
              <a:gd name="adj2" fmla="val 834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0T19:33:05Z</dcterms:created>
  <dc:creator>OPS/OMS</dc:creator>
  <dc:description/>
  <dc:language>en-US</dc:language>
  <cp:lastModifiedBy>Facultad de Medicina</cp:lastModifiedBy>
  <cp:lastPrinted>2000-04-11T20:09:51Z</cp:lastPrinted>
  <dcterms:modified xsi:type="dcterms:W3CDTF">2008-04-08T19:06:36Z</dcterms:modified>
  <cp:revision>34</cp:revision>
  <dc:subject/>
  <dc:title>CONSENTIMIENTO INFORMADO</dc:title>
</cp:coreProperties>
</file>