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BBD-992B-4318-9897-832950FF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A5E-D78D-4ED8-8111-AC9D91A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45B-86B3-4133-AF54-CAB88073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DCC-2864-4D81-B889-E75B58AC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110-440C-445A-B880-D45B1499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F79-9A9B-416E-92FB-3CD2672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0F1-83BD-4BC3-A9CC-09828726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B09-DB8A-4AE9-88B2-36EEB1A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685-639C-4BBC-9DAD-E502DE34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297-5FAC-43E4-9D23-FDD3D7C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CC1-6750-4FD0-B67F-F651B416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F09-9C43-48A9-A926-D669765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658-0643-450F-B5EB-3410EFFE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460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STRUMENTO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ÉCNICA MOTIV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STRUMENTO DE PLANEACION Y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sistema administrativo integral en el que se combinan en forma sistémica muchas actividades administrativas básicas y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l cual persigue deliberadamente el cumplimiento eficaz y eficiente de los objetivos organizacionales e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omenta el autocontrol y la auto-dir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657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5122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Énfasis en la Evaluación d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subordinados asumen la responsabilidad de establecer sus propios objetivos a corto plazo, los cuales revisan después con sus sup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l Administrado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tonce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cita la participación activa de los subordinados en el proceso de evaluació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lo cual genera mayor compromiso y hace surgir un ambiente de moti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576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Énfasis en los objetivos a Corto Plazo y Moti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un cuando el establecimiento de objetivos no es el único factor de la motivación (otros son los incentivos, la participación y la autonomía)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s sin duda una fuente de motivación al comprobarse que el desempeño se ve incrementado cuando la gente dispone de objetivos específicos e individuales a alcan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309744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clusión de la Planeación a Largo Plazo en el proceso de la A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locar atención al corto plazo es importante pero puede resultar indeseable en algunos casos como por ejemplo: Por economizar costos no se realiza un  mantenimiento adecuado de la maquinaria usada en el proceso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anterior se hizo necesario administrar por   objetivos a largo plaz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0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8920" y="1773360"/>
            <a:ext cx="403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stablecimiento de Objetivos Preliminares en la  C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 director general deberá establecer la misión de la organización y las metas mas importantes para cierto peri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stablecimiento de Objetivos de los Subordi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MX" sz="1600" spc="-1" strike="noStrike" u="sng">
                <a:solidFill>
                  <a:srgbClr val="ffffff"/>
                </a:solidFill>
                <a:uFillTx/>
                <a:latin typeface="Arial"/>
              </a:rPr>
              <a:t>Los administradores de nivel superior preguntan a los subordinados que metas creen son capaces de cumplir , en cuanto tiempo y con cuales recursos.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A continuación, los subordinados exponen ideas sobre lo que imaginan es posible de cumplir para la Empresa, Gerencia y/o Departamento vinculándolos con los objetivos generales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997360"/>
            <a:ext cx="2592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bjetivo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365720"/>
            <a:ext cx="259236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bjetivos Ger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661000"/>
            <a:ext cx="2592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bjetivos del Sub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3284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472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4869000"/>
            <a:ext cx="485640" cy="647640"/>
          </a:xfrm>
          <a:prstGeom prst="up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3573360"/>
            <a:ext cx="485640" cy="719280"/>
          </a:xfrm>
          <a:prstGeom prst="upArrow">
            <a:avLst>
              <a:gd name="adj1" fmla="val 50000"/>
              <a:gd name="adj2" fmla="val 37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6480" y="119700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l Proceso de Administración por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3789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5157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mo establecer los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individuos y grupos no pueden desempeñarse eficaz y eficientemente bien sin un propósito cl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ivos Cuantitativos y Cualit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Para ser medibles los objetivos deben ser verificables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 es decir debemos estar en condiciones de saber al final del periodo si se cumplió o no el obje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Objetivo no Verificable                          Objetivo Verif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Obtener utilidades razonables              Obtener un rendimiento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sobre la inversión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12% al final del año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5157720"/>
            <a:ext cx="48600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84640"/>
            <a:ext cx="4856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451640" y="4121280"/>
            <a:ext cx="1692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mo establecer los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Objetivos no solo deben indic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que hace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cuando hacerl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también debe indicar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la calidad desead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costos proyectados del cump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os además deben implic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un ret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dicar prioridades y promover el crecimiento y desarrollo personal y profe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96000" y="1773360"/>
            <a:ext cx="4248000" cy="353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8820000" y="5805360"/>
          <a:ext cx="17784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0000" y="5805360"/>
                    <a:ext cx="1778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Administración por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Beneficios y Desventajas de la Administración por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285264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43480" y="2873520"/>
            <a:ext cx="33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060640"/>
            <a:ext cx="3456000" cy="4295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Mejorar la administración gracias a la planeación orientada a los Result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Estimulo al compromiso personal tanto con los objetivos propios como con los organiza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ecisión de las funciones y estructuras organizacionales y de la delegación de autoridad en consonancia con los resultados esperados de las personas que ejercen las funciones respectiv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Desarrollo de controles eficaces, lo que permite medir el resultado  y emprender acciones correctiv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2060640"/>
            <a:ext cx="3816360" cy="44175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Las ineficiencias en cuanto a la enseñanza de la filosof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La omisión de pautas a quienes deben establecer los ob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La dificultad de establecer metas verificables dentro de ciertos limi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Se corre el riesgo de subrayar los objetivos de corto plazo a expensas de la solidez de la organización a largo plaz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Los riesgos de inflexibilidad que pueden hacer que los Adm. Vacilen en modificar los objetivos aun si fuese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Abuso de metas cuantific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8:33:52Z</dcterms:created>
  <dc:creator>Rodrigo Escobar</dc:creator>
  <dc:description/>
  <dc:language>en-US</dc:language>
  <cp:lastModifiedBy>Facultad de medicina</cp:lastModifiedBy>
  <dcterms:modified xsi:type="dcterms:W3CDTF">2007-03-20T02:11:52Z</dcterms:modified>
  <cp:revision>26</cp:revision>
  <dc:subject/>
  <dc:title>Administración por Objetivos</dc:title>
</cp:coreProperties>
</file>