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7CA-FEBA-44DF-ACE3-846AC945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BE1-14D5-454B-A98D-CEC96542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DA2-1F83-48B7-8EE7-8E3A681A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2EA-C0D7-4970-8D4F-AE09A639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5F0A-B649-4FD5-810D-EBDAA004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97B3-81D1-415F-90F9-3A258F27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D0AB-EC5C-46E2-B828-8FDEF834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7F8B-FA8A-410D-9D4A-28D449CF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87C8-3647-4C1F-9E58-6F9F589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20AF-AEC0-4CDA-BD42-D383D346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2AFA-75E5-4D34-A5CB-9E02A6C5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31E-0B6C-4EF8-9C78-E63F3D24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4F91-70C0-43B4-8870-CB0F5CE6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AB96-0D3D-46E0-8502-B114D88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C800-C124-49E5-A24D-1BCC2D1E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C327-77C3-4579-9B16-FDB014FB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8372-03C2-4F97-8880-25995C33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D62-2673-467F-8A26-FDCE5D16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174-8F28-427A-9D3C-5270B01A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229-1C5B-4B3A-A53B-D6B78C04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C11-B94C-4A02-9446-6E3DEFF3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1F5-07CB-4E8C-8A9C-68C0247E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696-33BE-4286-AD69-BCB7F0D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BF2-8D5D-488B-B78F-ED79E77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09800"/>
            <a:ext cx="9129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63C103-B4EF-44F7-883B-E2EC1D4BBB20}" type="slidenum">
              <a:rPr b="0" lang="en-GB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683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144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88" t="-1196" r="0" b="-36839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689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440" y="6324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3720" y="6324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1A0F86-F853-46F8-AC4E-EA2994A3D932}" type="slidenum">
              <a:rPr b="0" lang="en-GB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683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144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a3d7a"/>
                </a:solidFill>
                <a:latin typeface="Verdana"/>
              </a:rPr>
              <a:t>Niveles de Análisis de las Teorías de                    Liderazg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81760" y="5084640"/>
            <a:ext cx="455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Curso Liderazgo y Trabajo en Equip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Programa Complementario de Licenciatur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Facultad de Medici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f4081"/>
                </a:solidFill>
                <a:latin typeface="Verdana"/>
              </a:rPr>
              <a:t>Academico: Jaime Muñoz G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2000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Paradigma de la Teoría de Rasgo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Pensamiento Clave: </a:t>
            </a: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“Los lideres nacen, no se hacen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Esta teoría intenta determinar características distintivas que expliquen la eficacia del liderazgo analizando </a:t>
            </a: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rasgos físicos y psicológicos o cualidades, como altos niveles de energía, apariencia, agresividad, independencia, poder de persuasión y domini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La lista de rasgos debía emplearse como requisito para promover a candidatos a posiciones de liderazg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1000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a3d7a"/>
                </a:solidFill>
                <a:latin typeface="Verdana"/>
              </a:rPr>
              <a:t>Paradigma de la Teoría del Comportamiento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Trata de explicar ya sea los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estilos distintivos de los lideres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o bien de definir la naturaleza de su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Las 10 Funciones administrativas de Mintzberg, por ejemplo, buscan formas de clasificar el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omportamiento del lider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para facilitar nuestra comprensión del liderazg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Se intento identificar las diferencias entre el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proceder 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de los buenos líderes y el de los ineficace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1000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Paradigma del Liderazgo por Contingenci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3560" indent="-57636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Al igual que a la de comportamiento, a la de contingencia, se le llama </a:t>
            </a:r>
            <a:r>
              <a:rPr b="0" i="1" lang="en-GB" sz="2000" spc="-1" strike="noStrike">
                <a:solidFill>
                  <a:srgbClr val="1f4081"/>
                </a:solidFill>
                <a:latin typeface="Verdana"/>
              </a:rPr>
              <a:t>teorías universales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, ya que aplican para todas las situaciones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33560" indent="-57636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Trata de explicar la efectividad de un estilo de liderazgo en función del líder, los seguidores y la situació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33560" indent="-57636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Destaca la importancia de factores situacional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407960" indent="-49356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Ejemplos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82720" indent="-411120">
              <a:lnSpc>
                <a:spcPct val="90000"/>
              </a:lnSpc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Ambiente extern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82720" indent="-411120">
              <a:lnSpc>
                <a:spcPct val="90000"/>
              </a:lnSpc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Trabajo Realizad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82720" indent="-411120">
              <a:lnSpc>
                <a:spcPct val="90000"/>
              </a:lnSpc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1833480"/>
                <a:tab algn="l" pos="2747880"/>
                <a:tab algn="l" pos="3662280"/>
                <a:tab algn="l" pos="4576680"/>
                <a:tab algn="l" pos="5491080"/>
                <a:tab algn="l" pos="6405480"/>
                <a:tab algn="l" pos="7319880"/>
                <a:tab algn="l" pos="8234280"/>
                <a:tab algn="l" pos="9148680"/>
                <a:tab algn="l" pos="10063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Características de los seguidor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7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678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Paradigma de la Teoría Integral del Liderazgo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Tratan de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ombinar las teorías de rasgos, del comportamiento y de contingencias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para explicar por que son fructíferas ciertas relaciones de influencia entre líder y seguidore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Se busca explicar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por que los seguidores de algunos líderes se muestran dispuestos a trabajar arduamente y a hacer sacrificios para lograr objetivos de grupo y la organizació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5000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678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Paradigma de la Teoría del Liderazgo Carismático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Esta teoría dice que los seguidores atribuyen al líder una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apacidad sobrehumana o extraordinaria cuando observa ciertas conducta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Características centrales de los líderes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Autoconfianza, Capacidad para articular los sueños, Clara convicción del sueño, Conducta fuera de lo normal y sensibles al entorno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3000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7652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ESTILOS DE LIDERAZG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2101680"/>
            <a:ext cx="7772400" cy="41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Este tipo de líder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ordena y espera obediencia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, no toma en cuenta al personal, lo cual hace que la antipatía se haga latente, dando lugar a la resistenci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Lleva un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ontrol exhaustivo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de las acciones de cada trabajador. </a:t>
            </a:r>
            <a:br>
              <a:rPr sz="2400"/>
            </a:b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Los empleados se pueden sentir desvalorados ya que sus conocimientos o habilidades no son tomados en cuenta y su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espontaneidad/creatividad no es fomentada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990720"/>
            <a:ext cx="25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Autocrático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3000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a3d7a"/>
                </a:solidFill>
                <a:latin typeface="Verdana"/>
              </a:rPr>
              <a:t>DEMOCRÁTICO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Este enfoque implica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poca supervisión y delegación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de Funciones (responsabilidades)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Se crea un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ambiente de participación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 por parte de la gerencia para que las personas subordinadas puedan no sólo contribuir al proceso de la toma de decisiones, sino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confiar también en su propia capacidad de trabaj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9000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PATERNALIST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El líder paternalista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opta por la superprotecció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La iniciativa no se valora</a:t>
            </a: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, puesto que el líder quiere hacer todo él solo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f4081"/>
                </a:solidFill>
                <a:latin typeface="Verdana"/>
              </a:rPr>
              <a:t>Le gusta que el personal recurra a él para solucionar los problemas, lo que trae como consecuencia </a:t>
            </a:r>
            <a:r>
              <a:rPr b="1" lang="en-GB" sz="2400" spc="-1" strike="noStrike">
                <a:solidFill>
                  <a:srgbClr val="1f4081"/>
                </a:solidFill>
                <a:latin typeface="Verdana"/>
              </a:rPr>
              <a:t>unos trabajadores inmaduros, indecisos e inseguros</a:t>
            </a:r>
            <a:r>
              <a:rPr b="0" lang="en-GB" sz="2400" spc="-1" strike="noStrike">
                <a:solidFill>
                  <a:srgbClr val="5b524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7000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“</a:t>
            </a: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Lasseiz-Faire”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Este término francés puede traducirse como 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"dejar hacer"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 o "dejar que las cosas sigan su cauce"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Más que "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máxima libertad personal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", se refleja como una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 falta de liderazgo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, ya que nadie parece estar al cargo, 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nadie dirige ni exige nada</a:t>
            </a: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Estos lideres son suaves e indulgent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Permiten que sus seguidores hagan prácticamente lo que quieren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f4081"/>
                </a:solidFill>
                <a:latin typeface="Verdana"/>
              </a:rPr>
              <a:t>Los empleados pueden demostrar sus conocimientos sin ningún tipo de presión, </a:t>
            </a: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pero la desorganización está asegurada, dado el vacío de poder directivo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100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7800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Verdana"/>
              </a:rPr>
              <a:t>Una forma de clasificar la teoría y las investigaciones del liderazgo es mediante niveles de análisis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f4081"/>
                </a:solidFill>
                <a:latin typeface="Verdana"/>
              </a:rPr>
              <a:t>Los tres niveles de análisis so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97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a3d7a"/>
                </a:solidFill>
                <a:latin typeface="Verdana"/>
              </a:rPr>
              <a:t>CONCLUSIONES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7000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Muchos piensan que si alguien no es un ejecutivo, un general o un presidente, no puede ser un buen líder. Esto es fals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Un líder es todo aquel que dirige un equipo, aunque esté compuesto por pocas personas</a:t>
            </a: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1f4081"/>
                </a:solidFill>
                <a:latin typeface="Times New Roman"/>
              </a:rPr>
              <a:t>A pesar de considerarse un asunto místico poco asociado con otras habilidades, el liderazgo es, en realidad, la capacidad de sacar mayor partido de un equipo en cualquier circunstancia</a:t>
            </a:r>
            <a:r>
              <a:rPr b="1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5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Análisis Individu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El nivel de análisis se concentra en el líder y su relación con cada uno de sus seguidore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a3d7a"/>
                </a:solidFill>
                <a:latin typeface="Times New Roman"/>
              </a:rPr>
              <a:t>Se le llama tambien “proceso didactico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5440" y="380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Análisis Grup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5640" indent="0">
              <a:spcBef>
                <a:spcPts val="700"/>
              </a:spcBef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Se concentra en la relación entre el líder y sus seguidores en conju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0">
              <a:spcBef>
                <a:spcPts val="700"/>
              </a:spcBef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También se le llama “proceso de grupo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Análisis Organizacion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5640" indent="0">
              <a:spcBef>
                <a:spcPts val="700"/>
              </a:spcBef>
              <a:buNone/>
              <a:tabLst>
                <a:tab algn="l" pos="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Se concentra en la organiz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5640" indent="-4557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081"/>
                </a:solidFill>
                <a:latin typeface="Times New Roman"/>
              </a:rPr>
              <a:t>Se le conoce como “Proceso Organizacional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8108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¿Cómo se interrelacionan  los Niveles de Análisis?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1219320"/>
            <a:ext cx="381456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En la base del triangulo se encuentra el nivel individual, ya que ambos, el grupo y organización están basados en el individuo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081"/>
                </a:solidFill>
                <a:latin typeface="Verdana"/>
              </a:rPr>
              <a:t>La interacción de estas variables llegan a fundamentar de una manera más completa las teorías sobre liderazgo.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773360"/>
            <a:ext cx="3433680" cy="28000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 rot="18360000">
            <a:off x="63360" y="2595600"/>
            <a:ext cx="1898640" cy="56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5b524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</a:t>
            </a:r>
            <a:endParaRPr b="1" lang="en-US" sz="2400" spc="1" strike="noStrike">
              <a:ln w="0">
                <a:noFill/>
              </a:ln>
              <a:solidFill>
                <a:srgbClr val="5b524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 rot="3480000">
            <a:off x="1973160" y="2925720"/>
            <a:ext cx="2884320" cy="680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5b524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rganizaciones</a:t>
            </a:r>
            <a:endParaRPr b="1" lang="en-US" sz="2400" spc="1" strike="noStrike">
              <a:ln w="0">
                <a:noFill/>
              </a:ln>
              <a:solidFill>
                <a:srgbClr val="5b524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4724280"/>
            <a:ext cx="259272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5b524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dividuo</a:t>
            </a:r>
            <a:endParaRPr b="1" lang="en-US" sz="2400" spc="1" strike="noStrike">
              <a:ln w="0">
                <a:noFill/>
              </a:ln>
              <a:solidFill>
                <a:srgbClr val="5b524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Paradigmas de la teoría</a:t>
            </a: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2a3d7a"/>
                </a:solidFill>
                <a:latin typeface="Verdana"/>
              </a:rPr>
              <a:t>del    Liderazg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2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1f4081"/>
                </a:solidFill>
                <a:latin typeface="Times New Roman"/>
              </a:rPr>
              <a:t>Planteamiento compartido que  representa una forma fundamental de pensar, percibir, estudiar, investigar y entender el liderazg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6880" y="116856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Verdana"/>
              </a:rPr>
              <a:t>PARADIGMA del LIDERAZG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6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NACIO</dc:creator>
  <dc:description/>
  <dc:language>en-US</dc:language>
  <cp:lastModifiedBy>Jaime Muñoz</cp:lastModifiedBy>
  <cp:revision>0</cp:revision>
  <dc:subject/>
  <dc:title>Niveles de Análisis de las Teorías de                    Liderazgo</dc:title>
</cp:coreProperties>
</file>