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20.jpeg" ContentType="image/jpeg"/>
  <Override PartName="/ppt/media/image17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C32A-A785-47C2-93BE-5FB50CF93A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0CB6-F85F-4C53-BD11-721CC737CA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A498-806B-421D-B52A-0EE4740B77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41C4-A189-4939-A2EF-E20014B112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110A-76E6-4676-BD65-40FE0FECC0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19F5-9983-429E-A69A-6A2D280060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B2D8-8E21-411B-BB06-D2D3EED4DC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BA2F-1A83-4509-8637-A3051CE4B2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2AA0-0643-460C-9EE9-C9484F951F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EEED-CE0D-48C9-9A7B-B36E751D14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40EA-5F61-4E03-AFF2-A466089ADE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BD1D-043A-43C4-9CA6-B06FF1C54C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E6F-B109-4DD4-BE14-CC51F700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F54-68F2-4B2B-8F37-52F26E92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312-29FE-45F2-AFF5-C557CB69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98F-4A3E-40CD-9C1E-1F968871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3AD-4253-4025-A144-6DCDB23B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222-8F71-4572-BA08-08799BE9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AFF-C431-49A6-9A4A-063AEED3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BEF-64A2-4021-8BC2-21357BE5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A68-87FE-471F-95D1-D88C04E2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B41-2A59-4A0A-AA6E-52B7905B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E1C-9AC3-4D89-8A65-36F55697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7CA-2EA8-4E27-A56A-9A7AE8E9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104C-861E-4C58-81E7-B16C95B01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2920" y="2492280"/>
            <a:ext cx="676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VIGILANCIA EPIDEMIOLÓG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401400"/>
            <a:ext cx="7772400" cy="952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0066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. Diseminación de l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información  es un gran aporte y es de vital importancia en la salud 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diseminación periódica es crucial para quienes realizan la not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realiza en reuniones, radio, publicaciones, contactos personales, informes, 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reporte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d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s casos nuevos de una enfermedad incluida en las enfermedades de notificación obligatoria. Considera casos sospechosos y casos confirmados, o prob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responsabilidad de los profesionales de salud de instituciones públicas y pri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te a un caso sospechoso se inician las actividade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83664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Vigilanci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0066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delo sistemas de vigil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1840" y="3278160"/>
            <a:ext cx="1673280" cy="60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1840" y="4344840"/>
            <a:ext cx="1749600" cy="60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5516640"/>
            <a:ext cx="1749600" cy="60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5040" y="2897280"/>
            <a:ext cx="2740320" cy="113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igilancia básica o de ru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igilancia basada en centin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igilancia de enf. en errad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igilancia de brotes de 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0360" y="4365720"/>
            <a:ext cx="2739960" cy="68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igi. De agentes eti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ig. Resistencia antimicrob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21360" y="5411880"/>
            <a:ext cx="2587680" cy="83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de anim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de ve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e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de ali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809880"/>
            <a:ext cx="1600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gilanc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ferme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mi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9240" y="4572000"/>
            <a:ext cx="530280" cy="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9240" y="3581280"/>
            <a:ext cx="758880" cy="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584520"/>
            <a:ext cx="0" cy="2130480"/>
          </a:xfrm>
          <a:prstGeom prst="line">
            <a:avLst/>
          </a:prstGeom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9240" y="5715000"/>
            <a:ext cx="606240" cy="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6120" y="3581280"/>
            <a:ext cx="911160" cy="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32440" y="4648320"/>
            <a:ext cx="758880" cy="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32440" y="5715000"/>
            <a:ext cx="758880" cy="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7164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GILANCIA EPIDEM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1341360"/>
            <a:ext cx="6840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ción del evento a vigi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teri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gnitud del d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vedad del d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ulnerabilidad del d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sto de la interve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scen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ortancia política a nivel nacional e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11480" y="674640"/>
            <a:ext cx="39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Definición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8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270828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junto de criterios epidemiológicos y clínicos estandarizados para decidir si una persona debe clasificarse como que presenta una condición de salud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0440" y="40464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00"/>
                </a:solidFill>
                <a:latin typeface="Tahoma"/>
              </a:rPr>
              <a:t>Definición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04840" y="1773360"/>
            <a:ext cx="6934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so confirm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quiere confirmación de laboratorio. (en ocasiones: nexo epidemiológi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so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racterísticas clínicas y/o con estudios complementarios típicos , pero sin confirmación de labor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so sospech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nos características clínicas de aquellas típicas y sin confirmación de labor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676520"/>
            <a:ext cx="0" cy="4419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-9720" y="18352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714240" y="1939680"/>
            <a:ext cx="10335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riterios epidem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808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Validez de las defin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1844640"/>
            <a:ext cx="1295640" cy="3834000"/>
          </a:xfrm>
          <a:custGeom>
            <a:avLst/>
            <a:gdLst/>
            <a:ahLst/>
            <a:rect l="l" t="t" r="r" b="b"/>
            <a:pathLst>
              <a:path w="548" h="1830">
                <a:moveTo>
                  <a:pt x="0" y="0"/>
                </a:moveTo>
                <a:lnTo>
                  <a:pt x="548" y="1830"/>
                </a:lnTo>
                <a:lnTo>
                  <a:pt x="54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340000" y="1844640"/>
            <a:ext cx="1295280" cy="3834000"/>
          </a:xfrm>
          <a:custGeom>
            <a:avLst/>
            <a:gdLst/>
            <a:ahLst/>
            <a:rect l="l" t="t" r="r" b="b"/>
            <a:pathLst>
              <a:path w="548" h="1830">
                <a:moveTo>
                  <a:pt x="0" y="0"/>
                </a:moveTo>
                <a:lnTo>
                  <a:pt x="548" y="1830"/>
                </a:lnTo>
                <a:lnTo>
                  <a:pt x="54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141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Sens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587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Especif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2060640"/>
            <a:ext cx="3581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aso sospech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aso prob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aso confir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40464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GILANCIA EPIDEMIOLÓGICA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0560" y="1484280"/>
            <a:ext cx="7021440" cy="46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484280"/>
            <a:ext cx="0" cy="468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184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nsmi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844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oTransmi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2421000"/>
            <a:ext cx="3095640" cy="28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bilidad: Universal, Centros Centinelas, Br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ntes bi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istencia antimicrob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biental: Control de Animales, Vectores y Alimentos. Monitore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421000"/>
            <a:ext cx="2879640" cy="36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cuest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alud, Tabaco, Salud escolar, Mundial de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gistros Poblacion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áncer(II,X,VIII) Traumatismos y Violencias  Plagu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620640"/>
            <a:ext cx="7272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creto 15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fermedades de Notificación inmediata 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u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ruce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rbu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ól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fermedad invasiva por H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fermedad Meningocócc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iebre Amar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iebre del Nilo Occid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260280"/>
            <a:ext cx="727236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creto 15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fermedades de Notificación inmediata 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anta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eptospi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iomiel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abia hu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aramp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iqui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rotes (E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uertes de causas no explicadas en personas s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2920" y="1268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GILANCIA EPIDEM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4560" y="2276640"/>
            <a:ext cx="691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la recolección sistemática, contínua, oportuna y confiable de información relevante y necesaria sobre algunas condiciones de salud de la población. El análisis e interpretación de los datos debe proporcionar bases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ara la toma de decisiones, y al mismo tiempo, ser utilizada para su difusió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4360" y="333360"/>
            <a:ext cx="7272360" cy="80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creto 15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ermedades de Notificación Diaria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quel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ermedad de Cha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ebre Tifoídea y Paratifoí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onor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epatitis A y B, C y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idatid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e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oti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sitac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4360" y="620640"/>
            <a:ext cx="7272360" cy="66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reto 15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ermedades de Notificación Diaria I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bé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ífi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ét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ercu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H Y S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fus Exantemático Epidé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1052640"/>
            <a:ext cx="7272360" cy="56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reto 15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gilancia Centine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r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ciones Respiratorias Agu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ermedades de Transmisión Sex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c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6629400">
            <a:off x="1129680" y="3889440"/>
            <a:ext cx="1952640" cy="1679400"/>
          </a:xfrm>
          <a:custGeom>
            <a:avLst/>
            <a:gdLst/>
            <a:ahLst/>
            <a:rect l="l" t="t" r="r" b="b"/>
            <a:pathLst>
              <a:path w="2265" h="2047">
                <a:moveTo>
                  <a:pt x="171" y="1435"/>
                </a:moveTo>
                <a:lnTo>
                  <a:pt x="0" y="1026"/>
                </a:lnTo>
                <a:lnTo>
                  <a:pt x="139" y="547"/>
                </a:lnTo>
                <a:lnTo>
                  <a:pt x="441" y="270"/>
                </a:lnTo>
                <a:lnTo>
                  <a:pt x="749" y="138"/>
                </a:lnTo>
                <a:lnTo>
                  <a:pt x="1166" y="0"/>
                </a:lnTo>
                <a:lnTo>
                  <a:pt x="1654" y="9"/>
                </a:lnTo>
                <a:lnTo>
                  <a:pt x="1987" y="228"/>
                </a:lnTo>
                <a:lnTo>
                  <a:pt x="2265" y="832"/>
                </a:lnTo>
                <a:lnTo>
                  <a:pt x="2232" y="1360"/>
                </a:lnTo>
                <a:lnTo>
                  <a:pt x="1996" y="1680"/>
                </a:lnTo>
                <a:lnTo>
                  <a:pt x="1409" y="2047"/>
                </a:lnTo>
                <a:lnTo>
                  <a:pt x="506" y="2037"/>
                </a:lnTo>
                <a:lnTo>
                  <a:pt x="816" y="1484"/>
                </a:lnTo>
                <a:lnTo>
                  <a:pt x="1441" y="1484"/>
                </a:lnTo>
                <a:lnTo>
                  <a:pt x="1711" y="1321"/>
                </a:lnTo>
                <a:lnTo>
                  <a:pt x="1833" y="1018"/>
                </a:lnTo>
                <a:lnTo>
                  <a:pt x="1647" y="604"/>
                </a:lnTo>
                <a:lnTo>
                  <a:pt x="1124" y="513"/>
                </a:lnTo>
                <a:lnTo>
                  <a:pt x="635" y="783"/>
                </a:lnTo>
                <a:lnTo>
                  <a:pt x="513" y="1100"/>
                </a:lnTo>
                <a:lnTo>
                  <a:pt x="171" y="1435"/>
                </a:lnTo>
                <a:lnTo>
                  <a:pt x="171" y="1435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6629400">
            <a:off x="1123200" y="2845440"/>
            <a:ext cx="1798560" cy="1159200"/>
          </a:xfrm>
          <a:custGeom>
            <a:avLst/>
            <a:gdLst/>
            <a:ahLst/>
            <a:rect l="l" t="t" r="r" b="b"/>
            <a:pathLst>
              <a:path w="2086" h="1412">
                <a:moveTo>
                  <a:pt x="124" y="678"/>
                </a:moveTo>
                <a:lnTo>
                  <a:pt x="0" y="979"/>
                </a:lnTo>
                <a:lnTo>
                  <a:pt x="124" y="1296"/>
                </a:lnTo>
                <a:lnTo>
                  <a:pt x="635" y="1412"/>
                </a:lnTo>
                <a:lnTo>
                  <a:pt x="1588" y="1085"/>
                </a:lnTo>
                <a:lnTo>
                  <a:pt x="2086" y="498"/>
                </a:lnTo>
                <a:lnTo>
                  <a:pt x="2061" y="106"/>
                </a:lnTo>
                <a:lnTo>
                  <a:pt x="1841" y="0"/>
                </a:lnTo>
                <a:lnTo>
                  <a:pt x="1654" y="319"/>
                </a:lnTo>
                <a:lnTo>
                  <a:pt x="1320" y="644"/>
                </a:lnTo>
                <a:lnTo>
                  <a:pt x="759" y="857"/>
                </a:lnTo>
                <a:lnTo>
                  <a:pt x="124" y="678"/>
                </a:lnTo>
                <a:lnTo>
                  <a:pt x="124" y="678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6629400">
            <a:off x="2021400" y="2985120"/>
            <a:ext cx="1017720" cy="635040"/>
          </a:xfrm>
          <a:custGeom>
            <a:avLst/>
            <a:gdLst/>
            <a:ahLst/>
            <a:rect l="l" t="t" r="r" b="b"/>
            <a:pathLst>
              <a:path w="1181" h="775">
                <a:moveTo>
                  <a:pt x="0" y="652"/>
                </a:moveTo>
                <a:lnTo>
                  <a:pt x="189" y="399"/>
                </a:lnTo>
                <a:lnTo>
                  <a:pt x="670" y="82"/>
                </a:lnTo>
                <a:lnTo>
                  <a:pt x="1181" y="0"/>
                </a:lnTo>
                <a:lnTo>
                  <a:pt x="1166" y="342"/>
                </a:lnTo>
                <a:lnTo>
                  <a:pt x="499" y="595"/>
                </a:lnTo>
                <a:lnTo>
                  <a:pt x="295" y="775"/>
                </a:lnTo>
                <a:lnTo>
                  <a:pt x="0" y="652"/>
                </a:lnTo>
                <a:lnTo>
                  <a:pt x="0" y="652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6629400">
            <a:off x="986400" y="1272240"/>
            <a:ext cx="1960560" cy="1603440"/>
          </a:xfrm>
          <a:custGeom>
            <a:avLst/>
            <a:gdLst/>
            <a:ahLst/>
            <a:rect l="l" t="t" r="r" b="b"/>
            <a:pathLst>
              <a:path w="2272" h="1955">
                <a:moveTo>
                  <a:pt x="342" y="1799"/>
                </a:moveTo>
                <a:lnTo>
                  <a:pt x="0" y="969"/>
                </a:lnTo>
                <a:lnTo>
                  <a:pt x="147" y="560"/>
                </a:lnTo>
                <a:lnTo>
                  <a:pt x="628" y="228"/>
                </a:lnTo>
                <a:lnTo>
                  <a:pt x="1367" y="0"/>
                </a:lnTo>
                <a:lnTo>
                  <a:pt x="1808" y="32"/>
                </a:lnTo>
                <a:lnTo>
                  <a:pt x="2044" y="114"/>
                </a:lnTo>
                <a:lnTo>
                  <a:pt x="2230" y="528"/>
                </a:lnTo>
                <a:lnTo>
                  <a:pt x="1588" y="480"/>
                </a:lnTo>
                <a:lnTo>
                  <a:pt x="1010" y="545"/>
                </a:lnTo>
                <a:lnTo>
                  <a:pt x="513" y="912"/>
                </a:lnTo>
                <a:lnTo>
                  <a:pt x="504" y="1229"/>
                </a:lnTo>
                <a:lnTo>
                  <a:pt x="618" y="1417"/>
                </a:lnTo>
                <a:lnTo>
                  <a:pt x="799" y="1482"/>
                </a:lnTo>
                <a:lnTo>
                  <a:pt x="1612" y="1269"/>
                </a:lnTo>
                <a:lnTo>
                  <a:pt x="1898" y="977"/>
                </a:lnTo>
                <a:lnTo>
                  <a:pt x="2272" y="1001"/>
                </a:lnTo>
                <a:lnTo>
                  <a:pt x="1776" y="1653"/>
                </a:lnTo>
                <a:lnTo>
                  <a:pt x="513" y="1955"/>
                </a:lnTo>
                <a:lnTo>
                  <a:pt x="342" y="1799"/>
                </a:lnTo>
                <a:lnTo>
                  <a:pt x="342" y="179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6629400">
            <a:off x="1674000" y="4448880"/>
            <a:ext cx="1314360" cy="814320"/>
          </a:xfrm>
          <a:custGeom>
            <a:avLst/>
            <a:gdLst/>
            <a:ahLst/>
            <a:rect l="l" t="t" r="r" b="b"/>
            <a:pathLst>
              <a:path w="1523" h="994">
                <a:moveTo>
                  <a:pt x="130" y="813"/>
                </a:moveTo>
                <a:lnTo>
                  <a:pt x="0" y="610"/>
                </a:lnTo>
                <a:lnTo>
                  <a:pt x="16" y="357"/>
                </a:lnTo>
                <a:lnTo>
                  <a:pt x="253" y="171"/>
                </a:lnTo>
                <a:lnTo>
                  <a:pt x="586" y="24"/>
                </a:lnTo>
                <a:lnTo>
                  <a:pt x="913" y="0"/>
                </a:lnTo>
                <a:lnTo>
                  <a:pt x="1189" y="72"/>
                </a:lnTo>
                <a:lnTo>
                  <a:pt x="1402" y="203"/>
                </a:lnTo>
                <a:lnTo>
                  <a:pt x="1491" y="423"/>
                </a:lnTo>
                <a:lnTo>
                  <a:pt x="1523" y="684"/>
                </a:lnTo>
                <a:lnTo>
                  <a:pt x="1345" y="994"/>
                </a:lnTo>
                <a:lnTo>
                  <a:pt x="1377" y="634"/>
                </a:lnTo>
                <a:lnTo>
                  <a:pt x="1156" y="300"/>
                </a:lnTo>
                <a:lnTo>
                  <a:pt x="790" y="260"/>
                </a:lnTo>
                <a:lnTo>
                  <a:pt x="375" y="463"/>
                </a:lnTo>
                <a:lnTo>
                  <a:pt x="130" y="577"/>
                </a:lnTo>
                <a:lnTo>
                  <a:pt x="130" y="813"/>
                </a:lnTo>
                <a:lnTo>
                  <a:pt x="130" y="813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6629400">
            <a:off x="1010160" y="4185360"/>
            <a:ext cx="1554120" cy="1324080"/>
          </a:xfrm>
          <a:custGeom>
            <a:avLst/>
            <a:gdLst/>
            <a:ahLst/>
            <a:rect l="l" t="t" r="r" b="b"/>
            <a:pathLst>
              <a:path w="1800" h="1613">
                <a:moveTo>
                  <a:pt x="188" y="1222"/>
                </a:moveTo>
                <a:lnTo>
                  <a:pt x="441" y="1385"/>
                </a:lnTo>
                <a:lnTo>
                  <a:pt x="652" y="1239"/>
                </a:lnTo>
                <a:lnTo>
                  <a:pt x="774" y="1336"/>
                </a:lnTo>
                <a:lnTo>
                  <a:pt x="905" y="1182"/>
                </a:lnTo>
                <a:lnTo>
                  <a:pt x="1066" y="1230"/>
                </a:lnTo>
                <a:lnTo>
                  <a:pt x="1215" y="1036"/>
                </a:lnTo>
                <a:lnTo>
                  <a:pt x="1319" y="1125"/>
                </a:lnTo>
                <a:lnTo>
                  <a:pt x="1426" y="897"/>
                </a:lnTo>
                <a:lnTo>
                  <a:pt x="1547" y="880"/>
                </a:lnTo>
                <a:lnTo>
                  <a:pt x="1629" y="620"/>
                </a:lnTo>
                <a:lnTo>
                  <a:pt x="1646" y="0"/>
                </a:lnTo>
                <a:lnTo>
                  <a:pt x="1800" y="545"/>
                </a:lnTo>
                <a:lnTo>
                  <a:pt x="1669" y="1100"/>
                </a:lnTo>
                <a:lnTo>
                  <a:pt x="1344" y="1353"/>
                </a:lnTo>
                <a:lnTo>
                  <a:pt x="684" y="1613"/>
                </a:lnTo>
                <a:lnTo>
                  <a:pt x="260" y="1581"/>
                </a:lnTo>
                <a:lnTo>
                  <a:pt x="0" y="1467"/>
                </a:lnTo>
                <a:lnTo>
                  <a:pt x="188" y="1222"/>
                </a:lnTo>
                <a:lnTo>
                  <a:pt x="188" y="1222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6629400">
            <a:off x="2019960" y="3102840"/>
            <a:ext cx="863640" cy="474480"/>
          </a:xfrm>
          <a:custGeom>
            <a:avLst/>
            <a:gdLst/>
            <a:ahLst/>
            <a:rect l="l" t="t" r="r" b="b"/>
            <a:pathLst>
              <a:path w="1002" h="580">
                <a:moveTo>
                  <a:pt x="0" y="466"/>
                </a:moveTo>
                <a:lnTo>
                  <a:pt x="220" y="580"/>
                </a:lnTo>
                <a:lnTo>
                  <a:pt x="553" y="285"/>
                </a:lnTo>
                <a:lnTo>
                  <a:pt x="1002" y="171"/>
                </a:lnTo>
                <a:lnTo>
                  <a:pt x="977" y="0"/>
                </a:lnTo>
                <a:lnTo>
                  <a:pt x="481" y="89"/>
                </a:lnTo>
                <a:lnTo>
                  <a:pt x="203" y="270"/>
                </a:lnTo>
                <a:lnTo>
                  <a:pt x="0" y="466"/>
                </a:lnTo>
                <a:lnTo>
                  <a:pt x="0" y="466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6629400">
            <a:off x="1200240" y="3119760"/>
            <a:ext cx="1376280" cy="1047960"/>
          </a:xfrm>
          <a:custGeom>
            <a:avLst/>
            <a:gdLst/>
            <a:ahLst/>
            <a:rect l="l" t="t" r="r" b="b"/>
            <a:pathLst>
              <a:path w="1597" h="1280">
                <a:moveTo>
                  <a:pt x="0" y="1240"/>
                </a:moveTo>
                <a:lnTo>
                  <a:pt x="114" y="1059"/>
                </a:lnTo>
                <a:lnTo>
                  <a:pt x="278" y="1133"/>
                </a:lnTo>
                <a:lnTo>
                  <a:pt x="367" y="937"/>
                </a:lnTo>
                <a:lnTo>
                  <a:pt x="571" y="987"/>
                </a:lnTo>
                <a:lnTo>
                  <a:pt x="603" y="823"/>
                </a:lnTo>
                <a:lnTo>
                  <a:pt x="814" y="880"/>
                </a:lnTo>
                <a:lnTo>
                  <a:pt x="881" y="702"/>
                </a:lnTo>
                <a:lnTo>
                  <a:pt x="1042" y="726"/>
                </a:lnTo>
                <a:lnTo>
                  <a:pt x="1059" y="555"/>
                </a:lnTo>
                <a:lnTo>
                  <a:pt x="1246" y="555"/>
                </a:lnTo>
                <a:lnTo>
                  <a:pt x="1263" y="367"/>
                </a:lnTo>
                <a:lnTo>
                  <a:pt x="1409" y="293"/>
                </a:lnTo>
                <a:lnTo>
                  <a:pt x="1352" y="132"/>
                </a:lnTo>
                <a:lnTo>
                  <a:pt x="1499" y="0"/>
                </a:lnTo>
                <a:lnTo>
                  <a:pt x="1597" y="268"/>
                </a:lnTo>
                <a:lnTo>
                  <a:pt x="1156" y="913"/>
                </a:lnTo>
                <a:lnTo>
                  <a:pt x="375" y="1280"/>
                </a:lnTo>
                <a:lnTo>
                  <a:pt x="0" y="1240"/>
                </a:lnTo>
                <a:lnTo>
                  <a:pt x="0" y="1240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6629400">
            <a:off x="1524240" y="1767600"/>
            <a:ext cx="1363680" cy="793800"/>
          </a:xfrm>
          <a:custGeom>
            <a:avLst/>
            <a:gdLst/>
            <a:ahLst/>
            <a:rect l="l" t="t" r="r" b="b"/>
            <a:pathLst>
              <a:path w="1580" h="970">
                <a:moveTo>
                  <a:pt x="97" y="970"/>
                </a:moveTo>
                <a:lnTo>
                  <a:pt x="0" y="759"/>
                </a:lnTo>
                <a:lnTo>
                  <a:pt x="32" y="496"/>
                </a:lnTo>
                <a:lnTo>
                  <a:pt x="163" y="496"/>
                </a:lnTo>
                <a:lnTo>
                  <a:pt x="236" y="310"/>
                </a:lnTo>
                <a:lnTo>
                  <a:pt x="416" y="342"/>
                </a:lnTo>
                <a:lnTo>
                  <a:pt x="521" y="147"/>
                </a:lnTo>
                <a:lnTo>
                  <a:pt x="741" y="187"/>
                </a:lnTo>
                <a:lnTo>
                  <a:pt x="856" y="0"/>
                </a:lnTo>
                <a:lnTo>
                  <a:pt x="1059" y="122"/>
                </a:lnTo>
                <a:lnTo>
                  <a:pt x="1148" y="25"/>
                </a:lnTo>
                <a:lnTo>
                  <a:pt x="1278" y="179"/>
                </a:lnTo>
                <a:lnTo>
                  <a:pt x="1441" y="74"/>
                </a:lnTo>
                <a:lnTo>
                  <a:pt x="1580" y="268"/>
                </a:lnTo>
                <a:lnTo>
                  <a:pt x="1255" y="359"/>
                </a:lnTo>
                <a:lnTo>
                  <a:pt x="717" y="335"/>
                </a:lnTo>
                <a:lnTo>
                  <a:pt x="211" y="635"/>
                </a:lnTo>
                <a:lnTo>
                  <a:pt x="97" y="970"/>
                </a:lnTo>
                <a:lnTo>
                  <a:pt x="97" y="970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6629400">
            <a:off x="1637640" y="873720"/>
            <a:ext cx="552240" cy="919440"/>
          </a:xfrm>
          <a:custGeom>
            <a:avLst/>
            <a:gdLst/>
            <a:ahLst/>
            <a:rect l="l" t="t" r="r" b="b"/>
            <a:pathLst>
              <a:path w="643" h="1123">
                <a:moveTo>
                  <a:pt x="73" y="0"/>
                </a:moveTo>
                <a:lnTo>
                  <a:pt x="400" y="734"/>
                </a:lnTo>
                <a:lnTo>
                  <a:pt x="643" y="994"/>
                </a:lnTo>
                <a:lnTo>
                  <a:pt x="375" y="1123"/>
                </a:lnTo>
                <a:lnTo>
                  <a:pt x="122" y="709"/>
                </a:lnTo>
                <a:lnTo>
                  <a:pt x="0" y="228"/>
                </a:lnTo>
                <a:lnTo>
                  <a:pt x="73" y="0"/>
                </a:lnTo>
                <a:lnTo>
                  <a:pt x="73" y="0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6629400">
            <a:off x="644760" y="1707120"/>
            <a:ext cx="1644840" cy="843120"/>
          </a:xfrm>
          <a:custGeom>
            <a:avLst/>
            <a:gdLst/>
            <a:ahLst/>
            <a:rect l="l" t="t" r="r" b="b"/>
            <a:pathLst>
              <a:path w="1907" h="1028">
                <a:moveTo>
                  <a:pt x="0" y="847"/>
                </a:moveTo>
                <a:lnTo>
                  <a:pt x="302" y="604"/>
                </a:lnTo>
                <a:lnTo>
                  <a:pt x="374" y="726"/>
                </a:lnTo>
                <a:lnTo>
                  <a:pt x="595" y="570"/>
                </a:lnTo>
                <a:lnTo>
                  <a:pt x="783" y="676"/>
                </a:lnTo>
                <a:lnTo>
                  <a:pt x="962" y="456"/>
                </a:lnTo>
                <a:lnTo>
                  <a:pt x="1148" y="530"/>
                </a:lnTo>
                <a:lnTo>
                  <a:pt x="1270" y="334"/>
                </a:lnTo>
                <a:lnTo>
                  <a:pt x="1418" y="359"/>
                </a:lnTo>
                <a:lnTo>
                  <a:pt x="1532" y="163"/>
                </a:lnTo>
                <a:lnTo>
                  <a:pt x="1679" y="131"/>
                </a:lnTo>
                <a:lnTo>
                  <a:pt x="1694" y="0"/>
                </a:lnTo>
                <a:lnTo>
                  <a:pt x="1907" y="0"/>
                </a:lnTo>
                <a:lnTo>
                  <a:pt x="1761" y="384"/>
                </a:lnTo>
                <a:lnTo>
                  <a:pt x="1034" y="880"/>
                </a:lnTo>
                <a:lnTo>
                  <a:pt x="352" y="1028"/>
                </a:lnTo>
                <a:lnTo>
                  <a:pt x="0" y="847"/>
                </a:lnTo>
                <a:lnTo>
                  <a:pt x="0" y="847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6629400">
            <a:off x="1335960" y="1668960"/>
            <a:ext cx="1309680" cy="907920"/>
          </a:xfrm>
          <a:custGeom>
            <a:avLst/>
            <a:gdLst/>
            <a:ahLst/>
            <a:rect l="l" t="t" r="r" b="b"/>
            <a:pathLst>
              <a:path w="1519" h="1108">
                <a:moveTo>
                  <a:pt x="61" y="811"/>
                </a:moveTo>
                <a:lnTo>
                  <a:pt x="53" y="802"/>
                </a:lnTo>
                <a:lnTo>
                  <a:pt x="36" y="773"/>
                </a:lnTo>
                <a:lnTo>
                  <a:pt x="0" y="671"/>
                </a:lnTo>
                <a:lnTo>
                  <a:pt x="0" y="601"/>
                </a:lnTo>
                <a:lnTo>
                  <a:pt x="8" y="562"/>
                </a:lnTo>
                <a:lnTo>
                  <a:pt x="21" y="521"/>
                </a:lnTo>
                <a:lnTo>
                  <a:pt x="31" y="500"/>
                </a:lnTo>
                <a:lnTo>
                  <a:pt x="42" y="479"/>
                </a:lnTo>
                <a:lnTo>
                  <a:pt x="55" y="456"/>
                </a:lnTo>
                <a:lnTo>
                  <a:pt x="71" y="435"/>
                </a:lnTo>
                <a:lnTo>
                  <a:pt x="90" y="412"/>
                </a:lnTo>
                <a:lnTo>
                  <a:pt x="110" y="390"/>
                </a:lnTo>
                <a:lnTo>
                  <a:pt x="133" y="367"/>
                </a:lnTo>
                <a:lnTo>
                  <a:pt x="158" y="344"/>
                </a:lnTo>
                <a:lnTo>
                  <a:pt x="187" y="321"/>
                </a:lnTo>
                <a:lnTo>
                  <a:pt x="215" y="298"/>
                </a:lnTo>
                <a:lnTo>
                  <a:pt x="228" y="287"/>
                </a:lnTo>
                <a:lnTo>
                  <a:pt x="244" y="277"/>
                </a:lnTo>
                <a:lnTo>
                  <a:pt x="259" y="266"/>
                </a:lnTo>
                <a:lnTo>
                  <a:pt x="274" y="257"/>
                </a:lnTo>
                <a:lnTo>
                  <a:pt x="287" y="245"/>
                </a:lnTo>
                <a:lnTo>
                  <a:pt x="303" y="236"/>
                </a:lnTo>
                <a:lnTo>
                  <a:pt x="318" y="226"/>
                </a:lnTo>
                <a:lnTo>
                  <a:pt x="333" y="217"/>
                </a:lnTo>
                <a:lnTo>
                  <a:pt x="348" y="207"/>
                </a:lnTo>
                <a:lnTo>
                  <a:pt x="363" y="198"/>
                </a:lnTo>
                <a:lnTo>
                  <a:pt x="379" y="188"/>
                </a:lnTo>
                <a:lnTo>
                  <a:pt x="396" y="181"/>
                </a:lnTo>
                <a:lnTo>
                  <a:pt x="411" y="171"/>
                </a:lnTo>
                <a:lnTo>
                  <a:pt x="426" y="163"/>
                </a:lnTo>
                <a:lnTo>
                  <a:pt x="441" y="154"/>
                </a:lnTo>
                <a:lnTo>
                  <a:pt x="457" y="146"/>
                </a:lnTo>
                <a:lnTo>
                  <a:pt x="474" y="139"/>
                </a:lnTo>
                <a:lnTo>
                  <a:pt x="489" y="131"/>
                </a:lnTo>
                <a:lnTo>
                  <a:pt x="504" y="123"/>
                </a:lnTo>
                <a:lnTo>
                  <a:pt x="521" y="116"/>
                </a:lnTo>
                <a:lnTo>
                  <a:pt x="536" y="108"/>
                </a:lnTo>
                <a:lnTo>
                  <a:pt x="552" y="101"/>
                </a:lnTo>
                <a:lnTo>
                  <a:pt x="567" y="95"/>
                </a:lnTo>
                <a:lnTo>
                  <a:pt x="584" y="89"/>
                </a:lnTo>
                <a:lnTo>
                  <a:pt x="614" y="76"/>
                </a:lnTo>
                <a:lnTo>
                  <a:pt x="647" y="65"/>
                </a:lnTo>
                <a:lnTo>
                  <a:pt x="677" y="55"/>
                </a:lnTo>
                <a:lnTo>
                  <a:pt x="708" y="44"/>
                </a:lnTo>
                <a:lnTo>
                  <a:pt x="738" y="36"/>
                </a:lnTo>
                <a:lnTo>
                  <a:pt x="768" y="28"/>
                </a:lnTo>
                <a:lnTo>
                  <a:pt x="797" y="21"/>
                </a:lnTo>
                <a:lnTo>
                  <a:pt x="827" y="15"/>
                </a:lnTo>
                <a:lnTo>
                  <a:pt x="882" y="6"/>
                </a:lnTo>
                <a:lnTo>
                  <a:pt x="936" y="2"/>
                </a:lnTo>
                <a:lnTo>
                  <a:pt x="987" y="0"/>
                </a:lnTo>
                <a:lnTo>
                  <a:pt x="1074" y="11"/>
                </a:lnTo>
                <a:lnTo>
                  <a:pt x="1114" y="21"/>
                </a:lnTo>
                <a:lnTo>
                  <a:pt x="1152" y="30"/>
                </a:lnTo>
                <a:lnTo>
                  <a:pt x="1187" y="40"/>
                </a:lnTo>
                <a:lnTo>
                  <a:pt x="1221" y="47"/>
                </a:lnTo>
                <a:lnTo>
                  <a:pt x="1251" y="55"/>
                </a:lnTo>
                <a:lnTo>
                  <a:pt x="1280" y="63"/>
                </a:lnTo>
                <a:lnTo>
                  <a:pt x="1331" y="78"/>
                </a:lnTo>
                <a:lnTo>
                  <a:pt x="1371" y="87"/>
                </a:lnTo>
                <a:lnTo>
                  <a:pt x="1401" y="97"/>
                </a:lnTo>
                <a:lnTo>
                  <a:pt x="1426" y="104"/>
                </a:lnTo>
                <a:lnTo>
                  <a:pt x="1227" y="302"/>
                </a:lnTo>
                <a:lnTo>
                  <a:pt x="1240" y="338"/>
                </a:lnTo>
                <a:lnTo>
                  <a:pt x="1257" y="371"/>
                </a:lnTo>
                <a:lnTo>
                  <a:pt x="1276" y="401"/>
                </a:lnTo>
                <a:lnTo>
                  <a:pt x="1299" y="428"/>
                </a:lnTo>
                <a:lnTo>
                  <a:pt x="1322" y="452"/>
                </a:lnTo>
                <a:lnTo>
                  <a:pt x="1346" y="475"/>
                </a:lnTo>
                <a:lnTo>
                  <a:pt x="1371" y="494"/>
                </a:lnTo>
                <a:lnTo>
                  <a:pt x="1382" y="504"/>
                </a:lnTo>
                <a:lnTo>
                  <a:pt x="1396" y="513"/>
                </a:lnTo>
                <a:lnTo>
                  <a:pt x="1407" y="521"/>
                </a:lnTo>
                <a:lnTo>
                  <a:pt x="1419" y="528"/>
                </a:lnTo>
                <a:lnTo>
                  <a:pt x="1432" y="536"/>
                </a:lnTo>
                <a:lnTo>
                  <a:pt x="1441" y="542"/>
                </a:lnTo>
                <a:lnTo>
                  <a:pt x="1462" y="551"/>
                </a:lnTo>
                <a:lnTo>
                  <a:pt x="1481" y="561"/>
                </a:lnTo>
                <a:lnTo>
                  <a:pt x="1508" y="572"/>
                </a:lnTo>
                <a:lnTo>
                  <a:pt x="1519" y="576"/>
                </a:lnTo>
                <a:lnTo>
                  <a:pt x="1504" y="677"/>
                </a:lnTo>
                <a:lnTo>
                  <a:pt x="1495" y="699"/>
                </a:lnTo>
                <a:lnTo>
                  <a:pt x="1483" y="724"/>
                </a:lnTo>
                <a:lnTo>
                  <a:pt x="1468" y="749"/>
                </a:lnTo>
                <a:lnTo>
                  <a:pt x="1449" y="773"/>
                </a:lnTo>
                <a:lnTo>
                  <a:pt x="1426" y="800"/>
                </a:lnTo>
                <a:lnTo>
                  <a:pt x="1398" y="827"/>
                </a:lnTo>
                <a:lnTo>
                  <a:pt x="1365" y="851"/>
                </a:lnTo>
                <a:lnTo>
                  <a:pt x="1346" y="865"/>
                </a:lnTo>
                <a:lnTo>
                  <a:pt x="1327" y="876"/>
                </a:lnTo>
                <a:lnTo>
                  <a:pt x="1306" y="889"/>
                </a:lnTo>
                <a:lnTo>
                  <a:pt x="1286" y="901"/>
                </a:lnTo>
                <a:lnTo>
                  <a:pt x="1265" y="914"/>
                </a:lnTo>
                <a:lnTo>
                  <a:pt x="1244" y="925"/>
                </a:lnTo>
                <a:lnTo>
                  <a:pt x="1223" y="937"/>
                </a:lnTo>
                <a:lnTo>
                  <a:pt x="1200" y="948"/>
                </a:lnTo>
                <a:lnTo>
                  <a:pt x="1179" y="960"/>
                </a:lnTo>
                <a:lnTo>
                  <a:pt x="1156" y="969"/>
                </a:lnTo>
                <a:lnTo>
                  <a:pt x="1135" y="981"/>
                </a:lnTo>
                <a:lnTo>
                  <a:pt x="1112" y="990"/>
                </a:lnTo>
                <a:lnTo>
                  <a:pt x="1090" y="1000"/>
                </a:lnTo>
                <a:lnTo>
                  <a:pt x="1069" y="1011"/>
                </a:lnTo>
                <a:lnTo>
                  <a:pt x="1046" y="1019"/>
                </a:lnTo>
                <a:lnTo>
                  <a:pt x="1025" y="1028"/>
                </a:lnTo>
                <a:lnTo>
                  <a:pt x="1002" y="1036"/>
                </a:lnTo>
                <a:lnTo>
                  <a:pt x="981" y="1045"/>
                </a:lnTo>
                <a:lnTo>
                  <a:pt x="958" y="1053"/>
                </a:lnTo>
                <a:lnTo>
                  <a:pt x="938" y="1060"/>
                </a:lnTo>
                <a:lnTo>
                  <a:pt x="917" y="1066"/>
                </a:lnTo>
                <a:lnTo>
                  <a:pt x="894" y="1074"/>
                </a:lnTo>
                <a:lnTo>
                  <a:pt x="854" y="1085"/>
                </a:lnTo>
                <a:lnTo>
                  <a:pt x="814" y="1095"/>
                </a:lnTo>
                <a:lnTo>
                  <a:pt x="776" y="1100"/>
                </a:lnTo>
                <a:lnTo>
                  <a:pt x="740" y="1106"/>
                </a:lnTo>
                <a:lnTo>
                  <a:pt x="673" y="1108"/>
                </a:lnTo>
                <a:lnTo>
                  <a:pt x="432" y="1098"/>
                </a:lnTo>
                <a:lnTo>
                  <a:pt x="453" y="1091"/>
                </a:lnTo>
                <a:lnTo>
                  <a:pt x="477" y="1083"/>
                </a:lnTo>
                <a:lnTo>
                  <a:pt x="510" y="1074"/>
                </a:lnTo>
                <a:lnTo>
                  <a:pt x="550" y="1060"/>
                </a:lnTo>
                <a:lnTo>
                  <a:pt x="573" y="1055"/>
                </a:lnTo>
                <a:lnTo>
                  <a:pt x="595" y="1047"/>
                </a:lnTo>
                <a:lnTo>
                  <a:pt x="618" y="1038"/>
                </a:lnTo>
                <a:lnTo>
                  <a:pt x="643" y="1030"/>
                </a:lnTo>
                <a:lnTo>
                  <a:pt x="669" y="1021"/>
                </a:lnTo>
                <a:lnTo>
                  <a:pt x="696" y="1011"/>
                </a:lnTo>
                <a:lnTo>
                  <a:pt x="723" y="1002"/>
                </a:lnTo>
                <a:lnTo>
                  <a:pt x="749" y="992"/>
                </a:lnTo>
                <a:lnTo>
                  <a:pt x="778" y="981"/>
                </a:lnTo>
                <a:lnTo>
                  <a:pt x="804" y="969"/>
                </a:lnTo>
                <a:lnTo>
                  <a:pt x="833" y="958"/>
                </a:lnTo>
                <a:lnTo>
                  <a:pt x="860" y="946"/>
                </a:lnTo>
                <a:lnTo>
                  <a:pt x="886" y="935"/>
                </a:lnTo>
                <a:lnTo>
                  <a:pt x="913" y="924"/>
                </a:lnTo>
                <a:lnTo>
                  <a:pt x="938" y="912"/>
                </a:lnTo>
                <a:lnTo>
                  <a:pt x="962" y="899"/>
                </a:lnTo>
                <a:lnTo>
                  <a:pt x="987" y="887"/>
                </a:lnTo>
                <a:lnTo>
                  <a:pt x="1010" y="876"/>
                </a:lnTo>
                <a:lnTo>
                  <a:pt x="1031" y="863"/>
                </a:lnTo>
                <a:lnTo>
                  <a:pt x="1052" y="851"/>
                </a:lnTo>
                <a:lnTo>
                  <a:pt x="1069" y="838"/>
                </a:lnTo>
                <a:lnTo>
                  <a:pt x="1086" y="827"/>
                </a:lnTo>
                <a:lnTo>
                  <a:pt x="1116" y="802"/>
                </a:lnTo>
                <a:lnTo>
                  <a:pt x="1143" y="777"/>
                </a:lnTo>
                <a:lnTo>
                  <a:pt x="1189" y="734"/>
                </a:lnTo>
                <a:lnTo>
                  <a:pt x="1223" y="696"/>
                </a:lnTo>
                <a:lnTo>
                  <a:pt x="1247" y="661"/>
                </a:lnTo>
                <a:lnTo>
                  <a:pt x="1282" y="597"/>
                </a:lnTo>
                <a:lnTo>
                  <a:pt x="1171" y="570"/>
                </a:lnTo>
                <a:lnTo>
                  <a:pt x="1149" y="561"/>
                </a:lnTo>
                <a:lnTo>
                  <a:pt x="1126" y="549"/>
                </a:lnTo>
                <a:lnTo>
                  <a:pt x="1103" y="536"/>
                </a:lnTo>
                <a:lnTo>
                  <a:pt x="1080" y="519"/>
                </a:lnTo>
                <a:lnTo>
                  <a:pt x="1040" y="475"/>
                </a:lnTo>
                <a:lnTo>
                  <a:pt x="1010" y="420"/>
                </a:lnTo>
                <a:lnTo>
                  <a:pt x="979" y="315"/>
                </a:lnTo>
                <a:lnTo>
                  <a:pt x="976" y="251"/>
                </a:lnTo>
                <a:lnTo>
                  <a:pt x="983" y="219"/>
                </a:lnTo>
                <a:lnTo>
                  <a:pt x="991" y="209"/>
                </a:lnTo>
                <a:lnTo>
                  <a:pt x="939" y="203"/>
                </a:lnTo>
                <a:lnTo>
                  <a:pt x="882" y="198"/>
                </a:lnTo>
                <a:lnTo>
                  <a:pt x="812" y="198"/>
                </a:lnTo>
                <a:lnTo>
                  <a:pt x="730" y="201"/>
                </a:lnTo>
                <a:lnTo>
                  <a:pt x="645" y="217"/>
                </a:lnTo>
                <a:lnTo>
                  <a:pt x="601" y="228"/>
                </a:lnTo>
                <a:lnTo>
                  <a:pt x="559" y="243"/>
                </a:lnTo>
                <a:lnTo>
                  <a:pt x="538" y="253"/>
                </a:lnTo>
                <a:lnTo>
                  <a:pt x="517" y="264"/>
                </a:lnTo>
                <a:lnTo>
                  <a:pt x="496" y="276"/>
                </a:lnTo>
                <a:lnTo>
                  <a:pt x="477" y="287"/>
                </a:lnTo>
                <a:lnTo>
                  <a:pt x="458" y="300"/>
                </a:lnTo>
                <a:lnTo>
                  <a:pt x="439" y="312"/>
                </a:lnTo>
                <a:lnTo>
                  <a:pt x="420" y="325"/>
                </a:lnTo>
                <a:lnTo>
                  <a:pt x="403" y="336"/>
                </a:lnTo>
                <a:lnTo>
                  <a:pt x="386" y="348"/>
                </a:lnTo>
                <a:lnTo>
                  <a:pt x="371" y="359"/>
                </a:lnTo>
                <a:lnTo>
                  <a:pt x="356" y="369"/>
                </a:lnTo>
                <a:lnTo>
                  <a:pt x="341" y="380"/>
                </a:lnTo>
                <a:lnTo>
                  <a:pt x="325" y="390"/>
                </a:lnTo>
                <a:lnTo>
                  <a:pt x="310" y="401"/>
                </a:lnTo>
                <a:lnTo>
                  <a:pt x="285" y="422"/>
                </a:lnTo>
                <a:lnTo>
                  <a:pt x="238" y="462"/>
                </a:lnTo>
                <a:lnTo>
                  <a:pt x="198" y="502"/>
                </a:lnTo>
                <a:lnTo>
                  <a:pt x="168" y="545"/>
                </a:lnTo>
                <a:lnTo>
                  <a:pt x="124" y="644"/>
                </a:lnTo>
                <a:lnTo>
                  <a:pt x="109" y="696"/>
                </a:lnTo>
                <a:lnTo>
                  <a:pt x="97" y="735"/>
                </a:lnTo>
                <a:lnTo>
                  <a:pt x="76" y="785"/>
                </a:lnTo>
                <a:lnTo>
                  <a:pt x="61" y="811"/>
                </a:lnTo>
                <a:lnTo>
                  <a:pt x="61" y="811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6629400">
            <a:off x="714240" y="3431880"/>
            <a:ext cx="2120760" cy="1175040"/>
          </a:xfrm>
          <a:custGeom>
            <a:avLst/>
            <a:gdLst/>
            <a:ahLst/>
            <a:rect l="l" t="t" r="r" b="b"/>
            <a:pathLst>
              <a:path w="2459" h="1433">
                <a:moveTo>
                  <a:pt x="0" y="1368"/>
                </a:moveTo>
                <a:lnTo>
                  <a:pt x="12" y="1374"/>
                </a:lnTo>
                <a:lnTo>
                  <a:pt x="27" y="1380"/>
                </a:lnTo>
                <a:lnTo>
                  <a:pt x="48" y="1387"/>
                </a:lnTo>
                <a:lnTo>
                  <a:pt x="72" y="1395"/>
                </a:lnTo>
                <a:lnTo>
                  <a:pt x="103" y="1403"/>
                </a:lnTo>
                <a:lnTo>
                  <a:pt x="137" y="1412"/>
                </a:lnTo>
                <a:lnTo>
                  <a:pt x="175" y="1420"/>
                </a:lnTo>
                <a:lnTo>
                  <a:pt x="217" y="1425"/>
                </a:lnTo>
                <a:lnTo>
                  <a:pt x="261" y="1431"/>
                </a:lnTo>
                <a:lnTo>
                  <a:pt x="356" y="1433"/>
                </a:lnTo>
                <a:lnTo>
                  <a:pt x="456" y="1422"/>
                </a:lnTo>
                <a:lnTo>
                  <a:pt x="510" y="1410"/>
                </a:lnTo>
                <a:lnTo>
                  <a:pt x="536" y="1403"/>
                </a:lnTo>
                <a:lnTo>
                  <a:pt x="563" y="1395"/>
                </a:lnTo>
                <a:lnTo>
                  <a:pt x="590" y="1386"/>
                </a:lnTo>
                <a:lnTo>
                  <a:pt x="616" y="1376"/>
                </a:lnTo>
                <a:lnTo>
                  <a:pt x="645" y="1365"/>
                </a:lnTo>
                <a:lnTo>
                  <a:pt x="671" y="1355"/>
                </a:lnTo>
                <a:lnTo>
                  <a:pt x="700" y="1344"/>
                </a:lnTo>
                <a:lnTo>
                  <a:pt x="728" y="1334"/>
                </a:lnTo>
                <a:lnTo>
                  <a:pt x="757" y="1323"/>
                </a:lnTo>
                <a:lnTo>
                  <a:pt x="785" y="1311"/>
                </a:lnTo>
                <a:lnTo>
                  <a:pt x="814" y="1300"/>
                </a:lnTo>
                <a:lnTo>
                  <a:pt x="842" y="1289"/>
                </a:lnTo>
                <a:lnTo>
                  <a:pt x="871" y="1277"/>
                </a:lnTo>
                <a:lnTo>
                  <a:pt x="900" y="1266"/>
                </a:lnTo>
                <a:lnTo>
                  <a:pt x="928" y="1254"/>
                </a:lnTo>
                <a:lnTo>
                  <a:pt x="957" y="1243"/>
                </a:lnTo>
                <a:lnTo>
                  <a:pt x="983" y="1232"/>
                </a:lnTo>
                <a:lnTo>
                  <a:pt x="1010" y="1218"/>
                </a:lnTo>
                <a:lnTo>
                  <a:pt x="1038" y="1207"/>
                </a:lnTo>
                <a:lnTo>
                  <a:pt x="1063" y="1195"/>
                </a:lnTo>
                <a:lnTo>
                  <a:pt x="1090" y="1182"/>
                </a:lnTo>
                <a:lnTo>
                  <a:pt x="1114" y="1171"/>
                </a:lnTo>
                <a:lnTo>
                  <a:pt x="1139" y="1157"/>
                </a:lnTo>
                <a:lnTo>
                  <a:pt x="1164" y="1146"/>
                </a:lnTo>
                <a:lnTo>
                  <a:pt x="1187" y="1133"/>
                </a:lnTo>
                <a:lnTo>
                  <a:pt x="1209" y="1121"/>
                </a:lnTo>
                <a:lnTo>
                  <a:pt x="1230" y="1110"/>
                </a:lnTo>
                <a:lnTo>
                  <a:pt x="1251" y="1097"/>
                </a:lnTo>
                <a:lnTo>
                  <a:pt x="1270" y="1085"/>
                </a:lnTo>
                <a:lnTo>
                  <a:pt x="1289" y="1074"/>
                </a:lnTo>
                <a:lnTo>
                  <a:pt x="1306" y="1061"/>
                </a:lnTo>
                <a:lnTo>
                  <a:pt x="1323" y="1049"/>
                </a:lnTo>
                <a:lnTo>
                  <a:pt x="1352" y="1026"/>
                </a:lnTo>
                <a:lnTo>
                  <a:pt x="1379" y="1002"/>
                </a:lnTo>
                <a:lnTo>
                  <a:pt x="1403" y="973"/>
                </a:lnTo>
                <a:lnTo>
                  <a:pt x="1428" y="943"/>
                </a:lnTo>
                <a:lnTo>
                  <a:pt x="1451" y="910"/>
                </a:lnTo>
                <a:lnTo>
                  <a:pt x="1474" y="876"/>
                </a:lnTo>
                <a:lnTo>
                  <a:pt x="1495" y="842"/>
                </a:lnTo>
                <a:lnTo>
                  <a:pt x="1516" y="808"/>
                </a:lnTo>
                <a:lnTo>
                  <a:pt x="1535" y="774"/>
                </a:lnTo>
                <a:lnTo>
                  <a:pt x="1552" y="743"/>
                </a:lnTo>
                <a:lnTo>
                  <a:pt x="1567" y="713"/>
                </a:lnTo>
                <a:lnTo>
                  <a:pt x="1578" y="684"/>
                </a:lnTo>
                <a:lnTo>
                  <a:pt x="1590" y="661"/>
                </a:lnTo>
                <a:lnTo>
                  <a:pt x="1607" y="627"/>
                </a:lnTo>
                <a:lnTo>
                  <a:pt x="1611" y="614"/>
                </a:lnTo>
                <a:lnTo>
                  <a:pt x="1616" y="618"/>
                </a:lnTo>
                <a:lnTo>
                  <a:pt x="1633" y="623"/>
                </a:lnTo>
                <a:lnTo>
                  <a:pt x="1662" y="633"/>
                </a:lnTo>
                <a:lnTo>
                  <a:pt x="1704" y="644"/>
                </a:lnTo>
                <a:lnTo>
                  <a:pt x="1757" y="650"/>
                </a:lnTo>
                <a:lnTo>
                  <a:pt x="1825" y="654"/>
                </a:lnTo>
                <a:lnTo>
                  <a:pt x="1907" y="648"/>
                </a:lnTo>
                <a:lnTo>
                  <a:pt x="2004" y="635"/>
                </a:lnTo>
                <a:lnTo>
                  <a:pt x="2056" y="623"/>
                </a:lnTo>
                <a:lnTo>
                  <a:pt x="2080" y="616"/>
                </a:lnTo>
                <a:lnTo>
                  <a:pt x="2103" y="606"/>
                </a:lnTo>
                <a:lnTo>
                  <a:pt x="2128" y="597"/>
                </a:lnTo>
                <a:lnTo>
                  <a:pt x="2149" y="587"/>
                </a:lnTo>
                <a:lnTo>
                  <a:pt x="2171" y="576"/>
                </a:lnTo>
                <a:lnTo>
                  <a:pt x="2192" y="565"/>
                </a:lnTo>
                <a:lnTo>
                  <a:pt x="2213" y="551"/>
                </a:lnTo>
                <a:lnTo>
                  <a:pt x="2232" y="538"/>
                </a:lnTo>
                <a:lnTo>
                  <a:pt x="2251" y="525"/>
                </a:lnTo>
                <a:lnTo>
                  <a:pt x="2270" y="511"/>
                </a:lnTo>
                <a:lnTo>
                  <a:pt x="2305" y="483"/>
                </a:lnTo>
                <a:lnTo>
                  <a:pt x="2335" y="456"/>
                </a:lnTo>
                <a:lnTo>
                  <a:pt x="2364" y="428"/>
                </a:lnTo>
                <a:lnTo>
                  <a:pt x="2388" y="403"/>
                </a:lnTo>
                <a:lnTo>
                  <a:pt x="2409" y="378"/>
                </a:lnTo>
                <a:lnTo>
                  <a:pt x="2426" y="357"/>
                </a:lnTo>
                <a:lnTo>
                  <a:pt x="2451" y="325"/>
                </a:lnTo>
                <a:lnTo>
                  <a:pt x="2459" y="314"/>
                </a:lnTo>
                <a:lnTo>
                  <a:pt x="2436" y="335"/>
                </a:lnTo>
                <a:lnTo>
                  <a:pt x="2407" y="357"/>
                </a:lnTo>
                <a:lnTo>
                  <a:pt x="2390" y="369"/>
                </a:lnTo>
                <a:lnTo>
                  <a:pt x="2379" y="376"/>
                </a:lnTo>
                <a:lnTo>
                  <a:pt x="2367" y="382"/>
                </a:lnTo>
                <a:lnTo>
                  <a:pt x="2356" y="388"/>
                </a:lnTo>
                <a:lnTo>
                  <a:pt x="2343" y="395"/>
                </a:lnTo>
                <a:lnTo>
                  <a:pt x="2314" y="407"/>
                </a:lnTo>
                <a:lnTo>
                  <a:pt x="2282" y="418"/>
                </a:lnTo>
                <a:lnTo>
                  <a:pt x="2248" y="430"/>
                </a:lnTo>
                <a:lnTo>
                  <a:pt x="2210" y="437"/>
                </a:lnTo>
                <a:lnTo>
                  <a:pt x="2168" y="445"/>
                </a:lnTo>
                <a:lnTo>
                  <a:pt x="2075" y="450"/>
                </a:lnTo>
                <a:lnTo>
                  <a:pt x="1793" y="441"/>
                </a:lnTo>
                <a:lnTo>
                  <a:pt x="1715" y="431"/>
                </a:lnTo>
                <a:lnTo>
                  <a:pt x="1721" y="340"/>
                </a:lnTo>
                <a:lnTo>
                  <a:pt x="1713" y="297"/>
                </a:lnTo>
                <a:lnTo>
                  <a:pt x="1692" y="247"/>
                </a:lnTo>
                <a:lnTo>
                  <a:pt x="1679" y="221"/>
                </a:lnTo>
                <a:lnTo>
                  <a:pt x="1662" y="194"/>
                </a:lnTo>
                <a:lnTo>
                  <a:pt x="1639" y="167"/>
                </a:lnTo>
                <a:lnTo>
                  <a:pt x="1612" y="139"/>
                </a:lnTo>
                <a:lnTo>
                  <a:pt x="1584" y="114"/>
                </a:lnTo>
                <a:lnTo>
                  <a:pt x="1555" y="91"/>
                </a:lnTo>
                <a:lnTo>
                  <a:pt x="1542" y="82"/>
                </a:lnTo>
                <a:lnTo>
                  <a:pt x="1527" y="72"/>
                </a:lnTo>
                <a:lnTo>
                  <a:pt x="1514" y="65"/>
                </a:lnTo>
                <a:lnTo>
                  <a:pt x="1500" y="55"/>
                </a:lnTo>
                <a:lnTo>
                  <a:pt x="1487" y="49"/>
                </a:lnTo>
                <a:lnTo>
                  <a:pt x="1474" y="42"/>
                </a:lnTo>
                <a:lnTo>
                  <a:pt x="1449" y="30"/>
                </a:lnTo>
                <a:lnTo>
                  <a:pt x="1424" y="21"/>
                </a:lnTo>
                <a:lnTo>
                  <a:pt x="1401" y="15"/>
                </a:lnTo>
                <a:lnTo>
                  <a:pt x="1363" y="6"/>
                </a:lnTo>
                <a:lnTo>
                  <a:pt x="1333" y="0"/>
                </a:lnTo>
                <a:lnTo>
                  <a:pt x="1306" y="0"/>
                </a:lnTo>
                <a:lnTo>
                  <a:pt x="1329" y="8"/>
                </a:lnTo>
                <a:lnTo>
                  <a:pt x="1352" y="21"/>
                </a:lnTo>
                <a:lnTo>
                  <a:pt x="1365" y="29"/>
                </a:lnTo>
                <a:lnTo>
                  <a:pt x="1381" y="40"/>
                </a:lnTo>
                <a:lnTo>
                  <a:pt x="1407" y="67"/>
                </a:lnTo>
                <a:lnTo>
                  <a:pt x="1434" y="103"/>
                </a:lnTo>
                <a:lnTo>
                  <a:pt x="1468" y="207"/>
                </a:lnTo>
                <a:lnTo>
                  <a:pt x="1466" y="278"/>
                </a:lnTo>
                <a:lnTo>
                  <a:pt x="1460" y="317"/>
                </a:lnTo>
                <a:lnTo>
                  <a:pt x="1449" y="359"/>
                </a:lnTo>
                <a:lnTo>
                  <a:pt x="1436" y="403"/>
                </a:lnTo>
                <a:lnTo>
                  <a:pt x="1419" y="449"/>
                </a:lnTo>
                <a:lnTo>
                  <a:pt x="1407" y="471"/>
                </a:lnTo>
                <a:lnTo>
                  <a:pt x="1398" y="496"/>
                </a:lnTo>
                <a:lnTo>
                  <a:pt x="1384" y="519"/>
                </a:lnTo>
                <a:lnTo>
                  <a:pt x="1373" y="544"/>
                </a:lnTo>
                <a:lnTo>
                  <a:pt x="1360" y="568"/>
                </a:lnTo>
                <a:lnTo>
                  <a:pt x="1346" y="591"/>
                </a:lnTo>
                <a:lnTo>
                  <a:pt x="1331" y="616"/>
                </a:lnTo>
                <a:lnTo>
                  <a:pt x="1316" y="641"/>
                </a:lnTo>
                <a:lnTo>
                  <a:pt x="1299" y="665"/>
                </a:lnTo>
                <a:lnTo>
                  <a:pt x="1282" y="688"/>
                </a:lnTo>
                <a:lnTo>
                  <a:pt x="1265" y="713"/>
                </a:lnTo>
                <a:lnTo>
                  <a:pt x="1247" y="737"/>
                </a:lnTo>
                <a:lnTo>
                  <a:pt x="1228" y="760"/>
                </a:lnTo>
                <a:lnTo>
                  <a:pt x="1209" y="783"/>
                </a:lnTo>
                <a:lnTo>
                  <a:pt x="1189" y="806"/>
                </a:lnTo>
                <a:lnTo>
                  <a:pt x="1169" y="829"/>
                </a:lnTo>
                <a:lnTo>
                  <a:pt x="1149" y="851"/>
                </a:lnTo>
                <a:lnTo>
                  <a:pt x="1126" y="872"/>
                </a:lnTo>
                <a:lnTo>
                  <a:pt x="1105" y="893"/>
                </a:lnTo>
                <a:lnTo>
                  <a:pt x="1082" y="914"/>
                </a:lnTo>
                <a:lnTo>
                  <a:pt x="1057" y="933"/>
                </a:lnTo>
                <a:lnTo>
                  <a:pt x="1044" y="945"/>
                </a:lnTo>
                <a:lnTo>
                  <a:pt x="1029" y="954"/>
                </a:lnTo>
                <a:lnTo>
                  <a:pt x="1015" y="964"/>
                </a:lnTo>
                <a:lnTo>
                  <a:pt x="998" y="973"/>
                </a:lnTo>
                <a:lnTo>
                  <a:pt x="983" y="985"/>
                </a:lnTo>
                <a:lnTo>
                  <a:pt x="966" y="994"/>
                </a:lnTo>
                <a:lnTo>
                  <a:pt x="949" y="1005"/>
                </a:lnTo>
                <a:lnTo>
                  <a:pt x="930" y="1015"/>
                </a:lnTo>
                <a:lnTo>
                  <a:pt x="911" y="1024"/>
                </a:lnTo>
                <a:lnTo>
                  <a:pt x="892" y="1036"/>
                </a:lnTo>
                <a:lnTo>
                  <a:pt x="873" y="1045"/>
                </a:lnTo>
                <a:lnTo>
                  <a:pt x="852" y="1055"/>
                </a:lnTo>
                <a:lnTo>
                  <a:pt x="831" y="1064"/>
                </a:lnTo>
                <a:lnTo>
                  <a:pt x="810" y="1076"/>
                </a:lnTo>
                <a:lnTo>
                  <a:pt x="789" y="1085"/>
                </a:lnTo>
                <a:lnTo>
                  <a:pt x="768" y="1095"/>
                </a:lnTo>
                <a:lnTo>
                  <a:pt x="745" y="1104"/>
                </a:lnTo>
                <a:lnTo>
                  <a:pt x="725" y="1114"/>
                </a:lnTo>
                <a:lnTo>
                  <a:pt x="702" y="1123"/>
                </a:lnTo>
                <a:lnTo>
                  <a:pt x="679" y="1133"/>
                </a:lnTo>
                <a:lnTo>
                  <a:pt x="656" y="1142"/>
                </a:lnTo>
                <a:lnTo>
                  <a:pt x="633" y="1152"/>
                </a:lnTo>
                <a:lnTo>
                  <a:pt x="611" y="1161"/>
                </a:lnTo>
                <a:lnTo>
                  <a:pt x="588" y="1169"/>
                </a:lnTo>
                <a:lnTo>
                  <a:pt x="565" y="1178"/>
                </a:lnTo>
                <a:lnTo>
                  <a:pt x="542" y="1188"/>
                </a:lnTo>
                <a:lnTo>
                  <a:pt x="519" y="1195"/>
                </a:lnTo>
                <a:lnTo>
                  <a:pt x="495" y="1205"/>
                </a:lnTo>
                <a:lnTo>
                  <a:pt x="472" y="1213"/>
                </a:lnTo>
                <a:lnTo>
                  <a:pt x="451" y="1222"/>
                </a:lnTo>
                <a:lnTo>
                  <a:pt x="428" y="1230"/>
                </a:lnTo>
                <a:lnTo>
                  <a:pt x="405" y="1237"/>
                </a:lnTo>
                <a:lnTo>
                  <a:pt x="384" y="1245"/>
                </a:lnTo>
                <a:lnTo>
                  <a:pt x="361" y="1252"/>
                </a:lnTo>
                <a:lnTo>
                  <a:pt x="341" y="1260"/>
                </a:lnTo>
                <a:lnTo>
                  <a:pt x="320" y="1268"/>
                </a:lnTo>
                <a:lnTo>
                  <a:pt x="299" y="1275"/>
                </a:lnTo>
                <a:lnTo>
                  <a:pt x="278" y="1281"/>
                </a:lnTo>
                <a:lnTo>
                  <a:pt x="240" y="1294"/>
                </a:lnTo>
                <a:lnTo>
                  <a:pt x="202" y="1306"/>
                </a:lnTo>
                <a:lnTo>
                  <a:pt x="167" y="1317"/>
                </a:lnTo>
                <a:lnTo>
                  <a:pt x="135" y="1329"/>
                </a:lnTo>
                <a:lnTo>
                  <a:pt x="105" y="1336"/>
                </a:lnTo>
                <a:lnTo>
                  <a:pt x="78" y="1346"/>
                </a:lnTo>
                <a:lnTo>
                  <a:pt x="36" y="1359"/>
                </a:lnTo>
                <a:lnTo>
                  <a:pt x="0" y="1368"/>
                </a:lnTo>
                <a:lnTo>
                  <a:pt x="0" y="136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6629400">
            <a:off x="1883880" y="3001680"/>
            <a:ext cx="1157400" cy="1309680"/>
          </a:xfrm>
          <a:custGeom>
            <a:avLst/>
            <a:gdLst/>
            <a:ahLst/>
            <a:rect l="l" t="t" r="r" b="b"/>
            <a:pathLst>
              <a:path w="1342" h="1599">
                <a:moveTo>
                  <a:pt x="1283" y="0"/>
                </a:moveTo>
                <a:lnTo>
                  <a:pt x="1244" y="35"/>
                </a:lnTo>
                <a:lnTo>
                  <a:pt x="1204" y="77"/>
                </a:lnTo>
                <a:lnTo>
                  <a:pt x="1179" y="101"/>
                </a:lnTo>
                <a:lnTo>
                  <a:pt x="1154" y="130"/>
                </a:lnTo>
                <a:lnTo>
                  <a:pt x="1129" y="160"/>
                </a:lnTo>
                <a:lnTo>
                  <a:pt x="1103" y="194"/>
                </a:lnTo>
                <a:lnTo>
                  <a:pt x="1078" y="229"/>
                </a:lnTo>
                <a:lnTo>
                  <a:pt x="1055" y="268"/>
                </a:lnTo>
                <a:lnTo>
                  <a:pt x="1033" y="306"/>
                </a:lnTo>
                <a:lnTo>
                  <a:pt x="1014" y="348"/>
                </a:lnTo>
                <a:lnTo>
                  <a:pt x="983" y="436"/>
                </a:lnTo>
                <a:lnTo>
                  <a:pt x="962" y="519"/>
                </a:lnTo>
                <a:lnTo>
                  <a:pt x="945" y="595"/>
                </a:lnTo>
                <a:lnTo>
                  <a:pt x="922" y="723"/>
                </a:lnTo>
                <a:lnTo>
                  <a:pt x="922" y="751"/>
                </a:lnTo>
                <a:lnTo>
                  <a:pt x="922" y="778"/>
                </a:lnTo>
                <a:lnTo>
                  <a:pt x="932" y="829"/>
                </a:lnTo>
                <a:lnTo>
                  <a:pt x="941" y="854"/>
                </a:lnTo>
                <a:lnTo>
                  <a:pt x="953" y="877"/>
                </a:lnTo>
                <a:lnTo>
                  <a:pt x="968" y="901"/>
                </a:lnTo>
                <a:lnTo>
                  <a:pt x="987" y="924"/>
                </a:lnTo>
                <a:lnTo>
                  <a:pt x="1008" y="943"/>
                </a:lnTo>
                <a:lnTo>
                  <a:pt x="1019" y="951"/>
                </a:lnTo>
                <a:lnTo>
                  <a:pt x="1031" y="958"/>
                </a:lnTo>
                <a:lnTo>
                  <a:pt x="1052" y="966"/>
                </a:lnTo>
                <a:lnTo>
                  <a:pt x="1074" y="972"/>
                </a:lnTo>
                <a:lnTo>
                  <a:pt x="1116" y="970"/>
                </a:lnTo>
                <a:lnTo>
                  <a:pt x="1156" y="956"/>
                </a:lnTo>
                <a:lnTo>
                  <a:pt x="1173" y="947"/>
                </a:lnTo>
                <a:lnTo>
                  <a:pt x="1190" y="937"/>
                </a:lnTo>
                <a:lnTo>
                  <a:pt x="1206" y="928"/>
                </a:lnTo>
                <a:lnTo>
                  <a:pt x="1217" y="918"/>
                </a:lnTo>
                <a:lnTo>
                  <a:pt x="1242" y="898"/>
                </a:lnTo>
                <a:lnTo>
                  <a:pt x="1342" y="936"/>
                </a:lnTo>
                <a:lnTo>
                  <a:pt x="1337" y="968"/>
                </a:lnTo>
                <a:lnTo>
                  <a:pt x="1322" y="1006"/>
                </a:lnTo>
                <a:lnTo>
                  <a:pt x="1312" y="1031"/>
                </a:lnTo>
                <a:lnTo>
                  <a:pt x="1297" y="1055"/>
                </a:lnTo>
                <a:lnTo>
                  <a:pt x="1280" y="1084"/>
                </a:lnTo>
                <a:lnTo>
                  <a:pt x="1259" y="1114"/>
                </a:lnTo>
                <a:lnTo>
                  <a:pt x="1232" y="1145"/>
                </a:lnTo>
                <a:lnTo>
                  <a:pt x="1200" y="1177"/>
                </a:lnTo>
                <a:lnTo>
                  <a:pt x="1164" y="1211"/>
                </a:lnTo>
                <a:lnTo>
                  <a:pt x="1122" y="1245"/>
                </a:lnTo>
                <a:lnTo>
                  <a:pt x="1110" y="1255"/>
                </a:lnTo>
                <a:lnTo>
                  <a:pt x="1097" y="1262"/>
                </a:lnTo>
                <a:lnTo>
                  <a:pt x="1086" y="1272"/>
                </a:lnTo>
                <a:lnTo>
                  <a:pt x="1072" y="1280"/>
                </a:lnTo>
                <a:lnTo>
                  <a:pt x="1059" y="1289"/>
                </a:lnTo>
                <a:lnTo>
                  <a:pt x="1046" y="1297"/>
                </a:lnTo>
                <a:lnTo>
                  <a:pt x="1033" y="1306"/>
                </a:lnTo>
                <a:lnTo>
                  <a:pt x="1017" y="1314"/>
                </a:lnTo>
                <a:lnTo>
                  <a:pt x="1002" y="1323"/>
                </a:lnTo>
                <a:lnTo>
                  <a:pt x="987" y="1331"/>
                </a:lnTo>
                <a:lnTo>
                  <a:pt x="972" y="1340"/>
                </a:lnTo>
                <a:lnTo>
                  <a:pt x="958" y="1348"/>
                </a:lnTo>
                <a:lnTo>
                  <a:pt x="941" y="1356"/>
                </a:lnTo>
                <a:lnTo>
                  <a:pt x="926" y="1363"/>
                </a:lnTo>
                <a:lnTo>
                  <a:pt x="911" y="1373"/>
                </a:lnTo>
                <a:lnTo>
                  <a:pt x="896" y="1378"/>
                </a:lnTo>
                <a:lnTo>
                  <a:pt x="880" y="1386"/>
                </a:lnTo>
                <a:lnTo>
                  <a:pt x="865" y="1394"/>
                </a:lnTo>
                <a:lnTo>
                  <a:pt x="848" y="1401"/>
                </a:lnTo>
                <a:lnTo>
                  <a:pt x="833" y="1409"/>
                </a:lnTo>
                <a:lnTo>
                  <a:pt x="818" y="1416"/>
                </a:lnTo>
                <a:lnTo>
                  <a:pt x="801" y="1422"/>
                </a:lnTo>
                <a:lnTo>
                  <a:pt x="785" y="1430"/>
                </a:lnTo>
                <a:lnTo>
                  <a:pt x="770" y="1435"/>
                </a:lnTo>
                <a:lnTo>
                  <a:pt x="738" y="1449"/>
                </a:lnTo>
                <a:lnTo>
                  <a:pt x="707" y="1462"/>
                </a:lnTo>
                <a:lnTo>
                  <a:pt x="677" y="1473"/>
                </a:lnTo>
                <a:lnTo>
                  <a:pt x="647" y="1485"/>
                </a:lnTo>
                <a:lnTo>
                  <a:pt x="616" y="1496"/>
                </a:lnTo>
                <a:lnTo>
                  <a:pt x="588" y="1506"/>
                </a:lnTo>
                <a:lnTo>
                  <a:pt x="559" y="1517"/>
                </a:lnTo>
                <a:lnTo>
                  <a:pt x="531" y="1525"/>
                </a:lnTo>
                <a:lnTo>
                  <a:pt x="504" y="1534"/>
                </a:lnTo>
                <a:lnTo>
                  <a:pt x="479" y="1542"/>
                </a:lnTo>
                <a:lnTo>
                  <a:pt x="455" y="1551"/>
                </a:lnTo>
                <a:lnTo>
                  <a:pt x="430" y="1557"/>
                </a:lnTo>
                <a:lnTo>
                  <a:pt x="388" y="1570"/>
                </a:lnTo>
                <a:lnTo>
                  <a:pt x="352" y="1582"/>
                </a:lnTo>
                <a:lnTo>
                  <a:pt x="321" y="1589"/>
                </a:lnTo>
                <a:lnTo>
                  <a:pt x="299" y="1595"/>
                </a:lnTo>
                <a:lnTo>
                  <a:pt x="280" y="1599"/>
                </a:lnTo>
                <a:lnTo>
                  <a:pt x="913" y="1247"/>
                </a:lnTo>
                <a:lnTo>
                  <a:pt x="823" y="958"/>
                </a:lnTo>
                <a:lnTo>
                  <a:pt x="770" y="968"/>
                </a:lnTo>
                <a:lnTo>
                  <a:pt x="713" y="979"/>
                </a:lnTo>
                <a:lnTo>
                  <a:pt x="677" y="989"/>
                </a:lnTo>
                <a:lnTo>
                  <a:pt x="641" y="998"/>
                </a:lnTo>
                <a:lnTo>
                  <a:pt x="601" y="1010"/>
                </a:lnTo>
                <a:lnTo>
                  <a:pt x="559" y="1023"/>
                </a:lnTo>
                <a:lnTo>
                  <a:pt x="538" y="1031"/>
                </a:lnTo>
                <a:lnTo>
                  <a:pt x="517" y="1038"/>
                </a:lnTo>
                <a:lnTo>
                  <a:pt x="496" y="1046"/>
                </a:lnTo>
                <a:lnTo>
                  <a:pt x="475" y="1053"/>
                </a:lnTo>
                <a:lnTo>
                  <a:pt x="455" y="1063"/>
                </a:lnTo>
                <a:lnTo>
                  <a:pt x="434" y="1072"/>
                </a:lnTo>
                <a:lnTo>
                  <a:pt x="413" y="1082"/>
                </a:lnTo>
                <a:lnTo>
                  <a:pt x="394" y="1091"/>
                </a:lnTo>
                <a:lnTo>
                  <a:pt x="375" y="1103"/>
                </a:lnTo>
                <a:lnTo>
                  <a:pt x="356" y="1112"/>
                </a:lnTo>
                <a:lnTo>
                  <a:pt x="337" y="1124"/>
                </a:lnTo>
                <a:lnTo>
                  <a:pt x="320" y="1137"/>
                </a:lnTo>
                <a:lnTo>
                  <a:pt x="302" y="1148"/>
                </a:lnTo>
                <a:lnTo>
                  <a:pt x="287" y="1160"/>
                </a:lnTo>
                <a:lnTo>
                  <a:pt x="272" y="1171"/>
                </a:lnTo>
                <a:lnTo>
                  <a:pt x="257" y="1183"/>
                </a:lnTo>
                <a:lnTo>
                  <a:pt x="205" y="1222"/>
                </a:lnTo>
                <a:lnTo>
                  <a:pt x="167" y="1257"/>
                </a:lnTo>
                <a:lnTo>
                  <a:pt x="137" y="1285"/>
                </a:lnTo>
                <a:lnTo>
                  <a:pt x="93" y="1337"/>
                </a:lnTo>
                <a:lnTo>
                  <a:pt x="0" y="1226"/>
                </a:lnTo>
                <a:lnTo>
                  <a:pt x="17" y="1192"/>
                </a:lnTo>
                <a:lnTo>
                  <a:pt x="42" y="1154"/>
                </a:lnTo>
                <a:lnTo>
                  <a:pt x="57" y="1131"/>
                </a:lnTo>
                <a:lnTo>
                  <a:pt x="74" y="1108"/>
                </a:lnTo>
                <a:lnTo>
                  <a:pt x="95" y="1082"/>
                </a:lnTo>
                <a:lnTo>
                  <a:pt x="118" y="1055"/>
                </a:lnTo>
                <a:lnTo>
                  <a:pt x="143" y="1027"/>
                </a:lnTo>
                <a:lnTo>
                  <a:pt x="169" y="998"/>
                </a:lnTo>
                <a:lnTo>
                  <a:pt x="200" y="972"/>
                </a:lnTo>
                <a:lnTo>
                  <a:pt x="234" y="943"/>
                </a:lnTo>
                <a:lnTo>
                  <a:pt x="251" y="930"/>
                </a:lnTo>
                <a:lnTo>
                  <a:pt x="261" y="924"/>
                </a:lnTo>
                <a:lnTo>
                  <a:pt x="268" y="917"/>
                </a:lnTo>
                <a:lnTo>
                  <a:pt x="287" y="905"/>
                </a:lnTo>
                <a:lnTo>
                  <a:pt x="306" y="892"/>
                </a:lnTo>
                <a:lnTo>
                  <a:pt x="327" y="880"/>
                </a:lnTo>
                <a:lnTo>
                  <a:pt x="346" y="869"/>
                </a:lnTo>
                <a:lnTo>
                  <a:pt x="367" y="858"/>
                </a:lnTo>
                <a:lnTo>
                  <a:pt x="388" y="848"/>
                </a:lnTo>
                <a:lnTo>
                  <a:pt x="407" y="841"/>
                </a:lnTo>
                <a:lnTo>
                  <a:pt x="428" y="833"/>
                </a:lnTo>
                <a:lnTo>
                  <a:pt x="447" y="823"/>
                </a:lnTo>
                <a:lnTo>
                  <a:pt x="468" y="818"/>
                </a:lnTo>
                <a:lnTo>
                  <a:pt x="506" y="806"/>
                </a:lnTo>
                <a:lnTo>
                  <a:pt x="544" y="795"/>
                </a:lnTo>
                <a:lnTo>
                  <a:pt x="580" y="787"/>
                </a:lnTo>
                <a:lnTo>
                  <a:pt x="614" y="782"/>
                </a:lnTo>
                <a:lnTo>
                  <a:pt x="675" y="774"/>
                </a:lnTo>
                <a:lnTo>
                  <a:pt x="723" y="770"/>
                </a:lnTo>
                <a:lnTo>
                  <a:pt x="764" y="770"/>
                </a:lnTo>
                <a:lnTo>
                  <a:pt x="772" y="717"/>
                </a:lnTo>
                <a:lnTo>
                  <a:pt x="783" y="662"/>
                </a:lnTo>
                <a:lnTo>
                  <a:pt x="799" y="592"/>
                </a:lnTo>
                <a:lnTo>
                  <a:pt x="820" y="517"/>
                </a:lnTo>
                <a:lnTo>
                  <a:pt x="829" y="479"/>
                </a:lnTo>
                <a:lnTo>
                  <a:pt x="842" y="441"/>
                </a:lnTo>
                <a:lnTo>
                  <a:pt x="856" y="405"/>
                </a:lnTo>
                <a:lnTo>
                  <a:pt x="869" y="371"/>
                </a:lnTo>
                <a:lnTo>
                  <a:pt x="884" y="341"/>
                </a:lnTo>
                <a:lnTo>
                  <a:pt x="899" y="312"/>
                </a:lnTo>
                <a:lnTo>
                  <a:pt x="918" y="287"/>
                </a:lnTo>
                <a:lnTo>
                  <a:pt x="941" y="261"/>
                </a:lnTo>
                <a:lnTo>
                  <a:pt x="968" y="234"/>
                </a:lnTo>
                <a:lnTo>
                  <a:pt x="996" y="208"/>
                </a:lnTo>
                <a:lnTo>
                  <a:pt x="1027" y="181"/>
                </a:lnTo>
                <a:lnTo>
                  <a:pt x="1059" y="154"/>
                </a:lnTo>
                <a:lnTo>
                  <a:pt x="1091" y="130"/>
                </a:lnTo>
                <a:lnTo>
                  <a:pt x="1109" y="118"/>
                </a:lnTo>
                <a:lnTo>
                  <a:pt x="1124" y="105"/>
                </a:lnTo>
                <a:lnTo>
                  <a:pt x="1139" y="96"/>
                </a:lnTo>
                <a:lnTo>
                  <a:pt x="1154" y="84"/>
                </a:lnTo>
                <a:lnTo>
                  <a:pt x="1169" y="73"/>
                </a:lnTo>
                <a:lnTo>
                  <a:pt x="1185" y="63"/>
                </a:lnTo>
                <a:lnTo>
                  <a:pt x="1198" y="54"/>
                </a:lnTo>
                <a:lnTo>
                  <a:pt x="1211" y="46"/>
                </a:lnTo>
                <a:lnTo>
                  <a:pt x="1225" y="38"/>
                </a:lnTo>
                <a:lnTo>
                  <a:pt x="1236" y="31"/>
                </a:lnTo>
                <a:lnTo>
                  <a:pt x="1255" y="18"/>
                </a:lnTo>
                <a:lnTo>
                  <a:pt x="1270" y="8"/>
                </a:lnTo>
                <a:lnTo>
                  <a:pt x="1283" y="0"/>
                </a:lnTo>
                <a:lnTo>
                  <a:pt x="1283" y="0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6629400">
            <a:off x="2148120" y="3215160"/>
            <a:ext cx="957240" cy="422280"/>
          </a:xfrm>
          <a:custGeom>
            <a:avLst/>
            <a:gdLst/>
            <a:ahLst/>
            <a:rect l="l" t="t" r="r" b="b"/>
            <a:pathLst>
              <a:path w="1109" h="513">
                <a:moveTo>
                  <a:pt x="1109" y="0"/>
                </a:moveTo>
                <a:lnTo>
                  <a:pt x="917" y="9"/>
                </a:lnTo>
                <a:lnTo>
                  <a:pt x="826" y="21"/>
                </a:lnTo>
                <a:lnTo>
                  <a:pt x="774" y="30"/>
                </a:lnTo>
                <a:lnTo>
                  <a:pt x="723" y="42"/>
                </a:lnTo>
                <a:lnTo>
                  <a:pt x="668" y="55"/>
                </a:lnTo>
                <a:lnTo>
                  <a:pt x="641" y="62"/>
                </a:lnTo>
                <a:lnTo>
                  <a:pt x="613" y="70"/>
                </a:lnTo>
                <a:lnTo>
                  <a:pt x="584" y="80"/>
                </a:lnTo>
                <a:lnTo>
                  <a:pt x="556" y="89"/>
                </a:lnTo>
                <a:lnTo>
                  <a:pt x="529" y="99"/>
                </a:lnTo>
                <a:lnTo>
                  <a:pt x="501" y="110"/>
                </a:lnTo>
                <a:lnTo>
                  <a:pt x="472" y="121"/>
                </a:lnTo>
                <a:lnTo>
                  <a:pt x="443" y="135"/>
                </a:lnTo>
                <a:lnTo>
                  <a:pt x="417" y="148"/>
                </a:lnTo>
                <a:lnTo>
                  <a:pt x="405" y="156"/>
                </a:lnTo>
                <a:lnTo>
                  <a:pt x="392" y="163"/>
                </a:lnTo>
                <a:lnTo>
                  <a:pt x="379" y="171"/>
                </a:lnTo>
                <a:lnTo>
                  <a:pt x="366" y="178"/>
                </a:lnTo>
                <a:lnTo>
                  <a:pt x="354" y="186"/>
                </a:lnTo>
                <a:lnTo>
                  <a:pt x="341" y="194"/>
                </a:lnTo>
                <a:lnTo>
                  <a:pt x="329" y="201"/>
                </a:lnTo>
                <a:lnTo>
                  <a:pt x="318" y="209"/>
                </a:lnTo>
                <a:lnTo>
                  <a:pt x="307" y="216"/>
                </a:lnTo>
                <a:lnTo>
                  <a:pt x="295" y="224"/>
                </a:lnTo>
                <a:lnTo>
                  <a:pt x="284" y="233"/>
                </a:lnTo>
                <a:lnTo>
                  <a:pt x="272" y="241"/>
                </a:lnTo>
                <a:lnTo>
                  <a:pt x="250" y="258"/>
                </a:lnTo>
                <a:lnTo>
                  <a:pt x="210" y="290"/>
                </a:lnTo>
                <a:lnTo>
                  <a:pt x="172" y="325"/>
                </a:lnTo>
                <a:lnTo>
                  <a:pt x="137" y="357"/>
                </a:lnTo>
                <a:lnTo>
                  <a:pt x="105" y="387"/>
                </a:lnTo>
                <a:lnTo>
                  <a:pt x="78" y="418"/>
                </a:lnTo>
                <a:lnTo>
                  <a:pt x="56" y="444"/>
                </a:lnTo>
                <a:lnTo>
                  <a:pt x="35" y="467"/>
                </a:lnTo>
                <a:lnTo>
                  <a:pt x="10" y="500"/>
                </a:lnTo>
                <a:lnTo>
                  <a:pt x="0" y="513"/>
                </a:lnTo>
                <a:lnTo>
                  <a:pt x="10" y="505"/>
                </a:lnTo>
                <a:lnTo>
                  <a:pt x="21" y="496"/>
                </a:lnTo>
                <a:lnTo>
                  <a:pt x="38" y="486"/>
                </a:lnTo>
                <a:lnTo>
                  <a:pt x="50" y="479"/>
                </a:lnTo>
                <a:lnTo>
                  <a:pt x="59" y="471"/>
                </a:lnTo>
                <a:lnTo>
                  <a:pt x="73" y="463"/>
                </a:lnTo>
                <a:lnTo>
                  <a:pt x="84" y="456"/>
                </a:lnTo>
                <a:lnTo>
                  <a:pt x="97" y="446"/>
                </a:lnTo>
                <a:lnTo>
                  <a:pt x="113" y="439"/>
                </a:lnTo>
                <a:lnTo>
                  <a:pt x="128" y="429"/>
                </a:lnTo>
                <a:lnTo>
                  <a:pt x="145" y="418"/>
                </a:lnTo>
                <a:lnTo>
                  <a:pt x="162" y="408"/>
                </a:lnTo>
                <a:lnTo>
                  <a:pt x="179" y="399"/>
                </a:lnTo>
                <a:lnTo>
                  <a:pt x="196" y="387"/>
                </a:lnTo>
                <a:lnTo>
                  <a:pt x="215" y="376"/>
                </a:lnTo>
                <a:lnTo>
                  <a:pt x="234" y="366"/>
                </a:lnTo>
                <a:lnTo>
                  <a:pt x="255" y="355"/>
                </a:lnTo>
                <a:lnTo>
                  <a:pt x="274" y="344"/>
                </a:lnTo>
                <a:lnTo>
                  <a:pt x="295" y="332"/>
                </a:lnTo>
                <a:lnTo>
                  <a:pt x="316" y="321"/>
                </a:lnTo>
                <a:lnTo>
                  <a:pt x="339" y="311"/>
                </a:lnTo>
                <a:lnTo>
                  <a:pt x="360" y="300"/>
                </a:lnTo>
                <a:lnTo>
                  <a:pt x="383" y="289"/>
                </a:lnTo>
                <a:lnTo>
                  <a:pt x="405" y="277"/>
                </a:lnTo>
                <a:lnTo>
                  <a:pt x="428" y="268"/>
                </a:lnTo>
                <a:lnTo>
                  <a:pt x="451" y="258"/>
                </a:lnTo>
                <a:lnTo>
                  <a:pt x="474" y="247"/>
                </a:lnTo>
                <a:lnTo>
                  <a:pt x="497" y="239"/>
                </a:lnTo>
                <a:lnTo>
                  <a:pt x="521" y="230"/>
                </a:lnTo>
                <a:lnTo>
                  <a:pt x="546" y="220"/>
                </a:lnTo>
                <a:lnTo>
                  <a:pt x="571" y="213"/>
                </a:lnTo>
                <a:lnTo>
                  <a:pt x="596" y="207"/>
                </a:lnTo>
                <a:lnTo>
                  <a:pt x="620" y="199"/>
                </a:lnTo>
                <a:lnTo>
                  <a:pt x="670" y="186"/>
                </a:lnTo>
                <a:lnTo>
                  <a:pt x="721" y="176"/>
                </a:lnTo>
                <a:lnTo>
                  <a:pt x="769" y="167"/>
                </a:lnTo>
                <a:lnTo>
                  <a:pt x="816" y="159"/>
                </a:lnTo>
                <a:lnTo>
                  <a:pt x="862" y="154"/>
                </a:lnTo>
                <a:lnTo>
                  <a:pt x="942" y="144"/>
                </a:lnTo>
                <a:lnTo>
                  <a:pt x="1006" y="138"/>
                </a:lnTo>
                <a:lnTo>
                  <a:pt x="1063" y="137"/>
                </a:lnTo>
                <a:lnTo>
                  <a:pt x="1109" y="0"/>
                </a:lnTo>
                <a:lnTo>
                  <a:pt x="1109" y="0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6629400">
            <a:off x="942840" y="1172880"/>
            <a:ext cx="2003400" cy="1736640"/>
          </a:xfrm>
          <a:custGeom>
            <a:avLst/>
            <a:gdLst/>
            <a:ahLst/>
            <a:rect l="l" t="t" r="r" b="b"/>
            <a:pathLst>
              <a:path w="2321" h="2117">
                <a:moveTo>
                  <a:pt x="1935" y="114"/>
                </a:moveTo>
                <a:lnTo>
                  <a:pt x="1926" y="110"/>
                </a:lnTo>
                <a:lnTo>
                  <a:pt x="1914" y="102"/>
                </a:lnTo>
                <a:lnTo>
                  <a:pt x="1899" y="95"/>
                </a:lnTo>
                <a:lnTo>
                  <a:pt x="1880" y="85"/>
                </a:lnTo>
                <a:lnTo>
                  <a:pt x="1857" y="76"/>
                </a:lnTo>
                <a:lnTo>
                  <a:pt x="1831" y="64"/>
                </a:lnTo>
                <a:lnTo>
                  <a:pt x="1802" y="53"/>
                </a:lnTo>
                <a:lnTo>
                  <a:pt x="1770" y="42"/>
                </a:lnTo>
                <a:lnTo>
                  <a:pt x="1736" y="30"/>
                </a:lnTo>
                <a:lnTo>
                  <a:pt x="1699" y="21"/>
                </a:lnTo>
                <a:lnTo>
                  <a:pt x="1660" y="13"/>
                </a:lnTo>
                <a:lnTo>
                  <a:pt x="1620" y="6"/>
                </a:lnTo>
                <a:lnTo>
                  <a:pt x="1578" y="2"/>
                </a:lnTo>
                <a:lnTo>
                  <a:pt x="1488" y="0"/>
                </a:lnTo>
                <a:lnTo>
                  <a:pt x="1382" y="11"/>
                </a:lnTo>
                <a:lnTo>
                  <a:pt x="1317" y="23"/>
                </a:lnTo>
                <a:lnTo>
                  <a:pt x="1247" y="36"/>
                </a:lnTo>
                <a:lnTo>
                  <a:pt x="1209" y="44"/>
                </a:lnTo>
                <a:lnTo>
                  <a:pt x="1171" y="53"/>
                </a:lnTo>
                <a:lnTo>
                  <a:pt x="1131" y="63"/>
                </a:lnTo>
                <a:lnTo>
                  <a:pt x="1091" y="72"/>
                </a:lnTo>
                <a:lnTo>
                  <a:pt x="1051" y="83"/>
                </a:lnTo>
                <a:lnTo>
                  <a:pt x="1011" y="95"/>
                </a:lnTo>
                <a:lnTo>
                  <a:pt x="969" y="106"/>
                </a:lnTo>
                <a:lnTo>
                  <a:pt x="928" y="120"/>
                </a:lnTo>
                <a:lnTo>
                  <a:pt x="886" y="133"/>
                </a:lnTo>
                <a:lnTo>
                  <a:pt x="865" y="139"/>
                </a:lnTo>
                <a:lnTo>
                  <a:pt x="846" y="146"/>
                </a:lnTo>
                <a:lnTo>
                  <a:pt x="825" y="154"/>
                </a:lnTo>
                <a:lnTo>
                  <a:pt x="804" y="161"/>
                </a:lnTo>
                <a:lnTo>
                  <a:pt x="783" y="169"/>
                </a:lnTo>
                <a:lnTo>
                  <a:pt x="764" y="177"/>
                </a:lnTo>
                <a:lnTo>
                  <a:pt x="743" y="184"/>
                </a:lnTo>
                <a:lnTo>
                  <a:pt x="722" y="192"/>
                </a:lnTo>
                <a:lnTo>
                  <a:pt x="703" y="199"/>
                </a:lnTo>
                <a:lnTo>
                  <a:pt x="684" y="207"/>
                </a:lnTo>
                <a:lnTo>
                  <a:pt x="665" y="217"/>
                </a:lnTo>
                <a:lnTo>
                  <a:pt x="646" y="224"/>
                </a:lnTo>
                <a:lnTo>
                  <a:pt x="627" y="232"/>
                </a:lnTo>
                <a:lnTo>
                  <a:pt x="608" y="241"/>
                </a:lnTo>
                <a:lnTo>
                  <a:pt x="589" y="249"/>
                </a:lnTo>
                <a:lnTo>
                  <a:pt x="572" y="258"/>
                </a:lnTo>
                <a:lnTo>
                  <a:pt x="555" y="268"/>
                </a:lnTo>
                <a:lnTo>
                  <a:pt x="536" y="275"/>
                </a:lnTo>
                <a:lnTo>
                  <a:pt x="521" y="285"/>
                </a:lnTo>
                <a:lnTo>
                  <a:pt x="504" y="294"/>
                </a:lnTo>
                <a:lnTo>
                  <a:pt x="488" y="302"/>
                </a:lnTo>
                <a:lnTo>
                  <a:pt x="471" y="312"/>
                </a:lnTo>
                <a:lnTo>
                  <a:pt x="456" y="321"/>
                </a:lnTo>
                <a:lnTo>
                  <a:pt x="441" y="331"/>
                </a:lnTo>
                <a:lnTo>
                  <a:pt x="427" y="340"/>
                </a:lnTo>
                <a:lnTo>
                  <a:pt x="414" y="351"/>
                </a:lnTo>
                <a:lnTo>
                  <a:pt x="363" y="389"/>
                </a:lnTo>
                <a:lnTo>
                  <a:pt x="319" y="431"/>
                </a:lnTo>
                <a:lnTo>
                  <a:pt x="275" y="471"/>
                </a:lnTo>
                <a:lnTo>
                  <a:pt x="235" y="513"/>
                </a:lnTo>
                <a:lnTo>
                  <a:pt x="215" y="534"/>
                </a:lnTo>
                <a:lnTo>
                  <a:pt x="196" y="555"/>
                </a:lnTo>
                <a:lnTo>
                  <a:pt x="178" y="578"/>
                </a:lnTo>
                <a:lnTo>
                  <a:pt x="161" y="599"/>
                </a:lnTo>
                <a:lnTo>
                  <a:pt x="144" y="621"/>
                </a:lnTo>
                <a:lnTo>
                  <a:pt x="127" y="642"/>
                </a:lnTo>
                <a:lnTo>
                  <a:pt x="112" y="665"/>
                </a:lnTo>
                <a:lnTo>
                  <a:pt x="97" y="690"/>
                </a:lnTo>
                <a:lnTo>
                  <a:pt x="83" y="713"/>
                </a:lnTo>
                <a:lnTo>
                  <a:pt x="72" y="735"/>
                </a:lnTo>
                <a:lnTo>
                  <a:pt x="59" y="760"/>
                </a:lnTo>
                <a:lnTo>
                  <a:pt x="49" y="783"/>
                </a:lnTo>
                <a:lnTo>
                  <a:pt x="30" y="834"/>
                </a:lnTo>
                <a:lnTo>
                  <a:pt x="5" y="939"/>
                </a:lnTo>
                <a:lnTo>
                  <a:pt x="0" y="1051"/>
                </a:lnTo>
                <a:lnTo>
                  <a:pt x="7" y="1110"/>
                </a:lnTo>
                <a:lnTo>
                  <a:pt x="19" y="1171"/>
                </a:lnTo>
                <a:lnTo>
                  <a:pt x="32" y="1235"/>
                </a:lnTo>
                <a:lnTo>
                  <a:pt x="49" y="1300"/>
                </a:lnTo>
                <a:lnTo>
                  <a:pt x="66" y="1366"/>
                </a:lnTo>
                <a:lnTo>
                  <a:pt x="83" y="1433"/>
                </a:lnTo>
                <a:lnTo>
                  <a:pt x="93" y="1467"/>
                </a:lnTo>
                <a:lnTo>
                  <a:pt x="102" y="1499"/>
                </a:lnTo>
                <a:lnTo>
                  <a:pt x="114" y="1534"/>
                </a:lnTo>
                <a:lnTo>
                  <a:pt x="125" y="1566"/>
                </a:lnTo>
                <a:lnTo>
                  <a:pt x="137" y="1598"/>
                </a:lnTo>
                <a:lnTo>
                  <a:pt x="148" y="1630"/>
                </a:lnTo>
                <a:lnTo>
                  <a:pt x="173" y="1693"/>
                </a:lnTo>
                <a:lnTo>
                  <a:pt x="188" y="1722"/>
                </a:lnTo>
                <a:lnTo>
                  <a:pt x="201" y="1752"/>
                </a:lnTo>
                <a:lnTo>
                  <a:pt x="216" y="1781"/>
                </a:lnTo>
                <a:lnTo>
                  <a:pt x="232" y="1807"/>
                </a:lnTo>
                <a:lnTo>
                  <a:pt x="249" y="1834"/>
                </a:lnTo>
                <a:lnTo>
                  <a:pt x="264" y="1860"/>
                </a:lnTo>
                <a:lnTo>
                  <a:pt x="283" y="1883"/>
                </a:lnTo>
                <a:lnTo>
                  <a:pt x="300" y="1908"/>
                </a:lnTo>
                <a:lnTo>
                  <a:pt x="321" y="1929"/>
                </a:lnTo>
                <a:lnTo>
                  <a:pt x="340" y="1948"/>
                </a:lnTo>
                <a:lnTo>
                  <a:pt x="382" y="1984"/>
                </a:lnTo>
                <a:lnTo>
                  <a:pt x="393" y="1992"/>
                </a:lnTo>
                <a:lnTo>
                  <a:pt x="405" y="1999"/>
                </a:lnTo>
                <a:lnTo>
                  <a:pt x="416" y="2007"/>
                </a:lnTo>
                <a:lnTo>
                  <a:pt x="429" y="2012"/>
                </a:lnTo>
                <a:lnTo>
                  <a:pt x="454" y="2026"/>
                </a:lnTo>
                <a:lnTo>
                  <a:pt x="479" y="2035"/>
                </a:lnTo>
                <a:lnTo>
                  <a:pt x="505" y="2043"/>
                </a:lnTo>
                <a:lnTo>
                  <a:pt x="532" y="2052"/>
                </a:lnTo>
                <a:lnTo>
                  <a:pt x="559" y="2060"/>
                </a:lnTo>
                <a:lnTo>
                  <a:pt x="585" y="2068"/>
                </a:lnTo>
                <a:lnTo>
                  <a:pt x="612" y="2075"/>
                </a:lnTo>
                <a:lnTo>
                  <a:pt x="640" y="2083"/>
                </a:lnTo>
                <a:lnTo>
                  <a:pt x="696" y="2094"/>
                </a:lnTo>
                <a:lnTo>
                  <a:pt x="753" y="2106"/>
                </a:lnTo>
                <a:lnTo>
                  <a:pt x="810" y="2113"/>
                </a:lnTo>
                <a:lnTo>
                  <a:pt x="869" y="2117"/>
                </a:lnTo>
                <a:lnTo>
                  <a:pt x="926" y="2117"/>
                </a:lnTo>
                <a:lnTo>
                  <a:pt x="1042" y="2117"/>
                </a:lnTo>
                <a:lnTo>
                  <a:pt x="1156" y="2117"/>
                </a:lnTo>
                <a:lnTo>
                  <a:pt x="1268" y="2102"/>
                </a:lnTo>
                <a:lnTo>
                  <a:pt x="1323" y="2087"/>
                </a:lnTo>
                <a:lnTo>
                  <a:pt x="1350" y="2079"/>
                </a:lnTo>
                <a:lnTo>
                  <a:pt x="1376" y="2069"/>
                </a:lnTo>
                <a:lnTo>
                  <a:pt x="1403" y="2060"/>
                </a:lnTo>
                <a:lnTo>
                  <a:pt x="1429" y="2050"/>
                </a:lnTo>
                <a:lnTo>
                  <a:pt x="1456" y="2041"/>
                </a:lnTo>
                <a:lnTo>
                  <a:pt x="1483" y="2031"/>
                </a:lnTo>
                <a:lnTo>
                  <a:pt x="1507" y="2020"/>
                </a:lnTo>
                <a:lnTo>
                  <a:pt x="1534" y="2011"/>
                </a:lnTo>
                <a:lnTo>
                  <a:pt x="1561" y="1999"/>
                </a:lnTo>
                <a:lnTo>
                  <a:pt x="1585" y="1988"/>
                </a:lnTo>
                <a:lnTo>
                  <a:pt x="1610" y="1976"/>
                </a:lnTo>
                <a:lnTo>
                  <a:pt x="1637" y="1965"/>
                </a:lnTo>
                <a:lnTo>
                  <a:pt x="1661" y="1954"/>
                </a:lnTo>
                <a:lnTo>
                  <a:pt x="1686" y="1942"/>
                </a:lnTo>
                <a:lnTo>
                  <a:pt x="1711" y="1931"/>
                </a:lnTo>
                <a:lnTo>
                  <a:pt x="1736" y="1917"/>
                </a:lnTo>
                <a:lnTo>
                  <a:pt x="1758" y="1906"/>
                </a:lnTo>
                <a:lnTo>
                  <a:pt x="1783" y="1893"/>
                </a:lnTo>
                <a:lnTo>
                  <a:pt x="1806" y="1879"/>
                </a:lnTo>
                <a:lnTo>
                  <a:pt x="1829" y="1866"/>
                </a:lnTo>
                <a:lnTo>
                  <a:pt x="1852" y="1853"/>
                </a:lnTo>
                <a:lnTo>
                  <a:pt x="1874" y="1840"/>
                </a:lnTo>
                <a:lnTo>
                  <a:pt x="1884" y="1832"/>
                </a:lnTo>
                <a:lnTo>
                  <a:pt x="1895" y="1826"/>
                </a:lnTo>
                <a:lnTo>
                  <a:pt x="1907" y="1819"/>
                </a:lnTo>
                <a:lnTo>
                  <a:pt x="1916" y="1811"/>
                </a:lnTo>
                <a:lnTo>
                  <a:pt x="1928" y="1805"/>
                </a:lnTo>
                <a:lnTo>
                  <a:pt x="1937" y="1798"/>
                </a:lnTo>
                <a:lnTo>
                  <a:pt x="1949" y="1790"/>
                </a:lnTo>
                <a:lnTo>
                  <a:pt x="1958" y="1783"/>
                </a:lnTo>
                <a:lnTo>
                  <a:pt x="1968" y="1775"/>
                </a:lnTo>
                <a:lnTo>
                  <a:pt x="1979" y="1769"/>
                </a:lnTo>
                <a:lnTo>
                  <a:pt x="1998" y="1754"/>
                </a:lnTo>
                <a:lnTo>
                  <a:pt x="2036" y="1724"/>
                </a:lnTo>
                <a:lnTo>
                  <a:pt x="2070" y="1691"/>
                </a:lnTo>
                <a:lnTo>
                  <a:pt x="2103" y="1661"/>
                </a:lnTo>
                <a:lnTo>
                  <a:pt x="2133" y="1629"/>
                </a:lnTo>
                <a:lnTo>
                  <a:pt x="2161" y="1596"/>
                </a:lnTo>
                <a:lnTo>
                  <a:pt x="2186" y="1566"/>
                </a:lnTo>
                <a:lnTo>
                  <a:pt x="2209" y="1535"/>
                </a:lnTo>
                <a:lnTo>
                  <a:pt x="2228" y="1505"/>
                </a:lnTo>
                <a:lnTo>
                  <a:pt x="2247" y="1477"/>
                </a:lnTo>
                <a:lnTo>
                  <a:pt x="2262" y="1450"/>
                </a:lnTo>
                <a:lnTo>
                  <a:pt x="2276" y="1425"/>
                </a:lnTo>
                <a:lnTo>
                  <a:pt x="2296" y="1382"/>
                </a:lnTo>
                <a:lnTo>
                  <a:pt x="2310" y="1347"/>
                </a:lnTo>
                <a:lnTo>
                  <a:pt x="2321" y="1319"/>
                </a:lnTo>
                <a:lnTo>
                  <a:pt x="2072" y="1399"/>
                </a:lnTo>
                <a:lnTo>
                  <a:pt x="2047" y="1420"/>
                </a:lnTo>
                <a:lnTo>
                  <a:pt x="2019" y="1444"/>
                </a:lnTo>
                <a:lnTo>
                  <a:pt x="1981" y="1477"/>
                </a:lnTo>
                <a:lnTo>
                  <a:pt x="1933" y="1515"/>
                </a:lnTo>
                <a:lnTo>
                  <a:pt x="1907" y="1534"/>
                </a:lnTo>
                <a:lnTo>
                  <a:pt x="1892" y="1545"/>
                </a:lnTo>
                <a:lnTo>
                  <a:pt x="1876" y="1556"/>
                </a:lnTo>
                <a:lnTo>
                  <a:pt x="1861" y="1566"/>
                </a:lnTo>
                <a:lnTo>
                  <a:pt x="1846" y="1577"/>
                </a:lnTo>
                <a:lnTo>
                  <a:pt x="1831" y="1589"/>
                </a:lnTo>
                <a:lnTo>
                  <a:pt x="1814" y="1600"/>
                </a:lnTo>
                <a:lnTo>
                  <a:pt x="1796" y="1611"/>
                </a:lnTo>
                <a:lnTo>
                  <a:pt x="1779" y="1623"/>
                </a:lnTo>
                <a:lnTo>
                  <a:pt x="1762" y="1634"/>
                </a:lnTo>
                <a:lnTo>
                  <a:pt x="1743" y="1646"/>
                </a:lnTo>
                <a:lnTo>
                  <a:pt x="1726" y="1657"/>
                </a:lnTo>
                <a:lnTo>
                  <a:pt x="1707" y="1670"/>
                </a:lnTo>
                <a:lnTo>
                  <a:pt x="1688" y="1682"/>
                </a:lnTo>
                <a:lnTo>
                  <a:pt x="1669" y="1693"/>
                </a:lnTo>
                <a:lnTo>
                  <a:pt x="1648" y="1705"/>
                </a:lnTo>
                <a:lnTo>
                  <a:pt x="1629" y="1716"/>
                </a:lnTo>
                <a:lnTo>
                  <a:pt x="1608" y="1725"/>
                </a:lnTo>
                <a:lnTo>
                  <a:pt x="1587" y="1737"/>
                </a:lnTo>
                <a:lnTo>
                  <a:pt x="1566" y="1748"/>
                </a:lnTo>
                <a:lnTo>
                  <a:pt x="1545" y="1760"/>
                </a:lnTo>
                <a:lnTo>
                  <a:pt x="1525" y="1769"/>
                </a:lnTo>
                <a:lnTo>
                  <a:pt x="1504" y="1779"/>
                </a:lnTo>
                <a:lnTo>
                  <a:pt x="1481" y="1790"/>
                </a:lnTo>
                <a:lnTo>
                  <a:pt x="1460" y="1800"/>
                </a:lnTo>
                <a:lnTo>
                  <a:pt x="1437" y="1809"/>
                </a:lnTo>
                <a:lnTo>
                  <a:pt x="1416" y="1817"/>
                </a:lnTo>
                <a:lnTo>
                  <a:pt x="1393" y="1826"/>
                </a:lnTo>
                <a:lnTo>
                  <a:pt x="1371" y="1834"/>
                </a:lnTo>
                <a:lnTo>
                  <a:pt x="1348" y="1841"/>
                </a:lnTo>
                <a:lnTo>
                  <a:pt x="1327" y="1849"/>
                </a:lnTo>
                <a:lnTo>
                  <a:pt x="1304" y="1857"/>
                </a:lnTo>
                <a:lnTo>
                  <a:pt x="1281" y="1862"/>
                </a:lnTo>
                <a:lnTo>
                  <a:pt x="1236" y="1874"/>
                </a:lnTo>
                <a:lnTo>
                  <a:pt x="1188" y="1883"/>
                </a:lnTo>
                <a:lnTo>
                  <a:pt x="1142" y="1891"/>
                </a:lnTo>
                <a:lnTo>
                  <a:pt x="1051" y="1897"/>
                </a:lnTo>
                <a:lnTo>
                  <a:pt x="886" y="1891"/>
                </a:lnTo>
                <a:lnTo>
                  <a:pt x="751" y="1872"/>
                </a:lnTo>
                <a:lnTo>
                  <a:pt x="692" y="1859"/>
                </a:lnTo>
                <a:lnTo>
                  <a:pt x="667" y="1851"/>
                </a:lnTo>
                <a:lnTo>
                  <a:pt x="642" y="1843"/>
                </a:lnTo>
                <a:lnTo>
                  <a:pt x="618" y="1834"/>
                </a:lnTo>
                <a:lnTo>
                  <a:pt x="597" y="1824"/>
                </a:lnTo>
                <a:lnTo>
                  <a:pt x="576" y="1815"/>
                </a:lnTo>
                <a:lnTo>
                  <a:pt x="555" y="1803"/>
                </a:lnTo>
                <a:lnTo>
                  <a:pt x="538" y="1792"/>
                </a:lnTo>
                <a:lnTo>
                  <a:pt x="521" y="1781"/>
                </a:lnTo>
                <a:lnTo>
                  <a:pt x="490" y="1756"/>
                </a:lnTo>
                <a:lnTo>
                  <a:pt x="464" y="1729"/>
                </a:lnTo>
                <a:lnTo>
                  <a:pt x="441" y="1703"/>
                </a:lnTo>
                <a:lnTo>
                  <a:pt x="422" y="1674"/>
                </a:lnTo>
                <a:lnTo>
                  <a:pt x="405" y="1644"/>
                </a:lnTo>
                <a:lnTo>
                  <a:pt x="378" y="1581"/>
                </a:lnTo>
                <a:lnTo>
                  <a:pt x="367" y="1547"/>
                </a:lnTo>
                <a:lnTo>
                  <a:pt x="353" y="1513"/>
                </a:lnTo>
                <a:lnTo>
                  <a:pt x="338" y="1477"/>
                </a:lnTo>
                <a:lnTo>
                  <a:pt x="323" y="1439"/>
                </a:lnTo>
                <a:lnTo>
                  <a:pt x="308" y="1401"/>
                </a:lnTo>
                <a:lnTo>
                  <a:pt x="291" y="1362"/>
                </a:lnTo>
                <a:lnTo>
                  <a:pt x="275" y="1324"/>
                </a:lnTo>
                <a:lnTo>
                  <a:pt x="260" y="1286"/>
                </a:lnTo>
                <a:lnTo>
                  <a:pt x="245" y="1248"/>
                </a:lnTo>
                <a:lnTo>
                  <a:pt x="232" y="1210"/>
                </a:lnTo>
                <a:lnTo>
                  <a:pt x="209" y="1140"/>
                </a:lnTo>
                <a:lnTo>
                  <a:pt x="188" y="1022"/>
                </a:lnTo>
                <a:lnTo>
                  <a:pt x="194" y="910"/>
                </a:lnTo>
                <a:lnTo>
                  <a:pt x="203" y="846"/>
                </a:lnTo>
                <a:lnTo>
                  <a:pt x="222" y="775"/>
                </a:lnTo>
                <a:lnTo>
                  <a:pt x="235" y="739"/>
                </a:lnTo>
                <a:lnTo>
                  <a:pt x="253" y="703"/>
                </a:lnTo>
                <a:lnTo>
                  <a:pt x="262" y="684"/>
                </a:lnTo>
                <a:lnTo>
                  <a:pt x="272" y="665"/>
                </a:lnTo>
                <a:lnTo>
                  <a:pt x="285" y="646"/>
                </a:lnTo>
                <a:lnTo>
                  <a:pt x="298" y="627"/>
                </a:lnTo>
                <a:lnTo>
                  <a:pt x="312" y="608"/>
                </a:lnTo>
                <a:lnTo>
                  <a:pt x="327" y="589"/>
                </a:lnTo>
                <a:lnTo>
                  <a:pt x="344" y="570"/>
                </a:lnTo>
                <a:lnTo>
                  <a:pt x="361" y="549"/>
                </a:lnTo>
                <a:lnTo>
                  <a:pt x="380" y="530"/>
                </a:lnTo>
                <a:lnTo>
                  <a:pt x="401" y="511"/>
                </a:lnTo>
                <a:lnTo>
                  <a:pt x="424" y="492"/>
                </a:lnTo>
                <a:lnTo>
                  <a:pt x="447" y="473"/>
                </a:lnTo>
                <a:lnTo>
                  <a:pt x="471" y="454"/>
                </a:lnTo>
                <a:lnTo>
                  <a:pt x="485" y="445"/>
                </a:lnTo>
                <a:lnTo>
                  <a:pt x="498" y="435"/>
                </a:lnTo>
                <a:lnTo>
                  <a:pt x="513" y="426"/>
                </a:lnTo>
                <a:lnTo>
                  <a:pt x="526" y="418"/>
                </a:lnTo>
                <a:lnTo>
                  <a:pt x="542" y="408"/>
                </a:lnTo>
                <a:lnTo>
                  <a:pt x="555" y="399"/>
                </a:lnTo>
                <a:lnTo>
                  <a:pt x="570" y="391"/>
                </a:lnTo>
                <a:lnTo>
                  <a:pt x="585" y="382"/>
                </a:lnTo>
                <a:lnTo>
                  <a:pt x="602" y="374"/>
                </a:lnTo>
                <a:lnTo>
                  <a:pt x="618" y="365"/>
                </a:lnTo>
                <a:lnTo>
                  <a:pt x="633" y="357"/>
                </a:lnTo>
                <a:lnTo>
                  <a:pt x="650" y="350"/>
                </a:lnTo>
                <a:lnTo>
                  <a:pt x="665" y="340"/>
                </a:lnTo>
                <a:lnTo>
                  <a:pt x="682" y="332"/>
                </a:lnTo>
                <a:lnTo>
                  <a:pt x="699" y="325"/>
                </a:lnTo>
                <a:lnTo>
                  <a:pt x="716" y="317"/>
                </a:lnTo>
                <a:lnTo>
                  <a:pt x="734" y="310"/>
                </a:lnTo>
                <a:lnTo>
                  <a:pt x="751" y="302"/>
                </a:lnTo>
                <a:lnTo>
                  <a:pt x="768" y="294"/>
                </a:lnTo>
                <a:lnTo>
                  <a:pt x="785" y="289"/>
                </a:lnTo>
                <a:lnTo>
                  <a:pt x="802" y="281"/>
                </a:lnTo>
                <a:lnTo>
                  <a:pt x="821" y="274"/>
                </a:lnTo>
                <a:lnTo>
                  <a:pt x="838" y="268"/>
                </a:lnTo>
                <a:lnTo>
                  <a:pt x="855" y="260"/>
                </a:lnTo>
                <a:lnTo>
                  <a:pt x="891" y="247"/>
                </a:lnTo>
                <a:lnTo>
                  <a:pt x="928" y="236"/>
                </a:lnTo>
                <a:lnTo>
                  <a:pt x="962" y="224"/>
                </a:lnTo>
                <a:lnTo>
                  <a:pt x="996" y="213"/>
                </a:lnTo>
                <a:lnTo>
                  <a:pt x="1032" y="201"/>
                </a:lnTo>
                <a:lnTo>
                  <a:pt x="1066" y="192"/>
                </a:lnTo>
                <a:lnTo>
                  <a:pt x="1101" y="182"/>
                </a:lnTo>
                <a:lnTo>
                  <a:pt x="1133" y="173"/>
                </a:lnTo>
                <a:lnTo>
                  <a:pt x="1165" y="165"/>
                </a:lnTo>
                <a:lnTo>
                  <a:pt x="1196" y="158"/>
                </a:lnTo>
                <a:lnTo>
                  <a:pt x="1226" y="150"/>
                </a:lnTo>
                <a:lnTo>
                  <a:pt x="1283" y="139"/>
                </a:lnTo>
                <a:lnTo>
                  <a:pt x="1334" y="131"/>
                </a:lnTo>
                <a:lnTo>
                  <a:pt x="1418" y="121"/>
                </a:lnTo>
                <a:lnTo>
                  <a:pt x="1743" y="116"/>
                </a:lnTo>
                <a:lnTo>
                  <a:pt x="1935" y="114"/>
                </a:lnTo>
                <a:lnTo>
                  <a:pt x="1935" y="11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6629400">
            <a:off x="1116360" y="3980520"/>
            <a:ext cx="1706400" cy="1847880"/>
          </a:xfrm>
          <a:custGeom>
            <a:avLst/>
            <a:gdLst/>
            <a:ahLst/>
            <a:rect l="l" t="t" r="r" b="b"/>
            <a:pathLst>
              <a:path w="1977" h="2254">
                <a:moveTo>
                  <a:pt x="0" y="2039"/>
                </a:moveTo>
                <a:lnTo>
                  <a:pt x="6" y="2049"/>
                </a:lnTo>
                <a:lnTo>
                  <a:pt x="23" y="2077"/>
                </a:lnTo>
                <a:lnTo>
                  <a:pt x="38" y="2094"/>
                </a:lnTo>
                <a:lnTo>
                  <a:pt x="55" y="2115"/>
                </a:lnTo>
                <a:lnTo>
                  <a:pt x="78" y="2136"/>
                </a:lnTo>
                <a:lnTo>
                  <a:pt x="106" y="2157"/>
                </a:lnTo>
                <a:lnTo>
                  <a:pt x="122" y="2168"/>
                </a:lnTo>
                <a:lnTo>
                  <a:pt x="141" y="2178"/>
                </a:lnTo>
                <a:lnTo>
                  <a:pt x="158" y="2189"/>
                </a:lnTo>
                <a:lnTo>
                  <a:pt x="179" y="2199"/>
                </a:lnTo>
                <a:lnTo>
                  <a:pt x="200" y="2208"/>
                </a:lnTo>
                <a:lnTo>
                  <a:pt x="222" y="2218"/>
                </a:lnTo>
                <a:lnTo>
                  <a:pt x="247" y="2225"/>
                </a:lnTo>
                <a:lnTo>
                  <a:pt x="274" y="2233"/>
                </a:lnTo>
                <a:lnTo>
                  <a:pt x="302" y="2239"/>
                </a:lnTo>
                <a:lnTo>
                  <a:pt x="333" y="2244"/>
                </a:lnTo>
                <a:lnTo>
                  <a:pt x="397" y="2252"/>
                </a:lnTo>
                <a:lnTo>
                  <a:pt x="549" y="2254"/>
                </a:lnTo>
                <a:lnTo>
                  <a:pt x="717" y="2237"/>
                </a:lnTo>
                <a:lnTo>
                  <a:pt x="799" y="2225"/>
                </a:lnTo>
                <a:lnTo>
                  <a:pt x="880" y="2210"/>
                </a:lnTo>
                <a:lnTo>
                  <a:pt x="920" y="2203"/>
                </a:lnTo>
                <a:lnTo>
                  <a:pt x="958" y="2193"/>
                </a:lnTo>
                <a:lnTo>
                  <a:pt x="998" y="2184"/>
                </a:lnTo>
                <a:lnTo>
                  <a:pt x="1036" y="2174"/>
                </a:lnTo>
                <a:lnTo>
                  <a:pt x="1074" y="2163"/>
                </a:lnTo>
                <a:lnTo>
                  <a:pt x="1112" y="2153"/>
                </a:lnTo>
                <a:lnTo>
                  <a:pt x="1148" y="2142"/>
                </a:lnTo>
                <a:lnTo>
                  <a:pt x="1184" y="2129"/>
                </a:lnTo>
                <a:lnTo>
                  <a:pt x="1221" y="2117"/>
                </a:lnTo>
                <a:lnTo>
                  <a:pt x="1257" y="2104"/>
                </a:lnTo>
                <a:lnTo>
                  <a:pt x="1291" y="2089"/>
                </a:lnTo>
                <a:lnTo>
                  <a:pt x="1308" y="2083"/>
                </a:lnTo>
                <a:lnTo>
                  <a:pt x="1323" y="2075"/>
                </a:lnTo>
                <a:lnTo>
                  <a:pt x="1340" y="2068"/>
                </a:lnTo>
                <a:lnTo>
                  <a:pt x="1357" y="2060"/>
                </a:lnTo>
                <a:lnTo>
                  <a:pt x="1373" y="2053"/>
                </a:lnTo>
                <a:lnTo>
                  <a:pt x="1388" y="2045"/>
                </a:lnTo>
                <a:lnTo>
                  <a:pt x="1405" y="2037"/>
                </a:lnTo>
                <a:lnTo>
                  <a:pt x="1420" y="2030"/>
                </a:lnTo>
                <a:lnTo>
                  <a:pt x="1435" y="2022"/>
                </a:lnTo>
                <a:lnTo>
                  <a:pt x="1451" y="2015"/>
                </a:lnTo>
                <a:lnTo>
                  <a:pt x="1464" y="2005"/>
                </a:lnTo>
                <a:lnTo>
                  <a:pt x="1479" y="1997"/>
                </a:lnTo>
                <a:lnTo>
                  <a:pt x="1494" y="1988"/>
                </a:lnTo>
                <a:lnTo>
                  <a:pt x="1508" y="1980"/>
                </a:lnTo>
                <a:lnTo>
                  <a:pt x="1521" y="1971"/>
                </a:lnTo>
                <a:lnTo>
                  <a:pt x="1536" y="1963"/>
                </a:lnTo>
                <a:lnTo>
                  <a:pt x="1548" y="1954"/>
                </a:lnTo>
                <a:lnTo>
                  <a:pt x="1561" y="1944"/>
                </a:lnTo>
                <a:lnTo>
                  <a:pt x="1574" y="1937"/>
                </a:lnTo>
                <a:lnTo>
                  <a:pt x="1588" y="1927"/>
                </a:lnTo>
                <a:lnTo>
                  <a:pt x="1612" y="1908"/>
                </a:lnTo>
                <a:lnTo>
                  <a:pt x="1656" y="1870"/>
                </a:lnTo>
                <a:lnTo>
                  <a:pt x="1698" y="1830"/>
                </a:lnTo>
                <a:lnTo>
                  <a:pt x="1738" y="1794"/>
                </a:lnTo>
                <a:lnTo>
                  <a:pt x="1772" y="1758"/>
                </a:lnTo>
                <a:lnTo>
                  <a:pt x="1804" y="1724"/>
                </a:lnTo>
                <a:lnTo>
                  <a:pt x="1835" y="1688"/>
                </a:lnTo>
                <a:lnTo>
                  <a:pt x="1861" y="1653"/>
                </a:lnTo>
                <a:lnTo>
                  <a:pt x="1884" y="1619"/>
                </a:lnTo>
                <a:lnTo>
                  <a:pt x="1905" y="1583"/>
                </a:lnTo>
                <a:lnTo>
                  <a:pt x="1924" y="1547"/>
                </a:lnTo>
                <a:lnTo>
                  <a:pt x="1939" y="1507"/>
                </a:lnTo>
                <a:lnTo>
                  <a:pt x="1962" y="1425"/>
                </a:lnTo>
                <a:lnTo>
                  <a:pt x="1974" y="1332"/>
                </a:lnTo>
                <a:lnTo>
                  <a:pt x="1977" y="1226"/>
                </a:lnTo>
                <a:lnTo>
                  <a:pt x="1966" y="1003"/>
                </a:lnTo>
                <a:lnTo>
                  <a:pt x="1955" y="893"/>
                </a:lnTo>
                <a:lnTo>
                  <a:pt x="1945" y="840"/>
                </a:lnTo>
                <a:lnTo>
                  <a:pt x="1935" y="787"/>
                </a:lnTo>
                <a:lnTo>
                  <a:pt x="1922" y="734"/>
                </a:lnTo>
                <a:lnTo>
                  <a:pt x="1909" y="682"/>
                </a:lnTo>
                <a:lnTo>
                  <a:pt x="1892" y="631"/>
                </a:lnTo>
                <a:lnTo>
                  <a:pt x="1875" y="580"/>
                </a:lnTo>
                <a:lnTo>
                  <a:pt x="1854" y="530"/>
                </a:lnTo>
                <a:lnTo>
                  <a:pt x="1842" y="506"/>
                </a:lnTo>
                <a:lnTo>
                  <a:pt x="1829" y="481"/>
                </a:lnTo>
                <a:lnTo>
                  <a:pt x="1816" y="456"/>
                </a:lnTo>
                <a:lnTo>
                  <a:pt x="1802" y="431"/>
                </a:lnTo>
                <a:lnTo>
                  <a:pt x="1789" y="407"/>
                </a:lnTo>
                <a:lnTo>
                  <a:pt x="1774" y="384"/>
                </a:lnTo>
                <a:lnTo>
                  <a:pt x="1759" y="359"/>
                </a:lnTo>
                <a:lnTo>
                  <a:pt x="1742" y="336"/>
                </a:lnTo>
                <a:lnTo>
                  <a:pt x="1726" y="315"/>
                </a:lnTo>
                <a:lnTo>
                  <a:pt x="1709" y="295"/>
                </a:lnTo>
                <a:lnTo>
                  <a:pt x="1692" y="274"/>
                </a:lnTo>
                <a:lnTo>
                  <a:pt x="1675" y="255"/>
                </a:lnTo>
                <a:lnTo>
                  <a:pt x="1641" y="217"/>
                </a:lnTo>
                <a:lnTo>
                  <a:pt x="1605" y="184"/>
                </a:lnTo>
                <a:lnTo>
                  <a:pt x="1567" y="154"/>
                </a:lnTo>
                <a:lnTo>
                  <a:pt x="1557" y="146"/>
                </a:lnTo>
                <a:lnTo>
                  <a:pt x="1548" y="139"/>
                </a:lnTo>
                <a:lnTo>
                  <a:pt x="1536" y="131"/>
                </a:lnTo>
                <a:lnTo>
                  <a:pt x="1527" y="125"/>
                </a:lnTo>
                <a:lnTo>
                  <a:pt x="1506" y="112"/>
                </a:lnTo>
                <a:lnTo>
                  <a:pt x="1487" y="101"/>
                </a:lnTo>
                <a:lnTo>
                  <a:pt x="1464" y="89"/>
                </a:lnTo>
                <a:lnTo>
                  <a:pt x="1443" y="78"/>
                </a:lnTo>
                <a:lnTo>
                  <a:pt x="1422" y="68"/>
                </a:lnTo>
                <a:lnTo>
                  <a:pt x="1399" y="59"/>
                </a:lnTo>
                <a:lnTo>
                  <a:pt x="1377" y="49"/>
                </a:lnTo>
                <a:lnTo>
                  <a:pt x="1352" y="42"/>
                </a:lnTo>
                <a:lnTo>
                  <a:pt x="1329" y="34"/>
                </a:lnTo>
                <a:lnTo>
                  <a:pt x="1304" y="29"/>
                </a:lnTo>
                <a:lnTo>
                  <a:pt x="1253" y="17"/>
                </a:lnTo>
                <a:lnTo>
                  <a:pt x="1202" y="8"/>
                </a:lnTo>
                <a:lnTo>
                  <a:pt x="1146" y="2"/>
                </a:lnTo>
                <a:lnTo>
                  <a:pt x="1089" y="0"/>
                </a:lnTo>
                <a:lnTo>
                  <a:pt x="972" y="2"/>
                </a:lnTo>
                <a:lnTo>
                  <a:pt x="852" y="17"/>
                </a:lnTo>
                <a:lnTo>
                  <a:pt x="793" y="27"/>
                </a:lnTo>
                <a:lnTo>
                  <a:pt x="736" y="38"/>
                </a:lnTo>
                <a:lnTo>
                  <a:pt x="681" y="51"/>
                </a:lnTo>
                <a:lnTo>
                  <a:pt x="627" y="67"/>
                </a:lnTo>
                <a:lnTo>
                  <a:pt x="580" y="80"/>
                </a:lnTo>
                <a:lnTo>
                  <a:pt x="534" y="93"/>
                </a:lnTo>
                <a:lnTo>
                  <a:pt x="496" y="105"/>
                </a:lnTo>
                <a:lnTo>
                  <a:pt x="462" y="116"/>
                </a:lnTo>
                <a:lnTo>
                  <a:pt x="435" y="125"/>
                </a:lnTo>
                <a:lnTo>
                  <a:pt x="414" y="135"/>
                </a:lnTo>
                <a:lnTo>
                  <a:pt x="397" y="141"/>
                </a:lnTo>
                <a:lnTo>
                  <a:pt x="416" y="137"/>
                </a:lnTo>
                <a:lnTo>
                  <a:pt x="466" y="125"/>
                </a:lnTo>
                <a:lnTo>
                  <a:pt x="500" y="120"/>
                </a:lnTo>
                <a:lnTo>
                  <a:pt x="540" y="110"/>
                </a:lnTo>
                <a:lnTo>
                  <a:pt x="584" y="103"/>
                </a:lnTo>
                <a:lnTo>
                  <a:pt x="629" y="95"/>
                </a:lnTo>
                <a:lnTo>
                  <a:pt x="679" y="87"/>
                </a:lnTo>
                <a:lnTo>
                  <a:pt x="728" y="80"/>
                </a:lnTo>
                <a:lnTo>
                  <a:pt x="776" y="72"/>
                </a:lnTo>
                <a:lnTo>
                  <a:pt x="825" y="67"/>
                </a:lnTo>
                <a:lnTo>
                  <a:pt x="913" y="59"/>
                </a:lnTo>
                <a:lnTo>
                  <a:pt x="985" y="61"/>
                </a:lnTo>
                <a:lnTo>
                  <a:pt x="1120" y="80"/>
                </a:lnTo>
                <a:lnTo>
                  <a:pt x="1194" y="95"/>
                </a:lnTo>
                <a:lnTo>
                  <a:pt x="1232" y="103"/>
                </a:lnTo>
                <a:lnTo>
                  <a:pt x="1270" y="114"/>
                </a:lnTo>
                <a:lnTo>
                  <a:pt x="1306" y="124"/>
                </a:lnTo>
                <a:lnTo>
                  <a:pt x="1342" y="137"/>
                </a:lnTo>
                <a:lnTo>
                  <a:pt x="1377" y="150"/>
                </a:lnTo>
                <a:lnTo>
                  <a:pt x="1411" y="163"/>
                </a:lnTo>
                <a:lnTo>
                  <a:pt x="1426" y="171"/>
                </a:lnTo>
                <a:lnTo>
                  <a:pt x="1441" y="179"/>
                </a:lnTo>
                <a:lnTo>
                  <a:pt x="1454" y="188"/>
                </a:lnTo>
                <a:lnTo>
                  <a:pt x="1470" y="196"/>
                </a:lnTo>
                <a:lnTo>
                  <a:pt x="1517" y="234"/>
                </a:lnTo>
                <a:lnTo>
                  <a:pt x="1540" y="257"/>
                </a:lnTo>
                <a:lnTo>
                  <a:pt x="1563" y="287"/>
                </a:lnTo>
                <a:lnTo>
                  <a:pt x="1588" y="323"/>
                </a:lnTo>
                <a:lnTo>
                  <a:pt x="1614" y="365"/>
                </a:lnTo>
                <a:lnTo>
                  <a:pt x="1626" y="388"/>
                </a:lnTo>
                <a:lnTo>
                  <a:pt x="1639" y="411"/>
                </a:lnTo>
                <a:lnTo>
                  <a:pt x="1652" y="435"/>
                </a:lnTo>
                <a:lnTo>
                  <a:pt x="1666" y="462"/>
                </a:lnTo>
                <a:lnTo>
                  <a:pt x="1677" y="488"/>
                </a:lnTo>
                <a:lnTo>
                  <a:pt x="1690" y="515"/>
                </a:lnTo>
                <a:lnTo>
                  <a:pt x="1704" y="542"/>
                </a:lnTo>
                <a:lnTo>
                  <a:pt x="1715" y="570"/>
                </a:lnTo>
                <a:lnTo>
                  <a:pt x="1738" y="629"/>
                </a:lnTo>
                <a:lnTo>
                  <a:pt x="1761" y="688"/>
                </a:lnTo>
                <a:lnTo>
                  <a:pt x="1780" y="747"/>
                </a:lnTo>
                <a:lnTo>
                  <a:pt x="1797" y="806"/>
                </a:lnTo>
                <a:lnTo>
                  <a:pt x="1820" y="918"/>
                </a:lnTo>
                <a:lnTo>
                  <a:pt x="1831" y="1022"/>
                </a:lnTo>
                <a:lnTo>
                  <a:pt x="1821" y="1216"/>
                </a:lnTo>
                <a:lnTo>
                  <a:pt x="1814" y="1264"/>
                </a:lnTo>
                <a:lnTo>
                  <a:pt x="1804" y="1313"/>
                </a:lnTo>
                <a:lnTo>
                  <a:pt x="1793" y="1361"/>
                </a:lnTo>
                <a:lnTo>
                  <a:pt x="1776" y="1406"/>
                </a:lnTo>
                <a:lnTo>
                  <a:pt x="1757" y="1452"/>
                </a:lnTo>
                <a:lnTo>
                  <a:pt x="1745" y="1475"/>
                </a:lnTo>
                <a:lnTo>
                  <a:pt x="1734" y="1498"/>
                </a:lnTo>
                <a:lnTo>
                  <a:pt x="1721" y="1520"/>
                </a:lnTo>
                <a:lnTo>
                  <a:pt x="1707" y="1541"/>
                </a:lnTo>
                <a:lnTo>
                  <a:pt x="1690" y="1562"/>
                </a:lnTo>
                <a:lnTo>
                  <a:pt x="1675" y="1583"/>
                </a:lnTo>
                <a:lnTo>
                  <a:pt x="1656" y="1604"/>
                </a:lnTo>
                <a:lnTo>
                  <a:pt x="1637" y="1625"/>
                </a:lnTo>
                <a:lnTo>
                  <a:pt x="1618" y="1644"/>
                </a:lnTo>
                <a:lnTo>
                  <a:pt x="1595" y="1663"/>
                </a:lnTo>
                <a:lnTo>
                  <a:pt x="1548" y="1699"/>
                </a:lnTo>
                <a:lnTo>
                  <a:pt x="1534" y="1709"/>
                </a:lnTo>
                <a:lnTo>
                  <a:pt x="1521" y="1718"/>
                </a:lnTo>
                <a:lnTo>
                  <a:pt x="1508" y="1726"/>
                </a:lnTo>
                <a:lnTo>
                  <a:pt x="1494" y="1735"/>
                </a:lnTo>
                <a:lnTo>
                  <a:pt x="1481" y="1743"/>
                </a:lnTo>
                <a:lnTo>
                  <a:pt x="1466" y="1750"/>
                </a:lnTo>
                <a:lnTo>
                  <a:pt x="1453" y="1760"/>
                </a:lnTo>
                <a:lnTo>
                  <a:pt x="1437" y="1767"/>
                </a:lnTo>
                <a:lnTo>
                  <a:pt x="1424" y="1775"/>
                </a:lnTo>
                <a:lnTo>
                  <a:pt x="1409" y="1783"/>
                </a:lnTo>
                <a:lnTo>
                  <a:pt x="1396" y="1792"/>
                </a:lnTo>
                <a:lnTo>
                  <a:pt x="1380" y="1800"/>
                </a:lnTo>
                <a:lnTo>
                  <a:pt x="1367" y="1807"/>
                </a:lnTo>
                <a:lnTo>
                  <a:pt x="1352" y="1815"/>
                </a:lnTo>
                <a:lnTo>
                  <a:pt x="1338" y="1821"/>
                </a:lnTo>
                <a:lnTo>
                  <a:pt x="1325" y="1828"/>
                </a:lnTo>
                <a:lnTo>
                  <a:pt x="1310" y="1836"/>
                </a:lnTo>
                <a:lnTo>
                  <a:pt x="1295" y="1843"/>
                </a:lnTo>
                <a:lnTo>
                  <a:pt x="1281" y="1851"/>
                </a:lnTo>
                <a:lnTo>
                  <a:pt x="1268" y="1857"/>
                </a:lnTo>
                <a:lnTo>
                  <a:pt x="1253" y="1864"/>
                </a:lnTo>
                <a:lnTo>
                  <a:pt x="1240" y="1870"/>
                </a:lnTo>
                <a:lnTo>
                  <a:pt x="1211" y="1883"/>
                </a:lnTo>
                <a:lnTo>
                  <a:pt x="1183" y="1897"/>
                </a:lnTo>
                <a:lnTo>
                  <a:pt x="1154" y="1908"/>
                </a:lnTo>
                <a:lnTo>
                  <a:pt x="1126" y="1921"/>
                </a:lnTo>
                <a:lnTo>
                  <a:pt x="1097" y="1933"/>
                </a:lnTo>
                <a:lnTo>
                  <a:pt x="1068" y="1942"/>
                </a:lnTo>
                <a:lnTo>
                  <a:pt x="1040" y="1952"/>
                </a:lnTo>
                <a:lnTo>
                  <a:pt x="1011" y="1961"/>
                </a:lnTo>
                <a:lnTo>
                  <a:pt x="983" y="1971"/>
                </a:lnTo>
                <a:lnTo>
                  <a:pt x="954" y="1980"/>
                </a:lnTo>
                <a:lnTo>
                  <a:pt x="928" y="1988"/>
                </a:lnTo>
                <a:lnTo>
                  <a:pt x="899" y="1996"/>
                </a:lnTo>
                <a:lnTo>
                  <a:pt x="871" y="2001"/>
                </a:lnTo>
                <a:lnTo>
                  <a:pt x="814" y="2013"/>
                </a:lnTo>
                <a:lnTo>
                  <a:pt x="759" y="2020"/>
                </a:lnTo>
                <a:lnTo>
                  <a:pt x="702" y="2028"/>
                </a:lnTo>
                <a:lnTo>
                  <a:pt x="591" y="2030"/>
                </a:lnTo>
                <a:lnTo>
                  <a:pt x="489" y="2022"/>
                </a:lnTo>
                <a:lnTo>
                  <a:pt x="397" y="2009"/>
                </a:lnTo>
                <a:lnTo>
                  <a:pt x="357" y="1999"/>
                </a:lnTo>
                <a:lnTo>
                  <a:pt x="319" y="1990"/>
                </a:lnTo>
                <a:lnTo>
                  <a:pt x="285" y="1980"/>
                </a:lnTo>
                <a:lnTo>
                  <a:pt x="257" y="1971"/>
                </a:lnTo>
                <a:lnTo>
                  <a:pt x="228" y="1959"/>
                </a:lnTo>
                <a:lnTo>
                  <a:pt x="205" y="1950"/>
                </a:lnTo>
                <a:lnTo>
                  <a:pt x="186" y="1942"/>
                </a:lnTo>
                <a:lnTo>
                  <a:pt x="169" y="1933"/>
                </a:lnTo>
                <a:lnTo>
                  <a:pt x="146" y="1921"/>
                </a:lnTo>
                <a:lnTo>
                  <a:pt x="141" y="1918"/>
                </a:lnTo>
                <a:lnTo>
                  <a:pt x="0" y="2039"/>
                </a:lnTo>
                <a:lnTo>
                  <a:pt x="0" y="203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6629400">
            <a:off x="1645200" y="4456800"/>
            <a:ext cx="1266840" cy="681120"/>
          </a:xfrm>
          <a:custGeom>
            <a:avLst/>
            <a:gdLst/>
            <a:ahLst/>
            <a:rect l="l" t="t" r="r" b="b"/>
            <a:pathLst>
              <a:path w="1468" h="830">
                <a:moveTo>
                  <a:pt x="10" y="722"/>
                </a:moveTo>
                <a:lnTo>
                  <a:pt x="0" y="597"/>
                </a:lnTo>
                <a:lnTo>
                  <a:pt x="10" y="538"/>
                </a:lnTo>
                <a:lnTo>
                  <a:pt x="27" y="471"/>
                </a:lnTo>
                <a:lnTo>
                  <a:pt x="38" y="437"/>
                </a:lnTo>
                <a:lnTo>
                  <a:pt x="55" y="401"/>
                </a:lnTo>
                <a:lnTo>
                  <a:pt x="74" y="365"/>
                </a:lnTo>
                <a:lnTo>
                  <a:pt x="99" y="329"/>
                </a:lnTo>
                <a:lnTo>
                  <a:pt x="128" y="293"/>
                </a:lnTo>
                <a:lnTo>
                  <a:pt x="162" y="256"/>
                </a:lnTo>
                <a:lnTo>
                  <a:pt x="202" y="222"/>
                </a:lnTo>
                <a:lnTo>
                  <a:pt x="244" y="188"/>
                </a:lnTo>
                <a:lnTo>
                  <a:pt x="255" y="180"/>
                </a:lnTo>
                <a:lnTo>
                  <a:pt x="266" y="173"/>
                </a:lnTo>
                <a:lnTo>
                  <a:pt x="280" y="163"/>
                </a:lnTo>
                <a:lnTo>
                  <a:pt x="291" y="156"/>
                </a:lnTo>
                <a:lnTo>
                  <a:pt x="303" y="148"/>
                </a:lnTo>
                <a:lnTo>
                  <a:pt x="316" y="142"/>
                </a:lnTo>
                <a:lnTo>
                  <a:pt x="327" y="135"/>
                </a:lnTo>
                <a:lnTo>
                  <a:pt x="341" y="127"/>
                </a:lnTo>
                <a:lnTo>
                  <a:pt x="354" y="120"/>
                </a:lnTo>
                <a:lnTo>
                  <a:pt x="367" y="112"/>
                </a:lnTo>
                <a:lnTo>
                  <a:pt x="381" y="106"/>
                </a:lnTo>
                <a:lnTo>
                  <a:pt x="394" y="99"/>
                </a:lnTo>
                <a:lnTo>
                  <a:pt x="420" y="87"/>
                </a:lnTo>
                <a:lnTo>
                  <a:pt x="449" y="74"/>
                </a:lnTo>
                <a:lnTo>
                  <a:pt x="477" y="63"/>
                </a:lnTo>
                <a:lnTo>
                  <a:pt x="506" y="53"/>
                </a:lnTo>
                <a:lnTo>
                  <a:pt x="536" y="44"/>
                </a:lnTo>
                <a:lnTo>
                  <a:pt x="565" y="34"/>
                </a:lnTo>
                <a:lnTo>
                  <a:pt x="595" y="27"/>
                </a:lnTo>
                <a:lnTo>
                  <a:pt x="626" y="19"/>
                </a:lnTo>
                <a:lnTo>
                  <a:pt x="687" y="8"/>
                </a:lnTo>
                <a:lnTo>
                  <a:pt x="747" y="2"/>
                </a:lnTo>
                <a:lnTo>
                  <a:pt x="808" y="0"/>
                </a:lnTo>
                <a:lnTo>
                  <a:pt x="926" y="11"/>
                </a:lnTo>
                <a:lnTo>
                  <a:pt x="983" y="23"/>
                </a:lnTo>
                <a:lnTo>
                  <a:pt x="1036" y="34"/>
                </a:lnTo>
                <a:lnTo>
                  <a:pt x="1086" y="47"/>
                </a:lnTo>
                <a:lnTo>
                  <a:pt x="1111" y="55"/>
                </a:lnTo>
                <a:lnTo>
                  <a:pt x="1133" y="63"/>
                </a:lnTo>
                <a:lnTo>
                  <a:pt x="1156" y="70"/>
                </a:lnTo>
                <a:lnTo>
                  <a:pt x="1177" y="80"/>
                </a:lnTo>
                <a:lnTo>
                  <a:pt x="1198" y="87"/>
                </a:lnTo>
                <a:lnTo>
                  <a:pt x="1217" y="97"/>
                </a:lnTo>
                <a:lnTo>
                  <a:pt x="1236" y="106"/>
                </a:lnTo>
                <a:lnTo>
                  <a:pt x="1255" y="116"/>
                </a:lnTo>
                <a:lnTo>
                  <a:pt x="1272" y="127"/>
                </a:lnTo>
                <a:lnTo>
                  <a:pt x="1289" y="139"/>
                </a:lnTo>
                <a:lnTo>
                  <a:pt x="1348" y="188"/>
                </a:lnTo>
                <a:lnTo>
                  <a:pt x="1373" y="217"/>
                </a:lnTo>
                <a:lnTo>
                  <a:pt x="1396" y="247"/>
                </a:lnTo>
                <a:lnTo>
                  <a:pt x="1415" y="281"/>
                </a:lnTo>
                <a:lnTo>
                  <a:pt x="1432" y="317"/>
                </a:lnTo>
                <a:lnTo>
                  <a:pt x="1457" y="401"/>
                </a:lnTo>
                <a:lnTo>
                  <a:pt x="1468" y="488"/>
                </a:lnTo>
                <a:lnTo>
                  <a:pt x="1466" y="568"/>
                </a:lnTo>
                <a:lnTo>
                  <a:pt x="1455" y="642"/>
                </a:lnTo>
                <a:lnTo>
                  <a:pt x="1445" y="675"/>
                </a:lnTo>
                <a:lnTo>
                  <a:pt x="1436" y="705"/>
                </a:lnTo>
                <a:lnTo>
                  <a:pt x="1417" y="758"/>
                </a:lnTo>
                <a:lnTo>
                  <a:pt x="1407" y="779"/>
                </a:lnTo>
                <a:lnTo>
                  <a:pt x="1398" y="796"/>
                </a:lnTo>
                <a:lnTo>
                  <a:pt x="1384" y="821"/>
                </a:lnTo>
                <a:lnTo>
                  <a:pt x="1379" y="830"/>
                </a:lnTo>
                <a:lnTo>
                  <a:pt x="1369" y="768"/>
                </a:lnTo>
                <a:lnTo>
                  <a:pt x="1356" y="701"/>
                </a:lnTo>
                <a:lnTo>
                  <a:pt x="1341" y="623"/>
                </a:lnTo>
                <a:lnTo>
                  <a:pt x="1318" y="540"/>
                </a:lnTo>
                <a:lnTo>
                  <a:pt x="1305" y="500"/>
                </a:lnTo>
                <a:lnTo>
                  <a:pt x="1291" y="462"/>
                </a:lnTo>
                <a:lnTo>
                  <a:pt x="1276" y="426"/>
                </a:lnTo>
                <a:lnTo>
                  <a:pt x="1259" y="395"/>
                </a:lnTo>
                <a:lnTo>
                  <a:pt x="1240" y="369"/>
                </a:lnTo>
                <a:lnTo>
                  <a:pt x="1221" y="348"/>
                </a:lnTo>
                <a:lnTo>
                  <a:pt x="1179" y="313"/>
                </a:lnTo>
                <a:lnTo>
                  <a:pt x="1166" y="306"/>
                </a:lnTo>
                <a:lnTo>
                  <a:pt x="1154" y="296"/>
                </a:lnTo>
                <a:lnTo>
                  <a:pt x="1141" y="289"/>
                </a:lnTo>
                <a:lnTo>
                  <a:pt x="1130" y="281"/>
                </a:lnTo>
                <a:lnTo>
                  <a:pt x="1114" y="274"/>
                </a:lnTo>
                <a:lnTo>
                  <a:pt x="1101" y="266"/>
                </a:lnTo>
                <a:lnTo>
                  <a:pt x="1088" y="258"/>
                </a:lnTo>
                <a:lnTo>
                  <a:pt x="1073" y="253"/>
                </a:lnTo>
                <a:lnTo>
                  <a:pt x="1042" y="239"/>
                </a:lnTo>
                <a:lnTo>
                  <a:pt x="1012" y="230"/>
                </a:lnTo>
                <a:lnTo>
                  <a:pt x="979" y="220"/>
                </a:lnTo>
                <a:lnTo>
                  <a:pt x="943" y="215"/>
                </a:lnTo>
                <a:lnTo>
                  <a:pt x="871" y="209"/>
                </a:lnTo>
                <a:lnTo>
                  <a:pt x="793" y="218"/>
                </a:lnTo>
                <a:lnTo>
                  <a:pt x="753" y="226"/>
                </a:lnTo>
                <a:lnTo>
                  <a:pt x="709" y="239"/>
                </a:lnTo>
                <a:lnTo>
                  <a:pt x="689" y="247"/>
                </a:lnTo>
                <a:lnTo>
                  <a:pt x="668" y="255"/>
                </a:lnTo>
                <a:lnTo>
                  <a:pt x="649" y="262"/>
                </a:lnTo>
                <a:lnTo>
                  <a:pt x="628" y="268"/>
                </a:lnTo>
                <a:lnTo>
                  <a:pt x="609" y="275"/>
                </a:lnTo>
                <a:lnTo>
                  <a:pt x="588" y="283"/>
                </a:lnTo>
                <a:lnTo>
                  <a:pt x="552" y="296"/>
                </a:lnTo>
                <a:lnTo>
                  <a:pt x="516" y="310"/>
                </a:lnTo>
                <a:lnTo>
                  <a:pt x="481" y="323"/>
                </a:lnTo>
                <a:lnTo>
                  <a:pt x="449" y="334"/>
                </a:lnTo>
                <a:lnTo>
                  <a:pt x="419" y="348"/>
                </a:lnTo>
                <a:lnTo>
                  <a:pt x="392" y="361"/>
                </a:lnTo>
                <a:lnTo>
                  <a:pt x="365" y="374"/>
                </a:lnTo>
                <a:lnTo>
                  <a:pt x="343" y="388"/>
                </a:lnTo>
                <a:lnTo>
                  <a:pt x="322" y="401"/>
                </a:lnTo>
                <a:lnTo>
                  <a:pt x="263" y="464"/>
                </a:lnTo>
                <a:lnTo>
                  <a:pt x="234" y="530"/>
                </a:lnTo>
                <a:lnTo>
                  <a:pt x="223" y="589"/>
                </a:lnTo>
                <a:lnTo>
                  <a:pt x="219" y="646"/>
                </a:lnTo>
                <a:lnTo>
                  <a:pt x="10" y="722"/>
                </a:lnTo>
                <a:lnTo>
                  <a:pt x="10" y="722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6629400">
            <a:off x="817920" y="4915800"/>
            <a:ext cx="787320" cy="795240"/>
          </a:xfrm>
          <a:custGeom>
            <a:avLst/>
            <a:gdLst/>
            <a:ahLst/>
            <a:rect l="l" t="t" r="r" b="b"/>
            <a:pathLst>
              <a:path w="913" h="969">
                <a:moveTo>
                  <a:pt x="839" y="0"/>
                </a:moveTo>
                <a:lnTo>
                  <a:pt x="843" y="238"/>
                </a:lnTo>
                <a:lnTo>
                  <a:pt x="833" y="289"/>
                </a:lnTo>
                <a:lnTo>
                  <a:pt x="820" y="342"/>
                </a:lnTo>
                <a:lnTo>
                  <a:pt x="801" y="397"/>
                </a:lnTo>
                <a:lnTo>
                  <a:pt x="787" y="426"/>
                </a:lnTo>
                <a:lnTo>
                  <a:pt x="774" y="453"/>
                </a:lnTo>
                <a:lnTo>
                  <a:pt x="759" y="479"/>
                </a:lnTo>
                <a:lnTo>
                  <a:pt x="742" y="508"/>
                </a:lnTo>
                <a:lnTo>
                  <a:pt x="723" y="534"/>
                </a:lnTo>
                <a:lnTo>
                  <a:pt x="700" y="561"/>
                </a:lnTo>
                <a:lnTo>
                  <a:pt x="677" y="586"/>
                </a:lnTo>
                <a:lnTo>
                  <a:pt x="651" y="610"/>
                </a:lnTo>
                <a:lnTo>
                  <a:pt x="624" y="635"/>
                </a:lnTo>
                <a:lnTo>
                  <a:pt x="592" y="660"/>
                </a:lnTo>
                <a:lnTo>
                  <a:pt x="576" y="671"/>
                </a:lnTo>
                <a:lnTo>
                  <a:pt x="561" y="683"/>
                </a:lnTo>
                <a:lnTo>
                  <a:pt x="546" y="692"/>
                </a:lnTo>
                <a:lnTo>
                  <a:pt x="529" y="703"/>
                </a:lnTo>
                <a:lnTo>
                  <a:pt x="514" y="713"/>
                </a:lnTo>
                <a:lnTo>
                  <a:pt x="500" y="724"/>
                </a:lnTo>
                <a:lnTo>
                  <a:pt x="485" y="734"/>
                </a:lnTo>
                <a:lnTo>
                  <a:pt x="470" y="743"/>
                </a:lnTo>
                <a:lnTo>
                  <a:pt x="455" y="753"/>
                </a:lnTo>
                <a:lnTo>
                  <a:pt x="440" y="762"/>
                </a:lnTo>
                <a:lnTo>
                  <a:pt x="426" y="770"/>
                </a:lnTo>
                <a:lnTo>
                  <a:pt x="411" y="779"/>
                </a:lnTo>
                <a:lnTo>
                  <a:pt x="398" y="787"/>
                </a:lnTo>
                <a:lnTo>
                  <a:pt x="384" y="797"/>
                </a:lnTo>
                <a:lnTo>
                  <a:pt x="371" y="804"/>
                </a:lnTo>
                <a:lnTo>
                  <a:pt x="356" y="812"/>
                </a:lnTo>
                <a:lnTo>
                  <a:pt x="343" y="819"/>
                </a:lnTo>
                <a:lnTo>
                  <a:pt x="331" y="827"/>
                </a:lnTo>
                <a:lnTo>
                  <a:pt x="318" y="833"/>
                </a:lnTo>
                <a:lnTo>
                  <a:pt x="305" y="840"/>
                </a:lnTo>
                <a:lnTo>
                  <a:pt x="280" y="854"/>
                </a:lnTo>
                <a:lnTo>
                  <a:pt x="255" y="865"/>
                </a:lnTo>
                <a:lnTo>
                  <a:pt x="232" y="876"/>
                </a:lnTo>
                <a:lnTo>
                  <a:pt x="209" y="888"/>
                </a:lnTo>
                <a:lnTo>
                  <a:pt x="189" y="897"/>
                </a:lnTo>
                <a:lnTo>
                  <a:pt x="170" y="907"/>
                </a:lnTo>
                <a:lnTo>
                  <a:pt x="149" y="916"/>
                </a:lnTo>
                <a:lnTo>
                  <a:pt x="132" y="924"/>
                </a:lnTo>
                <a:lnTo>
                  <a:pt x="114" y="930"/>
                </a:lnTo>
                <a:lnTo>
                  <a:pt x="97" y="937"/>
                </a:lnTo>
                <a:lnTo>
                  <a:pt x="69" y="949"/>
                </a:lnTo>
                <a:lnTo>
                  <a:pt x="44" y="956"/>
                </a:lnTo>
                <a:lnTo>
                  <a:pt x="12" y="968"/>
                </a:lnTo>
                <a:lnTo>
                  <a:pt x="0" y="969"/>
                </a:lnTo>
                <a:lnTo>
                  <a:pt x="25" y="966"/>
                </a:lnTo>
                <a:lnTo>
                  <a:pt x="90" y="954"/>
                </a:lnTo>
                <a:lnTo>
                  <a:pt x="135" y="945"/>
                </a:lnTo>
                <a:lnTo>
                  <a:pt x="187" y="933"/>
                </a:lnTo>
                <a:lnTo>
                  <a:pt x="242" y="920"/>
                </a:lnTo>
                <a:lnTo>
                  <a:pt x="272" y="912"/>
                </a:lnTo>
                <a:lnTo>
                  <a:pt x="303" y="905"/>
                </a:lnTo>
                <a:lnTo>
                  <a:pt x="333" y="895"/>
                </a:lnTo>
                <a:lnTo>
                  <a:pt x="365" y="886"/>
                </a:lnTo>
                <a:lnTo>
                  <a:pt x="396" y="876"/>
                </a:lnTo>
                <a:lnTo>
                  <a:pt x="428" y="867"/>
                </a:lnTo>
                <a:lnTo>
                  <a:pt x="460" y="855"/>
                </a:lnTo>
                <a:lnTo>
                  <a:pt x="491" y="844"/>
                </a:lnTo>
                <a:lnTo>
                  <a:pt x="521" y="833"/>
                </a:lnTo>
                <a:lnTo>
                  <a:pt x="552" y="821"/>
                </a:lnTo>
                <a:lnTo>
                  <a:pt x="582" y="808"/>
                </a:lnTo>
                <a:lnTo>
                  <a:pt x="609" y="795"/>
                </a:lnTo>
                <a:lnTo>
                  <a:pt x="637" y="779"/>
                </a:lnTo>
                <a:lnTo>
                  <a:pt x="651" y="774"/>
                </a:lnTo>
                <a:lnTo>
                  <a:pt x="664" y="766"/>
                </a:lnTo>
                <a:lnTo>
                  <a:pt x="675" y="759"/>
                </a:lnTo>
                <a:lnTo>
                  <a:pt x="689" y="751"/>
                </a:lnTo>
                <a:lnTo>
                  <a:pt x="700" y="743"/>
                </a:lnTo>
                <a:lnTo>
                  <a:pt x="711" y="736"/>
                </a:lnTo>
                <a:lnTo>
                  <a:pt x="751" y="703"/>
                </a:lnTo>
                <a:lnTo>
                  <a:pt x="786" y="669"/>
                </a:lnTo>
                <a:lnTo>
                  <a:pt x="814" y="635"/>
                </a:lnTo>
                <a:lnTo>
                  <a:pt x="839" y="603"/>
                </a:lnTo>
                <a:lnTo>
                  <a:pt x="860" y="570"/>
                </a:lnTo>
                <a:lnTo>
                  <a:pt x="905" y="449"/>
                </a:lnTo>
                <a:lnTo>
                  <a:pt x="913" y="335"/>
                </a:lnTo>
                <a:lnTo>
                  <a:pt x="903" y="232"/>
                </a:lnTo>
                <a:lnTo>
                  <a:pt x="896" y="185"/>
                </a:lnTo>
                <a:lnTo>
                  <a:pt x="886" y="141"/>
                </a:lnTo>
                <a:lnTo>
                  <a:pt x="877" y="103"/>
                </a:lnTo>
                <a:lnTo>
                  <a:pt x="865" y="69"/>
                </a:lnTo>
                <a:lnTo>
                  <a:pt x="846" y="19"/>
                </a:lnTo>
                <a:lnTo>
                  <a:pt x="839" y="0"/>
                </a:lnTo>
                <a:lnTo>
                  <a:pt x="839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6629400">
            <a:off x="434520" y="4251240"/>
            <a:ext cx="1069920" cy="168120"/>
          </a:xfrm>
          <a:custGeom>
            <a:avLst/>
            <a:gdLst/>
            <a:ahLst/>
            <a:rect l="l" t="t" r="r" b="b"/>
            <a:pathLst>
              <a:path w="1241" h="205">
                <a:moveTo>
                  <a:pt x="1241" y="0"/>
                </a:moveTo>
                <a:lnTo>
                  <a:pt x="1230" y="6"/>
                </a:lnTo>
                <a:lnTo>
                  <a:pt x="1194" y="17"/>
                </a:lnTo>
                <a:lnTo>
                  <a:pt x="1167" y="26"/>
                </a:lnTo>
                <a:lnTo>
                  <a:pt x="1137" y="36"/>
                </a:lnTo>
                <a:lnTo>
                  <a:pt x="1103" y="45"/>
                </a:lnTo>
                <a:lnTo>
                  <a:pt x="1063" y="55"/>
                </a:lnTo>
                <a:lnTo>
                  <a:pt x="1021" y="64"/>
                </a:lnTo>
                <a:lnTo>
                  <a:pt x="973" y="76"/>
                </a:lnTo>
                <a:lnTo>
                  <a:pt x="926" y="83"/>
                </a:lnTo>
                <a:lnTo>
                  <a:pt x="873" y="93"/>
                </a:lnTo>
                <a:lnTo>
                  <a:pt x="819" y="99"/>
                </a:lnTo>
                <a:lnTo>
                  <a:pt x="764" y="104"/>
                </a:lnTo>
                <a:lnTo>
                  <a:pt x="650" y="110"/>
                </a:lnTo>
                <a:lnTo>
                  <a:pt x="536" y="104"/>
                </a:lnTo>
                <a:lnTo>
                  <a:pt x="431" y="93"/>
                </a:lnTo>
                <a:lnTo>
                  <a:pt x="384" y="83"/>
                </a:lnTo>
                <a:lnTo>
                  <a:pt x="336" y="76"/>
                </a:lnTo>
                <a:lnTo>
                  <a:pt x="295" y="64"/>
                </a:lnTo>
                <a:lnTo>
                  <a:pt x="255" y="55"/>
                </a:lnTo>
                <a:lnTo>
                  <a:pt x="219" y="45"/>
                </a:lnTo>
                <a:lnTo>
                  <a:pt x="188" y="36"/>
                </a:lnTo>
                <a:lnTo>
                  <a:pt x="160" y="26"/>
                </a:lnTo>
                <a:lnTo>
                  <a:pt x="137" y="17"/>
                </a:lnTo>
                <a:lnTo>
                  <a:pt x="104" y="6"/>
                </a:lnTo>
                <a:lnTo>
                  <a:pt x="93" y="0"/>
                </a:lnTo>
                <a:lnTo>
                  <a:pt x="0" y="154"/>
                </a:lnTo>
                <a:lnTo>
                  <a:pt x="17" y="158"/>
                </a:lnTo>
                <a:lnTo>
                  <a:pt x="68" y="167"/>
                </a:lnTo>
                <a:lnTo>
                  <a:pt x="104" y="173"/>
                </a:lnTo>
                <a:lnTo>
                  <a:pt x="146" y="178"/>
                </a:lnTo>
                <a:lnTo>
                  <a:pt x="192" y="186"/>
                </a:lnTo>
                <a:lnTo>
                  <a:pt x="243" y="192"/>
                </a:lnTo>
                <a:lnTo>
                  <a:pt x="355" y="201"/>
                </a:lnTo>
                <a:lnTo>
                  <a:pt x="475" y="205"/>
                </a:lnTo>
                <a:lnTo>
                  <a:pt x="597" y="199"/>
                </a:lnTo>
                <a:lnTo>
                  <a:pt x="715" y="182"/>
                </a:lnTo>
                <a:lnTo>
                  <a:pt x="770" y="169"/>
                </a:lnTo>
                <a:lnTo>
                  <a:pt x="825" y="156"/>
                </a:lnTo>
                <a:lnTo>
                  <a:pt x="852" y="148"/>
                </a:lnTo>
                <a:lnTo>
                  <a:pt x="876" y="140"/>
                </a:lnTo>
                <a:lnTo>
                  <a:pt x="901" y="133"/>
                </a:lnTo>
                <a:lnTo>
                  <a:pt x="926" y="125"/>
                </a:lnTo>
                <a:lnTo>
                  <a:pt x="949" y="118"/>
                </a:lnTo>
                <a:lnTo>
                  <a:pt x="971" y="110"/>
                </a:lnTo>
                <a:lnTo>
                  <a:pt x="994" y="104"/>
                </a:lnTo>
                <a:lnTo>
                  <a:pt x="1015" y="95"/>
                </a:lnTo>
                <a:lnTo>
                  <a:pt x="1036" y="89"/>
                </a:lnTo>
                <a:lnTo>
                  <a:pt x="1055" y="82"/>
                </a:lnTo>
                <a:lnTo>
                  <a:pt x="1074" y="74"/>
                </a:lnTo>
                <a:lnTo>
                  <a:pt x="1093" y="66"/>
                </a:lnTo>
                <a:lnTo>
                  <a:pt x="1125" y="53"/>
                </a:lnTo>
                <a:lnTo>
                  <a:pt x="1156" y="42"/>
                </a:lnTo>
                <a:lnTo>
                  <a:pt x="1181" y="30"/>
                </a:lnTo>
                <a:lnTo>
                  <a:pt x="1203" y="21"/>
                </a:lnTo>
                <a:lnTo>
                  <a:pt x="1221" y="11"/>
                </a:lnTo>
                <a:lnTo>
                  <a:pt x="1232" y="6"/>
                </a:lnTo>
                <a:lnTo>
                  <a:pt x="1241" y="0"/>
                </a:lnTo>
                <a:lnTo>
                  <a:pt x="1241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628000">
            <a:off x="2067480" y="1208880"/>
            <a:ext cx="1096920" cy="660240"/>
          </a:xfrm>
          <a:custGeom>
            <a:avLst/>
            <a:gdLst/>
            <a:ahLst/>
            <a:rect l="l" t="t" r="r" b="b"/>
            <a:pathLst>
              <a:path w="1272" h="804">
                <a:moveTo>
                  <a:pt x="29" y="804"/>
                </a:moveTo>
                <a:lnTo>
                  <a:pt x="34" y="747"/>
                </a:lnTo>
                <a:lnTo>
                  <a:pt x="48" y="684"/>
                </a:lnTo>
                <a:lnTo>
                  <a:pt x="59" y="646"/>
                </a:lnTo>
                <a:lnTo>
                  <a:pt x="74" y="608"/>
                </a:lnTo>
                <a:lnTo>
                  <a:pt x="84" y="587"/>
                </a:lnTo>
                <a:lnTo>
                  <a:pt x="93" y="566"/>
                </a:lnTo>
                <a:lnTo>
                  <a:pt x="105" y="543"/>
                </a:lnTo>
                <a:lnTo>
                  <a:pt x="118" y="523"/>
                </a:lnTo>
                <a:lnTo>
                  <a:pt x="131" y="500"/>
                </a:lnTo>
                <a:lnTo>
                  <a:pt x="146" y="479"/>
                </a:lnTo>
                <a:lnTo>
                  <a:pt x="164" y="456"/>
                </a:lnTo>
                <a:lnTo>
                  <a:pt x="181" y="433"/>
                </a:lnTo>
                <a:lnTo>
                  <a:pt x="202" y="412"/>
                </a:lnTo>
                <a:lnTo>
                  <a:pt x="222" y="391"/>
                </a:lnTo>
                <a:lnTo>
                  <a:pt x="247" y="371"/>
                </a:lnTo>
                <a:lnTo>
                  <a:pt x="272" y="350"/>
                </a:lnTo>
                <a:lnTo>
                  <a:pt x="285" y="340"/>
                </a:lnTo>
                <a:lnTo>
                  <a:pt x="299" y="331"/>
                </a:lnTo>
                <a:lnTo>
                  <a:pt x="312" y="321"/>
                </a:lnTo>
                <a:lnTo>
                  <a:pt x="327" y="312"/>
                </a:lnTo>
                <a:lnTo>
                  <a:pt x="342" y="302"/>
                </a:lnTo>
                <a:lnTo>
                  <a:pt x="357" y="293"/>
                </a:lnTo>
                <a:lnTo>
                  <a:pt x="375" y="283"/>
                </a:lnTo>
                <a:lnTo>
                  <a:pt x="390" y="275"/>
                </a:lnTo>
                <a:lnTo>
                  <a:pt x="407" y="266"/>
                </a:lnTo>
                <a:lnTo>
                  <a:pt x="424" y="258"/>
                </a:lnTo>
                <a:lnTo>
                  <a:pt x="443" y="251"/>
                </a:lnTo>
                <a:lnTo>
                  <a:pt x="460" y="243"/>
                </a:lnTo>
                <a:lnTo>
                  <a:pt x="477" y="234"/>
                </a:lnTo>
                <a:lnTo>
                  <a:pt x="496" y="226"/>
                </a:lnTo>
                <a:lnTo>
                  <a:pt x="513" y="218"/>
                </a:lnTo>
                <a:lnTo>
                  <a:pt x="532" y="211"/>
                </a:lnTo>
                <a:lnTo>
                  <a:pt x="551" y="203"/>
                </a:lnTo>
                <a:lnTo>
                  <a:pt x="568" y="198"/>
                </a:lnTo>
                <a:lnTo>
                  <a:pt x="588" y="190"/>
                </a:lnTo>
                <a:lnTo>
                  <a:pt x="607" y="182"/>
                </a:lnTo>
                <a:lnTo>
                  <a:pt x="626" y="177"/>
                </a:lnTo>
                <a:lnTo>
                  <a:pt x="645" y="169"/>
                </a:lnTo>
                <a:lnTo>
                  <a:pt x="681" y="156"/>
                </a:lnTo>
                <a:lnTo>
                  <a:pt x="719" y="142"/>
                </a:lnTo>
                <a:lnTo>
                  <a:pt x="755" y="131"/>
                </a:lnTo>
                <a:lnTo>
                  <a:pt x="793" y="120"/>
                </a:lnTo>
                <a:lnTo>
                  <a:pt x="829" y="108"/>
                </a:lnTo>
                <a:lnTo>
                  <a:pt x="865" y="99"/>
                </a:lnTo>
                <a:lnTo>
                  <a:pt x="899" y="89"/>
                </a:lnTo>
                <a:lnTo>
                  <a:pt x="934" y="78"/>
                </a:lnTo>
                <a:lnTo>
                  <a:pt x="968" y="70"/>
                </a:lnTo>
                <a:lnTo>
                  <a:pt x="1000" y="63"/>
                </a:lnTo>
                <a:lnTo>
                  <a:pt x="1031" y="53"/>
                </a:lnTo>
                <a:lnTo>
                  <a:pt x="1061" y="47"/>
                </a:lnTo>
                <a:lnTo>
                  <a:pt x="1089" y="40"/>
                </a:lnTo>
                <a:lnTo>
                  <a:pt x="1141" y="28"/>
                </a:lnTo>
                <a:lnTo>
                  <a:pt x="1186" y="17"/>
                </a:lnTo>
                <a:lnTo>
                  <a:pt x="1223" y="9"/>
                </a:lnTo>
                <a:lnTo>
                  <a:pt x="1249" y="6"/>
                </a:lnTo>
                <a:lnTo>
                  <a:pt x="1272" y="0"/>
                </a:lnTo>
                <a:lnTo>
                  <a:pt x="935" y="13"/>
                </a:lnTo>
                <a:lnTo>
                  <a:pt x="793" y="27"/>
                </a:lnTo>
                <a:lnTo>
                  <a:pt x="719" y="38"/>
                </a:lnTo>
                <a:lnTo>
                  <a:pt x="648" y="49"/>
                </a:lnTo>
                <a:lnTo>
                  <a:pt x="578" y="65"/>
                </a:lnTo>
                <a:lnTo>
                  <a:pt x="544" y="72"/>
                </a:lnTo>
                <a:lnTo>
                  <a:pt x="511" y="82"/>
                </a:lnTo>
                <a:lnTo>
                  <a:pt x="481" y="89"/>
                </a:lnTo>
                <a:lnTo>
                  <a:pt x="451" y="101"/>
                </a:lnTo>
                <a:lnTo>
                  <a:pt x="424" y="112"/>
                </a:lnTo>
                <a:lnTo>
                  <a:pt x="397" y="123"/>
                </a:lnTo>
                <a:lnTo>
                  <a:pt x="373" y="135"/>
                </a:lnTo>
                <a:lnTo>
                  <a:pt x="350" y="148"/>
                </a:lnTo>
                <a:lnTo>
                  <a:pt x="327" y="160"/>
                </a:lnTo>
                <a:lnTo>
                  <a:pt x="304" y="173"/>
                </a:lnTo>
                <a:lnTo>
                  <a:pt x="283" y="184"/>
                </a:lnTo>
                <a:lnTo>
                  <a:pt x="262" y="198"/>
                </a:lnTo>
                <a:lnTo>
                  <a:pt x="243" y="211"/>
                </a:lnTo>
                <a:lnTo>
                  <a:pt x="224" y="222"/>
                </a:lnTo>
                <a:lnTo>
                  <a:pt x="207" y="236"/>
                </a:lnTo>
                <a:lnTo>
                  <a:pt x="190" y="249"/>
                </a:lnTo>
                <a:lnTo>
                  <a:pt x="158" y="274"/>
                </a:lnTo>
                <a:lnTo>
                  <a:pt x="129" y="298"/>
                </a:lnTo>
                <a:lnTo>
                  <a:pt x="105" y="325"/>
                </a:lnTo>
                <a:lnTo>
                  <a:pt x="82" y="350"/>
                </a:lnTo>
                <a:lnTo>
                  <a:pt x="63" y="374"/>
                </a:lnTo>
                <a:lnTo>
                  <a:pt x="46" y="399"/>
                </a:lnTo>
                <a:lnTo>
                  <a:pt x="30" y="422"/>
                </a:lnTo>
                <a:lnTo>
                  <a:pt x="0" y="515"/>
                </a:lnTo>
                <a:lnTo>
                  <a:pt x="0" y="608"/>
                </a:lnTo>
                <a:lnTo>
                  <a:pt x="10" y="701"/>
                </a:lnTo>
                <a:lnTo>
                  <a:pt x="23" y="775"/>
                </a:lnTo>
                <a:lnTo>
                  <a:pt x="29" y="804"/>
                </a:lnTo>
                <a:lnTo>
                  <a:pt x="29" y="80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8200" y="1772280"/>
            <a:ext cx="36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Agente Eti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81440" y="3140640"/>
            <a:ext cx="38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Vía de Transm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20320" y="4436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Huésped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3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38240" y="291960"/>
            <a:ext cx="47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Tahoma"/>
              </a:rPr>
              <a:t>La Tríada Ecoló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79640" y="692280"/>
            <a:ext cx="75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inámica de  la  trans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93960" y="1916280"/>
            <a:ext cx="35812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Dinámica de Transmi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65720" y="3002040"/>
            <a:ext cx="198144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Dinámica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Transmi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de bro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002040"/>
            <a:ext cx="243828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Dinámica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Transmi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de la enferm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8840" y="3002040"/>
            <a:ext cx="228600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Dinámica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Transmisión 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la contagios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7240" y="2697120"/>
            <a:ext cx="5029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7240" y="26971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9560" y="23922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37360" y="26971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39924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65720" y="4297320"/>
            <a:ext cx="198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scripción de los eslabones de la cadena de propagación de la enferm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84240" y="435456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scripción de los períod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cubación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sinto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89560" y="39924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1120" y="4354560"/>
            <a:ext cx="198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scripción de los períod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latencia y de contagio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56440" y="39924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8360" y="69228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inámica de Transmis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la Enfermedad y su contagio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4000" y="3357720"/>
            <a:ext cx="8424720" cy="1079280"/>
            <a:chOff x="324000" y="3357720"/>
            <a:chExt cx="8424720" cy="1079280"/>
          </a:xfrm>
        </p:grpSpPr>
        <p:sp>
          <p:nvSpPr>
            <p:cNvPr id="173" name=""/>
            <p:cNvSpPr/>
            <p:nvPr/>
          </p:nvSpPr>
          <p:spPr>
            <a:xfrm>
              <a:off x="324000" y="4437000"/>
              <a:ext cx="842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67960" y="3357720"/>
              <a:ext cx="0" cy="1079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4440" y="3357720"/>
              <a:ext cx="0" cy="1079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82240" y="3357720"/>
              <a:ext cx="0" cy="1079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00" y="3789360"/>
            <a:ext cx="136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cc"/>
                </a:solidFill>
                <a:latin typeface="Tahoma"/>
              </a:rPr>
              <a:t>Suscepti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4508640"/>
            <a:ext cx="1511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en-US" sz="1500" spc="-1" strike="noStrike">
                <a:solidFill>
                  <a:srgbClr val="333399"/>
                </a:solidFill>
                <a:latin typeface="Tahoma"/>
              </a:rPr>
              <a:t>Incub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465300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en-US" sz="1500" spc="-1" strike="noStrike">
                <a:solidFill>
                  <a:srgbClr val="333399"/>
                </a:solidFill>
                <a:latin typeface="Tahoma"/>
              </a:rPr>
              <a:t>Sintomát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27520" y="1989000"/>
            <a:ext cx="1968840" cy="13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Fin de enferm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C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M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Inmu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ort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2781360"/>
            <a:ext cx="259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cc"/>
                </a:solidFill>
                <a:latin typeface="Tahoma"/>
              </a:rPr>
              <a:t>Momento de la Infe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24720" y="4653000"/>
            <a:ext cx="1265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Garamond"/>
              </a:rPr>
              <a:t>Tiemp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1080" y="2781360"/>
            <a:ext cx="1150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ahoma"/>
              </a:rPr>
              <a:t>Inicio de sínto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4941720"/>
            <a:ext cx="1295280" cy="2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en-US" sz="1500" spc="-1" strike="noStrike">
                <a:solidFill>
                  <a:srgbClr val="333399"/>
                </a:solidFill>
                <a:latin typeface="Tahoma"/>
              </a:rPr>
              <a:t>Late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3780000" y="4651920"/>
            <a:ext cx="287280" cy="1584360"/>
          </a:xfrm>
          <a:custGeom>
            <a:avLst/>
            <a:gdLst>
              <a:gd name="textAreaLeft" fmla="*/ 0 w 287280"/>
              <a:gd name="textAreaRight" fmla="*/ 103680 w 287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5734080"/>
            <a:ext cx="171432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Contagios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93080" y="3141720"/>
            <a:ext cx="7189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40720" y="2924280"/>
            <a:ext cx="1368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Contagi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21526800">
            <a:off x="3419640" y="3428640"/>
            <a:ext cx="1925640" cy="10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Puert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salida o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1526800">
            <a:off x="5913360" y="3328560"/>
            <a:ext cx="1859040" cy="1038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Hués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Pot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1526800">
            <a:off x="2556000" y="2204640"/>
            <a:ext cx="1785960" cy="10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F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1526800">
            <a:off x="4859280" y="2205000"/>
            <a:ext cx="1709640" cy="10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6400">
            <a:off x="2124000" y="3101760"/>
            <a:ext cx="5689800" cy="326880"/>
          </a:xfrm>
          <a:custGeom>
            <a:avLst/>
            <a:gdLst/>
            <a:ahLst/>
            <a:rect l="l" t="t" r="r" b="b"/>
            <a:pathLst>
              <a:path w="3822" h="206">
                <a:moveTo>
                  <a:pt x="60" y="94"/>
                </a:moveTo>
                <a:lnTo>
                  <a:pt x="84" y="100"/>
                </a:lnTo>
                <a:lnTo>
                  <a:pt x="120" y="109"/>
                </a:lnTo>
                <a:lnTo>
                  <a:pt x="169" y="117"/>
                </a:lnTo>
                <a:lnTo>
                  <a:pt x="223" y="126"/>
                </a:lnTo>
                <a:lnTo>
                  <a:pt x="280" y="132"/>
                </a:lnTo>
                <a:lnTo>
                  <a:pt x="343" y="132"/>
                </a:lnTo>
                <a:lnTo>
                  <a:pt x="406" y="126"/>
                </a:lnTo>
                <a:lnTo>
                  <a:pt x="467" y="112"/>
                </a:lnTo>
                <a:lnTo>
                  <a:pt x="503" y="102"/>
                </a:lnTo>
                <a:lnTo>
                  <a:pt x="548" y="92"/>
                </a:lnTo>
                <a:lnTo>
                  <a:pt x="605" y="82"/>
                </a:lnTo>
                <a:lnTo>
                  <a:pt x="665" y="72"/>
                </a:lnTo>
                <a:lnTo>
                  <a:pt x="734" y="64"/>
                </a:lnTo>
                <a:lnTo>
                  <a:pt x="801" y="55"/>
                </a:lnTo>
                <a:lnTo>
                  <a:pt x="870" y="48"/>
                </a:lnTo>
                <a:lnTo>
                  <a:pt x="936" y="43"/>
                </a:lnTo>
                <a:lnTo>
                  <a:pt x="999" y="40"/>
                </a:lnTo>
                <a:lnTo>
                  <a:pt x="1053" y="40"/>
                </a:lnTo>
                <a:lnTo>
                  <a:pt x="1098" y="42"/>
                </a:lnTo>
                <a:lnTo>
                  <a:pt x="1132" y="47"/>
                </a:lnTo>
                <a:lnTo>
                  <a:pt x="1153" y="55"/>
                </a:lnTo>
                <a:lnTo>
                  <a:pt x="1159" y="67"/>
                </a:lnTo>
                <a:lnTo>
                  <a:pt x="1144" y="84"/>
                </a:lnTo>
                <a:lnTo>
                  <a:pt x="1111" y="104"/>
                </a:lnTo>
                <a:lnTo>
                  <a:pt x="1053" y="136"/>
                </a:lnTo>
                <a:lnTo>
                  <a:pt x="1035" y="156"/>
                </a:lnTo>
                <a:lnTo>
                  <a:pt x="1047" y="162"/>
                </a:lnTo>
                <a:lnTo>
                  <a:pt x="1080" y="162"/>
                </a:lnTo>
                <a:lnTo>
                  <a:pt x="1129" y="154"/>
                </a:lnTo>
                <a:lnTo>
                  <a:pt x="1183" y="141"/>
                </a:lnTo>
                <a:lnTo>
                  <a:pt x="1234" y="126"/>
                </a:lnTo>
                <a:lnTo>
                  <a:pt x="1273" y="110"/>
                </a:lnTo>
                <a:lnTo>
                  <a:pt x="1318" y="94"/>
                </a:lnTo>
                <a:lnTo>
                  <a:pt x="1375" y="77"/>
                </a:lnTo>
                <a:lnTo>
                  <a:pt x="1436" y="64"/>
                </a:lnTo>
                <a:lnTo>
                  <a:pt x="1502" y="52"/>
                </a:lnTo>
                <a:lnTo>
                  <a:pt x="1565" y="43"/>
                </a:lnTo>
                <a:lnTo>
                  <a:pt x="1631" y="37"/>
                </a:lnTo>
                <a:lnTo>
                  <a:pt x="1688" y="33"/>
                </a:lnTo>
                <a:lnTo>
                  <a:pt x="1739" y="32"/>
                </a:lnTo>
                <a:lnTo>
                  <a:pt x="1785" y="35"/>
                </a:lnTo>
                <a:lnTo>
                  <a:pt x="1824" y="40"/>
                </a:lnTo>
                <a:lnTo>
                  <a:pt x="1860" y="48"/>
                </a:lnTo>
                <a:lnTo>
                  <a:pt x="1887" y="58"/>
                </a:lnTo>
                <a:lnTo>
                  <a:pt x="1905" y="70"/>
                </a:lnTo>
                <a:lnTo>
                  <a:pt x="1914" y="82"/>
                </a:lnTo>
                <a:lnTo>
                  <a:pt x="1914" y="95"/>
                </a:lnTo>
                <a:lnTo>
                  <a:pt x="1905" y="110"/>
                </a:lnTo>
                <a:lnTo>
                  <a:pt x="1893" y="122"/>
                </a:lnTo>
                <a:lnTo>
                  <a:pt x="1890" y="132"/>
                </a:lnTo>
                <a:lnTo>
                  <a:pt x="1893" y="139"/>
                </a:lnTo>
                <a:lnTo>
                  <a:pt x="1908" y="142"/>
                </a:lnTo>
                <a:lnTo>
                  <a:pt x="1935" y="141"/>
                </a:lnTo>
                <a:lnTo>
                  <a:pt x="1971" y="134"/>
                </a:lnTo>
                <a:lnTo>
                  <a:pt x="2022" y="122"/>
                </a:lnTo>
                <a:lnTo>
                  <a:pt x="2089" y="104"/>
                </a:lnTo>
                <a:lnTo>
                  <a:pt x="2128" y="94"/>
                </a:lnTo>
                <a:lnTo>
                  <a:pt x="2176" y="84"/>
                </a:lnTo>
                <a:lnTo>
                  <a:pt x="2227" y="74"/>
                </a:lnTo>
                <a:lnTo>
                  <a:pt x="2281" y="64"/>
                </a:lnTo>
                <a:lnTo>
                  <a:pt x="2338" y="55"/>
                </a:lnTo>
                <a:lnTo>
                  <a:pt x="2399" y="47"/>
                </a:lnTo>
                <a:lnTo>
                  <a:pt x="2456" y="40"/>
                </a:lnTo>
                <a:lnTo>
                  <a:pt x="2513" y="35"/>
                </a:lnTo>
                <a:lnTo>
                  <a:pt x="2570" y="32"/>
                </a:lnTo>
                <a:lnTo>
                  <a:pt x="2621" y="28"/>
                </a:lnTo>
                <a:lnTo>
                  <a:pt x="2666" y="28"/>
                </a:lnTo>
                <a:lnTo>
                  <a:pt x="2706" y="32"/>
                </a:lnTo>
                <a:lnTo>
                  <a:pt x="2736" y="35"/>
                </a:lnTo>
                <a:lnTo>
                  <a:pt x="2760" y="42"/>
                </a:lnTo>
                <a:lnTo>
                  <a:pt x="2772" y="52"/>
                </a:lnTo>
                <a:lnTo>
                  <a:pt x="2775" y="65"/>
                </a:lnTo>
                <a:lnTo>
                  <a:pt x="2760" y="79"/>
                </a:lnTo>
                <a:lnTo>
                  <a:pt x="2727" y="94"/>
                </a:lnTo>
                <a:lnTo>
                  <a:pt x="2684" y="107"/>
                </a:lnTo>
                <a:lnTo>
                  <a:pt x="2642" y="121"/>
                </a:lnTo>
                <a:lnTo>
                  <a:pt x="2609" y="132"/>
                </a:lnTo>
                <a:lnTo>
                  <a:pt x="2597" y="142"/>
                </a:lnTo>
                <a:lnTo>
                  <a:pt x="2612" y="147"/>
                </a:lnTo>
                <a:lnTo>
                  <a:pt x="2663" y="149"/>
                </a:lnTo>
                <a:lnTo>
                  <a:pt x="2730" y="146"/>
                </a:lnTo>
                <a:lnTo>
                  <a:pt x="2781" y="141"/>
                </a:lnTo>
                <a:lnTo>
                  <a:pt x="2823" y="132"/>
                </a:lnTo>
                <a:lnTo>
                  <a:pt x="2859" y="121"/>
                </a:lnTo>
                <a:lnTo>
                  <a:pt x="2889" y="107"/>
                </a:lnTo>
                <a:lnTo>
                  <a:pt x="2922" y="94"/>
                </a:lnTo>
                <a:lnTo>
                  <a:pt x="2955" y="79"/>
                </a:lnTo>
                <a:lnTo>
                  <a:pt x="2994" y="65"/>
                </a:lnTo>
                <a:lnTo>
                  <a:pt x="3018" y="58"/>
                </a:lnTo>
                <a:lnTo>
                  <a:pt x="3046" y="52"/>
                </a:lnTo>
                <a:lnTo>
                  <a:pt x="3076" y="45"/>
                </a:lnTo>
                <a:lnTo>
                  <a:pt x="3109" y="40"/>
                </a:lnTo>
                <a:lnTo>
                  <a:pt x="3145" y="33"/>
                </a:lnTo>
                <a:lnTo>
                  <a:pt x="3181" y="28"/>
                </a:lnTo>
                <a:lnTo>
                  <a:pt x="3217" y="23"/>
                </a:lnTo>
                <a:lnTo>
                  <a:pt x="3256" y="18"/>
                </a:lnTo>
                <a:lnTo>
                  <a:pt x="3295" y="13"/>
                </a:lnTo>
                <a:lnTo>
                  <a:pt x="3334" y="10"/>
                </a:lnTo>
                <a:lnTo>
                  <a:pt x="3374" y="6"/>
                </a:lnTo>
                <a:lnTo>
                  <a:pt x="3410" y="3"/>
                </a:lnTo>
                <a:lnTo>
                  <a:pt x="3446" y="1"/>
                </a:lnTo>
                <a:lnTo>
                  <a:pt x="3479" y="0"/>
                </a:lnTo>
                <a:lnTo>
                  <a:pt x="3512" y="0"/>
                </a:lnTo>
                <a:lnTo>
                  <a:pt x="3542" y="0"/>
                </a:lnTo>
                <a:lnTo>
                  <a:pt x="3599" y="5"/>
                </a:lnTo>
                <a:lnTo>
                  <a:pt x="3638" y="17"/>
                </a:lnTo>
                <a:lnTo>
                  <a:pt x="3659" y="32"/>
                </a:lnTo>
                <a:lnTo>
                  <a:pt x="3672" y="48"/>
                </a:lnTo>
                <a:lnTo>
                  <a:pt x="3669" y="65"/>
                </a:lnTo>
                <a:lnTo>
                  <a:pt x="3663" y="80"/>
                </a:lnTo>
                <a:lnTo>
                  <a:pt x="3650" y="94"/>
                </a:lnTo>
                <a:lnTo>
                  <a:pt x="3635" y="102"/>
                </a:lnTo>
                <a:lnTo>
                  <a:pt x="3590" y="124"/>
                </a:lnTo>
                <a:lnTo>
                  <a:pt x="3578" y="136"/>
                </a:lnTo>
                <a:lnTo>
                  <a:pt x="3596" y="139"/>
                </a:lnTo>
                <a:lnTo>
                  <a:pt x="3632" y="136"/>
                </a:lnTo>
                <a:lnTo>
                  <a:pt x="3681" y="126"/>
                </a:lnTo>
                <a:lnTo>
                  <a:pt x="3732" y="112"/>
                </a:lnTo>
                <a:lnTo>
                  <a:pt x="3783" y="97"/>
                </a:lnTo>
                <a:lnTo>
                  <a:pt x="3822" y="82"/>
                </a:lnTo>
                <a:lnTo>
                  <a:pt x="3753" y="141"/>
                </a:lnTo>
                <a:lnTo>
                  <a:pt x="3720" y="154"/>
                </a:lnTo>
                <a:lnTo>
                  <a:pt x="3672" y="164"/>
                </a:lnTo>
                <a:lnTo>
                  <a:pt x="3614" y="169"/>
                </a:lnTo>
                <a:lnTo>
                  <a:pt x="3554" y="173"/>
                </a:lnTo>
                <a:lnTo>
                  <a:pt x="3500" y="173"/>
                </a:lnTo>
                <a:lnTo>
                  <a:pt x="3455" y="171"/>
                </a:lnTo>
                <a:lnTo>
                  <a:pt x="3425" y="168"/>
                </a:lnTo>
                <a:lnTo>
                  <a:pt x="3419" y="162"/>
                </a:lnTo>
                <a:lnTo>
                  <a:pt x="3431" y="152"/>
                </a:lnTo>
                <a:lnTo>
                  <a:pt x="3452" y="137"/>
                </a:lnTo>
                <a:lnTo>
                  <a:pt x="3473" y="121"/>
                </a:lnTo>
                <a:lnTo>
                  <a:pt x="3494" y="100"/>
                </a:lnTo>
                <a:lnTo>
                  <a:pt x="3503" y="82"/>
                </a:lnTo>
                <a:lnTo>
                  <a:pt x="3497" y="65"/>
                </a:lnTo>
                <a:lnTo>
                  <a:pt x="3473" y="52"/>
                </a:lnTo>
                <a:lnTo>
                  <a:pt x="3422" y="47"/>
                </a:lnTo>
                <a:lnTo>
                  <a:pt x="3368" y="48"/>
                </a:lnTo>
                <a:lnTo>
                  <a:pt x="3310" y="53"/>
                </a:lnTo>
                <a:lnTo>
                  <a:pt x="3256" y="60"/>
                </a:lnTo>
                <a:lnTo>
                  <a:pt x="3202" y="67"/>
                </a:lnTo>
                <a:lnTo>
                  <a:pt x="3157" y="75"/>
                </a:lnTo>
                <a:lnTo>
                  <a:pt x="3115" y="84"/>
                </a:lnTo>
                <a:lnTo>
                  <a:pt x="3088" y="89"/>
                </a:lnTo>
                <a:lnTo>
                  <a:pt x="3070" y="94"/>
                </a:lnTo>
                <a:lnTo>
                  <a:pt x="3049" y="100"/>
                </a:lnTo>
                <a:lnTo>
                  <a:pt x="3025" y="109"/>
                </a:lnTo>
                <a:lnTo>
                  <a:pt x="3000" y="117"/>
                </a:lnTo>
                <a:lnTo>
                  <a:pt x="2976" y="126"/>
                </a:lnTo>
                <a:lnTo>
                  <a:pt x="2949" y="134"/>
                </a:lnTo>
                <a:lnTo>
                  <a:pt x="2922" y="142"/>
                </a:lnTo>
                <a:lnTo>
                  <a:pt x="2895" y="151"/>
                </a:lnTo>
                <a:lnTo>
                  <a:pt x="2865" y="159"/>
                </a:lnTo>
                <a:lnTo>
                  <a:pt x="2832" y="168"/>
                </a:lnTo>
                <a:lnTo>
                  <a:pt x="2799" y="174"/>
                </a:lnTo>
                <a:lnTo>
                  <a:pt x="2760" y="181"/>
                </a:lnTo>
                <a:lnTo>
                  <a:pt x="2721" y="188"/>
                </a:lnTo>
                <a:lnTo>
                  <a:pt x="2681" y="191"/>
                </a:lnTo>
                <a:lnTo>
                  <a:pt x="2636" y="194"/>
                </a:lnTo>
                <a:lnTo>
                  <a:pt x="2588" y="198"/>
                </a:lnTo>
                <a:lnTo>
                  <a:pt x="2537" y="198"/>
                </a:lnTo>
                <a:lnTo>
                  <a:pt x="2483" y="194"/>
                </a:lnTo>
                <a:lnTo>
                  <a:pt x="2459" y="186"/>
                </a:lnTo>
                <a:lnTo>
                  <a:pt x="2459" y="176"/>
                </a:lnTo>
                <a:lnTo>
                  <a:pt x="2477" y="162"/>
                </a:lnTo>
                <a:lnTo>
                  <a:pt x="2504" y="147"/>
                </a:lnTo>
                <a:lnTo>
                  <a:pt x="2534" y="131"/>
                </a:lnTo>
                <a:lnTo>
                  <a:pt x="2558" y="116"/>
                </a:lnTo>
                <a:lnTo>
                  <a:pt x="2570" y="102"/>
                </a:lnTo>
                <a:lnTo>
                  <a:pt x="2570" y="90"/>
                </a:lnTo>
                <a:lnTo>
                  <a:pt x="2558" y="82"/>
                </a:lnTo>
                <a:lnTo>
                  <a:pt x="2540" y="77"/>
                </a:lnTo>
                <a:lnTo>
                  <a:pt x="2516" y="77"/>
                </a:lnTo>
                <a:lnTo>
                  <a:pt x="2483" y="79"/>
                </a:lnTo>
                <a:lnTo>
                  <a:pt x="2444" y="84"/>
                </a:lnTo>
                <a:lnTo>
                  <a:pt x="2402" y="90"/>
                </a:lnTo>
                <a:lnTo>
                  <a:pt x="2356" y="99"/>
                </a:lnTo>
                <a:lnTo>
                  <a:pt x="2305" y="109"/>
                </a:lnTo>
                <a:lnTo>
                  <a:pt x="2257" y="119"/>
                </a:lnTo>
                <a:lnTo>
                  <a:pt x="2203" y="131"/>
                </a:lnTo>
                <a:lnTo>
                  <a:pt x="2152" y="144"/>
                </a:lnTo>
                <a:lnTo>
                  <a:pt x="2104" y="156"/>
                </a:lnTo>
                <a:lnTo>
                  <a:pt x="2055" y="169"/>
                </a:lnTo>
                <a:lnTo>
                  <a:pt x="2010" y="181"/>
                </a:lnTo>
                <a:lnTo>
                  <a:pt x="1971" y="191"/>
                </a:lnTo>
                <a:lnTo>
                  <a:pt x="1923" y="201"/>
                </a:lnTo>
                <a:lnTo>
                  <a:pt x="1872" y="206"/>
                </a:lnTo>
                <a:lnTo>
                  <a:pt x="1818" y="206"/>
                </a:lnTo>
                <a:lnTo>
                  <a:pt x="1770" y="203"/>
                </a:lnTo>
                <a:lnTo>
                  <a:pt x="1730" y="194"/>
                </a:lnTo>
                <a:lnTo>
                  <a:pt x="1709" y="181"/>
                </a:lnTo>
                <a:lnTo>
                  <a:pt x="1712" y="164"/>
                </a:lnTo>
                <a:lnTo>
                  <a:pt x="1746" y="141"/>
                </a:lnTo>
                <a:lnTo>
                  <a:pt x="1767" y="127"/>
                </a:lnTo>
                <a:lnTo>
                  <a:pt x="1779" y="116"/>
                </a:lnTo>
                <a:lnTo>
                  <a:pt x="1779" y="105"/>
                </a:lnTo>
                <a:lnTo>
                  <a:pt x="1773" y="97"/>
                </a:lnTo>
                <a:lnTo>
                  <a:pt x="1755" y="89"/>
                </a:lnTo>
                <a:lnTo>
                  <a:pt x="1727" y="84"/>
                </a:lnTo>
                <a:lnTo>
                  <a:pt x="1694" y="79"/>
                </a:lnTo>
                <a:lnTo>
                  <a:pt x="1652" y="77"/>
                </a:lnTo>
                <a:lnTo>
                  <a:pt x="1607" y="77"/>
                </a:lnTo>
                <a:lnTo>
                  <a:pt x="1562" y="80"/>
                </a:lnTo>
                <a:lnTo>
                  <a:pt x="1520" y="84"/>
                </a:lnTo>
                <a:lnTo>
                  <a:pt x="1478" y="90"/>
                </a:lnTo>
                <a:lnTo>
                  <a:pt x="1439" y="100"/>
                </a:lnTo>
                <a:lnTo>
                  <a:pt x="1399" y="112"/>
                </a:lnTo>
                <a:lnTo>
                  <a:pt x="1363" y="126"/>
                </a:lnTo>
                <a:lnTo>
                  <a:pt x="1327" y="141"/>
                </a:lnTo>
                <a:lnTo>
                  <a:pt x="1294" y="152"/>
                </a:lnTo>
                <a:lnTo>
                  <a:pt x="1258" y="164"/>
                </a:lnTo>
                <a:lnTo>
                  <a:pt x="1216" y="174"/>
                </a:lnTo>
                <a:lnTo>
                  <a:pt x="1174" y="184"/>
                </a:lnTo>
                <a:lnTo>
                  <a:pt x="1129" y="191"/>
                </a:lnTo>
                <a:lnTo>
                  <a:pt x="1083" y="198"/>
                </a:lnTo>
                <a:lnTo>
                  <a:pt x="1041" y="201"/>
                </a:lnTo>
                <a:lnTo>
                  <a:pt x="1002" y="204"/>
                </a:lnTo>
                <a:lnTo>
                  <a:pt x="966" y="204"/>
                </a:lnTo>
                <a:lnTo>
                  <a:pt x="936" y="203"/>
                </a:lnTo>
                <a:lnTo>
                  <a:pt x="912" y="198"/>
                </a:lnTo>
                <a:lnTo>
                  <a:pt x="897" y="191"/>
                </a:lnTo>
                <a:lnTo>
                  <a:pt x="891" y="183"/>
                </a:lnTo>
                <a:lnTo>
                  <a:pt x="894" y="169"/>
                </a:lnTo>
                <a:lnTo>
                  <a:pt x="912" y="154"/>
                </a:lnTo>
                <a:lnTo>
                  <a:pt x="942" y="136"/>
                </a:lnTo>
                <a:lnTo>
                  <a:pt x="966" y="121"/>
                </a:lnTo>
                <a:lnTo>
                  <a:pt x="978" y="109"/>
                </a:lnTo>
                <a:lnTo>
                  <a:pt x="978" y="100"/>
                </a:lnTo>
                <a:lnTo>
                  <a:pt x="966" y="94"/>
                </a:lnTo>
                <a:lnTo>
                  <a:pt x="948" y="89"/>
                </a:lnTo>
                <a:lnTo>
                  <a:pt x="921" y="87"/>
                </a:lnTo>
                <a:lnTo>
                  <a:pt x="888" y="87"/>
                </a:lnTo>
                <a:lnTo>
                  <a:pt x="852" y="89"/>
                </a:lnTo>
                <a:lnTo>
                  <a:pt x="810" y="92"/>
                </a:lnTo>
                <a:lnTo>
                  <a:pt x="764" y="97"/>
                </a:lnTo>
                <a:lnTo>
                  <a:pt x="719" y="104"/>
                </a:lnTo>
                <a:lnTo>
                  <a:pt x="674" y="110"/>
                </a:lnTo>
                <a:lnTo>
                  <a:pt x="629" y="119"/>
                </a:lnTo>
                <a:lnTo>
                  <a:pt x="587" y="127"/>
                </a:lnTo>
                <a:lnTo>
                  <a:pt x="551" y="136"/>
                </a:lnTo>
                <a:lnTo>
                  <a:pt x="518" y="146"/>
                </a:lnTo>
                <a:lnTo>
                  <a:pt x="454" y="159"/>
                </a:lnTo>
                <a:lnTo>
                  <a:pt x="388" y="164"/>
                </a:lnTo>
                <a:lnTo>
                  <a:pt x="322" y="162"/>
                </a:lnTo>
                <a:lnTo>
                  <a:pt x="256" y="156"/>
                </a:lnTo>
                <a:lnTo>
                  <a:pt x="196" y="146"/>
                </a:lnTo>
                <a:lnTo>
                  <a:pt x="141" y="136"/>
                </a:lnTo>
                <a:lnTo>
                  <a:pt x="99" y="127"/>
                </a:lnTo>
                <a:lnTo>
                  <a:pt x="72" y="121"/>
                </a:lnTo>
                <a:lnTo>
                  <a:pt x="60" y="117"/>
                </a:lnTo>
                <a:lnTo>
                  <a:pt x="45" y="112"/>
                </a:lnTo>
                <a:lnTo>
                  <a:pt x="33" y="109"/>
                </a:lnTo>
                <a:lnTo>
                  <a:pt x="27" y="107"/>
                </a:lnTo>
                <a:lnTo>
                  <a:pt x="6" y="97"/>
                </a:lnTo>
                <a:lnTo>
                  <a:pt x="0" y="89"/>
                </a:lnTo>
                <a:lnTo>
                  <a:pt x="18" y="87"/>
                </a:lnTo>
                <a:lnTo>
                  <a:pt x="60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3162240"/>
            <a:ext cx="1447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A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3080" y="955800"/>
            <a:ext cx="73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inámica de Transmisión del Br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624560"/>
            <a:ext cx="8785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labones de la Cadena de Propa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 las EnfermedadesInfecciosas</a:t>
            </a: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989000"/>
            <a:ext cx="2114640" cy="38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ff"/>
                </a:solidFill>
                <a:latin typeface="Tahoma"/>
              </a:rPr>
              <a:t>Contagio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3048120"/>
            <a:ext cx="211464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ff"/>
                </a:solidFill>
                <a:latin typeface="Tahoma"/>
              </a:rPr>
              <a:t>Patogeni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4149720"/>
            <a:ext cx="20574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ff"/>
                </a:solidFill>
                <a:latin typeface="Tahoma"/>
              </a:rPr>
              <a:t>Virul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5229360"/>
            <a:ext cx="2246400" cy="36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ff"/>
                </a:solidFill>
                <a:latin typeface="Tahoma"/>
              </a:rPr>
              <a:t>Poder de Inva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060640"/>
            <a:ext cx="4724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Aptitud del agente para propaga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2852640"/>
            <a:ext cx="5486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Aptitud del agente para generar la enferm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4005360"/>
            <a:ext cx="558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Aptitud del agente para provocar alteraciones graves o la muerte del hués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229360"/>
            <a:ext cx="5486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Aptitud del agente para propagarse en el individuo después de su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7640" y="3213000"/>
            <a:ext cx="30492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4365720"/>
            <a:ext cx="30456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59280" y="5445000"/>
            <a:ext cx="30456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19840" y="981000"/>
            <a:ext cx="45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acterísticas del 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2205000"/>
            <a:ext cx="30492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2838600" y="1691280"/>
            <a:ext cx="3471480" cy="932760"/>
            <a:chOff x="2838600" y="1691280"/>
            <a:chExt cx="3471480" cy="932760"/>
          </a:xfrm>
        </p:grpSpPr>
        <p:sp>
          <p:nvSpPr>
            <p:cNvPr id="214" name=""/>
            <p:cNvSpPr/>
            <p:nvPr/>
          </p:nvSpPr>
          <p:spPr>
            <a:xfrm rot="21526800">
              <a:off x="3762720" y="2108520"/>
              <a:ext cx="925560" cy="46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1526800">
              <a:off x="4897800" y="2151720"/>
              <a:ext cx="893520" cy="46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1526800">
              <a:off x="3419280" y="1700280"/>
              <a:ext cx="858600" cy="46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1526800">
              <a:off x="4417200" y="1773360"/>
              <a:ext cx="821880" cy="46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1526800">
              <a:off x="5412240" y="1757520"/>
              <a:ext cx="892800" cy="46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6400">
              <a:off x="3497760" y="2116440"/>
              <a:ext cx="2735640" cy="145800"/>
            </a:xfrm>
            <a:custGeom>
              <a:avLst/>
              <a:gdLst/>
              <a:ahLst/>
              <a:rect l="l" t="t" r="r" b="b"/>
              <a:pathLst>
                <a:path w="3822" h="206">
                  <a:moveTo>
                    <a:pt x="60" y="94"/>
                  </a:moveTo>
                  <a:lnTo>
                    <a:pt x="84" y="100"/>
                  </a:lnTo>
                  <a:lnTo>
                    <a:pt x="120" y="109"/>
                  </a:lnTo>
                  <a:lnTo>
                    <a:pt x="169" y="117"/>
                  </a:lnTo>
                  <a:lnTo>
                    <a:pt x="223" y="126"/>
                  </a:lnTo>
                  <a:lnTo>
                    <a:pt x="280" y="132"/>
                  </a:lnTo>
                  <a:lnTo>
                    <a:pt x="343" y="132"/>
                  </a:lnTo>
                  <a:lnTo>
                    <a:pt x="406" y="126"/>
                  </a:lnTo>
                  <a:lnTo>
                    <a:pt x="467" y="112"/>
                  </a:lnTo>
                  <a:lnTo>
                    <a:pt x="503" y="102"/>
                  </a:lnTo>
                  <a:lnTo>
                    <a:pt x="548" y="92"/>
                  </a:lnTo>
                  <a:lnTo>
                    <a:pt x="605" y="82"/>
                  </a:lnTo>
                  <a:lnTo>
                    <a:pt x="665" y="72"/>
                  </a:lnTo>
                  <a:lnTo>
                    <a:pt x="734" y="64"/>
                  </a:lnTo>
                  <a:lnTo>
                    <a:pt x="801" y="55"/>
                  </a:lnTo>
                  <a:lnTo>
                    <a:pt x="870" y="48"/>
                  </a:lnTo>
                  <a:lnTo>
                    <a:pt x="936" y="43"/>
                  </a:lnTo>
                  <a:lnTo>
                    <a:pt x="999" y="40"/>
                  </a:lnTo>
                  <a:lnTo>
                    <a:pt x="1053" y="40"/>
                  </a:lnTo>
                  <a:lnTo>
                    <a:pt x="1098" y="42"/>
                  </a:lnTo>
                  <a:lnTo>
                    <a:pt x="1132" y="47"/>
                  </a:lnTo>
                  <a:lnTo>
                    <a:pt x="1153" y="55"/>
                  </a:lnTo>
                  <a:lnTo>
                    <a:pt x="1159" y="67"/>
                  </a:lnTo>
                  <a:lnTo>
                    <a:pt x="1144" y="84"/>
                  </a:lnTo>
                  <a:lnTo>
                    <a:pt x="1111" y="104"/>
                  </a:lnTo>
                  <a:lnTo>
                    <a:pt x="1053" y="136"/>
                  </a:lnTo>
                  <a:lnTo>
                    <a:pt x="1035" y="156"/>
                  </a:lnTo>
                  <a:lnTo>
                    <a:pt x="1047" y="162"/>
                  </a:lnTo>
                  <a:lnTo>
                    <a:pt x="1080" y="162"/>
                  </a:lnTo>
                  <a:lnTo>
                    <a:pt x="1129" y="154"/>
                  </a:lnTo>
                  <a:lnTo>
                    <a:pt x="1183" y="141"/>
                  </a:lnTo>
                  <a:lnTo>
                    <a:pt x="1234" y="126"/>
                  </a:lnTo>
                  <a:lnTo>
                    <a:pt x="1273" y="110"/>
                  </a:lnTo>
                  <a:lnTo>
                    <a:pt x="1318" y="94"/>
                  </a:lnTo>
                  <a:lnTo>
                    <a:pt x="1375" y="77"/>
                  </a:lnTo>
                  <a:lnTo>
                    <a:pt x="1436" y="64"/>
                  </a:lnTo>
                  <a:lnTo>
                    <a:pt x="1502" y="52"/>
                  </a:lnTo>
                  <a:lnTo>
                    <a:pt x="1565" y="43"/>
                  </a:lnTo>
                  <a:lnTo>
                    <a:pt x="1631" y="37"/>
                  </a:lnTo>
                  <a:lnTo>
                    <a:pt x="1688" y="33"/>
                  </a:lnTo>
                  <a:lnTo>
                    <a:pt x="1739" y="32"/>
                  </a:lnTo>
                  <a:lnTo>
                    <a:pt x="1785" y="35"/>
                  </a:lnTo>
                  <a:lnTo>
                    <a:pt x="1824" y="40"/>
                  </a:lnTo>
                  <a:lnTo>
                    <a:pt x="1860" y="48"/>
                  </a:lnTo>
                  <a:lnTo>
                    <a:pt x="1887" y="58"/>
                  </a:lnTo>
                  <a:lnTo>
                    <a:pt x="1905" y="70"/>
                  </a:lnTo>
                  <a:lnTo>
                    <a:pt x="1914" y="82"/>
                  </a:lnTo>
                  <a:lnTo>
                    <a:pt x="1914" y="95"/>
                  </a:lnTo>
                  <a:lnTo>
                    <a:pt x="1905" y="110"/>
                  </a:lnTo>
                  <a:lnTo>
                    <a:pt x="1893" y="122"/>
                  </a:lnTo>
                  <a:lnTo>
                    <a:pt x="1890" y="132"/>
                  </a:lnTo>
                  <a:lnTo>
                    <a:pt x="1893" y="139"/>
                  </a:lnTo>
                  <a:lnTo>
                    <a:pt x="1908" y="142"/>
                  </a:lnTo>
                  <a:lnTo>
                    <a:pt x="1935" y="141"/>
                  </a:lnTo>
                  <a:lnTo>
                    <a:pt x="1971" y="134"/>
                  </a:lnTo>
                  <a:lnTo>
                    <a:pt x="2022" y="122"/>
                  </a:lnTo>
                  <a:lnTo>
                    <a:pt x="2089" y="104"/>
                  </a:lnTo>
                  <a:lnTo>
                    <a:pt x="2128" y="94"/>
                  </a:lnTo>
                  <a:lnTo>
                    <a:pt x="2176" y="84"/>
                  </a:lnTo>
                  <a:lnTo>
                    <a:pt x="2227" y="74"/>
                  </a:lnTo>
                  <a:lnTo>
                    <a:pt x="2281" y="64"/>
                  </a:lnTo>
                  <a:lnTo>
                    <a:pt x="2338" y="55"/>
                  </a:lnTo>
                  <a:lnTo>
                    <a:pt x="2399" y="47"/>
                  </a:lnTo>
                  <a:lnTo>
                    <a:pt x="2456" y="40"/>
                  </a:lnTo>
                  <a:lnTo>
                    <a:pt x="2513" y="35"/>
                  </a:lnTo>
                  <a:lnTo>
                    <a:pt x="2570" y="32"/>
                  </a:lnTo>
                  <a:lnTo>
                    <a:pt x="2621" y="28"/>
                  </a:lnTo>
                  <a:lnTo>
                    <a:pt x="2666" y="28"/>
                  </a:lnTo>
                  <a:lnTo>
                    <a:pt x="2706" y="32"/>
                  </a:lnTo>
                  <a:lnTo>
                    <a:pt x="2736" y="35"/>
                  </a:lnTo>
                  <a:lnTo>
                    <a:pt x="2760" y="42"/>
                  </a:lnTo>
                  <a:lnTo>
                    <a:pt x="2772" y="52"/>
                  </a:lnTo>
                  <a:lnTo>
                    <a:pt x="2775" y="65"/>
                  </a:lnTo>
                  <a:lnTo>
                    <a:pt x="2760" y="79"/>
                  </a:lnTo>
                  <a:lnTo>
                    <a:pt x="2727" y="94"/>
                  </a:lnTo>
                  <a:lnTo>
                    <a:pt x="2684" y="107"/>
                  </a:lnTo>
                  <a:lnTo>
                    <a:pt x="2642" y="121"/>
                  </a:lnTo>
                  <a:lnTo>
                    <a:pt x="2609" y="132"/>
                  </a:lnTo>
                  <a:lnTo>
                    <a:pt x="2597" y="142"/>
                  </a:lnTo>
                  <a:lnTo>
                    <a:pt x="2612" y="147"/>
                  </a:lnTo>
                  <a:lnTo>
                    <a:pt x="2663" y="149"/>
                  </a:lnTo>
                  <a:lnTo>
                    <a:pt x="2730" y="146"/>
                  </a:lnTo>
                  <a:lnTo>
                    <a:pt x="2781" y="141"/>
                  </a:lnTo>
                  <a:lnTo>
                    <a:pt x="2823" y="132"/>
                  </a:lnTo>
                  <a:lnTo>
                    <a:pt x="2859" y="121"/>
                  </a:lnTo>
                  <a:lnTo>
                    <a:pt x="2889" y="107"/>
                  </a:lnTo>
                  <a:lnTo>
                    <a:pt x="2922" y="94"/>
                  </a:lnTo>
                  <a:lnTo>
                    <a:pt x="2955" y="79"/>
                  </a:lnTo>
                  <a:lnTo>
                    <a:pt x="2994" y="65"/>
                  </a:lnTo>
                  <a:lnTo>
                    <a:pt x="3018" y="58"/>
                  </a:lnTo>
                  <a:lnTo>
                    <a:pt x="3046" y="52"/>
                  </a:lnTo>
                  <a:lnTo>
                    <a:pt x="3076" y="45"/>
                  </a:lnTo>
                  <a:lnTo>
                    <a:pt x="3109" y="40"/>
                  </a:lnTo>
                  <a:lnTo>
                    <a:pt x="3145" y="33"/>
                  </a:lnTo>
                  <a:lnTo>
                    <a:pt x="3181" y="28"/>
                  </a:lnTo>
                  <a:lnTo>
                    <a:pt x="3217" y="23"/>
                  </a:lnTo>
                  <a:lnTo>
                    <a:pt x="3256" y="18"/>
                  </a:lnTo>
                  <a:lnTo>
                    <a:pt x="3295" y="13"/>
                  </a:lnTo>
                  <a:lnTo>
                    <a:pt x="3334" y="10"/>
                  </a:lnTo>
                  <a:lnTo>
                    <a:pt x="3374" y="6"/>
                  </a:lnTo>
                  <a:lnTo>
                    <a:pt x="3410" y="3"/>
                  </a:lnTo>
                  <a:lnTo>
                    <a:pt x="3446" y="1"/>
                  </a:lnTo>
                  <a:lnTo>
                    <a:pt x="3479" y="0"/>
                  </a:lnTo>
                  <a:lnTo>
                    <a:pt x="3512" y="0"/>
                  </a:lnTo>
                  <a:lnTo>
                    <a:pt x="3542" y="0"/>
                  </a:lnTo>
                  <a:lnTo>
                    <a:pt x="3599" y="5"/>
                  </a:lnTo>
                  <a:lnTo>
                    <a:pt x="3638" y="17"/>
                  </a:lnTo>
                  <a:lnTo>
                    <a:pt x="3659" y="32"/>
                  </a:lnTo>
                  <a:lnTo>
                    <a:pt x="3672" y="48"/>
                  </a:lnTo>
                  <a:lnTo>
                    <a:pt x="3669" y="65"/>
                  </a:lnTo>
                  <a:lnTo>
                    <a:pt x="3663" y="80"/>
                  </a:lnTo>
                  <a:lnTo>
                    <a:pt x="3650" y="94"/>
                  </a:lnTo>
                  <a:lnTo>
                    <a:pt x="3635" y="102"/>
                  </a:lnTo>
                  <a:lnTo>
                    <a:pt x="3590" y="124"/>
                  </a:lnTo>
                  <a:lnTo>
                    <a:pt x="3578" y="136"/>
                  </a:lnTo>
                  <a:lnTo>
                    <a:pt x="3596" y="139"/>
                  </a:lnTo>
                  <a:lnTo>
                    <a:pt x="3632" y="136"/>
                  </a:lnTo>
                  <a:lnTo>
                    <a:pt x="3681" y="126"/>
                  </a:lnTo>
                  <a:lnTo>
                    <a:pt x="3732" y="112"/>
                  </a:lnTo>
                  <a:lnTo>
                    <a:pt x="3783" y="97"/>
                  </a:lnTo>
                  <a:lnTo>
                    <a:pt x="3822" y="82"/>
                  </a:lnTo>
                  <a:lnTo>
                    <a:pt x="3753" y="141"/>
                  </a:lnTo>
                  <a:lnTo>
                    <a:pt x="3720" y="154"/>
                  </a:lnTo>
                  <a:lnTo>
                    <a:pt x="3672" y="164"/>
                  </a:lnTo>
                  <a:lnTo>
                    <a:pt x="3614" y="169"/>
                  </a:lnTo>
                  <a:lnTo>
                    <a:pt x="3554" y="173"/>
                  </a:lnTo>
                  <a:lnTo>
                    <a:pt x="3500" y="173"/>
                  </a:lnTo>
                  <a:lnTo>
                    <a:pt x="3455" y="171"/>
                  </a:lnTo>
                  <a:lnTo>
                    <a:pt x="3425" y="168"/>
                  </a:lnTo>
                  <a:lnTo>
                    <a:pt x="3419" y="162"/>
                  </a:lnTo>
                  <a:lnTo>
                    <a:pt x="3431" y="152"/>
                  </a:lnTo>
                  <a:lnTo>
                    <a:pt x="3452" y="137"/>
                  </a:lnTo>
                  <a:lnTo>
                    <a:pt x="3473" y="121"/>
                  </a:lnTo>
                  <a:lnTo>
                    <a:pt x="3494" y="100"/>
                  </a:lnTo>
                  <a:lnTo>
                    <a:pt x="3503" y="82"/>
                  </a:lnTo>
                  <a:lnTo>
                    <a:pt x="3497" y="65"/>
                  </a:lnTo>
                  <a:lnTo>
                    <a:pt x="3473" y="52"/>
                  </a:lnTo>
                  <a:lnTo>
                    <a:pt x="3422" y="47"/>
                  </a:lnTo>
                  <a:lnTo>
                    <a:pt x="3368" y="48"/>
                  </a:lnTo>
                  <a:lnTo>
                    <a:pt x="3310" y="53"/>
                  </a:lnTo>
                  <a:lnTo>
                    <a:pt x="3256" y="60"/>
                  </a:lnTo>
                  <a:lnTo>
                    <a:pt x="3202" y="67"/>
                  </a:lnTo>
                  <a:lnTo>
                    <a:pt x="3157" y="75"/>
                  </a:lnTo>
                  <a:lnTo>
                    <a:pt x="3115" y="84"/>
                  </a:lnTo>
                  <a:lnTo>
                    <a:pt x="3088" y="89"/>
                  </a:lnTo>
                  <a:lnTo>
                    <a:pt x="3070" y="94"/>
                  </a:lnTo>
                  <a:lnTo>
                    <a:pt x="3049" y="100"/>
                  </a:lnTo>
                  <a:lnTo>
                    <a:pt x="3025" y="109"/>
                  </a:lnTo>
                  <a:lnTo>
                    <a:pt x="3000" y="117"/>
                  </a:lnTo>
                  <a:lnTo>
                    <a:pt x="2976" y="126"/>
                  </a:lnTo>
                  <a:lnTo>
                    <a:pt x="2949" y="134"/>
                  </a:lnTo>
                  <a:lnTo>
                    <a:pt x="2922" y="142"/>
                  </a:lnTo>
                  <a:lnTo>
                    <a:pt x="2895" y="151"/>
                  </a:lnTo>
                  <a:lnTo>
                    <a:pt x="2865" y="159"/>
                  </a:lnTo>
                  <a:lnTo>
                    <a:pt x="2832" y="168"/>
                  </a:lnTo>
                  <a:lnTo>
                    <a:pt x="2799" y="174"/>
                  </a:lnTo>
                  <a:lnTo>
                    <a:pt x="2760" y="181"/>
                  </a:lnTo>
                  <a:lnTo>
                    <a:pt x="2721" y="188"/>
                  </a:lnTo>
                  <a:lnTo>
                    <a:pt x="2681" y="191"/>
                  </a:lnTo>
                  <a:lnTo>
                    <a:pt x="2636" y="194"/>
                  </a:lnTo>
                  <a:lnTo>
                    <a:pt x="2588" y="198"/>
                  </a:lnTo>
                  <a:lnTo>
                    <a:pt x="2537" y="198"/>
                  </a:lnTo>
                  <a:lnTo>
                    <a:pt x="2483" y="194"/>
                  </a:lnTo>
                  <a:lnTo>
                    <a:pt x="2459" y="186"/>
                  </a:lnTo>
                  <a:lnTo>
                    <a:pt x="2459" y="176"/>
                  </a:lnTo>
                  <a:lnTo>
                    <a:pt x="2477" y="162"/>
                  </a:lnTo>
                  <a:lnTo>
                    <a:pt x="2504" y="147"/>
                  </a:lnTo>
                  <a:lnTo>
                    <a:pt x="2534" y="131"/>
                  </a:lnTo>
                  <a:lnTo>
                    <a:pt x="2558" y="116"/>
                  </a:lnTo>
                  <a:lnTo>
                    <a:pt x="2570" y="102"/>
                  </a:lnTo>
                  <a:lnTo>
                    <a:pt x="2570" y="90"/>
                  </a:lnTo>
                  <a:lnTo>
                    <a:pt x="2558" y="82"/>
                  </a:lnTo>
                  <a:lnTo>
                    <a:pt x="2540" y="77"/>
                  </a:lnTo>
                  <a:lnTo>
                    <a:pt x="2516" y="77"/>
                  </a:lnTo>
                  <a:lnTo>
                    <a:pt x="2483" y="79"/>
                  </a:lnTo>
                  <a:lnTo>
                    <a:pt x="2444" y="84"/>
                  </a:lnTo>
                  <a:lnTo>
                    <a:pt x="2402" y="90"/>
                  </a:lnTo>
                  <a:lnTo>
                    <a:pt x="2356" y="99"/>
                  </a:lnTo>
                  <a:lnTo>
                    <a:pt x="2305" y="109"/>
                  </a:lnTo>
                  <a:lnTo>
                    <a:pt x="2257" y="119"/>
                  </a:lnTo>
                  <a:lnTo>
                    <a:pt x="2203" y="131"/>
                  </a:lnTo>
                  <a:lnTo>
                    <a:pt x="2152" y="144"/>
                  </a:lnTo>
                  <a:lnTo>
                    <a:pt x="2104" y="156"/>
                  </a:lnTo>
                  <a:lnTo>
                    <a:pt x="2055" y="169"/>
                  </a:lnTo>
                  <a:lnTo>
                    <a:pt x="2010" y="181"/>
                  </a:lnTo>
                  <a:lnTo>
                    <a:pt x="1971" y="191"/>
                  </a:lnTo>
                  <a:lnTo>
                    <a:pt x="1923" y="201"/>
                  </a:lnTo>
                  <a:lnTo>
                    <a:pt x="1872" y="206"/>
                  </a:lnTo>
                  <a:lnTo>
                    <a:pt x="1818" y="206"/>
                  </a:lnTo>
                  <a:lnTo>
                    <a:pt x="1770" y="203"/>
                  </a:lnTo>
                  <a:lnTo>
                    <a:pt x="1730" y="194"/>
                  </a:lnTo>
                  <a:lnTo>
                    <a:pt x="1709" y="181"/>
                  </a:lnTo>
                  <a:lnTo>
                    <a:pt x="1712" y="164"/>
                  </a:lnTo>
                  <a:lnTo>
                    <a:pt x="1746" y="141"/>
                  </a:lnTo>
                  <a:lnTo>
                    <a:pt x="1767" y="127"/>
                  </a:lnTo>
                  <a:lnTo>
                    <a:pt x="1779" y="116"/>
                  </a:lnTo>
                  <a:lnTo>
                    <a:pt x="1779" y="105"/>
                  </a:lnTo>
                  <a:lnTo>
                    <a:pt x="1773" y="97"/>
                  </a:lnTo>
                  <a:lnTo>
                    <a:pt x="1755" y="89"/>
                  </a:lnTo>
                  <a:lnTo>
                    <a:pt x="1727" y="84"/>
                  </a:lnTo>
                  <a:lnTo>
                    <a:pt x="1694" y="79"/>
                  </a:lnTo>
                  <a:lnTo>
                    <a:pt x="1652" y="77"/>
                  </a:lnTo>
                  <a:lnTo>
                    <a:pt x="1607" y="77"/>
                  </a:lnTo>
                  <a:lnTo>
                    <a:pt x="1562" y="80"/>
                  </a:lnTo>
                  <a:lnTo>
                    <a:pt x="1520" y="84"/>
                  </a:lnTo>
                  <a:lnTo>
                    <a:pt x="1478" y="90"/>
                  </a:lnTo>
                  <a:lnTo>
                    <a:pt x="1439" y="100"/>
                  </a:lnTo>
                  <a:lnTo>
                    <a:pt x="1399" y="112"/>
                  </a:lnTo>
                  <a:lnTo>
                    <a:pt x="1363" y="126"/>
                  </a:lnTo>
                  <a:lnTo>
                    <a:pt x="1327" y="141"/>
                  </a:lnTo>
                  <a:lnTo>
                    <a:pt x="1294" y="152"/>
                  </a:lnTo>
                  <a:lnTo>
                    <a:pt x="1258" y="164"/>
                  </a:lnTo>
                  <a:lnTo>
                    <a:pt x="1216" y="174"/>
                  </a:lnTo>
                  <a:lnTo>
                    <a:pt x="1174" y="184"/>
                  </a:lnTo>
                  <a:lnTo>
                    <a:pt x="1129" y="191"/>
                  </a:lnTo>
                  <a:lnTo>
                    <a:pt x="1083" y="198"/>
                  </a:lnTo>
                  <a:lnTo>
                    <a:pt x="1041" y="201"/>
                  </a:lnTo>
                  <a:lnTo>
                    <a:pt x="1002" y="204"/>
                  </a:lnTo>
                  <a:lnTo>
                    <a:pt x="966" y="204"/>
                  </a:lnTo>
                  <a:lnTo>
                    <a:pt x="936" y="203"/>
                  </a:lnTo>
                  <a:lnTo>
                    <a:pt x="912" y="198"/>
                  </a:lnTo>
                  <a:lnTo>
                    <a:pt x="897" y="191"/>
                  </a:lnTo>
                  <a:lnTo>
                    <a:pt x="891" y="183"/>
                  </a:lnTo>
                  <a:lnTo>
                    <a:pt x="894" y="169"/>
                  </a:lnTo>
                  <a:lnTo>
                    <a:pt x="912" y="154"/>
                  </a:lnTo>
                  <a:lnTo>
                    <a:pt x="942" y="136"/>
                  </a:lnTo>
                  <a:lnTo>
                    <a:pt x="966" y="121"/>
                  </a:lnTo>
                  <a:lnTo>
                    <a:pt x="978" y="109"/>
                  </a:lnTo>
                  <a:lnTo>
                    <a:pt x="978" y="100"/>
                  </a:lnTo>
                  <a:lnTo>
                    <a:pt x="966" y="94"/>
                  </a:lnTo>
                  <a:lnTo>
                    <a:pt x="948" y="89"/>
                  </a:lnTo>
                  <a:lnTo>
                    <a:pt x="921" y="87"/>
                  </a:lnTo>
                  <a:lnTo>
                    <a:pt x="888" y="87"/>
                  </a:lnTo>
                  <a:lnTo>
                    <a:pt x="852" y="89"/>
                  </a:lnTo>
                  <a:lnTo>
                    <a:pt x="810" y="92"/>
                  </a:lnTo>
                  <a:lnTo>
                    <a:pt x="764" y="97"/>
                  </a:lnTo>
                  <a:lnTo>
                    <a:pt x="719" y="104"/>
                  </a:lnTo>
                  <a:lnTo>
                    <a:pt x="674" y="110"/>
                  </a:lnTo>
                  <a:lnTo>
                    <a:pt x="629" y="119"/>
                  </a:lnTo>
                  <a:lnTo>
                    <a:pt x="587" y="127"/>
                  </a:lnTo>
                  <a:lnTo>
                    <a:pt x="551" y="136"/>
                  </a:lnTo>
                  <a:lnTo>
                    <a:pt x="518" y="146"/>
                  </a:lnTo>
                  <a:lnTo>
                    <a:pt x="454" y="159"/>
                  </a:lnTo>
                  <a:lnTo>
                    <a:pt x="388" y="164"/>
                  </a:lnTo>
                  <a:lnTo>
                    <a:pt x="322" y="162"/>
                  </a:lnTo>
                  <a:lnTo>
                    <a:pt x="256" y="156"/>
                  </a:lnTo>
                  <a:lnTo>
                    <a:pt x="196" y="146"/>
                  </a:lnTo>
                  <a:lnTo>
                    <a:pt x="141" y="136"/>
                  </a:lnTo>
                  <a:lnTo>
                    <a:pt x="99" y="127"/>
                  </a:lnTo>
                  <a:lnTo>
                    <a:pt x="72" y="121"/>
                  </a:lnTo>
                  <a:lnTo>
                    <a:pt x="60" y="117"/>
                  </a:lnTo>
                  <a:lnTo>
                    <a:pt x="45" y="112"/>
                  </a:lnTo>
                  <a:lnTo>
                    <a:pt x="33" y="109"/>
                  </a:lnTo>
                  <a:lnTo>
                    <a:pt x="27" y="107"/>
                  </a:lnTo>
                  <a:lnTo>
                    <a:pt x="6" y="97"/>
                  </a:lnTo>
                  <a:lnTo>
                    <a:pt x="0" y="89"/>
                  </a:lnTo>
                  <a:lnTo>
                    <a:pt x="18" y="87"/>
                  </a:lnTo>
                  <a:lnTo>
                    <a:pt x="60" y="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38600" y="2058480"/>
              <a:ext cx="695880" cy="23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476360" y="3162240"/>
            <a:ext cx="12193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08360" y="35002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sona, animal, obje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 sustancia de la cual el agente pasa a un huésped y origina la enferme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3120" y="907920"/>
            <a:ext cx="698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ff"/>
                </a:solidFill>
                <a:latin typeface="Tahoma"/>
              </a:rPr>
              <a:t>FUENTE: definición</a:t>
            </a:r>
            <a:r>
              <a:rPr b="0" lang="es-MX" sz="29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142640" y="907920"/>
            <a:ext cx="5987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RESERVORIO: definiciones y 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2060640"/>
            <a:ext cx="7058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imal que garantiza tanto la existencia del agente etiológico como facilita su posterior transmis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42900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blación de seres vivos que aloja de forma crónica el germen de una enfermedad, la cual puede propagarse como epidemia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4437000"/>
            <a:ext cx="8209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 estar representada por el hombre, los animales y excepcionalmente por un elemento inanim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ev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os tiempos de Mahoma las personas eran aconsejadas a no ir a los lugares para donde la epidemia estuviese como las personas que alli estaban no deberían sal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finales surge el CDS en Atl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965 es tarea específica de la 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84360" y="907920"/>
            <a:ext cx="7227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e considera el más importante en los diferentes tipos de transmisión y abarca todas las formas posibles que incluye el espectro clínico de las enfermedades infecci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70640" y="5570640"/>
            <a:ext cx="488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dena epidemiológica de Transmisión Reservo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0600" y="5029200"/>
            <a:ext cx="228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sintom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5913360" cy="450360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ffffff"/>
            </a:outerShdw>
          </a:effectLst>
        </p:spPr>
      </p:pic>
      <p:sp>
        <p:nvSpPr>
          <p:cNvPr id="234" name=""/>
          <p:cNvSpPr/>
          <p:nvPr/>
        </p:nvSpPr>
        <p:spPr>
          <a:xfrm>
            <a:off x="2700360" y="4076640"/>
            <a:ext cx="3276720" cy="703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Tahoma"/>
              </a:rPr>
              <a:t>Enfermedad incompleta o subclín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0920" y="5229360"/>
            <a:ext cx="4648320" cy="1008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Tahoma"/>
              </a:rPr>
              <a:t>Enfermedad inaparente, portadores asintomáticos, inf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57160" y="2349360"/>
            <a:ext cx="209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intom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2680" y="2660760"/>
            <a:ext cx="8434440" cy="441360"/>
          </a:xfrm>
          <a:custGeom>
            <a:avLst/>
            <a:gdLst/>
            <a:ahLst/>
            <a:rect l="l" t="t" r="r" b="b"/>
            <a:pathLst>
              <a:path w="5313" h="278">
                <a:moveTo>
                  <a:pt x="0" y="121"/>
                </a:moveTo>
                <a:cubicBezTo>
                  <a:pt x="46" y="109"/>
                  <a:pt x="90" y="93"/>
                  <a:pt x="137" y="86"/>
                </a:cubicBezTo>
                <a:cubicBezTo>
                  <a:pt x="173" y="81"/>
                  <a:pt x="206" y="108"/>
                  <a:pt x="240" y="121"/>
                </a:cubicBezTo>
                <a:cubicBezTo>
                  <a:pt x="298" y="143"/>
                  <a:pt x="343" y="173"/>
                  <a:pt x="395" y="207"/>
                </a:cubicBezTo>
                <a:cubicBezTo>
                  <a:pt x="427" y="201"/>
                  <a:pt x="459" y="199"/>
                  <a:pt x="490" y="190"/>
                </a:cubicBezTo>
                <a:cubicBezTo>
                  <a:pt x="532" y="178"/>
                  <a:pt x="535" y="135"/>
                  <a:pt x="593" y="121"/>
                </a:cubicBezTo>
                <a:cubicBezTo>
                  <a:pt x="639" y="131"/>
                  <a:pt x="678" y="141"/>
                  <a:pt x="722" y="155"/>
                </a:cubicBezTo>
                <a:cubicBezTo>
                  <a:pt x="748" y="152"/>
                  <a:pt x="774" y="154"/>
                  <a:pt x="799" y="147"/>
                </a:cubicBezTo>
                <a:cubicBezTo>
                  <a:pt x="807" y="145"/>
                  <a:pt x="809" y="134"/>
                  <a:pt x="816" y="129"/>
                </a:cubicBezTo>
                <a:cubicBezTo>
                  <a:pt x="848" y="107"/>
                  <a:pt x="862" y="110"/>
                  <a:pt x="902" y="104"/>
                </a:cubicBezTo>
                <a:cubicBezTo>
                  <a:pt x="925" y="107"/>
                  <a:pt x="949" y="105"/>
                  <a:pt x="971" y="112"/>
                </a:cubicBezTo>
                <a:cubicBezTo>
                  <a:pt x="985" y="117"/>
                  <a:pt x="991" y="138"/>
                  <a:pt x="1006" y="138"/>
                </a:cubicBezTo>
                <a:cubicBezTo>
                  <a:pt x="1081" y="136"/>
                  <a:pt x="1229" y="104"/>
                  <a:pt x="1229" y="104"/>
                </a:cubicBezTo>
                <a:cubicBezTo>
                  <a:pt x="1274" y="73"/>
                  <a:pt x="1324" y="70"/>
                  <a:pt x="1375" y="52"/>
                </a:cubicBezTo>
                <a:cubicBezTo>
                  <a:pt x="1492" y="72"/>
                  <a:pt x="1380" y="46"/>
                  <a:pt x="1453" y="78"/>
                </a:cubicBezTo>
                <a:cubicBezTo>
                  <a:pt x="1469" y="85"/>
                  <a:pt x="1504" y="95"/>
                  <a:pt x="1504" y="95"/>
                </a:cubicBezTo>
                <a:cubicBezTo>
                  <a:pt x="1563" y="86"/>
                  <a:pt x="1584" y="77"/>
                  <a:pt x="1642" y="86"/>
                </a:cubicBezTo>
                <a:cubicBezTo>
                  <a:pt x="1651" y="89"/>
                  <a:pt x="1661" y="89"/>
                  <a:pt x="1668" y="95"/>
                </a:cubicBezTo>
                <a:cubicBezTo>
                  <a:pt x="1684" y="107"/>
                  <a:pt x="1711" y="138"/>
                  <a:pt x="1711" y="138"/>
                </a:cubicBezTo>
                <a:cubicBezTo>
                  <a:pt x="1771" y="132"/>
                  <a:pt x="1824" y="122"/>
                  <a:pt x="1882" y="112"/>
                </a:cubicBezTo>
                <a:cubicBezTo>
                  <a:pt x="1968" y="122"/>
                  <a:pt x="1948" y="124"/>
                  <a:pt x="2011" y="147"/>
                </a:cubicBezTo>
                <a:cubicBezTo>
                  <a:pt x="2044" y="178"/>
                  <a:pt x="2014" y="156"/>
                  <a:pt x="2072" y="172"/>
                </a:cubicBezTo>
                <a:cubicBezTo>
                  <a:pt x="2111" y="183"/>
                  <a:pt x="2137" y="203"/>
                  <a:pt x="2175" y="215"/>
                </a:cubicBezTo>
                <a:cubicBezTo>
                  <a:pt x="2464" y="161"/>
                  <a:pt x="2773" y="278"/>
                  <a:pt x="3052" y="181"/>
                </a:cubicBezTo>
                <a:cubicBezTo>
                  <a:pt x="3058" y="172"/>
                  <a:pt x="3059" y="157"/>
                  <a:pt x="3069" y="155"/>
                </a:cubicBezTo>
                <a:cubicBezTo>
                  <a:pt x="3158" y="133"/>
                  <a:pt x="3252" y="143"/>
                  <a:pt x="3344" y="138"/>
                </a:cubicBezTo>
                <a:cubicBezTo>
                  <a:pt x="3398" y="119"/>
                  <a:pt x="3504" y="149"/>
                  <a:pt x="3550" y="155"/>
                </a:cubicBezTo>
                <a:cubicBezTo>
                  <a:pt x="3661" y="186"/>
                  <a:pt x="3610" y="179"/>
                  <a:pt x="3791" y="164"/>
                </a:cubicBezTo>
                <a:cubicBezTo>
                  <a:pt x="3834" y="160"/>
                  <a:pt x="3802" y="146"/>
                  <a:pt x="3851" y="138"/>
                </a:cubicBezTo>
                <a:cubicBezTo>
                  <a:pt x="3894" y="131"/>
                  <a:pt x="3937" y="132"/>
                  <a:pt x="3980" y="129"/>
                </a:cubicBezTo>
                <a:cubicBezTo>
                  <a:pt x="4070" y="100"/>
                  <a:pt x="4145" y="40"/>
                  <a:pt x="4238" y="18"/>
                </a:cubicBezTo>
                <a:cubicBezTo>
                  <a:pt x="4314" y="30"/>
                  <a:pt x="4391" y="36"/>
                  <a:pt x="4462" y="0"/>
                </a:cubicBezTo>
                <a:cubicBezTo>
                  <a:pt x="4555" y="38"/>
                  <a:pt x="4607" y="43"/>
                  <a:pt x="4711" y="52"/>
                </a:cubicBezTo>
                <a:cubicBezTo>
                  <a:pt x="4733" y="86"/>
                  <a:pt x="4748" y="94"/>
                  <a:pt x="4788" y="104"/>
                </a:cubicBezTo>
                <a:cubicBezTo>
                  <a:pt x="4866" y="155"/>
                  <a:pt x="4771" y="85"/>
                  <a:pt x="4823" y="147"/>
                </a:cubicBezTo>
                <a:cubicBezTo>
                  <a:pt x="4843" y="170"/>
                  <a:pt x="4880" y="197"/>
                  <a:pt x="4909" y="207"/>
                </a:cubicBezTo>
                <a:cubicBezTo>
                  <a:pt x="4957" y="194"/>
                  <a:pt x="4960" y="164"/>
                  <a:pt x="4995" y="155"/>
                </a:cubicBezTo>
                <a:cubicBezTo>
                  <a:pt x="5017" y="149"/>
                  <a:pt x="5040" y="150"/>
                  <a:pt x="5063" y="147"/>
                </a:cubicBezTo>
                <a:cubicBezTo>
                  <a:pt x="5100" y="110"/>
                  <a:pt x="5135" y="108"/>
                  <a:pt x="5184" y="95"/>
                </a:cubicBezTo>
                <a:cubicBezTo>
                  <a:pt x="5234" y="145"/>
                  <a:pt x="5198" y="121"/>
                  <a:pt x="5313" y="121"/>
                </a:cubicBezTo>
              </a:path>
            </a:pathLst>
          </a:custGeom>
          <a:noFill/>
          <a:ln w="284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7480" y="404640"/>
            <a:ext cx="698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ff"/>
                </a:solidFill>
                <a:latin typeface="Tahoma"/>
              </a:rPr>
              <a:t>RESERVORIO HUMAN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2280" y="182880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eneralmente es un ser v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iste multiplicación y reproducción durante un período más o menos l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ermite la perpetuación de los agentes bioló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 permanencia de los agentes biológicos puede ser prolongada, inclusive durante toda la vida del reserv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8800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eneralmente son elementos inanim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Hay multiplicación durante un tiempo limi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 mayoría de los agentes biológicos deben pasar rápidamente a un nuevo suscep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0000" y="1268280"/>
            <a:ext cx="2292480" cy="4230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ESERV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56000" y="1268280"/>
            <a:ext cx="3921120" cy="4230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UENTE DE INFE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42920" y="404640"/>
            <a:ext cx="698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RESERVORIO  Y FUENTE: DI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423200" y="2514600"/>
            <a:ext cx="1603800" cy="2746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Tahoma"/>
              </a:rPr>
              <a:t>Meato ur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98240" y="5300640"/>
            <a:ext cx="1634400" cy="2746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  <a:effectLst>
            <a:outerShdw dist="45929" dir="19571123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ff"/>
                </a:solidFill>
                <a:latin typeface="Tahoma"/>
              </a:rPr>
              <a:t>Piel y mu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92520" y="5241960"/>
            <a:ext cx="2388960" cy="5490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ff"/>
                </a:solidFill>
                <a:latin typeface="Tahoma"/>
              </a:rPr>
              <a:t>Lesiones Infecciosas </a:t>
            </a:r>
            <a:br>
              <a:rPr sz="1800"/>
            </a:br>
            <a:r>
              <a:rPr b="1" lang="es-AR" sz="1800" spc="-1" strike="noStrike">
                <a:solidFill>
                  <a:srgbClr val="0000ff"/>
                </a:solidFill>
                <a:latin typeface="Tahoma"/>
              </a:rPr>
              <a:t>abier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248520" y="1981080"/>
            <a:ext cx="1066680" cy="1228680"/>
            <a:chOff x="6248520" y="1981080"/>
            <a:chExt cx="1066680" cy="1228680"/>
          </a:xfrm>
        </p:grpSpPr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6248520" y="1981080"/>
              <a:ext cx="101916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324480" y="1981080"/>
              <a:ext cx="990720" cy="1219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791320" y="3276720"/>
            <a:ext cx="2990520" cy="1218960"/>
            <a:chOff x="5791320" y="3276720"/>
            <a:chExt cx="2990520" cy="1218960"/>
          </a:xfrm>
        </p:grpSpPr>
        <p:sp>
          <p:nvSpPr>
            <p:cNvPr id="253" name=""/>
            <p:cNvSpPr/>
            <p:nvPr/>
          </p:nvSpPr>
          <p:spPr>
            <a:xfrm>
              <a:off x="6748200" y="4020840"/>
              <a:ext cx="2033640" cy="274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Tahoma"/>
                </a:rPr>
                <a:t>Otras secre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5791320" y="3276720"/>
              <a:ext cx="994680" cy="1218960"/>
              <a:chOff x="5791320" y="3276720"/>
              <a:chExt cx="994680" cy="1218960"/>
            </a:xfrm>
          </p:grpSpPr>
          <p:pic>
            <p:nvPicPr>
              <p:cNvPr id="2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15080" y="3509640"/>
                <a:ext cx="9709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5791320" y="3276720"/>
                <a:ext cx="990360" cy="1218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4724280" y="3886200"/>
            <a:ext cx="1002960" cy="1219320"/>
            <a:chOff x="4724280" y="3886200"/>
            <a:chExt cx="1002960" cy="1219320"/>
          </a:xfrm>
        </p:grpSpPr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4748040" y="4057560"/>
              <a:ext cx="9792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724280" y="3886200"/>
              <a:ext cx="990360" cy="1219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57800" y="3429000"/>
            <a:ext cx="2290320" cy="1218960"/>
            <a:chOff x="757800" y="3429000"/>
            <a:chExt cx="2290320" cy="1218960"/>
          </a:xfrm>
        </p:grpSpPr>
        <p:sp>
          <p:nvSpPr>
            <p:cNvPr id="261" name=""/>
            <p:cNvSpPr/>
            <p:nvPr/>
          </p:nvSpPr>
          <p:spPr>
            <a:xfrm>
              <a:off x="757800" y="4114800"/>
              <a:ext cx="1175760" cy="274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Tahoma"/>
                </a:rPr>
                <a:t>Ano rec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828800" y="3429000"/>
              <a:ext cx="1219320" cy="1218960"/>
              <a:chOff x="1828800" y="3429000"/>
              <a:chExt cx="1219320" cy="1218960"/>
            </a:xfrm>
          </p:grpSpPr>
          <p:sp>
            <p:nvSpPr>
              <p:cNvPr id="263" name=""/>
              <p:cNvSpPr/>
              <p:nvPr/>
            </p:nvSpPr>
            <p:spPr>
              <a:xfrm>
                <a:off x="2004840" y="3429000"/>
                <a:ext cx="990720" cy="1218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4" name="" descr=""/>
              <p:cNvPicPr/>
              <p:nvPr/>
            </p:nvPicPr>
            <p:blipFill>
              <a:blip r:embed="rId5">
                <a:lum bright="-20000"/>
              </a:blip>
              <a:stretch/>
            </p:blipFill>
            <p:spPr>
              <a:xfrm>
                <a:off x="1828800" y="3533400"/>
                <a:ext cx="1219320" cy="108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5" name=""/>
          <p:cNvGrpSpPr/>
          <p:nvPr/>
        </p:nvGrpSpPr>
        <p:grpSpPr>
          <a:xfrm>
            <a:off x="430560" y="1905120"/>
            <a:ext cx="1790280" cy="1523880"/>
            <a:chOff x="430560" y="1905120"/>
            <a:chExt cx="1790280" cy="1523880"/>
          </a:xfrm>
        </p:grpSpPr>
        <p:sp>
          <p:nvSpPr>
            <p:cNvPr id="266" name=""/>
            <p:cNvSpPr/>
            <p:nvPr/>
          </p:nvSpPr>
          <p:spPr>
            <a:xfrm>
              <a:off x="430560" y="1905120"/>
              <a:ext cx="1326600" cy="274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ff"/>
                  </a:solidFill>
                  <a:latin typeface="Tahoma"/>
                </a:rPr>
                <a:t>Nariz y Bo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230120" y="2209680"/>
              <a:ext cx="990720" cy="1219320"/>
              <a:chOff x="1230120" y="2209680"/>
              <a:chExt cx="990720" cy="1219320"/>
            </a:xfrm>
          </p:grpSpPr>
          <p:sp>
            <p:nvSpPr>
              <p:cNvPr id="268" name=""/>
              <p:cNvSpPr/>
              <p:nvPr/>
            </p:nvSpPr>
            <p:spPr>
              <a:xfrm>
                <a:off x="1230120" y="2209680"/>
                <a:ext cx="990720" cy="1219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1382400" y="2361960"/>
                <a:ext cx="761760" cy="819000"/>
                <a:chOff x="1382400" y="2361960"/>
                <a:chExt cx="761760" cy="81900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1382400" y="2909520"/>
                  <a:ext cx="761760" cy="271440"/>
                  <a:chOff x="1382400" y="2909520"/>
                  <a:chExt cx="761760" cy="2714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1405800" y="2923200"/>
                    <a:ext cx="7293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77" h="1635">
                        <a:moveTo>
                          <a:pt x="0" y="821"/>
                        </a:moveTo>
                        <a:lnTo>
                          <a:pt x="413" y="457"/>
                        </a:lnTo>
                        <a:lnTo>
                          <a:pt x="1000" y="72"/>
                        </a:lnTo>
                        <a:lnTo>
                          <a:pt x="1268" y="0"/>
                        </a:lnTo>
                        <a:lnTo>
                          <a:pt x="1464" y="102"/>
                        </a:lnTo>
                        <a:lnTo>
                          <a:pt x="1768" y="218"/>
                        </a:lnTo>
                        <a:lnTo>
                          <a:pt x="1928" y="160"/>
                        </a:lnTo>
                        <a:lnTo>
                          <a:pt x="2130" y="58"/>
                        </a:lnTo>
                        <a:lnTo>
                          <a:pt x="2420" y="65"/>
                        </a:lnTo>
                        <a:lnTo>
                          <a:pt x="3044" y="509"/>
                        </a:lnTo>
                        <a:lnTo>
                          <a:pt x="3377" y="675"/>
                        </a:lnTo>
                        <a:lnTo>
                          <a:pt x="3377" y="799"/>
                        </a:lnTo>
                        <a:lnTo>
                          <a:pt x="3058" y="1148"/>
                        </a:lnTo>
                        <a:lnTo>
                          <a:pt x="2370" y="1635"/>
                        </a:lnTo>
                        <a:lnTo>
                          <a:pt x="674" y="1576"/>
                        </a:lnTo>
                        <a:lnTo>
                          <a:pt x="101" y="1184"/>
                        </a:lnTo>
                        <a:lnTo>
                          <a:pt x="0" y="821"/>
                        </a:lnTo>
                        <a:lnTo>
                          <a:pt x="0" y="821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389960" y="2953800"/>
                    <a:ext cx="74988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73" h="1322">
                        <a:moveTo>
                          <a:pt x="43" y="799"/>
                        </a:moveTo>
                        <a:lnTo>
                          <a:pt x="240" y="987"/>
                        </a:lnTo>
                        <a:lnTo>
                          <a:pt x="1530" y="1322"/>
                        </a:lnTo>
                        <a:lnTo>
                          <a:pt x="2733" y="1148"/>
                        </a:lnTo>
                        <a:lnTo>
                          <a:pt x="3255" y="820"/>
                        </a:lnTo>
                        <a:lnTo>
                          <a:pt x="3473" y="530"/>
                        </a:lnTo>
                        <a:lnTo>
                          <a:pt x="3247" y="501"/>
                        </a:lnTo>
                        <a:lnTo>
                          <a:pt x="2972" y="370"/>
                        </a:lnTo>
                        <a:lnTo>
                          <a:pt x="2553" y="119"/>
                        </a:lnTo>
                        <a:lnTo>
                          <a:pt x="2356" y="28"/>
                        </a:lnTo>
                        <a:lnTo>
                          <a:pt x="2239" y="57"/>
                        </a:lnTo>
                        <a:lnTo>
                          <a:pt x="2124" y="100"/>
                        </a:lnTo>
                        <a:lnTo>
                          <a:pt x="1913" y="181"/>
                        </a:lnTo>
                        <a:lnTo>
                          <a:pt x="1784" y="174"/>
                        </a:lnTo>
                        <a:lnTo>
                          <a:pt x="1508" y="24"/>
                        </a:lnTo>
                        <a:lnTo>
                          <a:pt x="1261" y="0"/>
                        </a:lnTo>
                        <a:lnTo>
                          <a:pt x="1066" y="57"/>
                        </a:lnTo>
                        <a:lnTo>
                          <a:pt x="761" y="202"/>
                        </a:lnTo>
                        <a:lnTo>
                          <a:pt x="511" y="406"/>
                        </a:lnTo>
                        <a:lnTo>
                          <a:pt x="167" y="552"/>
                        </a:lnTo>
                        <a:lnTo>
                          <a:pt x="0" y="625"/>
                        </a:lnTo>
                        <a:lnTo>
                          <a:pt x="43" y="799"/>
                        </a:lnTo>
                        <a:lnTo>
                          <a:pt x="43" y="799"/>
                        </a:lnTo>
                        <a:close/>
                      </a:path>
                    </a:pathLst>
                  </a:custGeom>
                  <a:solidFill>
                    <a:srgbClr val="ff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406520" y="2958120"/>
                    <a:ext cx="73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14" h="811">
                        <a:moveTo>
                          <a:pt x="0" y="683"/>
                        </a:moveTo>
                        <a:lnTo>
                          <a:pt x="21" y="675"/>
                        </a:lnTo>
                        <a:lnTo>
                          <a:pt x="76" y="650"/>
                        </a:lnTo>
                        <a:lnTo>
                          <a:pt x="111" y="633"/>
                        </a:lnTo>
                        <a:lnTo>
                          <a:pt x="150" y="612"/>
                        </a:lnTo>
                        <a:lnTo>
                          <a:pt x="191" y="587"/>
                        </a:lnTo>
                        <a:lnTo>
                          <a:pt x="232" y="560"/>
                        </a:lnTo>
                        <a:lnTo>
                          <a:pt x="272" y="530"/>
                        </a:lnTo>
                        <a:lnTo>
                          <a:pt x="309" y="498"/>
                        </a:lnTo>
                        <a:lnTo>
                          <a:pt x="347" y="467"/>
                        </a:lnTo>
                        <a:lnTo>
                          <a:pt x="382" y="436"/>
                        </a:lnTo>
                        <a:lnTo>
                          <a:pt x="417" y="408"/>
                        </a:lnTo>
                        <a:lnTo>
                          <a:pt x="450" y="384"/>
                        </a:lnTo>
                        <a:lnTo>
                          <a:pt x="482" y="364"/>
                        </a:lnTo>
                        <a:lnTo>
                          <a:pt x="515" y="349"/>
                        </a:lnTo>
                        <a:lnTo>
                          <a:pt x="575" y="340"/>
                        </a:lnTo>
                        <a:lnTo>
                          <a:pt x="627" y="347"/>
                        </a:lnTo>
                        <a:lnTo>
                          <a:pt x="667" y="359"/>
                        </a:lnTo>
                        <a:lnTo>
                          <a:pt x="688" y="364"/>
                        </a:lnTo>
                        <a:lnTo>
                          <a:pt x="684" y="323"/>
                        </a:lnTo>
                        <a:lnTo>
                          <a:pt x="684" y="284"/>
                        </a:lnTo>
                        <a:lnTo>
                          <a:pt x="703" y="240"/>
                        </a:lnTo>
                        <a:lnTo>
                          <a:pt x="723" y="218"/>
                        </a:lnTo>
                        <a:lnTo>
                          <a:pt x="751" y="195"/>
                        </a:lnTo>
                        <a:lnTo>
                          <a:pt x="784" y="173"/>
                        </a:lnTo>
                        <a:lnTo>
                          <a:pt x="821" y="153"/>
                        </a:lnTo>
                        <a:lnTo>
                          <a:pt x="861" y="134"/>
                        </a:lnTo>
                        <a:lnTo>
                          <a:pt x="901" y="118"/>
                        </a:lnTo>
                        <a:lnTo>
                          <a:pt x="940" y="105"/>
                        </a:lnTo>
                        <a:lnTo>
                          <a:pt x="978" y="95"/>
                        </a:lnTo>
                        <a:lnTo>
                          <a:pt x="1098" y="82"/>
                        </a:lnTo>
                        <a:lnTo>
                          <a:pt x="1181" y="72"/>
                        </a:lnTo>
                        <a:lnTo>
                          <a:pt x="1216" y="55"/>
                        </a:lnTo>
                        <a:lnTo>
                          <a:pt x="1253" y="31"/>
                        </a:lnTo>
                        <a:lnTo>
                          <a:pt x="1296" y="10"/>
                        </a:lnTo>
                        <a:lnTo>
                          <a:pt x="1348" y="0"/>
                        </a:lnTo>
                        <a:lnTo>
                          <a:pt x="1413" y="7"/>
                        </a:lnTo>
                        <a:lnTo>
                          <a:pt x="1482" y="31"/>
                        </a:lnTo>
                        <a:lnTo>
                          <a:pt x="1513" y="51"/>
                        </a:lnTo>
                        <a:lnTo>
                          <a:pt x="1541" y="76"/>
                        </a:lnTo>
                        <a:lnTo>
                          <a:pt x="1580" y="138"/>
                        </a:lnTo>
                        <a:lnTo>
                          <a:pt x="1590" y="218"/>
                        </a:lnTo>
                        <a:lnTo>
                          <a:pt x="1581" y="298"/>
                        </a:lnTo>
                        <a:lnTo>
                          <a:pt x="1567" y="360"/>
                        </a:lnTo>
                        <a:lnTo>
                          <a:pt x="1559" y="385"/>
                        </a:lnTo>
                        <a:lnTo>
                          <a:pt x="1573" y="366"/>
                        </a:lnTo>
                        <a:lnTo>
                          <a:pt x="1588" y="344"/>
                        </a:lnTo>
                        <a:lnTo>
                          <a:pt x="1608" y="318"/>
                        </a:lnTo>
                        <a:lnTo>
                          <a:pt x="1631" y="290"/>
                        </a:lnTo>
                        <a:lnTo>
                          <a:pt x="1657" y="263"/>
                        </a:lnTo>
                        <a:lnTo>
                          <a:pt x="1684" y="239"/>
                        </a:lnTo>
                        <a:lnTo>
                          <a:pt x="1711" y="219"/>
                        </a:lnTo>
                        <a:lnTo>
                          <a:pt x="1736" y="206"/>
                        </a:lnTo>
                        <a:lnTo>
                          <a:pt x="1761" y="199"/>
                        </a:lnTo>
                        <a:lnTo>
                          <a:pt x="1809" y="196"/>
                        </a:lnTo>
                        <a:lnTo>
                          <a:pt x="1892" y="196"/>
                        </a:lnTo>
                        <a:lnTo>
                          <a:pt x="1929" y="179"/>
                        </a:lnTo>
                        <a:lnTo>
                          <a:pt x="1965" y="157"/>
                        </a:lnTo>
                        <a:lnTo>
                          <a:pt x="2003" y="144"/>
                        </a:lnTo>
                        <a:lnTo>
                          <a:pt x="2044" y="153"/>
                        </a:lnTo>
                        <a:lnTo>
                          <a:pt x="2088" y="194"/>
                        </a:lnTo>
                        <a:lnTo>
                          <a:pt x="2110" y="221"/>
                        </a:lnTo>
                        <a:lnTo>
                          <a:pt x="2131" y="249"/>
                        </a:lnTo>
                        <a:lnTo>
                          <a:pt x="2149" y="276"/>
                        </a:lnTo>
                        <a:lnTo>
                          <a:pt x="2162" y="298"/>
                        </a:lnTo>
                        <a:lnTo>
                          <a:pt x="2175" y="320"/>
                        </a:lnTo>
                        <a:lnTo>
                          <a:pt x="2184" y="230"/>
                        </a:lnTo>
                        <a:lnTo>
                          <a:pt x="2203" y="88"/>
                        </a:lnTo>
                        <a:lnTo>
                          <a:pt x="2217" y="50"/>
                        </a:lnTo>
                        <a:lnTo>
                          <a:pt x="2239" y="36"/>
                        </a:lnTo>
                        <a:lnTo>
                          <a:pt x="2313" y="51"/>
                        </a:lnTo>
                        <a:lnTo>
                          <a:pt x="2366" y="67"/>
                        </a:lnTo>
                        <a:lnTo>
                          <a:pt x="2429" y="85"/>
                        </a:lnTo>
                        <a:lnTo>
                          <a:pt x="2500" y="111"/>
                        </a:lnTo>
                        <a:lnTo>
                          <a:pt x="2536" y="126"/>
                        </a:lnTo>
                        <a:lnTo>
                          <a:pt x="2573" y="146"/>
                        </a:lnTo>
                        <a:lnTo>
                          <a:pt x="2611" y="167"/>
                        </a:lnTo>
                        <a:lnTo>
                          <a:pt x="2648" y="192"/>
                        </a:lnTo>
                        <a:lnTo>
                          <a:pt x="2684" y="218"/>
                        </a:lnTo>
                        <a:lnTo>
                          <a:pt x="2719" y="246"/>
                        </a:lnTo>
                        <a:lnTo>
                          <a:pt x="2751" y="274"/>
                        </a:lnTo>
                        <a:lnTo>
                          <a:pt x="2780" y="302"/>
                        </a:lnTo>
                        <a:lnTo>
                          <a:pt x="2827" y="357"/>
                        </a:lnTo>
                        <a:lnTo>
                          <a:pt x="2867" y="445"/>
                        </a:lnTo>
                        <a:lnTo>
                          <a:pt x="2870" y="480"/>
                        </a:lnTo>
                        <a:lnTo>
                          <a:pt x="2886" y="473"/>
                        </a:lnTo>
                        <a:lnTo>
                          <a:pt x="2924" y="456"/>
                        </a:lnTo>
                        <a:lnTo>
                          <a:pt x="2969" y="440"/>
                        </a:lnTo>
                        <a:lnTo>
                          <a:pt x="3008" y="436"/>
                        </a:lnTo>
                        <a:lnTo>
                          <a:pt x="3035" y="450"/>
                        </a:lnTo>
                        <a:lnTo>
                          <a:pt x="3062" y="476"/>
                        </a:lnTo>
                        <a:lnTo>
                          <a:pt x="3078" y="490"/>
                        </a:lnTo>
                        <a:lnTo>
                          <a:pt x="3099" y="504"/>
                        </a:lnTo>
                        <a:lnTo>
                          <a:pt x="3126" y="516"/>
                        </a:lnTo>
                        <a:lnTo>
                          <a:pt x="3160" y="524"/>
                        </a:lnTo>
                        <a:lnTo>
                          <a:pt x="3339" y="528"/>
                        </a:lnTo>
                        <a:lnTo>
                          <a:pt x="3402" y="532"/>
                        </a:lnTo>
                        <a:lnTo>
                          <a:pt x="3414" y="539"/>
                        </a:lnTo>
                        <a:lnTo>
                          <a:pt x="3407" y="552"/>
                        </a:lnTo>
                        <a:lnTo>
                          <a:pt x="3380" y="572"/>
                        </a:lnTo>
                        <a:lnTo>
                          <a:pt x="3335" y="598"/>
                        </a:lnTo>
                        <a:lnTo>
                          <a:pt x="3307" y="611"/>
                        </a:lnTo>
                        <a:lnTo>
                          <a:pt x="3276" y="626"/>
                        </a:lnTo>
                        <a:lnTo>
                          <a:pt x="3243" y="641"/>
                        </a:lnTo>
                        <a:lnTo>
                          <a:pt x="3209" y="658"/>
                        </a:lnTo>
                        <a:lnTo>
                          <a:pt x="3173" y="673"/>
                        </a:lnTo>
                        <a:lnTo>
                          <a:pt x="3137" y="688"/>
                        </a:lnTo>
                        <a:lnTo>
                          <a:pt x="3100" y="704"/>
                        </a:lnTo>
                        <a:lnTo>
                          <a:pt x="3064" y="720"/>
                        </a:lnTo>
                        <a:lnTo>
                          <a:pt x="3029" y="734"/>
                        </a:lnTo>
                        <a:lnTo>
                          <a:pt x="2996" y="746"/>
                        </a:lnTo>
                        <a:lnTo>
                          <a:pt x="2936" y="771"/>
                        </a:lnTo>
                        <a:lnTo>
                          <a:pt x="2886" y="789"/>
                        </a:lnTo>
                        <a:lnTo>
                          <a:pt x="2848" y="801"/>
                        </a:lnTo>
                        <a:lnTo>
                          <a:pt x="2792" y="811"/>
                        </a:lnTo>
                        <a:lnTo>
                          <a:pt x="2745" y="803"/>
                        </a:lnTo>
                        <a:lnTo>
                          <a:pt x="2689" y="778"/>
                        </a:lnTo>
                        <a:lnTo>
                          <a:pt x="2652" y="760"/>
                        </a:lnTo>
                        <a:lnTo>
                          <a:pt x="2607" y="741"/>
                        </a:lnTo>
                        <a:lnTo>
                          <a:pt x="2557" y="721"/>
                        </a:lnTo>
                        <a:lnTo>
                          <a:pt x="2502" y="702"/>
                        </a:lnTo>
                        <a:lnTo>
                          <a:pt x="2441" y="684"/>
                        </a:lnTo>
                        <a:lnTo>
                          <a:pt x="2377" y="672"/>
                        </a:lnTo>
                        <a:lnTo>
                          <a:pt x="2240" y="661"/>
                        </a:lnTo>
                        <a:lnTo>
                          <a:pt x="2098" y="679"/>
                        </a:lnTo>
                        <a:lnTo>
                          <a:pt x="1969" y="711"/>
                        </a:lnTo>
                        <a:lnTo>
                          <a:pt x="1918" y="728"/>
                        </a:lnTo>
                        <a:lnTo>
                          <a:pt x="1877" y="742"/>
                        </a:lnTo>
                        <a:lnTo>
                          <a:pt x="1840" y="756"/>
                        </a:lnTo>
                        <a:lnTo>
                          <a:pt x="1362" y="625"/>
                        </a:lnTo>
                        <a:lnTo>
                          <a:pt x="551" y="771"/>
                        </a:lnTo>
                        <a:lnTo>
                          <a:pt x="115" y="778"/>
                        </a:lnTo>
                        <a:lnTo>
                          <a:pt x="0" y="683"/>
                        </a:lnTo>
                        <a:lnTo>
                          <a:pt x="0" y="683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440360" y="2995200"/>
                    <a:ext cx="660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2" h="719">
                        <a:moveTo>
                          <a:pt x="0" y="487"/>
                        </a:moveTo>
                        <a:lnTo>
                          <a:pt x="43" y="501"/>
                        </a:lnTo>
                        <a:lnTo>
                          <a:pt x="87" y="515"/>
                        </a:lnTo>
                        <a:lnTo>
                          <a:pt x="143" y="532"/>
                        </a:lnTo>
                        <a:lnTo>
                          <a:pt x="205" y="551"/>
                        </a:lnTo>
                        <a:lnTo>
                          <a:pt x="268" y="571"/>
                        </a:lnTo>
                        <a:lnTo>
                          <a:pt x="330" y="589"/>
                        </a:lnTo>
                        <a:lnTo>
                          <a:pt x="385" y="604"/>
                        </a:lnTo>
                        <a:lnTo>
                          <a:pt x="468" y="621"/>
                        </a:lnTo>
                        <a:lnTo>
                          <a:pt x="525" y="626"/>
                        </a:lnTo>
                        <a:lnTo>
                          <a:pt x="632" y="618"/>
                        </a:lnTo>
                        <a:lnTo>
                          <a:pt x="1001" y="604"/>
                        </a:lnTo>
                        <a:lnTo>
                          <a:pt x="1146" y="598"/>
                        </a:lnTo>
                        <a:lnTo>
                          <a:pt x="1241" y="604"/>
                        </a:lnTo>
                        <a:lnTo>
                          <a:pt x="1305" y="628"/>
                        </a:lnTo>
                        <a:lnTo>
                          <a:pt x="1334" y="641"/>
                        </a:lnTo>
                        <a:lnTo>
                          <a:pt x="1363" y="647"/>
                        </a:lnTo>
                        <a:lnTo>
                          <a:pt x="1432" y="639"/>
                        </a:lnTo>
                        <a:lnTo>
                          <a:pt x="1494" y="633"/>
                        </a:lnTo>
                        <a:lnTo>
                          <a:pt x="1535" y="659"/>
                        </a:lnTo>
                        <a:lnTo>
                          <a:pt x="1557" y="679"/>
                        </a:lnTo>
                        <a:lnTo>
                          <a:pt x="1589" y="699"/>
                        </a:lnTo>
                        <a:lnTo>
                          <a:pt x="1633" y="712"/>
                        </a:lnTo>
                        <a:lnTo>
                          <a:pt x="1689" y="719"/>
                        </a:lnTo>
                        <a:lnTo>
                          <a:pt x="1827" y="699"/>
                        </a:lnTo>
                        <a:lnTo>
                          <a:pt x="1903" y="669"/>
                        </a:lnTo>
                        <a:lnTo>
                          <a:pt x="1942" y="652"/>
                        </a:lnTo>
                        <a:lnTo>
                          <a:pt x="1980" y="634"/>
                        </a:lnTo>
                        <a:lnTo>
                          <a:pt x="2018" y="618"/>
                        </a:lnTo>
                        <a:lnTo>
                          <a:pt x="2055" y="603"/>
                        </a:lnTo>
                        <a:lnTo>
                          <a:pt x="2125" y="582"/>
                        </a:lnTo>
                        <a:lnTo>
                          <a:pt x="2188" y="579"/>
                        </a:lnTo>
                        <a:lnTo>
                          <a:pt x="2247" y="589"/>
                        </a:lnTo>
                        <a:lnTo>
                          <a:pt x="2307" y="602"/>
                        </a:lnTo>
                        <a:lnTo>
                          <a:pt x="2371" y="611"/>
                        </a:lnTo>
                        <a:lnTo>
                          <a:pt x="2526" y="597"/>
                        </a:lnTo>
                        <a:lnTo>
                          <a:pt x="2613" y="577"/>
                        </a:lnTo>
                        <a:lnTo>
                          <a:pt x="2705" y="552"/>
                        </a:lnTo>
                        <a:lnTo>
                          <a:pt x="2758" y="537"/>
                        </a:lnTo>
                        <a:lnTo>
                          <a:pt x="2817" y="516"/>
                        </a:lnTo>
                        <a:lnTo>
                          <a:pt x="2880" y="492"/>
                        </a:lnTo>
                        <a:lnTo>
                          <a:pt x="2941" y="466"/>
                        </a:lnTo>
                        <a:lnTo>
                          <a:pt x="2995" y="439"/>
                        </a:lnTo>
                        <a:lnTo>
                          <a:pt x="3036" y="413"/>
                        </a:lnTo>
                        <a:lnTo>
                          <a:pt x="3062" y="373"/>
                        </a:lnTo>
                        <a:lnTo>
                          <a:pt x="3042" y="359"/>
                        </a:lnTo>
                        <a:lnTo>
                          <a:pt x="3007" y="350"/>
                        </a:lnTo>
                        <a:lnTo>
                          <a:pt x="2910" y="336"/>
                        </a:lnTo>
                        <a:lnTo>
                          <a:pt x="2712" y="312"/>
                        </a:lnTo>
                        <a:lnTo>
                          <a:pt x="2546" y="291"/>
                        </a:lnTo>
                        <a:lnTo>
                          <a:pt x="2470" y="275"/>
                        </a:lnTo>
                        <a:lnTo>
                          <a:pt x="2422" y="240"/>
                        </a:lnTo>
                        <a:lnTo>
                          <a:pt x="2397" y="186"/>
                        </a:lnTo>
                        <a:lnTo>
                          <a:pt x="2373" y="128"/>
                        </a:lnTo>
                        <a:lnTo>
                          <a:pt x="2345" y="80"/>
                        </a:lnTo>
                        <a:lnTo>
                          <a:pt x="2328" y="64"/>
                        </a:lnTo>
                        <a:lnTo>
                          <a:pt x="2307" y="59"/>
                        </a:lnTo>
                        <a:lnTo>
                          <a:pt x="2261" y="69"/>
                        </a:lnTo>
                        <a:lnTo>
                          <a:pt x="2217" y="97"/>
                        </a:lnTo>
                        <a:lnTo>
                          <a:pt x="2171" y="133"/>
                        </a:lnTo>
                        <a:lnTo>
                          <a:pt x="2149" y="151"/>
                        </a:lnTo>
                        <a:lnTo>
                          <a:pt x="2125" y="167"/>
                        </a:lnTo>
                        <a:lnTo>
                          <a:pt x="2100" y="179"/>
                        </a:lnTo>
                        <a:lnTo>
                          <a:pt x="2074" y="185"/>
                        </a:lnTo>
                        <a:lnTo>
                          <a:pt x="2018" y="183"/>
                        </a:lnTo>
                        <a:lnTo>
                          <a:pt x="1963" y="176"/>
                        </a:lnTo>
                        <a:lnTo>
                          <a:pt x="1915" y="174"/>
                        </a:lnTo>
                        <a:lnTo>
                          <a:pt x="1878" y="198"/>
                        </a:lnTo>
                        <a:lnTo>
                          <a:pt x="1847" y="241"/>
                        </a:lnTo>
                        <a:lnTo>
                          <a:pt x="1832" y="264"/>
                        </a:lnTo>
                        <a:lnTo>
                          <a:pt x="1817" y="287"/>
                        </a:lnTo>
                        <a:lnTo>
                          <a:pt x="1798" y="305"/>
                        </a:lnTo>
                        <a:lnTo>
                          <a:pt x="1777" y="321"/>
                        </a:lnTo>
                        <a:lnTo>
                          <a:pt x="1726" y="337"/>
                        </a:lnTo>
                        <a:lnTo>
                          <a:pt x="1668" y="344"/>
                        </a:lnTo>
                        <a:lnTo>
                          <a:pt x="1560" y="328"/>
                        </a:lnTo>
                        <a:lnTo>
                          <a:pt x="1519" y="300"/>
                        </a:lnTo>
                        <a:lnTo>
                          <a:pt x="1485" y="260"/>
                        </a:lnTo>
                        <a:lnTo>
                          <a:pt x="1450" y="219"/>
                        </a:lnTo>
                        <a:lnTo>
                          <a:pt x="1430" y="202"/>
                        </a:lnTo>
                        <a:lnTo>
                          <a:pt x="1408" y="190"/>
                        </a:lnTo>
                        <a:lnTo>
                          <a:pt x="1350" y="178"/>
                        </a:lnTo>
                        <a:lnTo>
                          <a:pt x="1285" y="176"/>
                        </a:lnTo>
                        <a:lnTo>
                          <a:pt x="1161" y="146"/>
                        </a:lnTo>
                        <a:lnTo>
                          <a:pt x="1114" y="104"/>
                        </a:lnTo>
                        <a:lnTo>
                          <a:pt x="1076" y="59"/>
                        </a:lnTo>
                        <a:lnTo>
                          <a:pt x="1044" y="20"/>
                        </a:lnTo>
                        <a:lnTo>
                          <a:pt x="1029" y="7"/>
                        </a:lnTo>
                        <a:lnTo>
                          <a:pt x="1016" y="0"/>
                        </a:lnTo>
                        <a:lnTo>
                          <a:pt x="989" y="8"/>
                        </a:lnTo>
                        <a:lnTo>
                          <a:pt x="965" y="37"/>
                        </a:lnTo>
                        <a:lnTo>
                          <a:pt x="929" y="109"/>
                        </a:lnTo>
                        <a:lnTo>
                          <a:pt x="907" y="153"/>
                        </a:lnTo>
                        <a:lnTo>
                          <a:pt x="856" y="197"/>
                        </a:lnTo>
                        <a:lnTo>
                          <a:pt x="833" y="214"/>
                        </a:lnTo>
                        <a:lnTo>
                          <a:pt x="803" y="233"/>
                        </a:lnTo>
                        <a:lnTo>
                          <a:pt x="771" y="253"/>
                        </a:lnTo>
                        <a:lnTo>
                          <a:pt x="733" y="274"/>
                        </a:lnTo>
                        <a:lnTo>
                          <a:pt x="694" y="294"/>
                        </a:lnTo>
                        <a:lnTo>
                          <a:pt x="650" y="311"/>
                        </a:lnTo>
                        <a:lnTo>
                          <a:pt x="606" y="325"/>
                        </a:lnTo>
                        <a:lnTo>
                          <a:pt x="559" y="335"/>
                        </a:lnTo>
                        <a:lnTo>
                          <a:pt x="367" y="337"/>
                        </a:lnTo>
                        <a:lnTo>
                          <a:pt x="190" y="349"/>
                        </a:lnTo>
                        <a:lnTo>
                          <a:pt x="114" y="385"/>
                        </a:lnTo>
                        <a:lnTo>
                          <a:pt x="54" y="431"/>
                        </a:lnTo>
                        <a:lnTo>
                          <a:pt x="16" y="470"/>
                        </a:lnTo>
                        <a:lnTo>
                          <a:pt x="0" y="487"/>
                        </a:lnTo>
                        <a:lnTo>
                          <a:pt x="0" y="487"/>
                        </a:lnTo>
                        <a:close/>
                      </a:path>
                    </a:pathLst>
                  </a:custGeom>
                  <a:solidFill>
                    <a:srgbClr val="a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399320" y="3044520"/>
                    <a:ext cx="73656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410" h="932">
                        <a:moveTo>
                          <a:pt x="0" y="119"/>
                        </a:moveTo>
                        <a:lnTo>
                          <a:pt x="16" y="249"/>
                        </a:lnTo>
                        <a:lnTo>
                          <a:pt x="38" y="283"/>
                        </a:lnTo>
                        <a:lnTo>
                          <a:pt x="65" y="313"/>
                        </a:lnTo>
                        <a:lnTo>
                          <a:pt x="102" y="344"/>
                        </a:lnTo>
                        <a:lnTo>
                          <a:pt x="149" y="368"/>
                        </a:lnTo>
                        <a:lnTo>
                          <a:pt x="204" y="392"/>
                        </a:lnTo>
                        <a:lnTo>
                          <a:pt x="266" y="422"/>
                        </a:lnTo>
                        <a:lnTo>
                          <a:pt x="298" y="442"/>
                        </a:lnTo>
                        <a:lnTo>
                          <a:pt x="333" y="468"/>
                        </a:lnTo>
                        <a:lnTo>
                          <a:pt x="371" y="498"/>
                        </a:lnTo>
                        <a:lnTo>
                          <a:pt x="411" y="532"/>
                        </a:lnTo>
                        <a:lnTo>
                          <a:pt x="456" y="571"/>
                        </a:lnTo>
                        <a:lnTo>
                          <a:pt x="510" y="611"/>
                        </a:lnTo>
                        <a:lnTo>
                          <a:pt x="540" y="632"/>
                        </a:lnTo>
                        <a:lnTo>
                          <a:pt x="573" y="653"/>
                        </a:lnTo>
                        <a:lnTo>
                          <a:pt x="609" y="674"/>
                        </a:lnTo>
                        <a:lnTo>
                          <a:pt x="648" y="694"/>
                        </a:lnTo>
                        <a:lnTo>
                          <a:pt x="690" y="715"/>
                        </a:lnTo>
                        <a:lnTo>
                          <a:pt x="737" y="735"/>
                        </a:lnTo>
                        <a:lnTo>
                          <a:pt x="787" y="754"/>
                        </a:lnTo>
                        <a:lnTo>
                          <a:pt x="842" y="773"/>
                        </a:lnTo>
                        <a:lnTo>
                          <a:pt x="900" y="791"/>
                        </a:lnTo>
                        <a:lnTo>
                          <a:pt x="962" y="807"/>
                        </a:lnTo>
                        <a:lnTo>
                          <a:pt x="1028" y="823"/>
                        </a:lnTo>
                        <a:lnTo>
                          <a:pt x="1093" y="839"/>
                        </a:lnTo>
                        <a:lnTo>
                          <a:pt x="1160" y="853"/>
                        </a:lnTo>
                        <a:lnTo>
                          <a:pt x="1226" y="866"/>
                        </a:lnTo>
                        <a:lnTo>
                          <a:pt x="1354" y="889"/>
                        </a:lnTo>
                        <a:lnTo>
                          <a:pt x="1466" y="908"/>
                        </a:lnTo>
                        <a:lnTo>
                          <a:pt x="1557" y="922"/>
                        </a:lnTo>
                        <a:lnTo>
                          <a:pt x="1639" y="932"/>
                        </a:lnTo>
                        <a:lnTo>
                          <a:pt x="2574" y="846"/>
                        </a:lnTo>
                        <a:lnTo>
                          <a:pt x="3052" y="497"/>
                        </a:lnTo>
                        <a:lnTo>
                          <a:pt x="3087" y="458"/>
                        </a:lnTo>
                        <a:lnTo>
                          <a:pt x="3125" y="417"/>
                        </a:lnTo>
                        <a:lnTo>
                          <a:pt x="3146" y="393"/>
                        </a:lnTo>
                        <a:lnTo>
                          <a:pt x="3168" y="367"/>
                        </a:lnTo>
                        <a:lnTo>
                          <a:pt x="3192" y="341"/>
                        </a:lnTo>
                        <a:lnTo>
                          <a:pt x="3216" y="314"/>
                        </a:lnTo>
                        <a:lnTo>
                          <a:pt x="3239" y="288"/>
                        </a:lnTo>
                        <a:lnTo>
                          <a:pt x="3262" y="262"/>
                        </a:lnTo>
                        <a:lnTo>
                          <a:pt x="3283" y="237"/>
                        </a:lnTo>
                        <a:lnTo>
                          <a:pt x="3303" y="214"/>
                        </a:lnTo>
                        <a:lnTo>
                          <a:pt x="3335" y="176"/>
                        </a:lnTo>
                        <a:lnTo>
                          <a:pt x="3358" y="147"/>
                        </a:lnTo>
                        <a:lnTo>
                          <a:pt x="3378" y="120"/>
                        </a:lnTo>
                        <a:lnTo>
                          <a:pt x="3404" y="76"/>
                        </a:lnTo>
                        <a:lnTo>
                          <a:pt x="3410" y="41"/>
                        </a:lnTo>
                        <a:lnTo>
                          <a:pt x="3393" y="17"/>
                        </a:lnTo>
                        <a:lnTo>
                          <a:pt x="3354" y="4"/>
                        </a:lnTo>
                        <a:lnTo>
                          <a:pt x="3299" y="0"/>
                        </a:lnTo>
                        <a:lnTo>
                          <a:pt x="3183" y="17"/>
                        </a:lnTo>
                        <a:lnTo>
                          <a:pt x="3103" y="58"/>
                        </a:lnTo>
                        <a:lnTo>
                          <a:pt x="3072" y="89"/>
                        </a:lnTo>
                        <a:lnTo>
                          <a:pt x="3038" y="126"/>
                        </a:lnTo>
                        <a:lnTo>
                          <a:pt x="2996" y="169"/>
                        </a:lnTo>
                        <a:lnTo>
                          <a:pt x="2970" y="192"/>
                        </a:lnTo>
                        <a:lnTo>
                          <a:pt x="2942" y="215"/>
                        </a:lnTo>
                        <a:lnTo>
                          <a:pt x="2911" y="236"/>
                        </a:lnTo>
                        <a:lnTo>
                          <a:pt x="2876" y="255"/>
                        </a:lnTo>
                        <a:lnTo>
                          <a:pt x="2836" y="272"/>
                        </a:lnTo>
                        <a:lnTo>
                          <a:pt x="2791" y="285"/>
                        </a:lnTo>
                        <a:lnTo>
                          <a:pt x="2691" y="303"/>
                        </a:lnTo>
                        <a:lnTo>
                          <a:pt x="2583" y="314"/>
                        </a:lnTo>
                        <a:lnTo>
                          <a:pt x="2400" y="351"/>
                        </a:lnTo>
                        <a:lnTo>
                          <a:pt x="2346" y="392"/>
                        </a:lnTo>
                        <a:lnTo>
                          <a:pt x="2317" y="440"/>
                        </a:lnTo>
                        <a:lnTo>
                          <a:pt x="2291" y="504"/>
                        </a:lnTo>
                        <a:lnTo>
                          <a:pt x="2258" y="472"/>
                        </a:lnTo>
                        <a:lnTo>
                          <a:pt x="2226" y="438"/>
                        </a:lnTo>
                        <a:lnTo>
                          <a:pt x="2202" y="423"/>
                        </a:lnTo>
                        <a:lnTo>
                          <a:pt x="2175" y="409"/>
                        </a:lnTo>
                        <a:lnTo>
                          <a:pt x="2105" y="394"/>
                        </a:lnTo>
                        <a:lnTo>
                          <a:pt x="2026" y="393"/>
                        </a:lnTo>
                        <a:lnTo>
                          <a:pt x="1945" y="406"/>
                        </a:lnTo>
                        <a:lnTo>
                          <a:pt x="1877" y="431"/>
                        </a:lnTo>
                        <a:lnTo>
                          <a:pt x="1801" y="502"/>
                        </a:lnTo>
                        <a:lnTo>
                          <a:pt x="1785" y="530"/>
                        </a:lnTo>
                        <a:lnTo>
                          <a:pt x="1777" y="540"/>
                        </a:lnTo>
                        <a:lnTo>
                          <a:pt x="1758" y="496"/>
                        </a:lnTo>
                        <a:lnTo>
                          <a:pt x="1738" y="458"/>
                        </a:lnTo>
                        <a:lnTo>
                          <a:pt x="1723" y="440"/>
                        </a:lnTo>
                        <a:lnTo>
                          <a:pt x="1704" y="423"/>
                        </a:lnTo>
                        <a:lnTo>
                          <a:pt x="1680" y="410"/>
                        </a:lnTo>
                        <a:lnTo>
                          <a:pt x="1651" y="401"/>
                        </a:lnTo>
                        <a:lnTo>
                          <a:pt x="1584" y="394"/>
                        </a:lnTo>
                        <a:lnTo>
                          <a:pt x="1513" y="401"/>
                        </a:lnTo>
                        <a:lnTo>
                          <a:pt x="1443" y="423"/>
                        </a:lnTo>
                        <a:lnTo>
                          <a:pt x="1411" y="441"/>
                        </a:lnTo>
                        <a:lnTo>
                          <a:pt x="1383" y="461"/>
                        </a:lnTo>
                        <a:lnTo>
                          <a:pt x="1336" y="501"/>
                        </a:lnTo>
                        <a:lnTo>
                          <a:pt x="1306" y="531"/>
                        </a:lnTo>
                        <a:lnTo>
                          <a:pt x="1298" y="540"/>
                        </a:lnTo>
                        <a:lnTo>
                          <a:pt x="1311" y="518"/>
                        </a:lnTo>
                        <a:lnTo>
                          <a:pt x="1327" y="475"/>
                        </a:lnTo>
                        <a:lnTo>
                          <a:pt x="1330" y="450"/>
                        </a:lnTo>
                        <a:lnTo>
                          <a:pt x="1328" y="424"/>
                        </a:lnTo>
                        <a:lnTo>
                          <a:pt x="1315" y="401"/>
                        </a:lnTo>
                        <a:lnTo>
                          <a:pt x="1291" y="380"/>
                        </a:lnTo>
                        <a:lnTo>
                          <a:pt x="1253" y="365"/>
                        </a:lnTo>
                        <a:lnTo>
                          <a:pt x="1204" y="353"/>
                        </a:lnTo>
                        <a:lnTo>
                          <a:pt x="1084" y="343"/>
                        </a:lnTo>
                        <a:lnTo>
                          <a:pt x="842" y="351"/>
                        </a:lnTo>
                        <a:lnTo>
                          <a:pt x="706" y="374"/>
                        </a:lnTo>
                        <a:lnTo>
                          <a:pt x="623" y="380"/>
                        </a:lnTo>
                        <a:lnTo>
                          <a:pt x="505" y="347"/>
                        </a:lnTo>
                        <a:lnTo>
                          <a:pt x="467" y="332"/>
                        </a:lnTo>
                        <a:lnTo>
                          <a:pt x="423" y="314"/>
                        </a:lnTo>
                        <a:lnTo>
                          <a:pt x="377" y="293"/>
                        </a:lnTo>
                        <a:lnTo>
                          <a:pt x="326" y="271"/>
                        </a:lnTo>
                        <a:lnTo>
                          <a:pt x="273" y="247"/>
                        </a:lnTo>
                        <a:lnTo>
                          <a:pt x="217" y="221"/>
                        </a:lnTo>
                        <a:lnTo>
                          <a:pt x="162" y="195"/>
                        </a:lnTo>
                        <a:lnTo>
                          <a:pt x="110" y="171"/>
                        </a:lnTo>
                        <a:lnTo>
                          <a:pt x="67" y="151"/>
                        </a:lnTo>
                        <a:lnTo>
                          <a:pt x="32" y="134"/>
                        </a:lnTo>
                        <a:lnTo>
                          <a:pt x="0" y="119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422360" y="3088080"/>
                    <a:ext cx="67680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38" h="700">
                        <a:moveTo>
                          <a:pt x="51" y="31"/>
                        </a:moveTo>
                        <a:lnTo>
                          <a:pt x="135" y="33"/>
                        </a:lnTo>
                        <a:lnTo>
                          <a:pt x="230" y="50"/>
                        </a:lnTo>
                        <a:lnTo>
                          <a:pt x="332" y="83"/>
                        </a:lnTo>
                        <a:lnTo>
                          <a:pt x="384" y="102"/>
                        </a:lnTo>
                        <a:lnTo>
                          <a:pt x="437" y="124"/>
                        </a:lnTo>
                        <a:lnTo>
                          <a:pt x="489" y="147"/>
                        </a:lnTo>
                        <a:lnTo>
                          <a:pt x="541" y="171"/>
                        </a:lnTo>
                        <a:lnTo>
                          <a:pt x="591" y="195"/>
                        </a:lnTo>
                        <a:lnTo>
                          <a:pt x="640" y="219"/>
                        </a:lnTo>
                        <a:lnTo>
                          <a:pt x="686" y="242"/>
                        </a:lnTo>
                        <a:lnTo>
                          <a:pt x="729" y="264"/>
                        </a:lnTo>
                        <a:lnTo>
                          <a:pt x="770" y="284"/>
                        </a:lnTo>
                        <a:lnTo>
                          <a:pt x="806" y="303"/>
                        </a:lnTo>
                        <a:lnTo>
                          <a:pt x="841" y="319"/>
                        </a:lnTo>
                        <a:lnTo>
                          <a:pt x="875" y="333"/>
                        </a:lnTo>
                        <a:lnTo>
                          <a:pt x="939" y="359"/>
                        </a:lnTo>
                        <a:lnTo>
                          <a:pt x="1001" y="378"/>
                        </a:lnTo>
                        <a:lnTo>
                          <a:pt x="1061" y="392"/>
                        </a:lnTo>
                        <a:lnTo>
                          <a:pt x="1173" y="408"/>
                        </a:lnTo>
                        <a:lnTo>
                          <a:pt x="1282" y="411"/>
                        </a:lnTo>
                        <a:lnTo>
                          <a:pt x="1503" y="394"/>
                        </a:lnTo>
                        <a:lnTo>
                          <a:pt x="1624" y="385"/>
                        </a:lnTo>
                        <a:lnTo>
                          <a:pt x="1759" y="381"/>
                        </a:lnTo>
                        <a:lnTo>
                          <a:pt x="2146" y="377"/>
                        </a:lnTo>
                        <a:lnTo>
                          <a:pt x="2340" y="353"/>
                        </a:lnTo>
                        <a:lnTo>
                          <a:pt x="2431" y="331"/>
                        </a:lnTo>
                        <a:lnTo>
                          <a:pt x="2514" y="299"/>
                        </a:lnTo>
                        <a:lnTo>
                          <a:pt x="2542" y="285"/>
                        </a:lnTo>
                        <a:lnTo>
                          <a:pt x="2582" y="264"/>
                        </a:lnTo>
                        <a:lnTo>
                          <a:pt x="2631" y="239"/>
                        </a:lnTo>
                        <a:lnTo>
                          <a:pt x="2658" y="223"/>
                        </a:lnTo>
                        <a:lnTo>
                          <a:pt x="2687" y="208"/>
                        </a:lnTo>
                        <a:lnTo>
                          <a:pt x="2716" y="192"/>
                        </a:lnTo>
                        <a:lnTo>
                          <a:pt x="2748" y="174"/>
                        </a:lnTo>
                        <a:lnTo>
                          <a:pt x="2779" y="158"/>
                        </a:lnTo>
                        <a:lnTo>
                          <a:pt x="2811" y="140"/>
                        </a:lnTo>
                        <a:lnTo>
                          <a:pt x="2842" y="124"/>
                        </a:lnTo>
                        <a:lnTo>
                          <a:pt x="2874" y="106"/>
                        </a:lnTo>
                        <a:lnTo>
                          <a:pt x="2905" y="91"/>
                        </a:lnTo>
                        <a:lnTo>
                          <a:pt x="2936" y="76"/>
                        </a:lnTo>
                        <a:lnTo>
                          <a:pt x="2965" y="61"/>
                        </a:lnTo>
                        <a:lnTo>
                          <a:pt x="2993" y="48"/>
                        </a:lnTo>
                        <a:lnTo>
                          <a:pt x="3044" y="24"/>
                        </a:lnTo>
                        <a:lnTo>
                          <a:pt x="3086" y="8"/>
                        </a:lnTo>
                        <a:lnTo>
                          <a:pt x="3118" y="0"/>
                        </a:lnTo>
                        <a:lnTo>
                          <a:pt x="3136" y="1"/>
                        </a:lnTo>
                        <a:lnTo>
                          <a:pt x="3138" y="13"/>
                        </a:lnTo>
                        <a:lnTo>
                          <a:pt x="3123" y="38"/>
                        </a:lnTo>
                        <a:lnTo>
                          <a:pt x="3088" y="77"/>
                        </a:lnTo>
                        <a:lnTo>
                          <a:pt x="3060" y="106"/>
                        </a:lnTo>
                        <a:lnTo>
                          <a:pt x="3033" y="134"/>
                        </a:lnTo>
                        <a:lnTo>
                          <a:pt x="3005" y="165"/>
                        </a:lnTo>
                        <a:lnTo>
                          <a:pt x="2978" y="195"/>
                        </a:lnTo>
                        <a:lnTo>
                          <a:pt x="2951" y="226"/>
                        </a:lnTo>
                        <a:lnTo>
                          <a:pt x="2923" y="255"/>
                        </a:lnTo>
                        <a:lnTo>
                          <a:pt x="2896" y="285"/>
                        </a:lnTo>
                        <a:lnTo>
                          <a:pt x="2868" y="315"/>
                        </a:lnTo>
                        <a:lnTo>
                          <a:pt x="2839" y="344"/>
                        </a:lnTo>
                        <a:lnTo>
                          <a:pt x="2809" y="372"/>
                        </a:lnTo>
                        <a:lnTo>
                          <a:pt x="2780" y="399"/>
                        </a:lnTo>
                        <a:lnTo>
                          <a:pt x="2749" y="423"/>
                        </a:lnTo>
                        <a:lnTo>
                          <a:pt x="2717" y="448"/>
                        </a:lnTo>
                        <a:lnTo>
                          <a:pt x="2684" y="470"/>
                        </a:lnTo>
                        <a:lnTo>
                          <a:pt x="2651" y="490"/>
                        </a:lnTo>
                        <a:lnTo>
                          <a:pt x="2614" y="509"/>
                        </a:lnTo>
                        <a:lnTo>
                          <a:pt x="2571" y="529"/>
                        </a:lnTo>
                        <a:lnTo>
                          <a:pt x="2523" y="547"/>
                        </a:lnTo>
                        <a:lnTo>
                          <a:pt x="2473" y="566"/>
                        </a:lnTo>
                        <a:lnTo>
                          <a:pt x="2419" y="584"/>
                        </a:lnTo>
                        <a:lnTo>
                          <a:pt x="2364" y="599"/>
                        </a:lnTo>
                        <a:lnTo>
                          <a:pt x="2305" y="614"/>
                        </a:lnTo>
                        <a:lnTo>
                          <a:pt x="2245" y="628"/>
                        </a:lnTo>
                        <a:lnTo>
                          <a:pt x="2182" y="641"/>
                        </a:lnTo>
                        <a:lnTo>
                          <a:pt x="2052" y="663"/>
                        </a:lnTo>
                        <a:lnTo>
                          <a:pt x="1918" y="681"/>
                        </a:lnTo>
                        <a:lnTo>
                          <a:pt x="1780" y="693"/>
                        </a:lnTo>
                        <a:lnTo>
                          <a:pt x="1641" y="700"/>
                        </a:lnTo>
                        <a:lnTo>
                          <a:pt x="1365" y="694"/>
                        </a:lnTo>
                        <a:lnTo>
                          <a:pt x="1104" y="662"/>
                        </a:lnTo>
                        <a:lnTo>
                          <a:pt x="985" y="634"/>
                        </a:lnTo>
                        <a:lnTo>
                          <a:pt x="929" y="618"/>
                        </a:lnTo>
                        <a:lnTo>
                          <a:pt x="875" y="600"/>
                        </a:lnTo>
                        <a:lnTo>
                          <a:pt x="825" y="579"/>
                        </a:lnTo>
                        <a:lnTo>
                          <a:pt x="777" y="557"/>
                        </a:lnTo>
                        <a:lnTo>
                          <a:pt x="733" y="532"/>
                        </a:lnTo>
                        <a:lnTo>
                          <a:pt x="690" y="507"/>
                        </a:lnTo>
                        <a:lnTo>
                          <a:pt x="669" y="490"/>
                        </a:lnTo>
                        <a:lnTo>
                          <a:pt x="647" y="475"/>
                        </a:lnTo>
                        <a:lnTo>
                          <a:pt x="627" y="460"/>
                        </a:lnTo>
                        <a:lnTo>
                          <a:pt x="606" y="444"/>
                        </a:lnTo>
                        <a:lnTo>
                          <a:pt x="586" y="430"/>
                        </a:lnTo>
                        <a:lnTo>
                          <a:pt x="568" y="416"/>
                        </a:lnTo>
                        <a:lnTo>
                          <a:pt x="529" y="387"/>
                        </a:lnTo>
                        <a:lnTo>
                          <a:pt x="492" y="360"/>
                        </a:lnTo>
                        <a:lnTo>
                          <a:pt x="456" y="334"/>
                        </a:lnTo>
                        <a:lnTo>
                          <a:pt x="419" y="309"/>
                        </a:lnTo>
                        <a:lnTo>
                          <a:pt x="383" y="284"/>
                        </a:lnTo>
                        <a:lnTo>
                          <a:pt x="346" y="261"/>
                        </a:lnTo>
                        <a:lnTo>
                          <a:pt x="308" y="239"/>
                        </a:lnTo>
                        <a:lnTo>
                          <a:pt x="270" y="216"/>
                        </a:lnTo>
                        <a:lnTo>
                          <a:pt x="229" y="196"/>
                        </a:lnTo>
                        <a:lnTo>
                          <a:pt x="187" y="177"/>
                        </a:lnTo>
                        <a:lnTo>
                          <a:pt x="141" y="158"/>
                        </a:lnTo>
                        <a:lnTo>
                          <a:pt x="94" y="140"/>
                        </a:lnTo>
                        <a:lnTo>
                          <a:pt x="44" y="125"/>
                        </a:lnTo>
                        <a:lnTo>
                          <a:pt x="10" y="104"/>
                        </a:lnTo>
                        <a:lnTo>
                          <a:pt x="0" y="75"/>
                        </a:lnTo>
                        <a:lnTo>
                          <a:pt x="14" y="47"/>
                        </a:lnTo>
                        <a:lnTo>
                          <a:pt x="30" y="37"/>
                        </a:lnTo>
                        <a:lnTo>
                          <a:pt x="51" y="31"/>
                        </a:lnTo>
                        <a:lnTo>
                          <a:pt x="51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429920" y="2989440"/>
                    <a:ext cx="656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8" h="635">
                        <a:moveTo>
                          <a:pt x="1191" y="49"/>
                        </a:moveTo>
                        <a:lnTo>
                          <a:pt x="1209" y="90"/>
                        </a:lnTo>
                        <a:lnTo>
                          <a:pt x="1225" y="126"/>
                        </a:lnTo>
                        <a:lnTo>
                          <a:pt x="1243" y="159"/>
                        </a:lnTo>
                        <a:lnTo>
                          <a:pt x="1259" y="188"/>
                        </a:lnTo>
                        <a:lnTo>
                          <a:pt x="1278" y="214"/>
                        </a:lnTo>
                        <a:lnTo>
                          <a:pt x="1296" y="239"/>
                        </a:lnTo>
                        <a:lnTo>
                          <a:pt x="1337" y="278"/>
                        </a:lnTo>
                        <a:lnTo>
                          <a:pt x="1389" y="304"/>
                        </a:lnTo>
                        <a:lnTo>
                          <a:pt x="1423" y="325"/>
                        </a:lnTo>
                        <a:lnTo>
                          <a:pt x="1459" y="349"/>
                        </a:lnTo>
                        <a:lnTo>
                          <a:pt x="1496" y="373"/>
                        </a:lnTo>
                        <a:lnTo>
                          <a:pt x="1531" y="395"/>
                        </a:lnTo>
                        <a:lnTo>
                          <a:pt x="1564" y="414"/>
                        </a:lnTo>
                        <a:lnTo>
                          <a:pt x="1591" y="426"/>
                        </a:lnTo>
                        <a:lnTo>
                          <a:pt x="1705" y="432"/>
                        </a:lnTo>
                        <a:lnTo>
                          <a:pt x="1880" y="390"/>
                        </a:lnTo>
                        <a:lnTo>
                          <a:pt x="1892" y="380"/>
                        </a:lnTo>
                        <a:lnTo>
                          <a:pt x="1938" y="353"/>
                        </a:lnTo>
                        <a:lnTo>
                          <a:pt x="1982" y="328"/>
                        </a:lnTo>
                        <a:lnTo>
                          <a:pt x="2026" y="303"/>
                        </a:lnTo>
                        <a:lnTo>
                          <a:pt x="2069" y="277"/>
                        </a:lnTo>
                        <a:lnTo>
                          <a:pt x="2110" y="250"/>
                        </a:lnTo>
                        <a:lnTo>
                          <a:pt x="2150" y="221"/>
                        </a:lnTo>
                        <a:lnTo>
                          <a:pt x="2188" y="186"/>
                        </a:lnTo>
                        <a:lnTo>
                          <a:pt x="2225" y="146"/>
                        </a:lnTo>
                        <a:lnTo>
                          <a:pt x="2263" y="96"/>
                        </a:lnTo>
                        <a:lnTo>
                          <a:pt x="2280" y="71"/>
                        </a:lnTo>
                        <a:lnTo>
                          <a:pt x="2299" y="48"/>
                        </a:lnTo>
                        <a:lnTo>
                          <a:pt x="2315" y="34"/>
                        </a:lnTo>
                        <a:lnTo>
                          <a:pt x="2333" y="27"/>
                        </a:lnTo>
                        <a:lnTo>
                          <a:pt x="2365" y="34"/>
                        </a:lnTo>
                        <a:lnTo>
                          <a:pt x="2382" y="60"/>
                        </a:lnTo>
                        <a:lnTo>
                          <a:pt x="2377" y="98"/>
                        </a:lnTo>
                        <a:lnTo>
                          <a:pt x="2354" y="151"/>
                        </a:lnTo>
                        <a:lnTo>
                          <a:pt x="2332" y="200"/>
                        </a:lnTo>
                        <a:lnTo>
                          <a:pt x="2318" y="223"/>
                        </a:lnTo>
                        <a:lnTo>
                          <a:pt x="2299" y="248"/>
                        </a:lnTo>
                        <a:lnTo>
                          <a:pt x="2276" y="273"/>
                        </a:lnTo>
                        <a:lnTo>
                          <a:pt x="2245" y="298"/>
                        </a:lnTo>
                        <a:lnTo>
                          <a:pt x="2355" y="316"/>
                        </a:lnTo>
                        <a:lnTo>
                          <a:pt x="2402" y="333"/>
                        </a:lnTo>
                        <a:lnTo>
                          <a:pt x="2448" y="352"/>
                        </a:lnTo>
                        <a:lnTo>
                          <a:pt x="2494" y="371"/>
                        </a:lnTo>
                        <a:lnTo>
                          <a:pt x="2545" y="388"/>
                        </a:lnTo>
                        <a:lnTo>
                          <a:pt x="2602" y="400"/>
                        </a:lnTo>
                        <a:lnTo>
                          <a:pt x="2668" y="405"/>
                        </a:lnTo>
                        <a:lnTo>
                          <a:pt x="2910" y="412"/>
                        </a:lnTo>
                        <a:lnTo>
                          <a:pt x="3023" y="438"/>
                        </a:lnTo>
                        <a:lnTo>
                          <a:pt x="3038" y="461"/>
                        </a:lnTo>
                        <a:lnTo>
                          <a:pt x="3030" y="475"/>
                        </a:lnTo>
                        <a:lnTo>
                          <a:pt x="3011" y="493"/>
                        </a:lnTo>
                        <a:lnTo>
                          <a:pt x="2988" y="509"/>
                        </a:lnTo>
                        <a:lnTo>
                          <a:pt x="2965" y="524"/>
                        </a:lnTo>
                        <a:lnTo>
                          <a:pt x="2943" y="539"/>
                        </a:lnTo>
                        <a:lnTo>
                          <a:pt x="2921" y="552"/>
                        </a:lnTo>
                        <a:lnTo>
                          <a:pt x="2879" y="574"/>
                        </a:lnTo>
                        <a:lnTo>
                          <a:pt x="2838" y="594"/>
                        </a:lnTo>
                        <a:lnTo>
                          <a:pt x="2798" y="610"/>
                        </a:lnTo>
                        <a:lnTo>
                          <a:pt x="2760" y="621"/>
                        </a:lnTo>
                        <a:lnTo>
                          <a:pt x="2687" y="635"/>
                        </a:lnTo>
                        <a:lnTo>
                          <a:pt x="2555" y="632"/>
                        </a:lnTo>
                        <a:lnTo>
                          <a:pt x="2437" y="603"/>
                        </a:lnTo>
                        <a:lnTo>
                          <a:pt x="2383" y="581"/>
                        </a:lnTo>
                        <a:lnTo>
                          <a:pt x="2331" y="560"/>
                        </a:lnTo>
                        <a:lnTo>
                          <a:pt x="2279" y="542"/>
                        </a:lnTo>
                        <a:lnTo>
                          <a:pt x="2229" y="525"/>
                        </a:lnTo>
                        <a:lnTo>
                          <a:pt x="2179" y="514"/>
                        </a:lnTo>
                        <a:lnTo>
                          <a:pt x="2128" y="510"/>
                        </a:lnTo>
                        <a:lnTo>
                          <a:pt x="2027" y="534"/>
                        </a:lnTo>
                        <a:lnTo>
                          <a:pt x="1982" y="553"/>
                        </a:lnTo>
                        <a:lnTo>
                          <a:pt x="1941" y="570"/>
                        </a:lnTo>
                        <a:lnTo>
                          <a:pt x="1902" y="584"/>
                        </a:lnTo>
                        <a:lnTo>
                          <a:pt x="1865" y="597"/>
                        </a:lnTo>
                        <a:lnTo>
                          <a:pt x="1800" y="614"/>
                        </a:lnTo>
                        <a:lnTo>
                          <a:pt x="1742" y="625"/>
                        </a:lnTo>
                        <a:lnTo>
                          <a:pt x="1643" y="627"/>
                        </a:lnTo>
                        <a:lnTo>
                          <a:pt x="1562" y="612"/>
                        </a:lnTo>
                        <a:lnTo>
                          <a:pt x="1484" y="586"/>
                        </a:lnTo>
                        <a:lnTo>
                          <a:pt x="1444" y="573"/>
                        </a:lnTo>
                        <a:lnTo>
                          <a:pt x="1401" y="562"/>
                        </a:lnTo>
                        <a:lnTo>
                          <a:pt x="1303" y="544"/>
                        </a:lnTo>
                        <a:lnTo>
                          <a:pt x="1179" y="544"/>
                        </a:lnTo>
                        <a:lnTo>
                          <a:pt x="899" y="576"/>
                        </a:lnTo>
                        <a:lnTo>
                          <a:pt x="754" y="596"/>
                        </a:lnTo>
                        <a:lnTo>
                          <a:pt x="609" y="613"/>
                        </a:lnTo>
                        <a:lnTo>
                          <a:pt x="464" y="624"/>
                        </a:lnTo>
                        <a:lnTo>
                          <a:pt x="320" y="625"/>
                        </a:lnTo>
                        <a:lnTo>
                          <a:pt x="179" y="613"/>
                        </a:lnTo>
                        <a:lnTo>
                          <a:pt x="40" y="583"/>
                        </a:lnTo>
                        <a:lnTo>
                          <a:pt x="7" y="560"/>
                        </a:lnTo>
                        <a:lnTo>
                          <a:pt x="0" y="530"/>
                        </a:lnTo>
                        <a:lnTo>
                          <a:pt x="16" y="502"/>
                        </a:lnTo>
                        <a:lnTo>
                          <a:pt x="54" y="490"/>
                        </a:lnTo>
                        <a:lnTo>
                          <a:pt x="206" y="486"/>
                        </a:lnTo>
                        <a:lnTo>
                          <a:pt x="346" y="467"/>
                        </a:lnTo>
                        <a:lnTo>
                          <a:pt x="477" y="440"/>
                        </a:lnTo>
                        <a:lnTo>
                          <a:pt x="539" y="424"/>
                        </a:lnTo>
                        <a:lnTo>
                          <a:pt x="601" y="406"/>
                        </a:lnTo>
                        <a:lnTo>
                          <a:pt x="662" y="388"/>
                        </a:lnTo>
                        <a:lnTo>
                          <a:pt x="721" y="370"/>
                        </a:lnTo>
                        <a:lnTo>
                          <a:pt x="781" y="352"/>
                        </a:lnTo>
                        <a:lnTo>
                          <a:pt x="840" y="335"/>
                        </a:lnTo>
                        <a:lnTo>
                          <a:pt x="901" y="318"/>
                        </a:lnTo>
                        <a:lnTo>
                          <a:pt x="963" y="303"/>
                        </a:lnTo>
                        <a:lnTo>
                          <a:pt x="1025" y="290"/>
                        </a:lnTo>
                        <a:lnTo>
                          <a:pt x="1089" y="278"/>
                        </a:lnTo>
                        <a:lnTo>
                          <a:pt x="1065" y="182"/>
                        </a:lnTo>
                        <a:lnTo>
                          <a:pt x="1044" y="98"/>
                        </a:lnTo>
                        <a:lnTo>
                          <a:pt x="1041" y="63"/>
                        </a:lnTo>
                        <a:lnTo>
                          <a:pt x="1050" y="35"/>
                        </a:lnTo>
                        <a:lnTo>
                          <a:pt x="1068" y="13"/>
                        </a:lnTo>
                        <a:lnTo>
                          <a:pt x="1093" y="0"/>
                        </a:lnTo>
                        <a:lnTo>
                          <a:pt x="1148" y="2"/>
                        </a:lnTo>
                        <a:lnTo>
                          <a:pt x="1191" y="49"/>
                        </a:lnTo>
                        <a:lnTo>
                          <a:pt x="1191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382400" y="2909520"/>
                    <a:ext cx="7574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06" h="995">
                        <a:moveTo>
                          <a:pt x="2096" y="135"/>
                        </a:moveTo>
                        <a:lnTo>
                          <a:pt x="2149" y="108"/>
                        </a:lnTo>
                        <a:lnTo>
                          <a:pt x="2200" y="86"/>
                        </a:lnTo>
                        <a:lnTo>
                          <a:pt x="2245" y="65"/>
                        </a:lnTo>
                        <a:lnTo>
                          <a:pt x="2289" y="47"/>
                        </a:lnTo>
                        <a:lnTo>
                          <a:pt x="2329" y="33"/>
                        </a:lnTo>
                        <a:lnTo>
                          <a:pt x="2367" y="21"/>
                        </a:lnTo>
                        <a:lnTo>
                          <a:pt x="2433" y="5"/>
                        </a:lnTo>
                        <a:lnTo>
                          <a:pt x="2544" y="3"/>
                        </a:lnTo>
                        <a:lnTo>
                          <a:pt x="2634" y="38"/>
                        </a:lnTo>
                        <a:lnTo>
                          <a:pt x="2678" y="67"/>
                        </a:lnTo>
                        <a:lnTo>
                          <a:pt x="2721" y="103"/>
                        </a:lnTo>
                        <a:lnTo>
                          <a:pt x="2767" y="148"/>
                        </a:lnTo>
                        <a:lnTo>
                          <a:pt x="2791" y="172"/>
                        </a:lnTo>
                        <a:lnTo>
                          <a:pt x="2817" y="198"/>
                        </a:lnTo>
                        <a:lnTo>
                          <a:pt x="2844" y="226"/>
                        </a:lnTo>
                        <a:lnTo>
                          <a:pt x="2873" y="256"/>
                        </a:lnTo>
                        <a:lnTo>
                          <a:pt x="2904" y="286"/>
                        </a:lnTo>
                        <a:lnTo>
                          <a:pt x="2937" y="318"/>
                        </a:lnTo>
                        <a:lnTo>
                          <a:pt x="2972" y="350"/>
                        </a:lnTo>
                        <a:lnTo>
                          <a:pt x="3011" y="384"/>
                        </a:lnTo>
                        <a:lnTo>
                          <a:pt x="3052" y="419"/>
                        </a:lnTo>
                        <a:lnTo>
                          <a:pt x="3096" y="456"/>
                        </a:lnTo>
                        <a:lnTo>
                          <a:pt x="3123" y="473"/>
                        </a:lnTo>
                        <a:lnTo>
                          <a:pt x="3152" y="494"/>
                        </a:lnTo>
                        <a:lnTo>
                          <a:pt x="3190" y="520"/>
                        </a:lnTo>
                        <a:lnTo>
                          <a:pt x="3211" y="534"/>
                        </a:lnTo>
                        <a:lnTo>
                          <a:pt x="3232" y="550"/>
                        </a:lnTo>
                        <a:lnTo>
                          <a:pt x="3255" y="567"/>
                        </a:lnTo>
                        <a:lnTo>
                          <a:pt x="3278" y="583"/>
                        </a:lnTo>
                        <a:lnTo>
                          <a:pt x="3302" y="601"/>
                        </a:lnTo>
                        <a:lnTo>
                          <a:pt x="3325" y="618"/>
                        </a:lnTo>
                        <a:lnTo>
                          <a:pt x="3372" y="655"/>
                        </a:lnTo>
                        <a:lnTo>
                          <a:pt x="3414" y="690"/>
                        </a:lnTo>
                        <a:lnTo>
                          <a:pt x="3453" y="722"/>
                        </a:lnTo>
                        <a:lnTo>
                          <a:pt x="3503" y="777"/>
                        </a:lnTo>
                        <a:lnTo>
                          <a:pt x="3506" y="808"/>
                        </a:lnTo>
                        <a:lnTo>
                          <a:pt x="3444" y="806"/>
                        </a:lnTo>
                        <a:lnTo>
                          <a:pt x="3379" y="789"/>
                        </a:lnTo>
                        <a:lnTo>
                          <a:pt x="3317" y="772"/>
                        </a:lnTo>
                        <a:lnTo>
                          <a:pt x="3257" y="751"/>
                        </a:lnTo>
                        <a:lnTo>
                          <a:pt x="3203" y="728"/>
                        </a:lnTo>
                        <a:lnTo>
                          <a:pt x="3149" y="705"/>
                        </a:lnTo>
                        <a:lnTo>
                          <a:pt x="3099" y="680"/>
                        </a:lnTo>
                        <a:lnTo>
                          <a:pt x="3049" y="655"/>
                        </a:lnTo>
                        <a:lnTo>
                          <a:pt x="3004" y="629"/>
                        </a:lnTo>
                        <a:lnTo>
                          <a:pt x="2961" y="602"/>
                        </a:lnTo>
                        <a:lnTo>
                          <a:pt x="2919" y="574"/>
                        </a:lnTo>
                        <a:lnTo>
                          <a:pt x="2879" y="547"/>
                        </a:lnTo>
                        <a:lnTo>
                          <a:pt x="2839" y="520"/>
                        </a:lnTo>
                        <a:lnTo>
                          <a:pt x="2803" y="493"/>
                        </a:lnTo>
                        <a:lnTo>
                          <a:pt x="2767" y="466"/>
                        </a:lnTo>
                        <a:lnTo>
                          <a:pt x="2731" y="440"/>
                        </a:lnTo>
                        <a:lnTo>
                          <a:pt x="2696" y="416"/>
                        </a:lnTo>
                        <a:lnTo>
                          <a:pt x="2663" y="392"/>
                        </a:lnTo>
                        <a:lnTo>
                          <a:pt x="2630" y="371"/>
                        </a:lnTo>
                        <a:lnTo>
                          <a:pt x="2596" y="350"/>
                        </a:lnTo>
                        <a:lnTo>
                          <a:pt x="2563" y="333"/>
                        </a:lnTo>
                        <a:lnTo>
                          <a:pt x="2530" y="316"/>
                        </a:lnTo>
                        <a:lnTo>
                          <a:pt x="2497" y="302"/>
                        </a:lnTo>
                        <a:lnTo>
                          <a:pt x="2428" y="282"/>
                        </a:lnTo>
                        <a:lnTo>
                          <a:pt x="2355" y="274"/>
                        </a:lnTo>
                        <a:lnTo>
                          <a:pt x="2278" y="280"/>
                        </a:lnTo>
                        <a:lnTo>
                          <a:pt x="2194" y="302"/>
                        </a:lnTo>
                        <a:lnTo>
                          <a:pt x="2149" y="319"/>
                        </a:lnTo>
                        <a:lnTo>
                          <a:pt x="2103" y="341"/>
                        </a:lnTo>
                        <a:lnTo>
                          <a:pt x="2089" y="364"/>
                        </a:lnTo>
                        <a:lnTo>
                          <a:pt x="2073" y="384"/>
                        </a:lnTo>
                        <a:lnTo>
                          <a:pt x="2043" y="416"/>
                        </a:lnTo>
                        <a:lnTo>
                          <a:pt x="2010" y="435"/>
                        </a:lnTo>
                        <a:lnTo>
                          <a:pt x="1975" y="445"/>
                        </a:lnTo>
                        <a:lnTo>
                          <a:pt x="1898" y="444"/>
                        </a:lnTo>
                        <a:lnTo>
                          <a:pt x="1809" y="423"/>
                        </a:lnTo>
                        <a:lnTo>
                          <a:pt x="1764" y="404"/>
                        </a:lnTo>
                        <a:lnTo>
                          <a:pt x="1718" y="377"/>
                        </a:lnTo>
                        <a:lnTo>
                          <a:pt x="1696" y="361"/>
                        </a:lnTo>
                        <a:lnTo>
                          <a:pt x="1673" y="344"/>
                        </a:lnTo>
                        <a:lnTo>
                          <a:pt x="1628" y="309"/>
                        </a:lnTo>
                        <a:lnTo>
                          <a:pt x="1605" y="293"/>
                        </a:lnTo>
                        <a:lnTo>
                          <a:pt x="1583" y="277"/>
                        </a:lnTo>
                        <a:lnTo>
                          <a:pt x="1559" y="261"/>
                        </a:lnTo>
                        <a:lnTo>
                          <a:pt x="1537" y="248"/>
                        </a:lnTo>
                        <a:lnTo>
                          <a:pt x="1490" y="229"/>
                        </a:lnTo>
                        <a:lnTo>
                          <a:pt x="1443" y="222"/>
                        </a:lnTo>
                        <a:lnTo>
                          <a:pt x="1359" y="236"/>
                        </a:lnTo>
                        <a:lnTo>
                          <a:pt x="1308" y="251"/>
                        </a:lnTo>
                        <a:lnTo>
                          <a:pt x="1249" y="271"/>
                        </a:lnTo>
                        <a:lnTo>
                          <a:pt x="1188" y="296"/>
                        </a:lnTo>
                        <a:lnTo>
                          <a:pt x="1122" y="325"/>
                        </a:lnTo>
                        <a:lnTo>
                          <a:pt x="1089" y="340"/>
                        </a:lnTo>
                        <a:lnTo>
                          <a:pt x="1055" y="356"/>
                        </a:lnTo>
                        <a:lnTo>
                          <a:pt x="1020" y="373"/>
                        </a:lnTo>
                        <a:lnTo>
                          <a:pt x="986" y="389"/>
                        </a:lnTo>
                        <a:lnTo>
                          <a:pt x="953" y="406"/>
                        </a:lnTo>
                        <a:lnTo>
                          <a:pt x="918" y="424"/>
                        </a:lnTo>
                        <a:lnTo>
                          <a:pt x="885" y="442"/>
                        </a:lnTo>
                        <a:lnTo>
                          <a:pt x="851" y="459"/>
                        </a:lnTo>
                        <a:lnTo>
                          <a:pt x="818" y="478"/>
                        </a:lnTo>
                        <a:lnTo>
                          <a:pt x="787" y="495"/>
                        </a:lnTo>
                        <a:lnTo>
                          <a:pt x="755" y="513"/>
                        </a:lnTo>
                        <a:lnTo>
                          <a:pt x="725" y="531"/>
                        </a:lnTo>
                        <a:lnTo>
                          <a:pt x="695" y="548"/>
                        </a:lnTo>
                        <a:lnTo>
                          <a:pt x="669" y="564"/>
                        </a:lnTo>
                        <a:lnTo>
                          <a:pt x="642" y="581"/>
                        </a:lnTo>
                        <a:lnTo>
                          <a:pt x="617" y="596"/>
                        </a:lnTo>
                        <a:lnTo>
                          <a:pt x="573" y="625"/>
                        </a:lnTo>
                        <a:lnTo>
                          <a:pt x="538" y="651"/>
                        </a:lnTo>
                        <a:lnTo>
                          <a:pt x="485" y="694"/>
                        </a:lnTo>
                        <a:lnTo>
                          <a:pt x="457" y="721"/>
                        </a:lnTo>
                        <a:lnTo>
                          <a:pt x="428" y="749"/>
                        </a:lnTo>
                        <a:lnTo>
                          <a:pt x="399" y="777"/>
                        </a:lnTo>
                        <a:lnTo>
                          <a:pt x="368" y="808"/>
                        </a:lnTo>
                        <a:lnTo>
                          <a:pt x="337" y="837"/>
                        </a:lnTo>
                        <a:lnTo>
                          <a:pt x="305" y="866"/>
                        </a:lnTo>
                        <a:lnTo>
                          <a:pt x="272" y="894"/>
                        </a:lnTo>
                        <a:lnTo>
                          <a:pt x="240" y="919"/>
                        </a:lnTo>
                        <a:lnTo>
                          <a:pt x="208" y="942"/>
                        </a:lnTo>
                        <a:lnTo>
                          <a:pt x="175" y="962"/>
                        </a:lnTo>
                        <a:lnTo>
                          <a:pt x="143" y="978"/>
                        </a:lnTo>
                        <a:lnTo>
                          <a:pt x="110" y="989"/>
                        </a:lnTo>
                        <a:lnTo>
                          <a:pt x="47" y="995"/>
                        </a:lnTo>
                        <a:lnTo>
                          <a:pt x="12" y="980"/>
                        </a:lnTo>
                        <a:lnTo>
                          <a:pt x="0" y="949"/>
                        </a:lnTo>
                        <a:lnTo>
                          <a:pt x="8" y="917"/>
                        </a:lnTo>
                        <a:lnTo>
                          <a:pt x="22" y="903"/>
                        </a:lnTo>
                        <a:lnTo>
                          <a:pt x="41" y="894"/>
                        </a:lnTo>
                        <a:lnTo>
                          <a:pt x="102" y="868"/>
                        </a:lnTo>
                        <a:lnTo>
                          <a:pt x="133" y="849"/>
                        </a:lnTo>
                        <a:lnTo>
                          <a:pt x="165" y="828"/>
                        </a:lnTo>
                        <a:lnTo>
                          <a:pt x="198" y="803"/>
                        </a:lnTo>
                        <a:lnTo>
                          <a:pt x="230" y="775"/>
                        </a:lnTo>
                        <a:lnTo>
                          <a:pt x="264" y="745"/>
                        </a:lnTo>
                        <a:lnTo>
                          <a:pt x="298" y="713"/>
                        </a:lnTo>
                        <a:lnTo>
                          <a:pt x="333" y="679"/>
                        </a:lnTo>
                        <a:lnTo>
                          <a:pt x="369" y="643"/>
                        </a:lnTo>
                        <a:lnTo>
                          <a:pt x="406" y="607"/>
                        </a:lnTo>
                        <a:lnTo>
                          <a:pt x="443" y="568"/>
                        </a:lnTo>
                        <a:lnTo>
                          <a:pt x="482" y="529"/>
                        </a:lnTo>
                        <a:lnTo>
                          <a:pt x="520" y="490"/>
                        </a:lnTo>
                        <a:lnTo>
                          <a:pt x="561" y="450"/>
                        </a:lnTo>
                        <a:lnTo>
                          <a:pt x="602" y="411"/>
                        </a:lnTo>
                        <a:lnTo>
                          <a:pt x="645" y="371"/>
                        </a:lnTo>
                        <a:lnTo>
                          <a:pt x="688" y="333"/>
                        </a:lnTo>
                        <a:lnTo>
                          <a:pt x="734" y="294"/>
                        </a:lnTo>
                        <a:lnTo>
                          <a:pt x="780" y="258"/>
                        </a:lnTo>
                        <a:lnTo>
                          <a:pt x="803" y="239"/>
                        </a:lnTo>
                        <a:lnTo>
                          <a:pt x="826" y="222"/>
                        </a:lnTo>
                        <a:lnTo>
                          <a:pt x="851" y="205"/>
                        </a:lnTo>
                        <a:lnTo>
                          <a:pt x="875" y="189"/>
                        </a:lnTo>
                        <a:lnTo>
                          <a:pt x="900" y="172"/>
                        </a:lnTo>
                        <a:lnTo>
                          <a:pt x="926" y="156"/>
                        </a:lnTo>
                        <a:lnTo>
                          <a:pt x="950" y="141"/>
                        </a:lnTo>
                        <a:lnTo>
                          <a:pt x="977" y="127"/>
                        </a:lnTo>
                        <a:lnTo>
                          <a:pt x="1003" y="113"/>
                        </a:lnTo>
                        <a:lnTo>
                          <a:pt x="1030" y="99"/>
                        </a:lnTo>
                        <a:lnTo>
                          <a:pt x="1083" y="75"/>
                        </a:lnTo>
                        <a:lnTo>
                          <a:pt x="1140" y="53"/>
                        </a:lnTo>
                        <a:lnTo>
                          <a:pt x="1197" y="36"/>
                        </a:lnTo>
                        <a:lnTo>
                          <a:pt x="1256" y="20"/>
                        </a:lnTo>
                        <a:lnTo>
                          <a:pt x="1317" y="10"/>
                        </a:lnTo>
                        <a:lnTo>
                          <a:pt x="1443" y="0"/>
                        </a:lnTo>
                        <a:lnTo>
                          <a:pt x="1515" y="20"/>
                        </a:lnTo>
                        <a:lnTo>
                          <a:pt x="1553" y="41"/>
                        </a:lnTo>
                        <a:lnTo>
                          <a:pt x="1594" y="67"/>
                        </a:lnTo>
                        <a:lnTo>
                          <a:pt x="1615" y="82"/>
                        </a:lnTo>
                        <a:lnTo>
                          <a:pt x="1637" y="98"/>
                        </a:lnTo>
                        <a:lnTo>
                          <a:pt x="1659" y="114"/>
                        </a:lnTo>
                        <a:lnTo>
                          <a:pt x="1680" y="129"/>
                        </a:lnTo>
                        <a:lnTo>
                          <a:pt x="1702" y="146"/>
                        </a:lnTo>
                        <a:lnTo>
                          <a:pt x="1724" y="161"/>
                        </a:lnTo>
                        <a:lnTo>
                          <a:pt x="1746" y="176"/>
                        </a:lnTo>
                        <a:lnTo>
                          <a:pt x="1768" y="190"/>
                        </a:lnTo>
                        <a:lnTo>
                          <a:pt x="1813" y="216"/>
                        </a:lnTo>
                        <a:lnTo>
                          <a:pt x="1857" y="236"/>
                        </a:lnTo>
                        <a:lnTo>
                          <a:pt x="1900" y="248"/>
                        </a:lnTo>
                        <a:lnTo>
                          <a:pt x="1943" y="252"/>
                        </a:lnTo>
                        <a:lnTo>
                          <a:pt x="2023" y="223"/>
                        </a:lnTo>
                        <a:lnTo>
                          <a:pt x="2061" y="188"/>
                        </a:lnTo>
                        <a:lnTo>
                          <a:pt x="2096" y="135"/>
                        </a:lnTo>
                        <a:lnTo>
                          <a:pt x="2096" y="1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1534680" y="2361960"/>
                  <a:ext cx="468360" cy="514440"/>
                  <a:chOff x="1534680" y="2361960"/>
                  <a:chExt cx="468360" cy="5144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1559520" y="2361960"/>
                    <a:ext cx="42408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1" h="2610">
                        <a:moveTo>
                          <a:pt x="836" y="265"/>
                        </a:moveTo>
                        <a:lnTo>
                          <a:pt x="850" y="242"/>
                        </a:lnTo>
                        <a:lnTo>
                          <a:pt x="866" y="217"/>
                        </a:lnTo>
                        <a:lnTo>
                          <a:pt x="886" y="186"/>
                        </a:lnTo>
                        <a:lnTo>
                          <a:pt x="910" y="152"/>
                        </a:lnTo>
                        <a:lnTo>
                          <a:pt x="938" y="117"/>
                        </a:lnTo>
                        <a:lnTo>
                          <a:pt x="968" y="84"/>
                        </a:lnTo>
                        <a:lnTo>
                          <a:pt x="1001" y="55"/>
                        </a:lnTo>
                        <a:lnTo>
                          <a:pt x="1033" y="33"/>
                        </a:lnTo>
                        <a:lnTo>
                          <a:pt x="1064" y="17"/>
                        </a:lnTo>
                        <a:lnTo>
                          <a:pt x="1126" y="0"/>
                        </a:lnTo>
                        <a:lnTo>
                          <a:pt x="1176" y="2"/>
                        </a:lnTo>
                        <a:lnTo>
                          <a:pt x="1209" y="18"/>
                        </a:lnTo>
                        <a:lnTo>
                          <a:pt x="1217" y="82"/>
                        </a:lnTo>
                        <a:lnTo>
                          <a:pt x="1219" y="203"/>
                        </a:lnTo>
                        <a:lnTo>
                          <a:pt x="1241" y="287"/>
                        </a:lnTo>
                        <a:lnTo>
                          <a:pt x="1272" y="371"/>
                        </a:lnTo>
                        <a:lnTo>
                          <a:pt x="1300" y="436"/>
                        </a:lnTo>
                        <a:lnTo>
                          <a:pt x="1311" y="461"/>
                        </a:lnTo>
                        <a:lnTo>
                          <a:pt x="1559" y="875"/>
                        </a:lnTo>
                        <a:lnTo>
                          <a:pt x="1838" y="1194"/>
                        </a:lnTo>
                        <a:lnTo>
                          <a:pt x="1935" y="1210"/>
                        </a:lnTo>
                        <a:lnTo>
                          <a:pt x="2116" y="1267"/>
                        </a:lnTo>
                        <a:lnTo>
                          <a:pt x="2160" y="1292"/>
                        </a:lnTo>
                        <a:lnTo>
                          <a:pt x="2205" y="1323"/>
                        </a:lnTo>
                        <a:lnTo>
                          <a:pt x="2250" y="1361"/>
                        </a:lnTo>
                        <a:lnTo>
                          <a:pt x="2296" y="1403"/>
                        </a:lnTo>
                        <a:lnTo>
                          <a:pt x="2340" y="1448"/>
                        </a:lnTo>
                        <a:lnTo>
                          <a:pt x="2383" y="1497"/>
                        </a:lnTo>
                        <a:lnTo>
                          <a:pt x="2422" y="1547"/>
                        </a:lnTo>
                        <a:lnTo>
                          <a:pt x="2457" y="1598"/>
                        </a:lnTo>
                        <a:lnTo>
                          <a:pt x="2512" y="1695"/>
                        </a:lnTo>
                        <a:lnTo>
                          <a:pt x="2548" y="1792"/>
                        </a:lnTo>
                        <a:lnTo>
                          <a:pt x="2571" y="1980"/>
                        </a:lnTo>
                        <a:lnTo>
                          <a:pt x="2561" y="2074"/>
                        </a:lnTo>
                        <a:lnTo>
                          <a:pt x="2542" y="2164"/>
                        </a:lnTo>
                        <a:lnTo>
                          <a:pt x="2520" y="2248"/>
                        </a:lnTo>
                        <a:lnTo>
                          <a:pt x="2498" y="2320"/>
                        </a:lnTo>
                        <a:lnTo>
                          <a:pt x="2481" y="2379"/>
                        </a:lnTo>
                        <a:lnTo>
                          <a:pt x="2454" y="2426"/>
                        </a:lnTo>
                        <a:lnTo>
                          <a:pt x="2407" y="2464"/>
                        </a:lnTo>
                        <a:lnTo>
                          <a:pt x="2370" y="2481"/>
                        </a:lnTo>
                        <a:lnTo>
                          <a:pt x="2323" y="2496"/>
                        </a:lnTo>
                        <a:lnTo>
                          <a:pt x="2199" y="2525"/>
                        </a:lnTo>
                        <a:lnTo>
                          <a:pt x="2063" y="2547"/>
                        </a:lnTo>
                        <a:lnTo>
                          <a:pt x="1910" y="2568"/>
                        </a:lnTo>
                        <a:lnTo>
                          <a:pt x="1467" y="2424"/>
                        </a:lnTo>
                        <a:lnTo>
                          <a:pt x="982" y="2444"/>
                        </a:lnTo>
                        <a:lnTo>
                          <a:pt x="249" y="2610"/>
                        </a:lnTo>
                        <a:lnTo>
                          <a:pt x="32" y="2238"/>
                        </a:lnTo>
                        <a:lnTo>
                          <a:pt x="0" y="1753"/>
                        </a:lnTo>
                        <a:lnTo>
                          <a:pt x="83" y="1432"/>
                        </a:lnTo>
                        <a:lnTo>
                          <a:pt x="249" y="1288"/>
                        </a:lnTo>
                        <a:lnTo>
                          <a:pt x="270" y="1278"/>
                        </a:lnTo>
                        <a:lnTo>
                          <a:pt x="320" y="1254"/>
                        </a:lnTo>
                        <a:lnTo>
                          <a:pt x="381" y="1224"/>
                        </a:lnTo>
                        <a:lnTo>
                          <a:pt x="434" y="1194"/>
                        </a:lnTo>
                        <a:lnTo>
                          <a:pt x="478" y="1137"/>
                        </a:lnTo>
                        <a:lnTo>
                          <a:pt x="497" y="999"/>
                        </a:lnTo>
                        <a:lnTo>
                          <a:pt x="521" y="872"/>
                        </a:lnTo>
                        <a:lnTo>
                          <a:pt x="538" y="798"/>
                        </a:lnTo>
                        <a:lnTo>
                          <a:pt x="558" y="722"/>
                        </a:lnTo>
                        <a:lnTo>
                          <a:pt x="581" y="644"/>
                        </a:lnTo>
                        <a:lnTo>
                          <a:pt x="606" y="570"/>
                        </a:lnTo>
                        <a:lnTo>
                          <a:pt x="632" y="501"/>
                        </a:lnTo>
                        <a:lnTo>
                          <a:pt x="661" y="441"/>
                        </a:lnTo>
                        <a:lnTo>
                          <a:pt x="692" y="391"/>
                        </a:lnTo>
                        <a:lnTo>
                          <a:pt x="722" y="351"/>
                        </a:lnTo>
                        <a:lnTo>
                          <a:pt x="752" y="320"/>
                        </a:lnTo>
                        <a:lnTo>
                          <a:pt x="779" y="297"/>
                        </a:lnTo>
                        <a:lnTo>
                          <a:pt x="820" y="272"/>
                        </a:lnTo>
                        <a:lnTo>
                          <a:pt x="836" y="265"/>
                        </a:lnTo>
                        <a:lnTo>
                          <a:pt x="836" y="26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548000" y="2372760"/>
                    <a:ext cx="443880" cy="48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6" h="2701">
                        <a:moveTo>
                          <a:pt x="648" y="692"/>
                        </a:moveTo>
                        <a:lnTo>
                          <a:pt x="667" y="561"/>
                        </a:lnTo>
                        <a:lnTo>
                          <a:pt x="690" y="444"/>
                        </a:lnTo>
                        <a:lnTo>
                          <a:pt x="720" y="330"/>
                        </a:lnTo>
                        <a:lnTo>
                          <a:pt x="739" y="283"/>
                        </a:lnTo>
                        <a:lnTo>
                          <a:pt x="757" y="244"/>
                        </a:lnTo>
                        <a:lnTo>
                          <a:pt x="779" y="212"/>
                        </a:lnTo>
                        <a:lnTo>
                          <a:pt x="801" y="184"/>
                        </a:lnTo>
                        <a:lnTo>
                          <a:pt x="851" y="140"/>
                        </a:lnTo>
                        <a:lnTo>
                          <a:pt x="878" y="122"/>
                        </a:lnTo>
                        <a:lnTo>
                          <a:pt x="905" y="103"/>
                        </a:lnTo>
                        <a:lnTo>
                          <a:pt x="934" y="84"/>
                        </a:lnTo>
                        <a:lnTo>
                          <a:pt x="964" y="65"/>
                        </a:lnTo>
                        <a:lnTo>
                          <a:pt x="993" y="47"/>
                        </a:lnTo>
                        <a:lnTo>
                          <a:pt x="1021" y="31"/>
                        </a:lnTo>
                        <a:lnTo>
                          <a:pt x="1072" y="8"/>
                        </a:lnTo>
                        <a:lnTo>
                          <a:pt x="1112" y="0"/>
                        </a:lnTo>
                        <a:lnTo>
                          <a:pt x="1137" y="13"/>
                        </a:lnTo>
                        <a:lnTo>
                          <a:pt x="1150" y="45"/>
                        </a:lnTo>
                        <a:lnTo>
                          <a:pt x="1153" y="144"/>
                        </a:lnTo>
                        <a:lnTo>
                          <a:pt x="1155" y="271"/>
                        </a:lnTo>
                        <a:lnTo>
                          <a:pt x="1167" y="353"/>
                        </a:lnTo>
                        <a:lnTo>
                          <a:pt x="1195" y="454"/>
                        </a:lnTo>
                        <a:lnTo>
                          <a:pt x="1216" y="513"/>
                        </a:lnTo>
                        <a:lnTo>
                          <a:pt x="1241" y="578"/>
                        </a:lnTo>
                        <a:lnTo>
                          <a:pt x="1270" y="645"/>
                        </a:lnTo>
                        <a:lnTo>
                          <a:pt x="1303" y="714"/>
                        </a:lnTo>
                        <a:lnTo>
                          <a:pt x="1338" y="786"/>
                        </a:lnTo>
                        <a:lnTo>
                          <a:pt x="1375" y="857"/>
                        </a:lnTo>
                        <a:lnTo>
                          <a:pt x="1414" y="926"/>
                        </a:lnTo>
                        <a:lnTo>
                          <a:pt x="1453" y="991"/>
                        </a:lnTo>
                        <a:lnTo>
                          <a:pt x="1472" y="1022"/>
                        </a:lnTo>
                        <a:lnTo>
                          <a:pt x="1492" y="1054"/>
                        </a:lnTo>
                        <a:lnTo>
                          <a:pt x="1532" y="1111"/>
                        </a:lnTo>
                        <a:lnTo>
                          <a:pt x="1570" y="1166"/>
                        </a:lnTo>
                        <a:lnTo>
                          <a:pt x="1607" y="1219"/>
                        </a:lnTo>
                        <a:lnTo>
                          <a:pt x="1645" y="1269"/>
                        </a:lnTo>
                        <a:lnTo>
                          <a:pt x="1679" y="1318"/>
                        </a:lnTo>
                        <a:lnTo>
                          <a:pt x="1711" y="1367"/>
                        </a:lnTo>
                        <a:lnTo>
                          <a:pt x="1741" y="1414"/>
                        </a:lnTo>
                        <a:lnTo>
                          <a:pt x="1794" y="1510"/>
                        </a:lnTo>
                        <a:lnTo>
                          <a:pt x="1830" y="1604"/>
                        </a:lnTo>
                        <a:lnTo>
                          <a:pt x="1849" y="1694"/>
                        </a:lnTo>
                        <a:lnTo>
                          <a:pt x="1845" y="1777"/>
                        </a:lnTo>
                        <a:lnTo>
                          <a:pt x="1818" y="1850"/>
                        </a:lnTo>
                        <a:lnTo>
                          <a:pt x="1778" y="1917"/>
                        </a:lnTo>
                        <a:lnTo>
                          <a:pt x="1721" y="2045"/>
                        </a:lnTo>
                        <a:lnTo>
                          <a:pt x="1729" y="2111"/>
                        </a:lnTo>
                        <a:lnTo>
                          <a:pt x="1743" y="2144"/>
                        </a:lnTo>
                        <a:lnTo>
                          <a:pt x="1763" y="2174"/>
                        </a:lnTo>
                        <a:lnTo>
                          <a:pt x="1786" y="2201"/>
                        </a:lnTo>
                        <a:lnTo>
                          <a:pt x="1813" y="2226"/>
                        </a:lnTo>
                        <a:lnTo>
                          <a:pt x="1844" y="2246"/>
                        </a:lnTo>
                        <a:lnTo>
                          <a:pt x="1877" y="2261"/>
                        </a:lnTo>
                        <a:lnTo>
                          <a:pt x="1944" y="2275"/>
                        </a:lnTo>
                        <a:lnTo>
                          <a:pt x="2013" y="2273"/>
                        </a:lnTo>
                        <a:lnTo>
                          <a:pt x="2134" y="2241"/>
                        </a:lnTo>
                        <a:lnTo>
                          <a:pt x="2199" y="2191"/>
                        </a:lnTo>
                        <a:lnTo>
                          <a:pt x="2204" y="2135"/>
                        </a:lnTo>
                        <a:lnTo>
                          <a:pt x="2185" y="2035"/>
                        </a:lnTo>
                        <a:lnTo>
                          <a:pt x="2167" y="1964"/>
                        </a:lnTo>
                        <a:lnTo>
                          <a:pt x="2146" y="1886"/>
                        </a:lnTo>
                        <a:lnTo>
                          <a:pt x="2121" y="1800"/>
                        </a:lnTo>
                        <a:lnTo>
                          <a:pt x="2097" y="1714"/>
                        </a:lnTo>
                        <a:lnTo>
                          <a:pt x="2056" y="1556"/>
                        </a:lnTo>
                        <a:lnTo>
                          <a:pt x="2041" y="1446"/>
                        </a:lnTo>
                        <a:lnTo>
                          <a:pt x="2047" y="1418"/>
                        </a:lnTo>
                        <a:lnTo>
                          <a:pt x="2063" y="1408"/>
                        </a:lnTo>
                        <a:lnTo>
                          <a:pt x="2120" y="1435"/>
                        </a:lnTo>
                        <a:lnTo>
                          <a:pt x="2157" y="1463"/>
                        </a:lnTo>
                        <a:lnTo>
                          <a:pt x="2200" y="1501"/>
                        </a:lnTo>
                        <a:lnTo>
                          <a:pt x="2248" y="1545"/>
                        </a:lnTo>
                        <a:lnTo>
                          <a:pt x="2299" y="1590"/>
                        </a:lnTo>
                        <a:lnTo>
                          <a:pt x="2353" y="1636"/>
                        </a:lnTo>
                        <a:lnTo>
                          <a:pt x="2407" y="1684"/>
                        </a:lnTo>
                        <a:lnTo>
                          <a:pt x="2459" y="1731"/>
                        </a:lnTo>
                        <a:lnTo>
                          <a:pt x="2511" y="1782"/>
                        </a:lnTo>
                        <a:lnTo>
                          <a:pt x="2557" y="1832"/>
                        </a:lnTo>
                        <a:lnTo>
                          <a:pt x="2599" y="1883"/>
                        </a:lnTo>
                        <a:lnTo>
                          <a:pt x="2660" y="1993"/>
                        </a:lnTo>
                        <a:lnTo>
                          <a:pt x="2686" y="2110"/>
                        </a:lnTo>
                        <a:lnTo>
                          <a:pt x="2682" y="2228"/>
                        </a:lnTo>
                        <a:lnTo>
                          <a:pt x="2660" y="2336"/>
                        </a:lnTo>
                        <a:lnTo>
                          <a:pt x="2630" y="2427"/>
                        </a:lnTo>
                        <a:lnTo>
                          <a:pt x="2599" y="2492"/>
                        </a:lnTo>
                        <a:lnTo>
                          <a:pt x="2562" y="2534"/>
                        </a:lnTo>
                        <a:lnTo>
                          <a:pt x="2516" y="2556"/>
                        </a:lnTo>
                        <a:lnTo>
                          <a:pt x="2454" y="2561"/>
                        </a:lnTo>
                        <a:lnTo>
                          <a:pt x="2278" y="2542"/>
                        </a:lnTo>
                        <a:lnTo>
                          <a:pt x="2092" y="2541"/>
                        </a:lnTo>
                        <a:lnTo>
                          <a:pt x="2021" y="2564"/>
                        </a:lnTo>
                        <a:lnTo>
                          <a:pt x="1961" y="2601"/>
                        </a:lnTo>
                        <a:lnTo>
                          <a:pt x="1932" y="2621"/>
                        </a:lnTo>
                        <a:lnTo>
                          <a:pt x="1904" y="2641"/>
                        </a:lnTo>
                        <a:lnTo>
                          <a:pt x="1875" y="2658"/>
                        </a:lnTo>
                        <a:lnTo>
                          <a:pt x="1845" y="2675"/>
                        </a:lnTo>
                        <a:lnTo>
                          <a:pt x="1776" y="2695"/>
                        </a:lnTo>
                        <a:lnTo>
                          <a:pt x="1699" y="2701"/>
                        </a:lnTo>
                        <a:lnTo>
                          <a:pt x="1514" y="2675"/>
                        </a:lnTo>
                        <a:lnTo>
                          <a:pt x="1412" y="2646"/>
                        </a:lnTo>
                        <a:lnTo>
                          <a:pt x="1310" y="2612"/>
                        </a:lnTo>
                        <a:lnTo>
                          <a:pt x="1217" y="2582"/>
                        </a:lnTo>
                        <a:lnTo>
                          <a:pt x="1143" y="2561"/>
                        </a:lnTo>
                        <a:lnTo>
                          <a:pt x="1056" y="2561"/>
                        </a:lnTo>
                        <a:lnTo>
                          <a:pt x="968" y="2592"/>
                        </a:lnTo>
                        <a:lnTo>
                          <a:pt x="892" y="2611"/>
                        </a:lnTo>
                        <a:lnTo>
                          <a:pt x="794" y="2628"/>
                        </a:lnTo>
                        <a:lnTo>
                          <a:pt x="680" y="2646"/>
                        </a:lnTo>
                        <a:lnTo>
                          <a:pt x="554" y="2665"/>
                        </a:lnTo>
                        <a:lnTo>
                          <a:pt x="427" y="2681"/>
                        </a:lnTo>
                        <a:lnTo>
                          <a:pt x="303" y="2685"/>
                        </a:lnTo>
                        <a:lnTo>
                          <a:pt x="191" y="2662"/>
                        </a:lnTo>
                        <a:lnTo>
                          <a:pt x="101" y="2602"/>
                        </a:lnTo>
                        <a:lnTo>
                          <a:pt x="38" y="2496"/>
                        </a:lnTo>
                        <a:lnTo>
                          <a:pt x="4" y="2352"/>
                        </a:lnTo>
                        <a:lnTo>
                          <a:pt x="0" y="2186"/>
                        </a:lnTo>
                        <a:lnTo>
                          <a:pt x="10" y="2100"/>
                        </a:lnTo>
                        <a:lnTo>
                          <a:pt x="28" y="2013"/>
                        </a:lnTo>
                        <a:lnTo>
                          <a:pt x="54" y="1929"/>
                        </a:lnTo>
                        <a:lnTo>
                          <a:pt x="86" y="1848"/>
                        </a:lnTo>
                        <a:lnTo>
                          <a:pt x="123" y="1772"/>
                        </a:lnTo>
                        <a:lnTo>
                          <a:pt x="163" y="1699"/>
                        </a:lnTo>
                        <a:lnTo>
                          <a:pt x="185" y="1665"/>
                        </a:lnTo>
                        <a:lnTo>
                          <a:pt x="207" y="1632"/>
                        </a:lnTo>
                        <a:lnTo>
                          <a:pt x="229" y="1601"/>
                        </a:lnTo>
                        <a:lnTo>
                          <a:pt x="251" y="1572"/>
                        </a:lnTo>
                        <a:lnTo>
                          <a:pt x="295" y="1520"/>
                        </a:lnTo>
                        <a:lnTo>
                          <a:pt x="339" y="1477"/>
                        </a:lnTo>
                        <a:lnTo>
                          <a:pt x="379" y="1442"/>
                        </a:lnTo>
                        <a:lnTo>
                          <a:pt x="415" y="1416"/>
                        </a:lnTo>
                        <a:lnTo>
                          <a:pt x="452" y="1394"/>
                        </a:lnTo>
                        <a:lnTo>
                          <a:pt x="484" y="1379"/>
                        </a:lnTo>
                        <a:lnTo>
                          <a:pt x="596" y="1332"/>
                        </a:lnTo>
                        <a:lnTo>
                          <a:pt x="680" y="1255"/>
                        </a:lnTo>
                        <a:lnTo>
                          <a:pt x="710" y="1166"/>
                        </a:lnTo>
                        <a:lnTo>
                          <a:pt x="696" y="1128"/>
                        </a:lnTo>
                        <a:lnTo>
                          <a:pt x="672" y="1088"/>
                        </a:lnTo>
                        <a:lnTo>
                          <a:pt x="627" y="970"/>
                        </a:lnTo>
                        <a:lnTo>
                          <a:pt x="632" y="792"/>
                        </a:lnTo>
                        <a:lnTo>
                          <a:pt x="648" y="692"/>
                        </a:lnTo>
                        <a:lnTo>
                          <a:pt x="648" y="692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1748520" y="2387160"/>
                    <a:ext cx="180360" cy="48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3" h="2693">
                        <a:moveTo>
                          <a:pt x="94" y="51"/>
                        </a:moveTo>
                        <a:lnTo>
                          <a:pt x="98" y="136"/>
                        </a:lnTo>
                        <a:lnTo>
                          <a:pt x="114" y="193"/>
                        </a:lnTo>
                        <a:lnTo>
                          <a:pt x="143" y="245"/>
                        </a:lnTo>
                        <a:lnTo>
                          <a:pt x="182" y="318"/>
                        </a:lnTo>
                        <a:lnTo>
                          <a:pt x="214" y="377"/>
                        </a:lnTo>
                        <a:lnTo>
                          <a:pt x="249" y="434"/>
                        </a:lnTo>
                        <a:lnTo>
                          <a:pt x="287" y="491"/>
                        </a:lnTo>
                        <a:lnTo>
                          <a:pt x="327" y="545"/>
                        </a:lnTo>
                        <a:lnTo>
                          <a:pt x="368" y="597"/>
                        </a:lnTo>
                        <a:lnTo>
                          <a:pt x="411" y="649"/>
                        </a:lnTo>
                        <a:lnTo>
                          <a:pt x="455" y="699"/>
                        </a:lnTo>
                        <a:lnTo>
                          <a:pt x="499" y="750"/>
                        </a:lnTo>
                        <a:lnTo>
                          <a:pt x="543" y="800"/>
                        </a:lnTo>
                        <a:lnTo>
                          <a:pt x="586" y="850"/>
                        </a:lnTo>
                        <a:lnTo>
                          <a:pt x="629" y="902"/>
                        </a:lnTo>
                        <a:lnTo>
                          <a:pt x="670" y="954"/>
                        </a:lnTo>
                        <a:lnTo>
                          <a:pt x="711" y="1008"/>
                        </a:lnTo>
                        <a:lnTo>
                          <a:pt x="748" y="1063"/>
                        </a:lnTo>
                        <a:lnTo>
                          <a:pt x="783" y="1120"/>
                        </a:lnTo>
                        <a:lnTo>
                          <a:pt x="815" y="1178"/>
                        </a:lnTo>
                        <a:lnTo>
                          <a:pt x="851" y="1252"/>
                        </a:lnTo>
                        <a:lnTo>
                          <a:pt x="890" y="1335"/>
                        </a:lnTo>
                        <a:lnTo>
                          <a:pt x="927" y="1424"/>
                        </a:lnTo>
                        <a:lnTo>
                          <a:pt x="965" y="1518"/>
                        </a:lnTo>
                        <a:lnTo>
                          <a:pt x="1000" y="1616"/>
                        </a:lnTo>
                        <a:lnTo>
                          <a:pt x="1030" y="1717"/>
                        </a:lnTo>
                        <a:lnTo>
                          <a:pt x="1076" y="1923"/>
                        </a:lnTo>
                        <a:lnTo>
                          <a:pt x="1093" y="2125"/>
                        </a:lnTo>
                        <a:lnTo>
                          <a:pt x="1086" y="2222"/>
                        </a:lnTo>
                        <a:lnTo>
                          <a:pt x="1069" y="2315"/>
                        </a:lnTo>
                        <a:lnTo>
                          <a:pt x="1038" y="2401"/>
                        </a:lnTo>
                        <a:lnTo>
                          <a:pt x="1016" y="2441"/>
                        </a:lnTo>
                        <a:lnTo>
                          <a:pt x="993" y="2480"/>
                        </a:lnTo>
                        <a:lnTo>
                          <a:pt x="965" y="2516"/>
                        </a:lnTo>
                        <a:lnTo>
                          <a:pt x="932" y="2551"/>
                        </a:lnTo>
                        <a:lnTo>
                          <a:pt x="896" y="2583"/>
                        </a:lnTo>
                        <a:lnTo>
                          <a:pt x="855" y="2612"/>
                        </a:lnTo>
                        <a:lnTo>
                          <a:pt x="816" y="2635"/>
                        </a:lnTo>
                        <a:lnTo>
                          <a:pt x="776" y="2654"/>
                        </a:lnTo>
                        <a:lnTo>
                          <a:pt x="693" y="2680"/>
                        </a:lnTo>
                        <a:lnTo>
                          <a:pt x="606" y="2693"/>
                        </a:lnTo>
                        <a:lnTo>
                          <a:pt x="520" y="2693"/>
                        </a:lnTo>
                        <a:lnTo>
                          <a:pt x="346" y="2658"/>
                        </a:lnTo>
                        <a:lnTo>
                          <a:pt x="263" y="2627"/>
                        </a:lnTo>
                        <a:lnTo>
                          <a:pt x="184" y="2588"/>
                        </a:lnTo>
                        <a:lnTo>
                          <a:pt x="159" y="2543"/>
                        </a:lnTo>
                        <a:lnTo>
                          <a:pt x="174" y="2524"/>
                        </a:lnTo>
                        <a:lnTo>
                          <a:pt x="203" y="2518"/>
                        </a:lnTo>
                        <a:lnTo>
                          <a:pt x="474" y="2485"/>
                        </a:lnTo>
                        <a:lnTo>
                          <a:pt x="619" y="2441"/>
                        </a:lnTo>
                        <a:lnTo>
                          <a:pt x="723" y="2386"/>
                        </a:lnTo>
                        <a:lnTo>
                          <a:pt x="786" y="2317"/>
                        </a:lnTo>
                        <a:lnTo>
                          <a:pt x="827" y="2234"/>
                        </a:lnTo>
                        <a:lnTo>
                          <a:pt x="855" y="2048"/>
                        </a:lnTo>
                        <a:lnTo>
                          <a:pt x="848" y="1950"/>
                        </a:lnTo>
                        <a:lnTo>
                          <a:pt x="832" y="1852"/>
                        </a:lnTo>
                        <a:lnTo>
                          <a:pt x="808" y="1761"/>
                        </a:lnTo>
                        <a:lnTo>
                          <a:pt x="782" y="1676"/>
                        </a:lnTo>
                        <a:lnTo>
                          <a:pt x="748" y="1583"/>
                        </a:lnTo>
                        <a:lnTo>
                          <a:pt x="711" y="1493"/>
                        </a:lnTo>
                        <a:lnTo>
                          <a:pt x="689" y="1450"/>
                        </a:lnTo>
                        <a:lnTo>
                          <a:pt x="668" y="1408"/>
                        </a:lnTo>
                        <a:lnTo>
                          <a:pt x="647" y="1366"/>
                        </a:lnTo>
                        <a:lnTo>
                          <a:pt x="624" y="1325"/>
                        </a:lnTo>
                        <a:lnTo>
                          <a:pt x="578" y="1245"/>
                        </a:lnTo>
                        <a:lnTo>
                          <a:pt x="529" y="1167"/>
                        </a:lnTo>
                        <a:lnTo>
                          <a:pt x="505" y="1128"/>
                        </a:lnTo>
                        <a:lnTo>
                          <a:pt x="480" y="1091"/>
                        </a:lnTo>
                        <a:lnTo>
                          <a:pt x="454" y="1053"/>
                        </a:lnTo>
                        <a:lnTo>
                          <a:pt x="429" y="1016"/>
                        </a:lnTo>
                        <a:lnTo>
                          <a:pt x="403" y="978"/>
                        </a:lnTo>
                        <a:lnTo>
                          <a:pt x="377" y="940"/>
                        </a:lnTo>
                        <a:lnTo>
                          <a:pt x="352" y="903"/>
                        </a:lnTo>
                        <a:lnTo>
                          <a:pt x="326" y="865"/>
                        </a:lnTo>
                        <a:lnTo>
                          <a:pt x="301" y="828"/>
                        </a:lnTo>
                        <a:lnTo>
                          <a:pt x="276" y="790"/>
                        </a:lnTo>
                        <a:lnTo>
                          <a:pt x="251" y="752"/>
                        </a:lnTo>
                        <a:lnTo>
                          <a:pt x="225" y="714"/>
                        </a:lnTo>
                        <a:lnTo>
                          <a:pt x="177" y="636"/>
                        </a:lnTo>
                        <a:lnTo>
                          <a:pt x="130" y="557"/>
                        </a:lnTo>
                        <a:lnTo>
                          <a:pt x="85" y="474"/>
                        </a:lnTo>
                        <a:lnTo>
                          <a:pt x="44" y="389"/>
                        </a:lnTo>
                        <a:lnTo>
                          <a:pt x="10" y="289"/>
                        </a:lnTo>
                        <a:lnTo>
                          <a:pt x="0" y="199"/>
                        </a:lnTo>
                        <a:lnTo>
                          <a:pt x="6" y="121"/>
                        </a:lnTo>
                        <a:lnTo>
                          <a:pt x="24" y="60"/>
                        </a:lnTo>
                        <a:lnTo>
                          <a:pt x="48" y="18"/>
                        </a:lnTo>
                        <a:lnTo>
                          <a:pt x="71" y="0"/>
                        </a:lnTo>
                        <a:lnTo>
                          <a:pt x="89" y="10"/>
                        </a:lnTo>
                        <a:lnTo>
                          <a:pt x="94" y="51"/>
                        </a:lnTo>
                        <a:lnTo>
                          <a:pt x="94" y="5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1622880" y="2737080"/>
                    <a:ext cx="1234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59">
                        <a:moveTo>
                          <a:pt x="45" y="110"/>
                        </a:moveTo>
                        <a:lnTo>
                          <a:pt x="75" y="88"/>
                        </a:lnTo>
                        <a:lnTo>
                          <a:pt x="101" y="69"/>
                        </a:lnTo>
                        <a:lnTo>
                          <a:pt x="149" y="36"/>
                        </a:lnTo>
                        <a:lnTo>
                          <a:pt x="191" y="14"/>
                        </a:lnTo>
                        <a:lnTo>
                          <a:pt x="233" y="1"/>
                        </a:lnTo>
                        <a:lnTo>
                          <a:pt x="324" y="0"/>
                        </a:lnTo>
                        <a:lnTo>
                          <a:pt x="450" y="33"/>
                        </a:lnTo>
                        <a:lnTo>
                          <a:pt x="544" y="93"/>
                        </a:lnTo>
                        <a:lnTo>
                          <a:pt x="584" y="137"/>
                        </a:lnTo>
                        <a:lnTo>
                          <a:pt x="619" y="187"/>
                        </a:lnTo>
                        <a:lnTo>
                          <a:pt x="651" y="241"/>
                        </a:lnTo>
                        <a:lnTo>
                          <a:pt x="681" y="296"/>
                        </a:lnTo>
                        <a:lnTo>
                          <a:pt x="709" y="350"/>
                        </a:lnTo>
                        <a:lnTo>
                          <a:pt x="737" y="398"/>
                        </a:lnTo>
                        <a:lnTo>
                          <a:pt x="744" y="428"/>
                        </a:lnTo>
                        <a:lnTo>
                          <a:pt x="733" y="451"/>
                        </a:lnTo>
                        <a:lnTo>
                          <a:pt x="709" y="459"/>
                        </a:lnTo>
                        <a:lnTo>
                          <a:pt x="683" y="445"/>
                        </a:lnTo>
                        <a:lnTo>
                          <a:pt x="649" y="413"/>
                        </a:lnTo>
                        <a:lnTo>
                          <a:pt x="614" y="387"/>
                        </a:lnTo>
                        <a:lnTo>
                          <a:pt x="579" y="362"/>
                        </a:lnTo>
                        <a:lnTo>
                          <a:pt x="542" y="342"/>
                        </a:lnTo>
                        <a:lnTo>
                          <a:pt x="505" y="323"/>
                        </a:lnTo>
                        <a:lnTo>
                          <a:pt x="466" y="306"/>
                        </a:lnTo>
                        <a:lnTo>
                          <a:pt x="382" y="272"/>
                        </a:lnTo>
                        <a:lnTo>
                          <a:pt x="323" y="254"/>
                        </a:lnTo>
                        <a:lnTo>
                          <a:pt x="268" y="249"/>
                        </a:lnTo>
                        <a:lnTo>
                          <a:pt x="158" y="287"/>
                        </a:lnTo>
                        <a:lnTo>
                          <a:pt x="115" y="303"/>
                        </a:lnTo>
                        <a:lnTo>
                          <a:pt x="75" y="302"/>
                        </a:lnTo>
                        <a:lnTo>
                          <a:pt x="16" y="257"/>
                        </a:lnTo>
                        <a:lnTo>
                          <a:pt x="0" y="183"/>
                        </a:lnTo>
                        <a:lnTo>
                          <a:pt x="13" y="144"/>
                        </a:lnTo>
                        <a:lnTo>
                          <a:pt x="45" y="110"/>
                        </a:lnTo>
                        <a:lnTo>
                          <a:pt x="45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1534680" y="2580120"/>
                    <a:ext cx="13212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1574">
                        <a:moveTo>
                          <a:pt x="559" y="68"/>
                        </a:moveTo>
                        <a:lnTo>
                          <a:pt x="457" y="150"/>
                        </a:lnTo>
                        <a:lnTo>
                          <a:pt x="414" y="202"/>
                        </a:lnTo>
                        <a:lnTo>
                          <a:pt x="373" y="258"/>
                        </a:lnTo>
                        <a:lnTo>
                          <a:pt x="340" y="321"/>
                        </a:lnTo>
                        <a:lnTo>
                          <a:pt x="310" y="387"/>
                        </a:lnTo>
                        <a:lnTo>
                          <a:pt x="262" y="529"/>
                        </a:lnTo>
                        <a:lnTo>
                          <a:pt x="223" y="827"/>
                        </a:lnTo>
                        <a:lnTo>
                          <a:pt x="229" y="970"/>
                        </a:lnTo>
                        <a:lnTo>
                          <a:pt x="253" y="1101"/>
                        </a:lnTo>
                        <a:lnTo>
                          <a:pt x="268" y="1151"/>
                        </a:lnTo>
                        <a:lnTo>
                          <a:pt x="287" y="1197"/>
                        </a:lnTo>
                        <a:lnTo>
                          <a:pt x="306" y="1238"/>
                        </a:lnTo>
                        <a:lnTo>
                          <a:pt x="328" y="1275"/>
                        </a:lnTo>
                        <a:lnTo>
                          <a:pt x="353" y="1308"/>
                        </a:lnTo>
                        <a:lnTo>
                          <a:pt x="380" y="1338"/>
                        </a:lnTo>
                        <a:lnTo>
                          <a:pt x="440" y="1387"/>
                        </a:lnTo>
                        <a:lnTo>
                          <a:pt x="472" y="1406"/>
                        </a:lnTo>
                        <a:lnTo>
                          <a:pt x="508" y="1422"/>
                        </a:lnTo>
                        <a:lnTo>
                          <a:pt x="584" y="1447"/>
                        </a:lnTo>
                        <a:lnTo>
                          <a:pt x="668" y="1463"/>
                        </a:lnTo>
                        <a:lnTo>
                          <a:pt x="761" y="1471"/>
                        </a:lnTo>
                        <a:lnTo>
                          <a:pt x="798" y="1505"/>
                        </a:lnTo>
                        <a:lnTo>
                          <a:pt x="792" y="1528"/>
                        </a:lnTo>
                        <a:lnTo>
                          <a:pt x="767" y="1544"/>
                        </a:lnTo>
                        <a:lnTo>
                          <a:pt x="674" y="1562"/>
                        </a:lnTo>
                        <a:lnTo>
                          <a:pt x="588" y="1574"/>
                        </a:lnTo>
                        <a:lnTo>
                          <a:pt x="432" y="1571"/>
                        </a:lnTo>
                        <a:lnTo>
                          <a:pt x="301" y="1537"/>
                        </a:lnTo>
                        <a:lnTo>
                          <a:pt x="243" y="1508"/>
                        </a:lnTo>
                        <a:lnTo>
                          <a:pt x="192" y="1471"/>
                        </a:lnTo>
                        <a:lnTo>
                          <a:pt x="147" y="1426"/>
                        </a:lnTo>
                        <a:lnTo>
                          <a:pt x="108" y="1373"/>
                        </a:lnTo>
                        <a:lnTo>
                          <a:pt x="75" y="1313"/>
                        </a:lnTo>
                        <a:lnTo>
                          <a:pt x="48" y="1244"/>
                        </a:lnTo>
                        <a:lnTo>
                          <a:pt x="11" y="1084"/>
                        </a:lnTo>
                        <a:lnTo>
                          <a:pt x="0" y="892"/>
                        </a:lnTo>
                        <a:lnTo>
                          <a:pt x="8" y="736"/>
                        </a:lnTo>
                        <a:lnTo>
                          <a:pt x="33" y="600"/>
                        </a:lnTo>
                        <a:lnTo>
                          <a:pt x="51" y="536"/>
                        </a:lnTo>
                        <a:lnTo>
                          <a:pt x="75" y="470"/>
                        </a:lnTo>
                        <a:lnTo>
                          <a:pt x="103" y="402"/>
                        </a:lnTo>
                        <a:lnTo>
                          <a:pt x="135" y="330"/>
                        </a:lnTo>
                        <a:lnTo>
                          <a:pt x="168" y="269"/>
                        </a:lnTo>
                        <a:lnTo>
                          <a:pt x="185" y="242"/>
                        </a:lnTo>
                        <a:lnTo>
                          <a:pt x="206" y="214"/>
                        </a:lnTo>
                        <a:lnTo>
                          <a:pt x="249" y="164"/>
                        </a:lnTo>
                        <a:lnTo>
                          <a:pt x="300" y="119"/>
                        </a:lnTo>
                        <a:lnTo>
                          <a:pt x="326" y="99"/>
                        </a:lnTo>
                        <a:lnTo>
                          <a:pt x="353" y="80"/>
                        </a:lnTo>
                        <a:lnTo>
                          <a:pt x="381" y="63"/>
                        </a:lnTo>
                        <a:lnTo>
                          <a:pt x="411" y="47"/>
                        </a:lnTo>
                        <a:lnTo>
                          <a:pt x="471" y="20"/>
                        </a:lnTo>
                        <a:lnTo>
                          <a:pt x="534" y="0"/>
                        </a:lnTo>
                        <a:lnTo>
                          <a:pt x="563" y="1"/>
                        </a:lnTo>
                        <a:lnTo>
                          <a:pt x="579" y="20"/>
                        </a:lnTo>
                        <a:lnTo>
                          <a:pt x="582" y="33"/>
                        </a:lnTo>
                        <a:lnTo>
                          <a:pt x="579" y="45"/>
                        </a:lnTo>
                        <a:lnTo>
                          <a:pt x="559" y="68"/>
                        </a:lnTo>
                        <a:lnTo>
                          <a:pt x="559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1893960" y="2588760"/>
                    <a:ext cx="10908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8" h="1259">
                        <a:moveTo>
                          <a:pt x="155" y="0"/>
                        </a:moveTo>
                        <a:lnTo>
                          <a:pt x="269" y="44"/>
                        </a:lnTo>
                        <a:lnTo>
                          <a:pt x="325" y="80"/>
                        </a:lnTo>
                        <a:lnTo>
                          <a:pt x="372" y="121"/>
                        </a:lnTo>
                        <a:lnTo>
                          <a:pt x="430" y="179"/>
                        </a:lnTo>
                        <a:lnTo>
                          <a:pt x="481" y="243"/>
                        </a:lnTo>
                        <a:lnTo>
                          <a:pt x="529" y="310"/>
                        </a:lnTo>
                        <a:lnTo>
                          <a:pt x="569" y="381"/>
                        </a:lnTo>
                        <a:lnTo>
                          <a:pt x="629" y="533"/>
                        </a:lnTo>
                        <a:lnTo>
                          <a:pt x="658" y="697"/>
                        </a:lnTo>
                        <a:lnTo>
                          <a:pt x="657" y="828"/>
                        </a:lnTo>
                        <a:lnTo>
                          <a:pt x="637" y="981"/>
                        </a:lnTo>
                        <a:lnTo>
                          <a:pt x="620" y="1058"/>
                        </a:lnTo>
                        <a:lnTo>
                          <a:pt x="600" y="1125"/>
                        </a:lnTo>
                        <a:lnTo>
                          <a:pt x="576" y="1184"/>
                        </a:lnTo>
                        <a:lnTo>
                          <a:pt x="548" y="1229"/>
                        </a:lnTo>
                        <a:lnTo>
                          <a:pt x="521" y="1252"/>
                        </a:lnTo>
                        <a:lnTo>
                          <a:pt x="493" y="1259"/>
                        </a:lnTo>
                        <a:lnTo>
                          <a:pt x="456" y="1223"/>
                        </a:lnTo>
                        <a:lnTo>
                          <a:pt x="467" y="1124"/>
                        </a:lnTo>
                        <a:lnTo>
                          <a:pt x="486" y="1024"/>
                        </a:lnTo>
                        <a:lnTo>
                          <a:pt x="477" y="872"/>
                        </a:lnTo>
                        <a:lnTo>
                          <a:pt x="456" y="729"/>
                        </a:lnTo>
                        <a:lnTo>
                          <a:pt x="446" y="664"/>
                        </a:lnTo>
                        <a:lnTo>
                          <a:pt x="427" y="603"/>
                        </a:lnTo>
                        <a:lnTo>
                          <a:pt x="402" y="544"/>
                        </a:lnTo>
                        <a:lnTo>
                          <a:pt x="371" y="489"/>
                        </a:lnTo>
                        <a:lnTo>
                          <a:pt x="335" y="435"/>
                        </a:lnTo>
                        <a:lnTo>
                          <a:pt x="294" y="384"/>
                        </a:lnTo>
                        <a:lnTo>
                          <a:pt x="252" y="335"/>
                        </a:lnTo>
                        <a:lnTo>
                          <a:pt x="205" y="288"/>
                        </a:lnTo>
                        <a:lnTo>
                          <a:pt x="163" y="250"/>
                        </a:lnTo>
                        <a:lnTo>
                          <a:pt x="118" y="213"/>
                        </a:lnTo>
                        <a:lnTo>
                          <a:pt x="74" y="176"/>
                        </a:lnTo>
                        <a:lnTo>
                          <a:pt x="33" y="136"/>
                        </a:lnTo>
                        <a:lnTo>
                          <a:pt x="0" y="74"/>
                        </a:lnTo>
                        <a:lnTo>
                          <a:pt x="4" y="48"/>
                        </a:lnTo>
                        <a:lnTo>
                          <a:pt x="18" y="27"/>
                        </a:lnTo>
                        <a:lnTo>
                          <a:pt x="41" y="10"/>
                        </a:lnTo>
                        <a:lnTo>
                          <a:pt x="73" y="0"/>
                        </a:lnTo>
                        <a:lnTo>
                          <a:pt x="155" y="0"/>
                        </a:lnTo>
                        <a:lnTo>
                          <a:pt x="1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6" name=""/>
          <p:cNvSpPr/>
          <p:nvPr/>
        </p:nvSpPr>
        <p:spPr>
          <a:xfrm>
            <a:off x="3333600" y="3962520"/>
            <a:ext cx="1143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662280" y="4086000"/>
            <a:ext cx="304920" cy="533160"/>
            <a:chOff x="3662280" y="4086000"/>
            <a:chExt cx="304920" cy="533160"/>
          </a:xfrm>
        </p:grpSpPr>
        <p:sp>
          <p:nvSpPr>
            <p:cNvPr id="288" name=""/>
            <p:cNvSpPr/>
            <p:nvPr/>
          </p:nvSpPr>
          <p:spPr>
            <a:xfrm flipV="1">
              <a:off x="3662280" y="4085640"/>
              <a:ext cx="304920" cy="533160"/>
            </a:xfrm>
            <a:custGeom>
              <a:avLst/>
              <a:gdLst/>
              <a:ahLst/>
              <a:rect l="l" t="t" r="r" b="b"/>
              <a:pathLst>
                <a:path w="642" h="966">
                  <a:moveTo>
                    <a:pt x="20" y="228"/>
                  </a:moveTo>
                  <a:lnTo>
                    <a:pt x="25" y="227"/>
                  </a:lnTo>
                  <a:lnTo>
                    <a:pt x="30" y="226"/>
                  </a:lnTo>
                  <a:lnTo>
                    <a:pt x="36" y="223"/>
                  </a:lnTo>
                  <a:lnTo>
                    <a:pt x="40" y="223"/>
                  </a:lnTo>
                  <a:lnTo>
                    <a:pt x="49" y="221"/>
                  </a:lnTo>
                  <a:lnTo>
                    <a:pt x="59" y="218"/>
                  </a:lnTo>
                  <a:lnTo>
                    <a:pt x="67" y="213"/>
                  </a:lnTo>
                  <a:lnTo>
                    <a:pt x="76" y="210"/>
                  </a:lnTo>
                  <a:lnTo>
                    <a:pt x="84" y="206"/>
                  </a:lnTo>
                  <a:lnTo>
                    <a:pt x="93" y="204"/>
                  </a:lnTo>
                  <a:lnTo>
                    <a:pt x="101" y="203"/>
                  </a:lnTo>
                  <a:lnTo>
                    <a:pt x="110" y="203"/>
                  </a:lnTo>
                  <a:lnTo>
                    <a:pt x="121" y="222"/>
                  </a:lnTo>
                  <a:lnTo>
                    <a:pt x="132" y="242"/>
                  </a:lnTo>
                  <a:lnTo>
                    <a:pt x="144" y="261"/>
                  </a:lnTo>
                  <a:lnTo>
                    <a:pt x="156" y="280"/>
                  </a:lnTo>
                  <a:lnTo>
                    <a:pt x="168" y="299"/>
                  </a:lnTo>
                  <a:lnTo>
                    <a:pt x="179" y="319"/>
                  </a:lnTo>
                  <a:lnTo>
                    <a:pt x="191" y="339"/>
                  </a:lnTo>
                  <a:lnTo>
                    <a:pt x="201" y="358"/>
                  </a:lnTo>
                  <a:lnTo>
                    <a:pt x="208" y="370"/>
                  </a:lnTo>
                  <a:lnTo>
                    <a:pt x="215" y="382"/>
                  </a:lnTo>
                  <a:lnTo>
                    <a:pt x="222" y="394"/>
                  </a:lnTo>
                  <a:lnTo>
                    <a:pt x="228" y="406"/>
                  </a:lnTo>
                  <a:lnTo>
                    <a:pt x="230" y="410"/>
                  </a:lnTo>
                  <a:lnTo>
                    <a:pt x="232" y="414"/>
                  </a:lnTo>
                  <a:lnTo>
                    <a:pt x="234" y="418"/>
                  </a:lnTo>
                  <a:lnTo>
                    <a:pt x="236" y="423"/>
                  </a:lnTo>
                  <a:lnTo>
                    <a:pt x="245" y="443"/>
                  </a:lnTo>
                  <a:lnTo>
                    <a:pt x="253" y="463"/>
                  </a:lnTo>
                  <a:lnTo>
                    <a:pt x="262" y="484"/>
                  </a:lnTo>
                  <a:lnTo>
                    <a:pt x="272" y="503"/>
                  </a:lnTo>
                  <a:lnTo>
                    <a:pt x="280" y="523"/>
                  </a:lnTo>
                  <a:lnTo>
                    <a:pt x="289" y="542"/>
                  </a:lnTo>
                  <a:lnTo>
                    <a:pt x="298" y="563"/>
                  </a:lnTo>
                  <a:lnTo>
                    <a:pt x="307" y="583"/>
                  </a:lnTo>
                  <a:lnTo>
                    <a:pt x="313" y="593"/>
                  </a:lnTo>
                  <a:lnTo>
                    <a:pt x="318" y="603"/>
                  </a:lnTo>
                  <a:lnTo>
                    <a:pt x="322" y="614"/>
                  </a:lnTo>
                  <a:lnTo>
                    <a:pt x="326" y="625"/>
                  </a:lnTo>
                  <a:lnTo>
                    <a:pt x="329" y="636"/>
                  </a:lnTo>
                  <a:lnTo>
                    <a:pt x="334" y="646"/>
                  </a:lnTo>
                  <a:lnTo>
                    <a:pt x="338" y="655"/>
                  </a:lnTo>
                  <a:lnTo>
                    <a:pt x="344" y="664"/>
                  </a:lnTo>
                  <a:lnTo>
                    <a:pt x="345" y="664"/>
                  </a:lnTo>
                  <a:lnTo>
                    <a:pt x="347" y="664"/>
                  </a:lnTo>
                  <a:lnTo>
                    <a:pt x="349" y="664"/>
                  </a:lnTo>
                  <a:lnTo>
                    <a:pt x="350" y="665"/>
                  </a:lnTo>
                  <a:lnTo>
                    <a:pt x="395" y="667"/>
                  </a:lnTo>
                  <a:lnTo>
                    <a:pt x="410" y="675"/>
                  </a:lnTo>
                  <a:lnTo>
                    <a:pt x="426" y="676"/>
                  </a:lnTo>
                  <a:lnTo>
                    <a:pt x="453" y="672"/>
                  </a:lnTo>
                  <a:lnTo>
                    <a:pt x="459" y="679"/>
                  </a:lnTo>
                  <a:lnTo>
                    <a:pt x="465" y="689"/>
                  </a:lnTo>
                  <a:lnTo>
                    <a:pt x="469" y="698"/>
                  </a:lnTo>
                  <a:lnTo>
                    <a:pt x="474" y="707"/>
                  </a:lnTo>
                  <a:lnTo>
                    <a:pt x="487" y="730"/>
                  </a:lnTo>
                  <a:lnTo>
                    <a:pt x="499" y="752"/>
                  </a:lnTo>
                  <a:lnTo>
                    <a:pt x="513" y="775"/>
                  </a:lnTo>
                  <a:lnTo>
                    <a:pt x="526" y="797"/>
                  </a:lnTo>
                  <a:lnTo>
                    <a:pt x="537" y="820"/>
                  </a:lnTo>
                  <a:lnTo>
                    <a:pt x="550" y="843"/>
                  </a:lnTo>
                  <a:lnTo>
                    <a:pt x="561" y="866"/>
                  </a:lnTo>
                  <a:lnTo>
                    <a:pt x="573" y="889"/>
                  </a:lnTo>
                  <a:lnTo>
                    <a:pt x="575" y="895"/>
                  </a:lnTo>
                  <a:lnTo>
                    <a:pt x="579" y="900"/>
                  </a:lnTo>
                  <a:lnTo>
                    <a:pt x="582" y="905"/>
                  </a:lnTo>
                  <a:lnTo>
                    <a:pt x="586" y="911"/>
                  </a:lnTo>
                  <a:lnTo>
                    <a:pt x="584" y="912"/>
                  </a:lnTo>
                  <a:lnTo>
                    <a:pt x="584" y="913"/>
                  </a:lnTo>
                  <a:lnTo>
                    <a:pt x="584" y="913"/>
                  </a:lnTo>
                  <a:lnTo>
                    <a:pt x="584" y="914"/>
                  </a:lnTo>
                  <a:lnTo>
                    <a:pt x="616" y="948"/>
                  </a:lnTo>
                  <a:lnTo>
                    <a:pt x="621" y="950"/>
                  </a:lnTo>
                  <a:lnTo>
                    <a:pt x="626" y="954"/>
                  </a:lnTo>
                  <a:lnTo>
                    <a:pt x="630" y="959"/>
                  </a:lnTo>
                  <a:lnTo>
                    <a:pt x="635" y="964"/>
                  </a:lnTo>
                  <a:lnTo>
                    <a:pt x="636" y="965"/>
                  </a:lnTo>
                  <a:lnTo>
                    <a:pt x="637" y="965"/>
                  </a:lnTo>
                  <a:lnTo>
                    <a:pt x="637" y="965"/>
                  </a:lnTo>
                  <a:lnTo>
                    <a:pt x="639" y="966"/>
                  </a:lnTo>
                  <a:lnTo>
                    <a:pt x="640" y="965"/>
                  </a:lnTo>
                  <a:lnTo>
                    <a:pt x="641" y="964"/>
                  </a:lnTo>
                  <a:lnTo>
                    <a:pt x="642" y="964"/>
                  </a:lnTo>
                  <a:lnTo>
                    <a:pt x="642" y="963"/>
                  </a:lnTo>
                  <a:lnTo>
                    <a:pt x="639" y="952"/>
                  </a:lnTo>
                  <a:lnTo>
                    <a:pt x="634" y="942"/>
                  </a:lnTo>
                  <a:lnTo>
                    <a:pt x="627" y="931"/>
                  </a:lnTo>
                  <a:lnTo>
                    <a:pt x="622" y="921"/>
                  </a:lnTo>
                  <a:lnTo>
                    <a:pt x="620" y="918"/>
                  </a:lnTo>
                  <a:lnTo>
                    <a:pt x="618" y="915"/>
                  </a:lnTo>
                  <a:lnTo>
                    <a:pt x="616" y="913"/>
                  </a:lnTo>
                  <a:lnTo>
                    <a:pt x="614" y="911"/>
                  </a:lnTo>
                  <a:lnTo>
                    <a:pt x="609" y="902"/>
                  </a:lnTo>
                  <a:lnTo>
                    <a:pt x="603" y="891"/>
                  </a:lnTo>
                  <a:lnTo>
                    <a:pt x="597" y="882"/>
                  </a:lnTo>
                  <a:lnTo>
                    <a:pt x="591" y="873"/>
                  </a:lnTo>
                  <a:lnTo>
                    <a:pt x="586" y="864"/>
                  </a:lnTo>
                  <a:lnTo>
                    <a:pt x="579" y="853"/>
                  </a:lnTo>
                  <a:lnTo>
                    <a:pt x="573" y="844"/>
                  </a:lnTo>
                  <a:lnTo>
                    <a:pt x="567" y="835"/>
                  </a:lnTo>
                  <a:lnTo>
                    <a:pt x="555" y="814"/>
                  </a:lnTo>
                  <a:lnTo>
                    <a:pt x="542" y="792"/>
                  </a:lnTo>
                  <a:lnTo>
                    <a:pt x="529" y="771"/>
                  </a:lnTo>
                  <a:lnTo>
                    <a:pt x="517" y="750"/>
                  </a:lnTo>
                  <a:lnTo>
                    <a:pt x="505" y="728"/>
                  </a:lnTo>
                  <a:lnTo>
                    <a:pt x="494" y="707"/>
                  </a:lnTo>
                  <a:lnTo>
                    <a:pt x="481" y="685"/>
                  </a:lnTo>
                  <a:lnTo>
                    <a:pt x="469" y="664"/>
                  </a:lnTo>
                  <a:lnTo>
                    <a:pt x="469" y="663"/>
                  </a:lnTo>
                  <a:lnTo>
                    <a:pt x="469" y="662"/>
                  </a:lnTo>
                  <a:lnTo>
                    <a:pt x="471" y="661"/>
                  </a:lnTo>
                  <a:lnTo>
                    <a:pt x="472" y="661"/>
                  </a:lnTo>
                  <a:lnTo>
                    <a:pt x="495" y="631"/>
                  </a:lnTo>
                  <a:lnTo>
                    <a:pt x="495" y="624"/>
                  </a:lnTo>
                  <a:lnTo>
                    <a:pt x="527" y="581"/>
                  </a:lnTo>
                  <a:lnTo>
                    <a:pt x="529" y="572"/>
                  </a:lnTo>
                  <a:lnTo>
                    <a:pt x="529" y="570"/>
                  </a:lnTo>
                  <a:lnTo>
                    <a:pt x="528" y="566"/>
                  </a:lnTo>
                  <a:lnTo>
                    <a:pt x="526" y="564"/>
                  </a:lnTo>
                  <a:lnTo>
                    <a:pt x="525" y="561"/>
                  </a:lnTo>
                  <a:lnTo>
                    <a:pt x="522" y="557"/>
                  </a:lnTo>
                  <a:lnTo>
                    <a:pt x="520" y="554"/>
                  </a:lnTo>
                  <a:lnTo>
                    <a:pt x="518" y="550"/>
                  </a:lnTo>
                  <a:lnTo>
                    <a:pt x="514" y="547"/>
                  </a:lnTo>
                  <a:lnTo>
                    <a:pt x="476" y="489"/>
                  </a:lnTo>
                  <a:lnTo>
                    <a:pt x="418" y="400"/>
                  </a:lnTo>
                  <a:lnTo>
                    <a:pt x="406" y="378"/>
                  </a:lnTo>
                  <a:lnTo>
                    <a:pt x="393" y="357"/>
                  </a:lnTo>
                  <a:lnTo>
                    <a:pt x="381" y="335"/>
                  </a:lnTo>
                  <a:lnTo>
                    <a:pt x="367" y="314"/>
                  </a:lnTo>
                  <a:lnTo>
                    <a:pt x="354" y="294"/>
                  </a:lnTo>
                  <a:lnTo>
                    <a:pt x="341" y="272"/>
                  </a:lnTo>
                  <a:lnTo>
                    <a:pt x="327" y="251"/>
                  </a:lnTo>
                  <a:lnTo>
                    <a:pt x="314" y="229"/>
                  </a:lnTo>
                  <a:lnTo>
                    <a:pt x="312" y="226"/>
                  </a:lnTo>
                  <a:lnTo>
                    <a:pt x="311" y="222"/>
                  </a:lnTo>
                  <a:lnTo>
                    <a:pt x="309" y="219"/>
                  </a:lnTo>
                  <a:lnTo>
                    <a:pt x="308" y="215"/>
                  </a:lnTo>
                  <a:lnTo>
                    <a:pt x="253" y="114"/>
                  </a:lnTo>
                  <a:lnTo>
                    <a:pt x="261" y="108"/>
                  </a:lnTo>
                  <a:lnTo>
                    <a:pt x="270" y="102"/>
                  </a:lnTo>
                  <a:lnTo>
                    <a:pt x="280" y="97"/>
                  </a:lnTo>
                  <a:lnTo>
                    <a:pt x="290" y="90"/>
                  </a:lnTo>
                  <a:lnTo>
                    <a:pt x="299" y="84"/>
                  </a:lnTo>
                  <a:lnTo>
                    <a:pt x="307" y="77"/>
                  </a:lnTo>
                  <a:lnTo>
                    <a:pt x="316" y="70"/>
                  </a:lnTo>
                  <a:lnTo>
                    <a:pt x="323" y="62"/>
                  </a:lnTo>
                  <a:lnTo>
                    <a:pt x="324" y="62"/>
                  </a:lnTo>
                  <a:lnTo>
                    <a:pt x="326" y="62"/>
                  </a:lnTo>
                  <a:lnTo>
                    <a:pt x="326" y="62"/>
                  </a:lnTo>
                  <a:lnTo>
                    <a:pt x="327" y="62"/>
                  </a:lnTo>
                  <a:lnTo>
                    <a:pt x="327" y="59"/>
                  </a:lnTo>
                  <a:lnTo>
                    <a:pt x="324" y="53"/>
                  </a:lnTo>
                  <a:lnTo>
                    <a:pt x="322" y="47"/>
                  </a:lnTo>
                  <a:lnTo>
                    <a:pt x="321" y="45"/>
                  </a:lnTo>
                  <a:lnTo>
                    <a:pt x="316" y="43"/>
                  </a:lnTo>
                  <a:lnTo>
                    <a:pt x="314" y="38"/>
                  </a:lnTo>
                  <a:lnTo>
                    <a:pt x="312" y="33"/>
                  </a:lnTo>
                  <a:lnTo>
                    <a:pt x="309" y="30"/>
                  </a:lnTo>
                  <a:lnTo>
                    <a:pt x="305" y="31"/>
                  </a:lnTo>
                  <a:lnTo>
                    <a:pt x="300" y="33"/>
                  </a:lnTo>
                  <a:lnTo>
                    <a:pt x="295" y="36"/>
                  </a:lnTo>
                  <a:lnTo>
                    <a:pt x="289" y="37"/>
                  </a:lnTo>
                  <a:lnTo>
                    <a:pt x="283" y="40"/>
                  </a:lnTo>
                  <a:lnTo>
                    <a:pt x="277" y="44"/>
                  </a:lnTo>
                  <a:lnTo>
                    <a:pt x="272" y="46"/>
                  </a:lnTo>
                  <a:lnTo>
                    <a:pt x="266" y="50"/>
                  </a:lnTo>
                  <a:lnTo>
                    <a:pt x="259" y="52"/>
                  </a:lnTo>
                  <a:lnTo>
                    <a:pt x="253" y="55"/>
                  </a:lnTo>
                  <a:lnTo>
                    <a:pt x="247" y="58"/>
                  </a:lnTo>
                  <a:lnTo>
                    <a:pt x="242" y="61"/>
                  </a:lnTo>
                  <a:lnTo>
                    <a:pt x="240" y="61"/>
                  </a:lnTo>
                  <a:lnTo>
                    <a:pt x="240" y="61"/>
                  </a:lnTo>
                  <a:lnTo>
                    <a:pt x="239" y="62"/>
                  </a:lnTo>
                  <a:lnTo>
                    <a:pt x="238" y="62"/>
                  </a:lnTo>
                  <a:lnTo>
                    <a:pt x="205" y="78"/>
                  </a:lnTo>
                  <a:lnTo>
                    <a:pt x="194" y="82"/>
                  </a:lnTo>
                  <a:lnTo>
                    <a:pt x="194" y="83"/>
                  </a:lnTo>
                  <a:lnTo>
                    <a:pt x="193" y="84"/>
                  </a:lnTo>
                  <a:lnTo>
                    <a:pt x="193" y="85"/>
                  </a:lnTo>
                  <a:lnTo>
                    <a:pt x="192" y="86"/>
                  </a:lnTo>
                  <a:lnTo>
                    <a:pt x="181" y="91"/>
                  </a:lnTo>
                  <a:lnTo>
                    <a:pt x="176" y="89"/>
                  </a:lnTo>
                  <a:lnTo>
                    <a:pt x="174" y="84"/>
                  </a:lnTo>
                  <a:lnTo>
                    <a:pt x="171" y="78"/>
                  </a:lnTo>
                  <a:lnTo>
                    <a:pt x="168" y="74"/>
                  </a:lnTo>
                  <a:lnTo>
                    <a:pt x="168" y="71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3" y="66"/>
                  </a:lnTo>
                  <a:lnTo>
                    <a:pt x="186" y="56"/>
                  </a:lnTo>
                  <a:lnTo>
                    <a:pt x="200" y="46"/>
                  </a:lnTo>
                  <a:lnTo>
                    <a:pt x="201" y="44"/>
                  </a:lnTo>
                  <a:lnTo>
                    <a:pt x="204" y="41"/>
                  </a:lnTo>
                  <a:lnTo>
                    <a:pt x="205" y="40"/>
                  </a:lnTo>
                  <a:lnTo>
                    <a:pt x="206" y="38"/>
                  </a:lnTo>
                  <a:lnTo>
                    <a:pt x="206" y="37"/>
                  </a:lnTo>
                  <a:lnTo>
                    <a:pt x="206" y="37"/>
                  </a:lnTo>
                  <a:lnTo>
                    <a:pt x="206" y="37"/>
                  </a:lnTo>
                  <a:lnTo>
                    <a:pt x="207" y="36"/>
                  </a:lnTo>
                  <a:lnTo>
                    <a:pt x="207" y="35"/>
                  </a:lnTo>
                  <a:lnTo>
                    <a:pt x="207" y="33"/>
                  </a:lnTo>
                  <a:lnTo>
                    <a:pt x="207" y="33"/>
                  </a:lnTo>
                  <a:lnTo>
                    <a:pt x="208" y="32"/>
                  </a:lnTo>
                  <a:lnTo>
                    <a:pt x="209" y="31"/>
                  </a:lnTo>
                  <a:lnTo>
                    <a:pt x="209" y="29"/>
                  </a:lnTo>
                  <a:lnTo>
                    <a:pt x="209" y="28"/>
                  </a:lnTo>
                  <a:lnTo>
                    <a:pt x="209" y="26"/>
                  </a:lnTo>
                  <a:lnTo>
                    <a:pt x="206" y="20"/>
                  </a:lnTo>
                  <a:lnTo>
                    <a:pt x="204" y="13"/>
                  </a:lnTo>
                  <a:lnTo>
                    <a:pt x="201" y="6"/>
                  </a:lnTo>
                  <a:lnTo>
                    <a:pt x="196" y="0"/>
                  </a:lnTo>
                  <a:lnTo>
                    <a:pt x="185" y="1"/>
                  </a:lnTo>
                  <a:lnTo>
                    <a:pt x="174" y="3"/>
                  </a:lnTo>
                  <a:lnTo>
                    <a:pt x="163" y="7"/>
                  </a:lnTo>
                  <a:lnTo>
                    <a:pt x="153" y="10"/>
                  </a:lnTo>
                  <a:lnTo>
                    <a:pt x="143" y="15"/>
                  </a:lnTo>
                  <a:lnTo>
                    <a:pt x="132" y="18"/>
                  </a:lnTo>
                  <a:lnTo>
                    <a:pt x="123" y="23"/>
                  </a:lnTo>
                  <a:lnTo>
                    <a:pt x="113" y="26"/>
                  </a:lnTo>
                  <a:lnTo>
                    <a:pt x="105" y="31"/>
                  </a:lnTo>
                  <a:lnTo>
                    <a:pt x="97" y="36"/>
                  </a:lnTo>
                  <a:lnTo>
                    <a:pt x="89" y="40"/>
                  </a:lnTo>
                  <a:lnTo>
                    <a:pt x="81" y="45"/>
                  </a:lnTo>
                  <a:lnTo>
                    <a:pt x="72" y="51"/>
                  </a:lnTo>
                  <a:lnTo>
                    <a:pt x="64" y="55"/>
                  </a:lnTo>
                  <a:lnTo>
                    <a:pt x="56" y="62"/>
                  </a:lnTo>
                  <a:lnTo>
                    <a:pt x="49" y="68"/>
                  </a:lnTo>
                  <a:lnTo>
                    <a:pt x="47" y="70"/>
                  </a:lnTo>
                  <a:lnTo>
                    <a:pt x="45" y="74"/>
                  </a:lnTo>
                  <a:lnTo>
                    <a:pt x="43" y="76"/>
                  </a:lnTo>
                  <a:lnTo>
                    <a:pt x="41" y="79"/>
                  </a:lnTo>
                  <a:lnTo>
                    <a:pt x="41" y="81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41" y="83"/>
                  </a:lnTo>
                  <a:lnTo>
                    <a:pt x="45" y="91"/>
                  </a:lnTo>
                  <a:lnTo>
                    <a:pt x="48" y="99"/>
                  </a:lnTo>
                  <a:lnTo>
                    <a:pt x="52" y="106"/>
                  </a:lnTo>
                  <a:lnTo>
                    <a:pt x="59" y="112"/>
                  </a:lnTo>
                  <a:lnTo>
                    <a:pt x="63" y="112"/>
                  </a:lnTo>
                  <a:lnTo>
                    <a:pt x="67" y="112"/>
                  </a:lnTo>
                  <a:lnTo>
                    <a:pt x="70" y="112"/>
                  </a:lnTo>
                  <a:lnTo>
                    <a:pt x="74" y="113"/>
                  </a:lnTo>
                  <a:lnTo>
                    <a:pt x="78" y="111"/>
                  </a:lnTo>
                  <a:lnTo>
                    <a:pt x="84" y="108"/>
                  </a:lnTo>
                  <a:lnTo>
                    <a:pt x="90" y="107"/>
                  </a:lnTo>
                  <a:lnTo>
                    <a:pt x="92" y="107"/>
                  </a:lnTo>
                  <a:lnTo>
                    <a:pt x="94" y="106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2" y="100"/>
                  </a:lnTo>
                  <a:lnTo>
                    <a:pt x="104" y="100"/>
                  </a:lnTo>
                  <a:lnTo>
                    <a:pt x="105" y="100"/>
                  </a:lnTo>
                  <a:lnTo>
                    <a:pt x="106" y="100"/>
                  </a:lnTo>
                  <a:lnTo>
                    <a:pt x="107" y="101"/>
                  </a:lnTo>
                  <a:lnTo>
                    <a:pt x="107" y="100"/>
                  </a:lnTo>
                  <a:lnTo>
                    <a:pt x="108" y="100"/>
                  </a:lnTo>
                  <a:lnTo>
                    <a:pt x="108" y="100"/>
                  </a:lnTo>
                  <a:lnTo>
                    <a:pt x="109" y="101"/>
                  </a:lnTo>
                  <a:lnTo>
                    <a:pt x="110" y="101"/>
                  </a:lnTo>
                  <a:lnTo>
                    <a:pt x="113" y="101"/>
                  </a:lnTo>
                  <a:lnTo>
                    <a:pt x="114" y="101"/>
                  </a:lnTo>
                  <a:lnTo>
                    <a:pt x="115" y="101"/>
                  </a:lnTo>
                  <a:lnTo>
                    <a:pt x="128" y="117"/>
                  </a:lnTo>
                  <a:lnTo>
                    <a:pt x="113" y="127"/>
                  </a:lnTo>
                  <a:lnTo>
                    <a:pt x="98" y="136"/>
                  </a:lnTo>
                  <a:lnTo>
                    <a:pt x="81" y="144"/>
                  </a:lnTo>
                  <a:lnTo>
                    <a:pt x="64" y="152"/>
                  </a:lnTo>
                  <a:lnTo>
                    <a:pt x="48" y="161"/>
                  </a:lnTo>
                  <a:lnTo>
                    <a:pt x="32" y="170"/>
                  </a:lnTo>
                  <a:lnTo>
                    <a:pt x="17" y="180"/>
                  </a:lnTo>
                  <a:lnTo>
                    <a:pt x="2" y="191"/>
                  </a:lnTo>
                  <a:lnTo>
                    <a:pt x="2" y="192"/>
                  </a:lnTo>
                  <a:lnTo>
                    <a:pt x="2" y="193"/>
                  </a:lnTo>
                  <a:lnTo>
                    <a:pt x="2" y="195"/>
                  </a:lnTo>
                  <a:lnTo>
                    <a:pt x="2" y="196"/>
                  </a:lnTo>
                  <a:lnTo>
                    <a:pt x="2" y="197"/>
                  </a:lnTo>
                  <a:lnTo>
                    <a:pt x="2" y="199"/>
                  </a:lnTo>
                  <a:lnTo>
                    <a:pt x="1" y="200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1" y="205"/>
                  </a:lnTo>
                  <a:lnTo>
                    <a:pt x="1" y="206"/>
                  </a:lnTo>
                  <a:lnTo>
                    <a:pt x="1" y="207"/>
                  </a:lnTo>
                  <a:lnTo>
                    <a:pt x="2" y="207"/>
                  </a:lnTo>
                  <a:lnTo>
                    <a:pt x="3" y="207"/>
                  </a:lnTo>
                  <a:lnTo>
                    <a:pt x="3" y="207"/>
                  </a:lnTo>
                  <a:lnTo>
                    <a:pt x="5" y="207"/>
                  </a:lnTo>
                  <a:lnTo>
                    <a:pt x="15" y="222"/>
                  </a:lnTo>
                  <a:lnTo>
                    <a:pt x="15" y="223"/>
                  </a:lnTo>
                  <a:lnTo>
                    <a:pt x="15" y="226"/>
                  </a:lnTo>
                  <a:lnTo>
                    <a:pt x="16" y="228"/>
                  </a:lnTo>
                  <a:lnTo>
                    <a:pt x="20" y="2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720960" y="4273920"/>
              <a:ext cx="175680" cy="285840"/>
            </a:xfrm>
            <a:custGeom>
              <a:avLst/>
              <a:gdLst/>
              <a:ahLst/>
              <a:rect l="l" t="t" r="r" b="b"/>
              <a:pathLst>
                <a:path w="371" h="517">
                  <a:moveTo>
                    <a:pt x="0" y="83"/>
                  </a:moveTo>
                  <a:lnTo>
                    <a:pt x="8" y="93"/>
                  </a:lnTo>
                  <a:lnTo>
                    <a:pt x="15" y="105"/>
                  </a:lnTo>
                  <a:lnTo>
                    <a:pt x="22" y="115"/>
                  </a:lnTo>
                  <a:lnTo>
                    <a:pt x="29" y="127"/>
                  </a:lnTo>
                  <a:lnTo>
                    <a:pt x="35" y="137"/>
                  </a:lnTo>
                  <a:lnTo>
                    <a:pt x="41" y="149"/>
                  </a:lnTo>
                  <a:lnTo>
                    <a:pt x="46" y="159"/>
                  </a:lnTo>
                  <a:lnTo>
                    <a:pt x="53" y="171"/>
                  </a:lnTo>
                  <a:lnTo>
                    <a:pt x="54" y="173"/>
                  </a:lnTo>
                  <a:lnTo>
                    <a:pt x="55" y="175"/>
                  </a:lnTo>
                  <a:lnTo>
                    <a:pt x="58" y="178"/>
                  </a:lnTo>
                  <a:lnTo>
                    <a:pt x="59" y="179"/>
                  </a:lnTo>
                  <a:lnTo>
                    <a:pt x="92" y="244"/>
                  </a:lnTo>
                  <a:lnTo>
                    <a:pt x="96" y="248"/>
                  </a:lnTo>
                  <a:lnTo>
                    <a:pt x="96" y="249"/>
                  </a:lnTo>
                  <a:lnTo>
                    <a:pt x="96" y="250"/>
                  </a:lnTo>
                  <a:lnTo>
                    <a:pt x="96" y="251"/>
                  </a:lnTo>
                  <a:lnTo>
                    <a:pt x="96" y="251"/>
                  </a:lnTo>
                  <a:lnTo>
                    <a:pt x="103" y="260"/>
                  </a:lnTo>
                  <a:lnTo>
                    <a:pt x="106" y="266"/>
                  </a:lnTo>
                  <a:lnTo>
                    <a:pt x="106" y="267"/>
                  </a:lnTo>
                  <a:lnTo>
                    <a:pt x="106" y="267"/>
                  </a:lnTo>
                  <a:lnTo>
                    <a:pt x="106" y="268"/>
                  </a:lnTo>
                  <a:lnTo>
                    <a:pt x="106" y="270"/>
                  </a:lnTo>
                  <a:lnTo>
                    <a:pt x="108" y="274"/>
                  </a:lnTo>
                  <a:lnTo>
                    <a:pt x="110" y="278"/>
                  </a:lnTo>
                  <a:lnTo>
                    <a:pt x="112" y="282"/>
                  </a:lnTo>
                  <a:lnTo>
                    <a:pt x="114" y="287"/>
                  </a:lnTo>
                  <a:lnTo>
                    <a:pt x="121" y="300"/>
                  </a:lnTo>
                  <a:lnTo>
                    <a:pt x="128" y="311"/>
                  </a:lnTo>
                  <a:lnTo>
                    <a:pt x="134" y="324"/>
                  </a:lnTo>
                  <a:lnTo>
                    <a:pt x="138" y="338"/>
                  </a:lnTo>
                  <a:lnTo>
                    <a:pt x="143" y="347"/>
                  </a:lnTo>
                  <a:lnTo>
                    <a:pt x="148" y="356"/>
                  </a:lnTo>
                  <a:lnTo>
                    <a:pt x="152" y="365"/>
                  </a:lnTo>
                  <a:lnTo>
                    <a:pt x="157" y="374"/>
                  </a:lnTo>
                  <a:lnTo>
                    <a:pt x="162" y="389"/>
                  </a:lnTo>
                  <a:lnTo>
                    <a:pt x="168" y="404"/>
                  </a:lnTo>
                  <a:lnTo>
                    <a:pt x="174" y="418"/>
                  </a:lnTo>
                  <a:lnTo>
                    <a:pt x="181" y="431"/>
                  </a:lnTo>
                  <a:lnTo>
                    <a:pt x="190" y="446"/>
                  </a:lnTo>
                  <a:lnTo>
                    <a:pt x="198" y="461"/>
                  </a:lnTo>
                  <a:lnTo>
                    <a:pt x="205" y="477"/>
                  </a:lnTo>
                  <a:lnTo>
                    <a:pt x="214" y="492"/>
                  </a:lnTo>
                  <a:lnTo>
                    <a:pt x="217" y="499"/>
                  </a:lnTo>
                  <a:lnTo>
                    <a:pt x="220" y="505"/>
                  </a:lnTo>
                  <a:lnTo>
                    <a:pt x="223" y="510"/>
                  </a:lnTo>
                  <a:lnTo>
                    <a:pt x="226" y="517"/>
                  </a:lnTo>
                  <a:lnTo>
                    <a:pt x="242" y="507"/>
                  </a:lnTo>
                  <a:lnTo>
                    <a:pt x="258" y="498"/>
                  </a:lnTo>
                  <a:lnTo>
                    <a:pt x="274" y="488"/>
                  </a:lnTo>
                  <a:lnTo>
                    <a:pt x="291" y="479"/>
                  </a:lnTo>
                  <a:lnTo>
                    <a:pt x="309" y="471"/>
                  </a:lnTo>
                  <a:lnTo>
                    <a:pt x="326" y="464"/>
                  </a:lnTo>
                  <a:lnTo>
                    <a:pt x="344" y="458"/>
                  </a:lnTo>
                  <a:lnTo>
                    <a:pt x="364" y="453"/>
                  </a:lnTo>
                  <a:lnTo>
                    <a:pt x="365" y="452"/>
                  </a:lnTo>
                  <a:lnTo>
                    <a:pt x="367" y="452"/>
                  </a:lnTo>
                  <a:lnTo>
                    <a:pt x="368" y="450"/>
                  </a:lnTo>
                  <a:lnTo>
                    <a:pt x="370" y="450"/>
                  </a:lnTo>
                  <a:lnTo>
                    <a:pt x="370" y="450"/>
                  </a:lnTo>
                  <a:lnTo>
                    <a:pt x="371" y="449"/>
                  </a:lnTo>
                  <a:lnTo>
                    <a:pt x="371" y="449"/>
                  </a:lnTo>
                  <a:lnTo>
                    <a:pt x="371" y="449"/>
                  </a:lnTo>
                  <a:lnTo>
                    <a:pt x="358" y="429"/>
                  </a:lnTo>
                  <a:lnTo>
                    <a:pt x="351" y="430"/>
                  </a:lnTo>
                  <a:lnTo>
                    <a:pt x="344" y="432"/>
                  </a:lnTo>
                  <a:lnTo>
                    <a:pt x="337" y="434"/>
                  </a:lnTo>
                  <a:lnTo>
                    <a:pt x="330" y="438"/>
                  </a:lnTo>
                  <a:lnTo>
                    <a:pt x="329" y="438"/>
                  </a:lnTo>
                  <a:lnTo>
                    <a:pt x="327" y="438"/>
                  </a:lnTo>
                  <a:lnTo>
                    <a:pt x="326" y="437"/>
                  </a:lnTo>
                  <a:lnTo>
                    <a:pt x="324" y="435"/>
                  </a:lnTo>
                  <a:lnTo>
                    <a:pt x="322" y="431"/>
                  </a:lnTo>
                  <a:lnTo>
                    <a:pt x="322" y="430"/>
                  </a:lnTo>
                  <a:lnTo>
                    <a:pt x="322" y="427"/>
                  </a:lnTo>
                  <a:lnTo>
                    <a:pt x="324" y="426"/>
                  </a:lnTo>
                  <a:lnTo>
                    <a:pt x="325" y="425"/>
                  </a:lnTo>
                  <a:lnTo>
                    <a:pt x="330" y="424"/>
                  </a:lnTo>
                  <a:lnTo>
                    <a:pt x="337" y="422"/>
                  </a:lnTo>
                  <a:lnTo>
                    <a:pt x="343" y="419"/>
                  </a:lnTo>
                  <a:lnTo>
                    <a:pt x="349" y="415"/>
                  </a:lnTo>
                  <a:lnTo>
                    <a:pt x="349" y="415"/>
                  </a:lnTo>
                  <a:lnTo>
                    <a:pt x="350" y="415"/>
                  </a:lnTo>
                  <a:lnTo>
                    <a:pt x="350" y="415"/>
                  </a:lnTo>
                  <a:lnTo>
                    <a:pt x="350" y="415"/>
                  </a:lnTo>
                  <a:lnTo>
                    <a:pt x="341" y="400"/>
                  </a:lnTo>
                  <a:lnTo>
                    <a:pt x="337" y="400"/>
                  </a:lnTo>
                  <a:lnTo>
                    <a:pt x="334" y="400"/>
                  </a:lnTo>
                  <a:lnTo>
                    <a:pt x="330" y="401"/>
                  </a:lnTo>
                  <a:lnTo>
                    <a:pt x="327" y="401"/>
                  </a:lnTo>
                  <a:lnTo>
                    <a:pt x="319" y="403"/>
                  </a:lnTo>
                  <a:lnTo>
                    <a:pt x="311" y="407"/>
                  </a:lnTo>
                  <a:lnTo>
                    <a:pt x="303" y="410"/>
                  </a:lnTo>
                  <a:lnTo>
                    <a:pt x="295" y="412"/>
                  </a:lnTo>
                  <a:lnTo>
                    <a:pt x="292" y="415"/>
                  </a:lnTo>
                  <a:lnTo>
                    <a:pt x="290" y="416"/>
                  </a:lnTo>
                  <a:lnTo>
                    <a:pt x="288" y="417"/>
                  </a:lnTo>
                  <a:lnTo>
                    <a:pt x="286" y="419"/>
                  </a:lnTo>
                  <a:lnTo>
                    <a:pt x="282" y="418"/>
                  </a:lnTo>
                  <a:lnTo>
                    <a:pt x="279" y="418"/>
                  </a:lnTo>
                  <a:lnTo>
                    <a:pt x="275" y="417"/>
                  </a:lnTo>
                  <a:lnTo>
                    <a:pt x="273" y="416"/>
                  </a:lnTo>
                  <a:lnTo>
                    <a:pt x="271" y="410"/>
                  </a:lnTo>
                  <a:lnTo>
                    <a:pt x="274" y="407"/>
                  </a:lnTo>
                  <a:lnTo>
                    <a:pt x="332" y="385"/>
                  </a:lnTo>
                  <a:lnTo>
                    <a:pt x="325" y="370"/>
                  </a:lnTo>
                  <a:lnTo>
                    <a:pt x="322" y="369"/>
                  </a:lnTo>
                  <a:lnTo>
                    <a:pt x="319" y="370"/>
                  </a:lnTo>
                  <a:lnTo>
                    <a:pt x="317" y="371"/>
                  </a:lnTo>
                  <a:lnTo>
                    <a:pt x="313" y="370"/>
                  </a:lnTo>
                  <a:lnTo>
                    <a:pt x="307" y="373"/>
                  </a:lnTo>
                  <a:lnTo>
                    <a:pt x="303" y="376"/>
                  </a:lnTo>
                  <a:lnTo>
                    <a:pt x="297" y="378"/>
                  </a:lnTo>
                  <a:lnTo>
                    <a:pt x="291" y="379"/>
                  </a:lnTo>
                  <a:lnTo>
                    <a:pt x="288" y="378"/>
                  </a:lnTo>
                  <a:lnTo>
                    <a:pt x="286" y="376"/>
                  </a:lnTo>
                  <a:lnTo>
                    <a:pt x="284" y="373"/>
                  </a:lnTo>
                  <a:lnTo>
                    <a:pt x="284" y="370"/>
                  </a:lnTo>
                  <a:lnTo>
                    <a:pt x="288" y="366"/>
                  </a:lnTo>
                  <a:lnTo>
                    <a:pt x="292" y="363"/>
                  </a:lnTo>
                  <a:lnTo>
                    <a:pt x="297" y="361"/>
                  </a:lnTo>
                  <a:lnTo>
                    <a:pt x="302" y="358"/>
                  </a:lnTo>
                  <a:lnTo>
                    <a:pt x="305" y="357"/>
                  </a:lnTo>
                  <a:lnTo>
                    <a:pt x="307" y="356"/>
                  </a:lnTo>
                  <a:lnTo>
                    <a:pt x="311" y="356"/>
                  </a:lnTo>
                  <a:lnTo>
                    <a:pt x="313" y="355"/>
                  </a:lnTo>
                  <a:lnTo>
                    <a:pt x="305" y="340"/>
                  </a:lnTo>
                  <a:lnTo>
                    <a:pt x="302" y="340"/>
                  </a:lnTo>
                  <a:lnTo>
                    <a:pt x="297" y="340"/>
                  </a:lnTo>
                  <a:lnTo>
                    <a:pt x="292" y="341"/>
                  </a:lnTo>
                  <a:lnTo>
                    <a:pt x="288" y="342"/>
                  </a:lnTo>
                  <a:lnTo>
                    <a:pt x="284" y="344"/>
                  </a:lnTo>
                  <a:lnTo>
                    <a:pt x="280" y="347"/>
                  </a:lnTo>
                  <a:lnTo>
                    <a:pt x="275" y="348"/>
                  </a:lnTo>
                  <a:lnTo>
                    <a:pt x="271" y="349"/>
                  </a:lnTo>
                  <a:lnTo>
                    <a:pt x="265" y="353"/>
                  </a:lnTo>
                  <a:lnTo>
                    <a:pt x="259" y="356"/>
                  </a:lnTo>
                  <a:lnTo>
                    <a:pt x="253" y="359"/>
                  </a:lnTo>
                  <a:lnTo>
                    <a:pt x="246" y="364"/>
                  </a:lnTo>
                  <a:lnTo>
                    <a:pt x="245" y="363"/>
                  </a:lnTo>
                  <a:lnTo>
                    <a:pt x="243" y="362"/>
                  </a:lnTo>
                  <a:lnTo>
                    <a:pt x="242" y="359"/>
                  </a:lnTo>
                  <a:lnTo>
                    <a:pt x="241" y="358"/>
                  </a:lnTo>
                  <a:lnTo>
                    <a:pt x="240" y="354"/>
                  </a:lnTo>
                  <a:lnTo>
                    <a:pt x="242" y="349"/>
                  </a:lnTo>
                  <a:lnTo>
                    <a:pt x="246" y="347"/>
                  </a:lnTo>
                  <a:lnTo>
                    <a:pt x="251" y="346"/>
                  </a:lnTo>
                  <a:lnTo>
                    <a:pt x="256" y="342"/>
                  </a:lnTo>
                  <a:lnTo>
                    <a:pt x="260" y="340"/>
                  </a:lnTo>
                  <a:lnTo>
                    <a:pt x="266" y="339"/>
                  </a:lnTo>
                  <a:lnTo>
                    <a:pt x="269" y="336"/>
                  </a:lnTo>
                  <a:lnTo>
                    <a:pt x="274" y="335"/>
                  </a:lnTo>
                  <a:lnTo>
                    <a:pt x="279" y="333"/>
                  </a:lnTo>
                  <a:lnTo>
                    <a:pt x="283" y="332"/>
                  </a:lnTo>
                  <a:lnTo>
                    <a:pt x="287" y="330"/>
                  </a:lnTo>
                  <a:lnTo>
                    <a:pt x="291" y="327"/>
                  </a:lnTo>
                  <a:lnTo>
                    <a:pt x="292" y="326"/>
                  </a:lnTo>
                  <a:lnTo>
                    <a:pt x="294" y="326"/>
                  </a:lnTo>
                  <a:lnTo>
                    <a:pt x="294" y="326"/>
                  </a:lnTo>
                  <a:lnTo>
                    <a:pt x="295" y="325"/>
                  </a:lnTo>
                  <a:lnTo>
                    <a:pt x="284" y="308"/>
                  </a:lnTo>
                  <a:lnTo>
                    <a:pt x="278" y="309"/>
                  </a:lnTo>
                  <a:lnTo>
                    <a:pt x="271" y="311"/>
                  </a:lnTo>
                  <a:lnTo>
                    <a:pt x="265" y="315"/>
                  </a:lnTo>
                  <a:lnTo>
                    <a:pt x="259" y="319"/>
                  </a:lnTo>
                  <a:lnTo>
                    <a:pt x="257" y="320"/>
                  </a:lnTo>
                  <a:lnTo>
                    <a:pt x="253" y="320"/>
                  </a:lnTo>
                  <a:lnTo>
                    <a:pt x="251" y="319"/>
                  </a:lnTo>
                  <a:lnTo>
                    <a:pt x="249" y="317"/>
                  </a:lnTo>
                  <a:lnTo>
                    <a:pt x="248" y="312"/>
                  </a:lnTo>
                  <a:lnTo>
                    <a:pt x="252" y="305"/>
                  </a:lnTo>
                  <a:lnTo>
                    <a:pt x="260" y="301"/>
                  </a:lnTo>
                  <a:lnTo>
                    <a:pt x="269" y="296"/>
                  </a:lnTo>
                  <a:lnTo>
                    <a:pt x="278" y="293"/>
                  </a:lnTo>
                  <a:lnTo>
                    <a:pt x="267" y="270"/>
                  </a:lnTo>
                  <a:lnTo>
                    <a:pt x="263" y="268"/>
                  </a:lnTo>
                  <a:lnTo>
                    <a:pt x="257" y="270"/>
                  </a:lnTo>
                  <a:lnTo>
                    <a:pt x="252" y="271"/>
                  </a:lnTo>
                  <a:lnTo>
                    <a:pt x="246" y="273"/>
                  </a:lnTo>
                  <a:lnTo>
                    <a:pt x="242" y="275"/>
                  </a:lnTo>
                  <a:lnTo>
                    <a:pt x="238" y="278"/>
                  </a:lnTo>
                  <a:lnTo>
                    <a:pt x="234" y="281"/>
                  </a:lnTo>
                  <a:lnTo>
                    <a:pt x="229" y="283"/>
                  </a:lnTo>
                  <a:lnTo>
                    <a:pt x="225" y="286"/>
                  </a:lnTo>
                  <a:lnTo>
                    <a:pt x="221" y="288"/>
                  </a:lnTo>
                  <a:lnTo>
                    <a:pt x="217" y="289"/>
                  </a:lnTo>
                  <a:lnTo>
                    <a:pt x="212" y="292"/>
                  </a:lnTo>
                  <a:lnTo>
                    <a:pt x="206" y="287"/>
                  </a:lnTo>
                  <a:lnTo>
                    <a:pt x="205" y="286"/>
                  </a:lnTo>
                  <a:lnTo>
                    <a:pt x="205" y="286"/>
                  </a:lnTo>
                  <a:lnTo>
                    <a:pt x="205" y="285"/>
                  </a:lnTo>
                  <a:lnTo>
                    <a:pt x="204" y="283"/>
                  </a:lnTo>
                  <a:lnTo>
                    <a:pt x="204" y="282"/>
                  </a:lnTo>
                  <a:lnTo>
                    <a:pt x="205" y="281"/>
                  </a:lnTo>
                  <a:lnTo>
                    <a:pt x="205" y="280"/>
                  </a:lnTo>
                  <a:lnTo>
                    <a:pt x="206" y="279"/>
                  </a:lnTo>
                  <a:lnTo>
                    <a:pt x="212" y="277"/>
                  </a:lnTo>
                  <a:lnTo>
                    <a:pt x="217" y="274"/>
                  </a:lnTo>
                  <a:lnTo>
                    <a:pt x="222" y="272"/>
                  </a:lnTo>
                  <a:lnTo>
                    <a:pt x="228" y="270"/>
                  </a:lnTo>
                  <a:lnTo>
                    <a:pt x="233" y="267"/>
                  </a:lnTo>
                  <a:lnTo>
                    <a:pt x="238" y="265"/>
                  </a:lnTo>
                  <a:lnTo>
                    <a:pt x="243" y="262"/>
                  </a:lnTo>
                  <a:lnTo>
                    <a:pt x="248" y="258"/>
                  </a:lnTo>
                  <a:lnTo>
                    <a:pt x="251" y="257"/>
                  </a:lnTo>
                  <a:lnTo>
                    <a:pt x="252" y="256"/>
                  </a:lnTo>
                  <a:lnTo>
                    <a:pt x="255" y="255"/>
                  </a:lnTo>
                  <a:lnTo>
                    <a:pt x="257" y="254"/>
                  </a:lnTo>
                  <a:lnTo>
                    <a:pt x="250" y="240"/>
                  </a:lnTo>
                  <a:lnTo>
                    <a:pt x="242" y="240"/>
                  </a:lnTo>
                  <a:lnTo>
                    <a:pt x="234" y="243"/>
                  </a:lnTo>
                  <a:lnTo>
                    <a:pt x="227" y="248"/>
                  </a:lnTo>
                  <a:lnTo>
                    <a:pt x="219" y="252"/>
                  </a:lnTo>
                  <a:lnTo>
                    <a:pt x="218" y="251"/>
                  </a:lnTo>
                  <a:lnTo>
                    <a:pt x="217" y="251"/>
                  </a:lnTo>
                  <a:lnTo>
                    <a:pt x="215" y="250"/>
                  </a:lnTo>
                  <a:lnTo>
                    <a:pt x="214" y="249"/>
                  </a:lnTo>
                  <a:lnTo>
                    <a:pt x="214" y="245"/>
                  </a:lnTo>
                  <a:lnTo>
                    <a:pt x="215" y="243"/>
                  </a:lnTo>
                  <a:lnTo>
                    <a:pt x="217" y="241"/>
                  </a:lnTo>
                  <a:lnTo>
                    <a:pt x="219" y="237"/>
                  </a:lnTo>
                  <a:lnTo>
                    <a:pt x="223" y="234"/>
                  </a:lnTo>
                  <a:lnTo>
                    <a:pt x="228" y="233"/>
                  </a:lnTo>
                  <a:lnTo>
                    <a:pt x="234" y="231"/>
                  </a:lnTo>
                  <a:lnTo>
                    <a:pt x="238" y="228"/>
                  </a:lnTo>
                  <a:lnTo>
                    <a:pt x="238" y="228"/>
                  </a:lnTo>
                  <a:lnTo>
                    <a:pt x="240" y="227"/>
                  </a:lnTo>
                  <a:lnTo>
                    <a:pt x="240" y="227"/>
                  </a:lnTo>
                  <a:lnTo>
                    <a:pt x="240" y="227"/>
                  </a:lnTo>
                  <a:lnTo>
                    <a:pt x="232" y="211"/>
                  </a:lnTo>
                  <a:lnTo>
                    <a:pt x="223" y="211"/>
                  </a:lnTo>
                  <a:lnTo>
                    <a:pt x="215" y="213"/>
                  </a:lnTo>
                  <a:lnTo>
                    <a:pt x="207" y="217"/>
                  </a:lnTo>
                  <a:lnTo>
                    <a:pt x="199" y="221"/>
                  </a:lnTo>
                  <a:lnTo>
                    <a:pt x="192" y="225"/>
                  </a:lnTo>
                  <a:lnTo>
                    <a:pt x="185" y="229"/>
                  </a:lnTo>
                  <a:lnTo>
                    <a:pt x="177" y="232"/>
                  </a:lnTo>
                  <a:lnTo>
                    <a:pt x="171" y="233"/>
                  </a:lnTo>
                  <a:lnTo>
                    <a:pt x="169" y="231"/>
                  </a:lnTo>
                  <a:lnTo>
                    <a:pt x="167" y="229"/>
                  </a:lnTo>
                  <a:lnTo>
                    <a:pt x="167" y="227"/>
                  </a:lnTo>
                  <a:lnTo>
                    <a:pt x="167" y="226"/>
                  </a:lnTo>
                  <a:lnTo>
                    <a:pt x="173" y="220"/>
                  </a:lnTo>
                  <a:lnTo>
                    <a:pt x="181" y="217"/>
                  </a:lnTo>
                  <a:lnTo>
                    <a:pt x="189" y="214"/>
                  </a:lnTo>
                  <a:lnTo>
                    <a:pt x="196" y="210"/>
                  </a:lnTo>
                  <a:lnTo>
                    <a:pt x="203" y="206"/>
                  </a:lnTo>
                  <a:lnTo>
                    <a:pt x="210" y="204"/>
                  </a:lnTo>
                  <a:lnTo>
                    <a:pt x="217" y="201"/>
                  </a:lnTo>
                  <a:lnTo>
                    <a:pt x="222" y="196"/>
                  </a:lnTo>
                  <a:lnTo>
                    <a:pt x="212" y="179"/>
                  </a:lnTo>
                  <a:lnTo>
                    <a:pt x="207" y="179"/>
                  </a:lnTo>
                  <a:lnTo>
                    <a:pt x="203" y="180"/>
                  </a:lnTo>
                  <a:lnTo>
                    <a:pt x="198" y="182"/>
                  </a:lnTo>
                  <a:lnTo>
                    <a:pt x="195" y="186"/>
                  </a:lnTo>
                  <a:lnTo>
                    <a:pt x="190" y="188"/>
                  </a:lnTo>
                  <a:lnTo>
                    <a:pt x="187" y="190"/>
                  </a:lnTo>
                  <a:lnTo>
                    <a:pt x="182" y="191"/>
                  </a:lnTo>
                  <a:lnTo>
                    <a:pt x="177" y="193"/>
                  </a:lnTo>
                  <a:lnTo>
                    <a:pt x="176" y="193"/>
                  </a:lnTo>
                  <a:lnTo>
                    <a:pt x="174" y="191"/>
                  </a:lnTo>
                  <a:lnTo>
                    <a:pt x="173" y="189"/>
                  </a:lnTo>
                  <a:lnTo>
                    <a:pt x="173" y="188"/>
                  </a:lnTo>
                  <a:lnTo>
                    <a:pt x="173" y="186"/>
                  </a:lnTo>
                  <a:lnTo>
                    <a:pt x="173" y="183"/>
                  </a:lnTo>
                  <a:lnTo>
                    <a:pt x="174" y="182"/>
                  </a:lnTo>
                  <a:lnTo>
                    <a:pt x="175" y="180"/>
                  </a:lnTo>
                  <a:lnTo>
                    <a:pt x="204" y="166"/>
                  </a:lnTo>
                  <a:lnTo>
                    <a:pt x="192" y="150"/>
                  </a:lnTo>
                  <a:lnTo>
                    <a:pt x="188" y="151"/>
                  </a:lnTo>
                  <a:lnTo>
                    <a:pt x="182" y="152"/>
                  </a:lnTo>
                  <a:lnTo>
                    <a:pt x="177" y="155"/>
                  </a:lnTo>
                  <a:lnTo>
                    <a:pt x="172" y="156"/>
                  </a:lnTo>
                  <a:lnTo>
                    <a:pt x="164" y="160"/>
                  </a:lnTo>
                  <a:lnTo>
                    <a:pt x="157" y="164"/>
                  </a:lnTo>
                  <a:lnTo>
                    <a:pt x="150" y="168"/>
                  </a:lnTo>
                  <a:lnTo>
                    <a:pt x="143" y="173"/>
                  </a:lnTo>
                  <a:lnTo>
                    <a:pt x="142" y="174"/>
                  </a:lnTo>
                  <a:lnTo>
                    <a:pt x="141" y="174"/>
                  </a:lnTo>
                  <a:lnTo>
                    <a:pt x="139" y="175"/>
                  </a:lnTo>
                  <a:lnTo>
                    <a:pt x="138" y="175"/>
                  </a:lnTo>
                  <a:lnTo>
                    <a:pt x="137" y="175"/>
                  </a:lnTo>
                  <a:lnTo>
                    <a:pt x="135" y="174"/>
                  </a:lnTo>
                  <a:lnTo>
                    <a:pt x="134" y="172"/>
                  </a:lnTo>
                  <a:lnTo>
                    <a:pt x="131" y="171"/>
                  </a:lnTo>
                  <a:lnTo>
                    <a:pt x="131" y="168"/>
                  </a:lnTo>
                  <a:lnTo>
                    <a:pt x="131" y="166"/>
                  </a:lnTo>
                  <a:lnTo>
                    <a:pt x="131" y="165"/>
                  </a:lnTo>
                  <a:lnTo>
                    <a:pt x="133" y="163"/>
                  </a:lnTo>
                  <a:lnTo>
                    <a:pt x="184" y="137"/>
                  </a:lnTo>
                  <a:lnTo>
                    <a:pt x="174" y="120"/>
                  </a:lnTo>
                  <a:lnTo>
                    <a:pt x="172" y="119"/>
                  </a:lnTo>
                  <a:lnTo>
                    <a:pt x="169" y="119"/>
                  </a:lnTo>
                  <a:lnTo>
                    <a:pt x="166" y="120"/>
                  </a:lnTo>
                  <a:lnTo>
                    <a:pt x="164" y="121"/>
                  </a:lnTo>
                  <a:lnTo>
                    <a:pt x="150" y="125"/>
                  </a:lnTo>
                  <a:lnTo>
                    <a:pt x="149" y="126"/>
                  </a:lnTo>
                  <a:lnTo>
                    <a:pt x="149" y="126"/>
                  </a:lnTo>
                  <a:lnTo>
                    <a:pt x="149" y="126"/>
                  </a:lnTo>
                  <a:lnTo>
                    <a:pt x="149" y="127"/>
                  </a:lnTo>
                  <a:lnTo>
                    <a:pt x="142" y="131"/>
                  </a:lnTo>
                  <a:lnTo>
                    <a:pt x="141" y="131"/>
                  </a:lnTo>
                  <a:lnTo>
                    <a:pt x="139" y="130"/>
                  </a:lnTo>
                  <a:lnTo>
                    <a:pt x="137" y="130"/>
                  </a:lnTo>
                  <a:lnTo>
                    <a:pt x="136" y="129"/>
                  </a:lnTo>
                  <a:lnTo>
                    <a:pt x="134" y="125"/>
                  </a:lnTo>
                  <a:lnTo>
                    <a:pt x="138" y="118"/>
                  </a:lnTo>
                  <a:lnTo>
                    <a:pt x="146" y="113"/>
                  </a:lnTo>
                  <a:lnTo>
                    <a:pt x="156" y="108"/>
                  </a:lnTo>
                  <a:lnTo>
                    <a:pt x="162" y="103"/>
                  </a:lnTo>
                  <a:lnTo>
                    <a:pt x="158" y="92"/>
                  </a:lnTo>
                  <a:lnTo>
                    <a:pt x="150" y="92"/>
                  </a:lnTo>
                  <a:lnTo>
                    <a:pt x="142" y="95"/>
                  </a:lnTo>
                  <a:lnTo>
                    <a:pt x="135" y="98"/>
                  </a:lnTo>
                  <a:lnTo>
                    <a:pt x="127" y="103"/>
                  </a:lnTo>
                  <a:lnTo>
                    <a:pt x="120" y="107"/>
                  </a:lnTo>
                  <a:lnTo>
                    <a:pt x="113" y="112"/>
                  </a:lnTo>
                  <a:lnTo>
                    <a:pt x="106" y="115"/>
                  </a:lnTo>
                  <a:lnTo>
                    <a:pt x="99" y="119"/>
                  </a:lnTo>
                  <a:lnTo>
                    <a:pt x="97" y="121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89" y="125"/>
                  </a:lnTo>
                  <a:lnTo>
                    <a:pt x="88" y="123"/>
                  </a:lnTo>
                  <a:lnTo>
                    <a:pt x="87" y="121"/>
                  </a:lnTo>
                  <a:lnTo>
                    <a:pt x="85" y="119"/>
                  </a:lnTo>
                  <a:lnTo>
                    <a:pt x="84" y="117"/>
                  </a:lnTo>
                  <a:lnTo>
                    <a:pt x="91" y="110"/>
                  </a:lnTo>
                  <a:lnTo>
                    <a:pt x="99" y="105"/>
                  </a:lnTo>
                  <a:lnTo>
                    <a:pt x="107" y="99"/>
                  </a:lnTo>
                  <a:lnTo>
                    <a:pt x="115" y="96"/>
                  </a:lnTo>
                  <a:lnTo>
                    <a:pt x="123" y="91"/>
                  </a:lnTo>
                  <a:lnTo>
                    <a:pt x="133" y="88"/>
                  </a:lnTo>
                  <a:lnTo>
                    <a:pt x="141" y="83"/>
                  </a:lnTo>
                  <a:lnTo>
                    <a:pt x="149" y="79"/>
                  </a:lnTo>
                  <a:lnTo>
                    <a:pt x="144" y="66"/>
                  </a:lnTo>
                  <a:lnTo>
                    <a:pt x="136" y="66"/>
                  </a:lnTo>
                  <a:lnTo>
                    <a:pt x="127" y="69"/>
                  </a:lnTo>
                  <a:lnTo>
                    <a:pt x="120" y="73"/>
                  </a:lnTo>
                  <a:lnTo>
                    <a:pt x="113" y="77"/>
                  </a:lnTo>
                  <a:lnTo>
                    <a:pt x="112" y="77"/>
                  </a:lnTo>
                  <a:lnTo>
                    <a:pt x="111" y="77"/>
                  </a:lnTo>
                  <a:lnTo>
                    <a:pt x="108" y="77"/>
                  </a:lnTo>
                  <a:lnTo>
                    <a:pt x="107" y="76"/>
                  </a:lnTo>
                  <a:lnTo>
                    <a:pt x="106" y="74"/>
                  </a:lnTo>
                  <a:lnTo>
                    <a:pt x="106" y="73"/>
                  </a:lnTo>
                  <a:lnTo>
                    <a:pt x="106" y="70"/>
                  </a:lnTo>
                  <a:lnTo>
                    <a:pt x="106" y="69"/>
                  </a:lnTo>
                  <a:lnTo>
                    <a:pt x="112" y="64"/>
                  </a:lnTo>
                  <a:lnTo>
                    <a:pt x="119" y="59"/>
                  </a:lnTo>
                  <a:lnTo>
                    <a:pt x="127" y="55"/>
                  </a:lnTo>
                  <a:lnTo>
                    <a:pt x="135" y="52"/>
                  </a:lnTo>
                  <a:lnTo>
                    <a:pt x="128" y="42"/>
                  </a:lnTo>
                  <a:lnTo>
                    <a:pt x="122" y="43"/>
                  </a:lnTo>
                  <a:lnTo>
                    <a:pt x="115" y="44"/>
                  </a:lnTo>
                  <a:lnTo>
                    <a:pt x="108" y="46"/>
                  </a:lnTo>
                  <a:lnTo>
                    <a:pt x="102" y="49"/>
                  </a:lnTo>
                  <a:lnTo>
                    <a:pt x="95" y="51"/>
                  </a:lnTo>
                  <a:lnTo>
                    <a:pt x="88" y="54"/>
                  </a:lnTo>
                  <a:lnTo>
                    <a:pt x="81" y="58"/>
                  </a:lnTo>
                  <a:lnTo>
                    <a:pt x="75" y="61"/>
                  </a:lnTo>
                  <a:lnTo>
                    <a:pt x="69" y="66"/>
                  </a:lnTo>
                  <a:lnTo>
                    <a:pt x="69" y="67"/>
                  </a:lnTo>
                  <a:lnTo>
                    <a:pt x="69" y="67"/>
                  </a:lnTo>
                  <a:lnTo>
                    <a:pt x="69" y="68"/>
                  </a:lnTo>
                  <a:lnTo>
                    <a:pt x="68" y="68"/>
                  </a:lnTo>
                  <a:lnTo>
                    <a:pt x="59" y="69"/>
                  </a:lnTo>
                  <a:lnTo>
                    <a:pt x="55" y="67"/>
                  </a:lnTo>
                  <a:lnTo>
                    <a:pt x="54" y="58"/>
                  </a:lnTo>
                  <a:lnTo>
                    <a:pt x="60" y="54"/>
                  </a:lnTo>
                  <a:lnTo>
                    <a:pt x="67" y="51"/>
                  </a:lnTo>
                  <a:lnTo>
                    <a:pt x="74" y="47"/>
                  </a:lnTo>
                  <a:lnTo>
                    <a:pt x="81" y="43"/>
                  </a:lnTo>
                  <a:lnTo>
                    <a:pt x="88" y="39"/>
                  </a:lnTo>
                  <a:lnTo>
                    <a:pt x="93" y="35"/>
                  </a:lnTo>
                  <a:lnTo>
                    <a:pt x="100" y="31"/>
                  </a:lnTo>
                  <a:lnTo>
                    <a:pt x="107" y="27"/>
                  </a:lnTo>
                  <a:lnTo>
                    <a:pt x="111" y="27"/>
                  </a:lnTo>
                  <a:lnTo>
                    <a:pt x="113" y="24"/>
                  </a:lnTo>
                  <a:lnTo>
                    <a:pt x="116" y="23"/>
                  </a:lnTo>
                  <a:lnTo>
                    <a:pt x="119" y="23"/>
                  </a:lnTo>
                  <a:lnTo>
                    <a:pt x="119" y="21"/>
                  </a:lnTo>
                  <a:lnTo>
                    <a:pt x="118" y="20"/>
                  </a:lnTo>
                  <a:lnTo>
                    <a:pt x="118" y="17"/>
                  </a:lnTo>
                  <a:lnTo>
                    <a:pt x="116" y="16"/>
                  </a:lnTo>
                  <a:lnTo>
                    <a:pt x="111" y="16"/>
                  </a:lnTo>
                  <a:lnTo>
                    <a:pt x="106" y="17"/>
                  </a:lnTo>
                  <a:lnTo>
                    <a:pt x="100" y="20"/>
                  </a:lnTo>
                  <a:lnTo>
                    <a:pt x="96" y="22"/>
                  </a:lnTo>
                  <a:lnTo>
                    <a:pt x="93" y="24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2" y="27"/>
                  </a:lnTo>
                  <a:lnTo>
                    <a:pt x="80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80" y="15"/>
                  </a:lnTo>
                  <a:lnTo>
                    <a:pt x="104" y="4"/>
                  </a:lnTo>
                  <a:lnTo>
                    <a:pt x="97" y="1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59" y="4"/>
                  </a:lnTo>
                  <a:lnTo>
                    <a:pt x="51" y="7"/>
                  </a:lnTo>
                  <a:lnTo>
                    <a:pt x="45" y="12"/>
                  </a:lnTo>
                  <a:lnTo>
                    <a:pt x="38" y="16"/>
                  </a:lnTo>
                  <a:lnTo>
                    <a:pt x="32" y="22"/>
                  </a:lnTo>
                  <a:lnTo>
                    <a:pt x="27" y="28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8" y="43"/>
                  </a:lnTo>
                  <a:lnTo>
                    <a:pt x="14" y="46"/>
                  </a:lnTo>
                  <a:lnTo>
                    <a:pt x="12" y="50"/>
                  </a:lnTo>
                  <a:lnTo>
                    <a:pt x="4" y="68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710520" y="4561200"/>
              <a:ext cx="7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719160" y="4556880"/>
              <a:ext cx="10080" cy="1944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1" y="11"/>
                  </a:moveTo>
                  <a:lnTo>
                    <a:pt x="15" y="36"/>
                  </a:lnTo>
                  <a:lnTo>
                    <a:pt x="17" y="36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3" y="33"/>
                  </a:lnTo>
                  <a:lnTo>
                    <a:pt x="22" y="27"/>
                  </a:lnTo>
                  <a:lnTo>
                    <a:pt x="19" y="21"/>
                  </a:lnTo>
                  <a:lnTo>
                    <a:pt x="15" y="15"/>
                  </a:lnTo>
                  <a:lnTo>
                    <a:pt x="11" y="10"/>
                  </a:lnTo>
                  <a:lnTo>
                    <a:pt x="10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854160" y="4252680"/>
              <a:ext cx="35640" cy="27720"/>
            </a:xfrm>
            <a:custGeom>
              <a:avLst/>
              <a:gdLst/>
              <a:ahLst/>
              <a:rect l="l" t="t" r="r" b="b"/>
              <a:pathLst>
                <a:path w="77" h="49">
                  <a:moveTo>
                    <a:pt x="1" y="47"/>
                  </a:moveTo>
                  <a:lnTo>
                    <a:pt x="2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10" y="48"/>
                  </a:lnTo>
                  <a:lnTo>
                    <a:pt x="17" y="49"/>
                  </a:lnTo>
                  <a:lnTo>
                    <a:pt x="23" y="49"/>
                  </a:lnTo>
                  <a:lnTo>
                    <a:pt x="30" y="48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7" y="48"/>
                  </a:lnTo>
                  <a:lnTo>
                    <a:pt x="39" y="47"/>
                  </a:lnTo>
                  <a:lnTo>
                    <a:pt x="37" y="44"/>
                  </a:lnTo>
                  <a:lnTo>
                    <a:pt x="34" y="40"/>
                  </a:lnTo>
                  <a:lnTo>
                    <a:pt x="33" y="37"/>
                  </a:lnTo>
                  <a:lnTo>
                    <a:pt x="33" y="33"/>
                  </a:lnTo>
                  <a:lnTo>
                    <a:pt x="34" y="31"/>
                  </a:lnTo>
                  <a:lnTo>
                    <a:pt x="36" y="29"/>
                  </a:lnTo>
                  <a:lnTo>
                    <a:pt x="38" y="27"/>
                  </a:lnTo>
                  <a:lnTo>
                    <a:pt x="40" y="26"/>
                  </a:lnTo>
                  <a:lnTo>
                    <a:pt x="45" y="25"/>
                  </a:lnTo>
                  <a:lnTo>
                    <a:pt x="48" y="25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5" y="30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61" y="36"/>
                  </a:lnTo>
                  <a:lnTo>
                    <a:pt x="68" y="30"/>
                  </a:lnTo>
                  <a:lnTo>
                    <a:pt x="72" y="23"/>
                  </a:lnTo>
                  <a:lnTo>
                    <a:pt x="76" y="15"/>
                  </a:lnTo>
                  <a:lnTo>
                    <a:pt x="77" y="7"/>
                  </a:lnTo>
                  <a:lnTo>
                    <a:pt x="76" y="3"/>
                  </a:lnTo>
                  <a:lnTo>
                    <a:pt x="75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4" y="4"/>
                  </a:lnTo>
                  <a:lnTo>
                    <a:pt x="39" y="6"/>
                  </a:lnTo>
                  <a:lnTo>
                    <a:pt x="34" y="8"/>
                  </a:lnTo>
                  <a:lnTo>
                    <a:pt x="30" y="9"/>
                  </a:lnTo>
                  <a:lnTo>
                    <a:pt x="19" y="16"/>
                  </a:lnTo>
                  <a:lnTo>
                    <a:pt x="11" y="23"/>
                  </a:lnTo>
                  <a:lnTo>
                    <a:pt x="4" y="32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728520" y="4565160"/>
              <a:ext cx="12960" cy="1764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3" y="8"/>
                  </a:moveTo>
                  <a:lnTo>
                    <a:pt x="17" y="30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9" y="28"/>
                  </a:lnTo>
                  <a:lnTo>
                    <a:pt x="17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1"/>
                  </a:lnTo>
                  <a:lnTo>
                    <a:pt x="9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669480" y="4509000"/>
              <a:ext cx="50400" cy="3312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58"/>
                  </a:moveTo>
                  <a:lnTo>
                    <a:pt x="1" y="59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0" y="49"/>
                  </a:lnTo>
                  <a:lnTo>
                    <a:pt x="25" y="46"/>
                  </a:lnTo>
                  <a:lnTo>
                    <a:pt x="31" y="43"/>
                  </a:lnTo>
                  <a:lnTo>
                    <a:pt x="37" y="41"/>
                  </a:lnTo>
                  <a:lnTo>
                    <a:pt x="43" y="37"/>
                  </a:lnTo>
                  <a:lnTo>
                    <a:pt x="48" y="35"/>
                  </a:lnTo>
                  <a:lnTo>
                    <a:pt x="54" y="31"/>
                  </a:lnTo>
                  <a:lnTo>
                    <a:pt x="60" y="29"/>
                  </a:lnTo>
                  <a:lnTo>
                    <a:pt x="66" y="26"/>
                  </a:lnTo>
                  <a:lnTo>
                    <a:pt x="70" y="22"/>
                  </a:lnTo>
                  <a:lnTo>
                    <a:pt x="77" y="19"/>
                  </a:lnTo>
                  <a:lnTo>
                    <a:pt x="83" y="16"/>
                  </a:lnTo>
                  <a:lnTo>
                    <a:pt x="89" y="14"/>
                  </a:lnTo>
                  <a:lnTo>
                    <a:pt x="94" y="12"/>
                  </a:lnTo>
                  <a:lnTo>
                    <a:pt x="99" y="10"/>
                  </a:lnTo>
                  <a:lnTo>
                    <a:pt x="104" y="6"/>
                  </a:lnTo>
                  <a:lnTo>
                    <a:pt x="106" y="0"/>
                  </a:lnTo>
                  <a:lnTo>
                    <a:pt x="73" y="16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1"/>
                  </a:lnTo>
                  <a:lnTo>
                    <a:pt x="15" y="46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679200" y="4504680"/>
              <a:ext cx="32040" cy="2088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0" y="37"/>
                  </a:moveTo>
                  <a:lnTo>
                    <a:pt x="8" y="35"/>
                  </a:lnTo>
                  <a:lnTo>
                    <a:pt x="15" y="34"/>
                  </a:lnTo>
                  <a:lnTo>
                    <a:pt x="23" y="31"/>
                  </a:lnTo>
                  <a:lnTo>
                    <a:pt x="31" y="28"/>
                  </a:lnTo>
                  <a:lnTo>
                    <a:pt x="39" y="26"/>
                  </a:lnTo>
                  <a:lnTo>
                    <a:pt x="46" y="23"/>
                  </a:lnTo>
                  <a:lnTo>
                    <a:pt x="54" y="20"/>
                  </a:lnTo>
                  <a:lnTo>
                    <a:pt x="61" y="17"/>
                  </a:lnTo>
                  <a:lnTo>
                    <a:pt x="61" y="15"/>
                  </a:lnTo>
                  <a:lnTo>
                    <a:pt x="61" y="14"/>
                  </a:lnTo>
                  <a:lnTo>
                    <a:pt x="61" y="12"/>
                  </a:lnTo>
                  <a:lnTo>
                    <a:pt x="61" y="11"/>
                  </a:lnTo>
                  <a:lnTo>
                    <a:pt x="68" y="4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26" y="2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686760" y="4570920"/>
              <a:ext cx="67320" cy="41760"/>
            </a:xfrm>
            <a:custGeom>
              <a:avLst/>
              <a:gdLst/>
              <a:ahLst/>
              <a:rect l="l" t="t" r="r" b="b"/>
              <a:pathLst>
                <a:path w="140" h="77">
                  <a:moveTo>
                    <a:pt x="0" y="76"/>
                  </a:moveTo>
                  <a:lnTo>
                    <a:pt x="1" y="77"/>
                  </a:lnTo>
                  <a:lnTo>
                    <a:pt x="11" y="67"/>
                  </a:lnTo>
                  <a:lnTo>
                    <a:pt x="23" y="59"/>
                  </a:lnTo>
                  <a:lnTo>
                    <a:pt x="36" y="51"/>
                  </a:lnTo>
                  <a:lnTo>
                    <a:pt x="48" y="44"/>
                  </a:lnTo>
                  <a:lnTo>
                    <a:pt x="62" y="38"/>
                  </a:lnTo>
                  <a:lnTo>
                    <a:pt x="75" y="31"/>
                  </a:lnTo>
                  <a:lnTo>
                    <a:pt x="89" y="25"/>
                  </a:lnTo>
                  <a:lnTo>
                    <a:pt x="102" y="19"/>
                  </a:lnTo>
                  <a:lnTo>
                    <a:pt x="116" y="13"/>
                  </a:lnTo>
                  <a:lnTo>
                    <a:pt x="117" y="13"/>
                  </a:lnTo>
                  <a:lnTo>
                    <a:pt x="117" y="12"/>
                  </a:lnTo>
                  <a:lnTo>
                    <a:pt x="118" y="12"/>
                  </a:lnTo>
                  <a:lnTo>
                    <a:pt x="118" y="12"/>
                  </a:lnTo>
                  <a:lnTo>
                    <a:pt x="122" y="12"/>
                  </a:lnTo>
                  <a:lnTo>
                    <a:pt x="140" y="6"/>
                  </a:lnTo>
                  <a:lnTo>
                    <a:pt x="139" y="4"/>
                  </a:lnTo>
                  <a:lnTo>
                    <a:pt x="138" y="3"/>
                  </a:lnTo>
                  <a:lnTo>
                    <a:pt x="137" y="1"/>
                  </a:lnTo>
                  <a:lnTo>
                    <a:pt x="135" y="0"/>
                  </a:lnTo>
                  <a:lnTo>
                    <a:pt x="126" y="2"/>
                  </a:lnTo>
                  <a:lnTo>
                    <a:pt x="118" y="4"/>
                  </a:lnTo>
                  <a:lnTo>
                    <a:pt x="110" y="8"/>
                  </a:lnTo>
                  <a:lnTo>
                    <a:pt x="102" y="10"/>
                  </a:lnTo>
                  <a:lnTo>
                    <a:pt x="92" y="13"/>
                  </a:lnTo>
                  <a:lnTo>
                    <a:pt x="82" y="17"/>
                  </a:lnTo>
                  <a:lnTo>
                    <a:pt x="71" y="21"/>
                  </a:lnTo>
                  <a:lnTo>
                    <a:pt x="62" y="26"/>
                  </a:lnTo>
                  <a:lnTo>
                    <a:pt x="53" y="32"/>
                  </a:lnTo>
                  <a:lnTo>
                    <a:pt x="42" y="38"/>
                  </a:lnTo>
                  <a:lnTo>
                    <a:pt x="33" y="43"/>
                  </a:lnTo>
                  <a:lnTo>
                    <a:pt x="24" y="49"/>
                  </a:lnTo>
                  <a:lnTo>
                    <a:pt x="5" y="69"/>
                  </a:lnTo>
                  <a:lnTo>
                    <a:pt x="0" y="69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694320" y="4566600"/>
              <a:ext cx="57600" cy="3384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" y="63"/>
                  </a:moveTo>
                  <a:lnTo>
                    <a:pt x="14" y="61"/>
                  </a:lnTo>
                  <a:lnTo>
                    <a:pt x="25" y="58"/>
                  </a:lnTo>
                  <a:lnTo>
                    <a:pt x="33" y="51"/>
                  </a:lnTo>
                  <a:lnTo>
                    <a:pt x="42" y="43"/>
                  </a:lnTo>
                  <a:lnTo>
                    <a:pt x="51" y="35"/>
                  </a:lnTo>
                  <a:lnTo>
                    <a:pt x="60" y="28"/>
                  </a:lnTo>
                  <a:lnTo>
                    <a:pt x="69" y="23"/>
                  </a:lnTo>
                  <a:lnTo>
                    <a:pt x="82" y="22"/>
                  </a:lnTo>
                  <a:lnTo>
                    <a:pt x="87" y="22"/>
                  </a:lnTo>
                  <a:lnTo>
                    <a:pt x="93" y="21"/>
                  </a:lnTo>
                  <a:lnTo>
                    <a:pt x="99" y="20"/>
                  </a:lnTo>
                  <a:lnTo>
                    <a:pt x="103" y="18"/>
                  </a:lnTo>
                  <a:lnTo>
                    <a:pt x="108" y="14"/>
                  </a:lnTo>
                  <a:lnTo>
                    <a:pt x="113" y="11"/>
                  </a:lnTo>
                  <a:lnTo>
                    <a:pt x="117" y="7"/>
                  </a:lnTo>
                  <a:lnTo>
                    <a:pt x="121" y="3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06" y="4"/>
                  </a:lnTo>
                  <a:lnTo>
                    <a:pt x="91" y="8"/>
                  </a:lnTo>
                  <a:lnTo>
                    <a:pt x="75" y="14"/>
                  </a:lnTo>
                  <a:lnTo>
                    <a:pt x="61" y="21"/>
                  </a:lnTo>
                  <a:lnTo>
                    <a:pt x="46" y="28"/>
                  </a:lnTo>
                  <a:lnTo>
                    <a:pt x="32" y="37"/>
                  </a:lnTo>
                  <a:lnTo>
                    <a:pt x="18" y="46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59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1" y="61"/>
                  </a:lnTo>
                  <a:lnTo>
                    <a:pt x="0" y="63"/>
                  </a:lnTo>
                  <a:lnTo>
                    <a:pt x="1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832200" y="4257000"/>
              <a:ext cx="69120" cy="42840"/>
            </a:xfrm>
            <a:custGeom>
              <a:avLst/>
              <a:gdLst/>
              <a:ahLst/>
              <a:rect l="l" t="t" r="r" b="b"/>
              <a:pathLst>
                <a:path w="145" h="78">
                  <a:moveTo>
                    <a:pt x="0" y="71"/>
                  </a:moveTo>
                  <a:lnTo>
                    <a:pt x="7" y="75"/>
                  </a:lnTo>
                  <a:lnTo>
                    <a:pt x="14" y="77"/>
                  </a:lnTo>
                  <a:lnTo>
                    <a:pt x="21" y="78"/>
                  </a:lnTo>
                  <a:lnTo>
                    <a:pt x="29" y="78"/>
                  </a:lnTo>
                  <a:lnTo>
                    <a:pt x="31" y="68"/>
                  </a:lnTo>
                  <a:lnTo>
                    <a:pt x="34" y="62"/>
                  </a:lnTo>
                  <a:lnTo>
                    <a:pt x="39" y="56"/>
                  </a:lnTo>
                  <a:lnTo>
                    <a:pt x="45" y="52"/>
                  </a:lnTo>
                  <a:lnTo>
                    <a:pt x="51" y="46"/>
                  </a:lnTo>
                  <a:lnTo>
                    <a:pt x="54" y="44"/>
                  </a:lnTo>
                  <a:lnTo>
                    <a:pt x="57" y="41"/>
                  </a:lnTo>
                  <a:lnTo>
                    <a:pt x="60" y="40"/>
                  </a:lnTo>
                  <a:lnTo>
                    <a:pt x="63" y="38"/>
                  </a:lnTo>
                  <a:lnTo>
                    <a:pt x="70" y="35"/>
                  </a:lnTo>
                  <a:lnTo>
                    <a:pt x="77" y="32"/>
                  </a:lnTo>
                  <a:lnTo>
                    <a:pt x="84" y="30"/>
                  </a:lnTo>
                  <a:lnTo>
                    <a:pt x="91" y="28"/>
                  </a:lnTo>
                  <a:lnTo>
                    <a:pt x="98" y="25"/>
                  </a:lnTo>
                  <a:lnTo>
                    <a:pt x="105" y="23"/>
                  </a:lnTo>
                  <a:lnTo>
                    <a:pt x="113" y="22"/>
                  </a:lnTo>
                  <a:lnTo>
                    <a:pt x="120" y="21"/>
                  </a:lnTo>
                  <a:lnTo>
                    <a:pt x="122" y="21"/>
                  </a:lnTo>
                  <a:lnTo>
                    <a:pt x="124" y="22"/>
                  </a:lnTo>
                  <a:lnTo>
                    <a:pt x="127" y="23"/>
                  </a:lnTo>
                  <a:lnTo>
                    <a:pt x="129" y="24"/>
                  </a:lnTo>
                  <a:lnTo>
                    <a:pt x="132" y="23"/>
                  </a:lnTo>
                  <a:lnTo>
                    <a:pt x="136" y="20"/>
                  </a:lnTo>
                  <a:lnTo>
                    <a:pt x="139" y="16"/>
                  </a:lnTo>
                  <a:lnTo>
                    <a:pt x="143" y="13"/>
                  </a:lnTo>
                  <a:lnTo>
                    <a:pt x="143" y="10"/>
                  </a:lnTo>
                  <a:lnTo>
                    <a:pt x="144" y="9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45" y="7"/>
                  </a:lnTo>
                  <a:lnTo>
                    <a:pt x="145" y="6"/>
                  </a:lnTo>
                  <a:lnTo>
                    <a:pt x="145" y="5"/>
                  </a:lnTo>
                  <a:lnTo>
                    <a:pt x="145" y="3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5" y="0"/>
                  </a:lnTo>
                  <a:lnTo>
                    <a:pt x="131" y="1"/>
                  </a:lnTo>
                  <a:lnTo>
                    <a:pt x="128" y="1"/>
                  </a:lnTo>
                  <a:lnTo>
                    <a:pt x="121" y="3"/>
                  </a:lnTo>
                  <a:lnTo>
                    <a:pt x="114" y="5"/>
                  </a:lnTo>
                  <a:lnTo>
                    <a:pt x="107" y="7"/>
                  </a:lnTo>
                  <a:lnTo>
                    <a:pt x="100" y="9"/>
                  </a:lnTo>
                  <a:lnTo>
                    <a:pt x="93" y="10"/>
                  </a:lnTo>
                  <a:lnTo>
                    <a:pt x="86" y="13"/>
                  </a:lnTo>
                  <a:lnTo>
                    <a:pt x="79" y="16"/>
                  </a:lnTo>
                  <a:lnTo>
                    <a:pt x="72" y="18"/>
                  </a:lnTo>
                  <a:lnTo>
                    <a:pt x="63" y="24"/>
                  </a:lnTo>
                  <a:lnTo>
                    <a:pt x="53" y="30"/>
                  </a:lnTo>
                  <a:lnTo>
                    <a:pt x="43" y="36"/>
                  </a:lnTo>
                  <a:lnTo>
                    <a:pt x="33" y="41"/>
                  </a:lnTo>
                  <a:lnTo>
                    <a:pt x="24" y="47"/>
                  </a:lnTo>
                  <a:lnTo>
                    <a:pt x="15" y="54"/>
                  </a:lnTo>
                  <a:lnTo>
                    <a:pt x="7" y="62"/>
                  </a:lnTo>
                  <a:lnTo>
                    <a:pt x="0" y="7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762720" y="4567680"/>
              <a:ext cx="42840" cy="2520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43"/>
                  </a:moveTo>
                  <a:lnTo>
                    <a:pt x="1" y="44"/>
                  </a:lnTo>
                  <a:lnTo>
                    <a:pt x="2" y="44"/>
                  </a:lnTo>
                  <a:lnTo>
                    <a:pt x="4" y="45"/>
                  </a:lnTo>
                  <a:lnTo>
                    <a:pt x="5" y="45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89" y="0"/>
                  </a:lnTo>
                  <a:lnTo>
                    <a:pt x="0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776040" y="4564440"/>
              <a:ext cx="27360" cy="1728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1" y="29"/>
                  </a:moveTo>
                  <a:lnTo>
                    <a:pt x="3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11" y="30"/>
                  </a:lnTo>
                  <a:lnTo>
                    <a:pt x="16" y="29"/>
                  </a:lnTo>
                  <a:lnTo>
                    <a:pt x="21" y="25"/>
                  </a:lnTo>
                  <a:lnTo>
                    <a:pt x="27" y="23"/>
                  </a:lnTo>
                  <a:lnTo>
                    <a:pt x="31" y="20"/>
                  </a:lnTo>
                  <a:lnTo>
                    <a:pt x="36" y="16"/>
                  </a:lnTo>
                  <a:lnTo>
                    <a:pt x="42" y="13"/>
                  </a:lnTo>
                  <a:lnTo>
                    <a:pt x="46" y="9"/>
                  </a:lnTo>
                  <a:lnTo>
                    <a:pt x="50" y="7"/>
                  </a:lnTo>
                  <a:lnTo>
                    <a:pt x="53" y="5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51" y="2"/>
                  </a:lnTo>
                  <a:lnTo>
                    <a:pt x="44" y="6"/>
                  </a:lnTo>
                  <a:lnTo>
                    <a:pt x="37" y="9"/>
                  </a:lnTo>
                  <a:lnTo>
                    <a:pt x="30" y="13"/>
                  </a:lnTo>
                  <a:lnTo>
                    <a:pt x="23" y="16"/>
                  </a:lnTo>
                  <a:lnTo>
                    <a:pt x="15" y="20"/>
                  </a:lnTo>
                  <a:lnTo>
                    <a:pt x="8" y="23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438280" y="2133720"/>
            <a:ext cx="3657600" cy="1942560"/>
          </a:xfrm>
          <a:prstGeom prst="ellipse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ahoma"/>
              </a:rPr>
              <a:t>Puert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ahoma"/>
              </a:rPr>
              <a:t>Salida/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3594240" y="4368960"/>
            <a:ext cx="906480" cy="7934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042920" y="404640"/>
            <a:ext cx="698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RTA DE SALIDA Y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2838600" y="1906920"/>
            <a:ext cx="3470400" cy="738000"/>
            <a:chOff x="2838600" y="1906920"/>
            <a:chExt cx="3470400" cy="738000"/>
          </a:xfrm>
        </p:grpSpPr>
        <p:sp>
          <p:nvSpPr>
            <p:cNvPr id="306" name=""/>
            <p:cNvSpPr/>
            <p:nvPr/>
          </p:nvSpPr>
          <p:spPr>
            <a:xfrm rot="21526800">
              <a:off x="3762720" y="2237040"/>
              <a:ext cx="925560" cy="36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26800">
              <a:off x="4897800" y="2271240"/>
              <a:ext cx="893520" cy="36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1526800">
              <a:off x="3418920" y="1915920"/>
              <a:ext cx="858600" cy="36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1526800">
              <a:off x="4416840" y="1973520"/>
              <a:ext cx="821880" cy="36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1526800">
              <a:off x="5412240" y="1961280"/>
              <a:ext cx="892800" cy="36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6400">
              <a:off x="3497400" y="2243520"/>
              <a:ext cx="2735640" cy="114480"/>
            </a:xfrm>
            <a:custGeom>
              <a:avLst/>
              <a:gdLst/>
              <a:ahLst/>
              <a:rect l="l" t="t" r="r" b="b"/>
              <a:pathLst>
                <a:path w="3822" h="206">
                  <a:moveTo>
                    <a:pt x="60" y="94"/>
                  </a:moveTo>
                  <a:lnTo>
                    <a:pt x="84" y="100"/>
                  </a:lnTo>
                  <a:lnTo>
                    <a:pt x="120" y="109"/>
                  </a:lnTo>
                  <a:lnTo>
                    <a:pt x="169" y="117"/>
                  </a:lnTo>
                  <a:lnTo>
                    <a:pt x="223" y="126"/>
                  </a:lnTo>
                  <a:lnTo>
                    <a:pt x="280" y="132"/>
                  </a:lnTo>
                  <a:lnTo>
                    <a:pt x="343" y="132"/>
                  </a:lnTo>
                  <a:lnTo>
                    <a:pt x="406" y="126"/>
                  </a:lnTo>
                  <a:lnTo>
                    <a:pt x="467" y="112"/>
                  </a:lnTo>
                  <a:lnTo>
                    <a:pt x="503" y="102"/>
                  </a:lnTo>
                  <a:lnTo>
                    <a:pt x="548" y="92"/>
                  </a:lnTo>
                  <a:lnTo>
                    <a:pt x="605" y="82"/>
                  </a:lnTo>
                  <a:lnTo>
                    <a:pt x="665" y="72"/>
                  </a:lnTo>
                  <a:lnTo>
                    <a:pt x="734" y="64"/>
                  </a:lnTo>
                  <a:lnTo>
                    <a:pt x="801" y="55"/>
                  </a:lnTo>
                  <a:lnTo>
                    <a:pt x="870" y="48"/>
                  </a:lnTo>
                  <a:lnTo>
                    <a:pt x="936" y="43"/>
                  </a:lnTo>
                  <a:lnTo>
                    <a:pt x="999" y="40"/>
                  </a:lnTo>
                  <a:lnTo>
                    <a:pt x="1053" y="40"/>
                  </a:lnTo>
                  <a:lnTo>
                    <a:pt x="1098" y="42"/>
                  </a:lnTo>
                  <a:lnTo>
                    <a:pt x="1132" y="47"/>
                  </a:lnTo>
                  <a:lnTo>
                    <a:pt x="1153" y="55"/>
                  </a:lnTo>
                  <a:lnTo>
                    <a:pt x="1159" y="67"/>
                  </a:lnTo>
                  <a:lnTo>
                    <a:pt x="1144" y="84"/>
                  </a:lnTo>
                  <a:lnTo>
                    <a:pt x="1111" y="104"/>
                  </a:lnTo>
                  <a:lnTo>
                    <a:pt x="1053" y="136"/>
                  </a:lnTo>
                  <a:lnTo>
                    <a:pt x="1035" y="156"/>
                  </a:lnTo>
                  <a:lnTo>
                    <a:pt x="1047" y="162"/>
                  </a:lnTo>
                  <a:lnTo>
                    <a:pt x="1080" y="162"/>
                  </a:lnTo>
                  <a:lnTo>
                    <a:pt x="1129" y="154"/>
                  </a:lnTo>
                  <a:lnTo>
                    <a:pt x="1183" y="141"/>
                  </a:lnTo>
                  <a:lnTo>
                    <a:pt x="1234" y="126"/>
                  </a:lnTo>
                  <a:lnTo>
                    <a:pt x="1273" y="110"/>
                  </a:lnTo>
                  <a:lnTo>
                    <a:pt x="1318" y="94"/>
                  </a:lnTo>
                  <a:lnTo>
                    <a:pt x="1375" y="77"/>
                  </a:lnTo>
                  <a:lnTo>
                    <a:pt x="1436" y="64"/>
                  </a:lnTo>
                  <a:lnTo>
                    <a:pt x="1502" y="52"/>
                  </a:lnTo>
                  <a:lnTo>
                    <a:pt x="1565" y="43"/>
                  </a:lnTo>
                  <a:lnTo>
                    <a:pt x="1631" y="37"/>
                  </a:lnTo>
                  <a:lnTo>
                    <a:pt x="1688" y="33"/>
                  </a:lnTo>
                  <a:lnTo>
                    <a:pt x="1739" y="32"/>
                  </a:lnTo>
                  <a:lnTo>
                    <a:pt x="1785" y="35"/>
                  </a:lnTo>
                  <a:lnTo>
                    <a:pt x="1824" y="40"/>
                  </a:lnTo>
                  <a:lnTo>
                    <a:pt x="1860" y="48"/>
                  </a:lnTo>
                  <a:lnTo>
                    <a:pt x="1887" y="58"/>
                  </a:lnTo>
                  <a:lnTo>
                    <a:pt x="1905" y="70"/>
                  </a:lnTo>
                  <a:lnTo>
                    <a:pt x="1914" y="82"/>
                  </a:lnTo>
                  <a:lnTo>
                    <a:pt x="1914" y="95"/>
                  </a:lnTo>
                  <a:lnTo>
                    <a:pt x="1905" y="110"/>
                  </a:lnTo>
                  <a:lnTo>
                    <a:pt x="1893" y="122"/>
                  </a:lnTo>
                  <a:lnTo>
                    <a:pt x="1890" y="132"/>
                  </a:lnTo>
                  <a:lnTo>
                    <a:pt x="1893" y="139"/>
                  </a:lnTo>
                  <a:lnTo>
                    <a:pt x="1908" y="142"/>
                  </a:lnTo>
                  <a:lnTo>
                    <a:pt x="1935" y="141"/>
                  </a:lnTo>
                  <a:lnTo>
                    <a:pt x="1971" y="134"/>
                  </a:lnTo>
                  <a:lnTo>
                    <a:pt x="2022" y="122"/>
                  </a:lnTo>
                  <a:lnTo>
                    <a:pt x="2089" y="104"/>
                  </a:lnTo>
                  <a:lnTo>
                    <a:pt x="2128" y="94"/>
                  </a:lnTo>
                  <a:lnTo>
                    <a:pt x="2176" y="84"/>
                  </a:lnTo>
                  <a:lnTo>
                    <a:pt x="2227" y="74"/>
                  </a:lnTo>
                  <a:lnTo>
                    <a:pt x="2281" y="64"/>
                  </a:lnTo>
                  <a:lnTo>
                    <a:pt x="2338" y="55"/>
                  </a:lnTo>
                  <a:lnTo>
                    <a:pt x="2399" y="47"/>
                  </a:lnTo>
                  <a:lnTo>
                    <a:pt x="2456" y="40"/>
                  </a:lnTo>
                  <a:lnTo>
                    <a:pt x="2513" y="35"/>
                  </a:lnTo>
                  <a:lnTo>
                    <a:pt x="2570" y="32"/>
                  </a:lnTo>
                  <a:lnTo>
                    <a:pt x="2621" y="28"/>
                  </a:lnTo>
                  <a:lnTo>
                    <a:pt x="2666" y="28"/>
                  </a:lnTo>
                  <a:lnTo>
                    <a:pt x="2706" y="32"/>
                  </a:lnTo>
                  <a:lnTo>
                    <a:pt x="2736" y="35"/>
                  </a:lnTo>
                  <a:lnTo>
                    <a:pt x="2760" y="42"/>
                  </a:lnTo>
                  <a:lnTo>
                    <a:pt x="2772" y="52"/>
                  </a:lnTo>
                  <a:lnTo>
                    <a:pt x="2775" y="65"/>
                  </a:lnTo>
                  <a:lnTo>
                    <a:pt x="2760" y="79"/>
                  </a:lnTo>
                  <a:lnTo>
                    <a:pt x="2727" y="94"/>
                  </a:lnTo>
                  <a:lnTo>
                    <a:pt x="2684" y="107"/>
                  </a:lnTo>
                  <a:lnTo>
                    <a:pt x="2642" y="121"/>
                  </a:lnTo>
                  <a:lnTo>
                    <a:pt x="2609" y="132"/>
                  </a:lnTo>
                  <a:lnTo>
                    <a:pt x="2597" y="142"/>
                  </a:lnTo>
                  <a:lnTo>
                    <a:pt x="2612" y="147"/>
                  </a:lnTo>
                  <a:lnTo>
                    <a:pt x="2663" y="149"/>
                  </a:lnTo>
                  <a:lnTo>
                    <a:pt x="2730" y="146"/>
                  </a:lnTo>
                  <a:lnTo>
                    <a:pt x="2781" y="141"/>
                  </a:lnTo>
                  <a:lnTo>
                    <a:pt x="2823" y="132"/>
                  </a:lnTo>
                  <a:lnTo>
                    <a:pt x="2859" y="121"/>
                  </a:lnTo>
                  <a:lnTo>
                    <a:pt x="2889" y="107"/>
                  </a:lnTo>
                  <a:lnTo>
                    <a:pt x="2922" y="94"/>
                  </a:lnTo>
                  <a:lnTo>
                    <a:pt x="2955" y="79"/>
                  </a:lnTo>
                  <a:lnTo>
                    <a:pt x="2994" y="65"/>
                  </a:lnTo>
                  <a:lnTo>
                    <a:pt x="3018" y="58"/>
                  </a:lnTo>
                  <a:lnTo>
                    <a:pt x="3046" y="52"/>
                  </a:lnTo>
                  <a:lnTo>
                    <a:pt x="3076" y="45"/>
                  </a:lnTo>
                  <a:lnTo>
                    <a:pt x="3109" y="40"/>
                  </a:lnTo>
                  <a:lnTo>
                    <a:pt x="3145" y="33"/>
                  </a:lnTo>
                  <a:lnTo>
                    <a:pt x="3181" y="28"/>
                  </a:lnTo>
                  <a:lnTo>
                    <a:pt x="3217" y="23"/>
                  </a:lnTo>
                  <a:lnTo>
                    <a:pt x="3256" y="18"/>
                  </a:lnTo>
                  <a:lnTo>
                    <a:pt x="3295" y="13"/>
                  </a:lnTo>
                  <a:lnTo>
                    <a:pt x="3334" y="10"/>
                  </a:lnTo>
                  <a:lnTo>
                    <a:pt x="3374" y="6"/>
                  </a:lnTo>
                  <a:lnTo>
                    <a:pt x="3410" y="3"/>
                  </a:lnTo>
                  <a:lnTo>
                    <a:pt x="3446" y="1"/>
                  </a:lnTo>
                  <a:lnTo>
                    <a:pt x="3479" y="0"/>
                  </a:lnTo>
                  <a:lnTo>
                    <a:pt x="3512" y="0"/>
                  </a:lnTo>
                  <a:lnTo>
                    <a:pt x="3542" y="0"/>
                  </a:lnTo>
                  <a:lnTo>
                    <a:pt x="3599" y="5"/>
                  </a:lnTo>
                  <a:lnTo>
                    <a:pt x="3638" y="17"/>
                  </a:lnTo>
                  <a:lnTo>
                    <a:pt x="3659" y="32"/>
                  </a:lnTo>
                  <a:lnTo>
                    <a:pt x="3672" y="48"/>
                  </a:lnTo>
                  <a:lnTo>
                    <a:pt x="3669" y="65"/>
                  </a:lnTo>
                  <a:lnTo>
                    <a:pt x="3663" y="80"/>
                  </a:lnTo>
                  <a:lnTo>
                    <a:pt x="3650" y="94"/>
                  </a:lnTo>
                  <a:lnTo>
                    <a:pt x="3635" y="102"/>
                  </a:lnTo>
                  <a:lnTo>
                    <a:pt x="3590" y="124"/>
                  </a:lnTo>
                  <a:lnTo>
                    <a:pt x="3578" y="136"/>
                  </a:lnTo>
                  <a:lnTo>
                    <a:pt x="3596" y="139"/>
                  </a:lnTo>
                  <a:lnTo>
                    <a:pt x="3632" y="136"/>
                  </a:lnTo>
                  <a:lnTo>
                    <a:pt x="3681" y="126"/>
                  </a:lnTo>
                  <a:lnTo>
                    <a:pt x="3732" y="112"/>
                  </a:lnTo>
                  <a:lnTo>
                    <a:pt x="3783" y="97"/>
                  </a:lnTo>
                  <a:lnTo>
                    <a:pt x="3822" y="82"/>
                  </a:lnTo>
                  <a:lnTo>
                    <a:pt x="3753" y="141"/>
                  </a:lnTo>
                  <a:lnTo>
                    <a:pt x="3720" y="154"/>
                  </a:lnTo>
                  <a:lnTo>
                    <a:pt x="3672" y="164"/>
                  </a:lnTo>
                  <a:lnTo>
                    <a:pt x="3614" y="169"/>
                  </a:lnTo>
                  <a:lnTo>
                    <a:pt x="3554" y="173"/>
                  </a:lnTo>
                  <a:lnTo>
                    <a:pt x="3500" y="173"/>
                  </a:lnTo>
                  <a:lnTo>
                    <a:pt x="3455" y="171"/>
                  </a:lnTo>
                  <a:lnTo>
                    <a:pt x="3425" y="168"/>
                  </a:lnTo>
                  <a:lnTo>
                    <a:pt x="3419" y="162"/>
                  </a:lnTo>
                  <a:lnTo>
                    <a:pt x="3431" y="152"/>
                  </a:lnTo>
                  <a:lnTo>
                    <a:pt x="3452" y="137"/>
                  </a:lnTo>
                  <a:lnTo>
                    <a:pt x="3473" y="121"/>
                  </a:lnTo>
                  <a:lnTo>
                    <a:pt x="3494" y="100"/>
                  </a:lnTo>
                  <a:lnTo>
                    <a:pt x="3503" y="82"/>
                  </a:lnTo>
                  <a:lnTo>
                    <a:pt x="3497" y="65"/>
                  </a:lnTo>
                  <a:lnTo>
                    <a:pt x="3473" y="52"/>
                  </a:lnTo>
                  <a:lnTo>
                    <a:pt x="3422" y="47"/>
                  </a:lnTo>
                  <a:lnTo>
                    <a:pt x="3368" y="48"/>
                  </a:lnTo>
                  <a:lnTo>
                    <a:pt x="3310" y="53"/>
                  </a:lnTo>
                  <a:lnTo>
                    <a:pt x="3256" y="60"/>
                  </a:lnTo>
                  <a:lnTo>
                    <a:pt x="3202" y="67"/>
                  </a:lnTo>
                  <a:lnTo>
                    <a:pt x="3157" y="75"/>
                  </a:lnTo>
                  <a:lnTo>
                    <a:pt x="3115" y="84"/>
                  </a:lnTo>
                  <a:lnTo>
                    <a:pt x="3088" y="89"/>
                  </a:lnTo>
                  <a:lnTo>
                    <a:pt x="3070" y="94"/>
                  </a:lnTo>
                  <a:lnTo>
                    <a:pt x="3049" y="100"/>
                  </a:lnTo>
                  <a:lnTo>
                    <a:pt x="3025" y="109"/>
                  </a:lnTo>
                  <a:lnTo>
                    <a:pt x="3000" y="117"/>
                  </a:lnTo>
                  <a:lnTo>
                    <a:pt x="2976" y="126"/>
                  </a:lnTo>
                  <a:lnTo>
                    <a:pt x="2949" y="134"/>
                  </a:lnTo>
                  <a:lnTo>
                    <a:pt x="2922" y="142"/>
                  </a:lnTo>
                  <a:lnTo>
                    <a:pt x="2895" y="151"/>
                  </a:lnTo>
                  <a:lnTo>
                    <a:pt x="2865" y="159"/>
                  </a:lnTo>
                  <a:lnTo>
                    <a:pt x="2832" y="168"/>
                  </a:lnTo>
                  <a:lnTo>
                    <a:pt x="2799" y="174"/>
                  </a:lnTo>
                  <a:lnTo>
                    <a:pt x="2760" y="181"/>
                  </a:lnTo>
                  <a:lnTo>
                    <a:pt x="2721" y="188"/>
                  </a:lnTo>
                  <a:lnTo>
                    <a:pt x="2681" y="191"/>
                  </a:lnTo>
                  <a:lnTo>
                    <a:pt x="2636" y="194"/>
                  </a:lnTo>
                  <a:lnTo>
                    <a:pt x="2588" y="198"/>
                  </a:lnTo>
                  <a:lnTo>
                    <a:pt x="2537" y="198"/>
                  </a:lnTo>
                  <a:lnTo>
                    <a:pt x="2483" y="194"/>
                  </a:lnTo>
                  <a:lnTo>
                    <a:pt x="2459" y="186"/>
                  </a:lnTo>
                  <a:lnTo>
                    <a:pt x="2459" y="176"/>
                  </a:lnTo>
                  <a:lnTo>
                    <a:pt x="2477" y="162"/>
                  </a:lnTo>
                  <a:lnTo>
                    <a:pt x="2504" y="147"/>
                  </a:lnTo>
                  <a:lnTo>
                    <a:pt x="2534" y="131"/>
                  </a:lnTo>
                  <a:lnTo>
                    <a:pt x="2558" y="116"/>
                  </a:lnTo>
                  <a:lnTo>
                    <a:pt x="2570" y="102"/>
                  </a:lnTo>
                  <a:lnTo>
                    <a:pt x="2570" y="90"/>
                  </a:lnTo>
                  <a:lnTo>
                    <a:pt x="2558" y="82"/>
                  </a:lnTo>
                  <a:lnTo>
                    <a:pt x="2540" y="77"/>
                  </a:lnTo>
                  <a:lnTo>
                    <a:pt x="2516" y="77"/>
                  </a:lnTo>
                  <a:lnTo>
                    <a:pt x="2483" y="79"/>
                  </a:lnTo>
                  <a:lnTo>
                    <a:pt x="2444" y="84"/>
                  </a:lnTo>
                  <a:lnTo>
                    <a:pt x="2402" y="90"/>
                  </a:lnTo>
                  <a:lnTo>
                    <a:pt x="2356" y="99"/>
                  </a:lnTo>
                  <a:lnTo>
                    <a:pt x="2305" y="109"/>
                  </a:lnTo>
                  <a:lnTo>
                    <a:pt x="2257" y="119"/>
                  </a:lnTo>
                  <a:lnTo>
                    <a:pt x="2203" y="131"/>
                  </a:lnTo>
                  <a:lnTo>
                    <a:pt x="2152" y="144"/>
                  </a:lnTo>
                  <a:lnTo>
                    <a:pt x="2104" y="156"/>
                  </a:lnTo>
                  <a:lnTo>
                    <a:pt x="2055" y="169"/>
                  </a:lnTo>
                  <a:lnTo>
                    <a:pt x="2010" y="181"/>
                  </a:lnTo>
                  <a:lnTo>
                    <a:pt x="1971" y="191"/>
                  </a:lnTo>
                  <a:lnTo>
                    <a:pt x="1923" y="201"/>
                  </a:lnTo>
                  <a:lnTo>
                    <a:pt x="1872" y="206"/>
                  </a:lnTo>
                  <a:lnTo>
                    <a:pt x="1818" y="206"/>
                  </a:lnTo>
                  <a:lnTo>
                    <a:pt x="1770" y="203"/>
                  </a:lnTo>
                  <a:lnTo>
                    <a:pt x="1730" y="194"/>
                  </a:lnTo>
                  <a:lnTo>
                    <a:pt x="1709" y="181"/>
                  </a:lnTo>
                  <a:lnTo>
                    <a:pt x="1712" y="164"/>
                  </a:lnTo>
                  <a:lnTo>
                    <a:pt x="1746" y="141"/>
                  </a:lnTo>
                  <a:lnTo>
                    <a:pt x="1767" y="127"/>
                  </a:lnTo>
                  <a:lnTo>
                    <a:pt x="1779" y="116"/>
                  </a:lnTo>
                  <a:lnTo>
                    <a:pt x="1779" y="105"/>
                  </a:lnTo>
                  <a:lnTo>
                    <a:pt x="1773" y="97"/>
                  </a:lnTo>
                  <a:lnTo>
                    <a:pt x="1755" y="89"/>
                  </a:lnTo>
                  <a:lnTo>
                    <a:pt x="1727" y="84"/>
                  </a:lnTo>
                  <a:lnTo>
                    <a:pt x="1694" y="79"/>
                  </a:lnTo>
                  <a:lnTo>
                    <a:pt x="1652" y="77"/>
                  </a:lnTo>
                  <a:lnTo>
                    <a:pt x="1607" y="77"/>
                  </a:lnTo>
                  <a:lnTo>
                    <a:pt x="1562" y="80"/>
                  </a:lnTo>
                  <a:lnTo>
                    <a:pt x="1520" y="84"/>
                  </a:lnTo>
                  <a:lnTo>
                    <a:pt x="1478" y="90"/>
                  </a:lnTo>
                  <a:lnTo>
                    <a:pt x="1439" y="100"/>
                  </a:lnTo>
                  <a:lnTo>
                    <a:pt x="1399" y="112"/>
                  </a:lnTo>
                  <a:lnTo>
                    <a:pt x="1363" y="126"/>
                  </a:lnTo>
                  <a:lnTo>
                    <a:pt x="1327" y="141"/>
                  </a:lnTo>
                  <a:lnTo>
                    <a:pt x="1294" y="152"/>
                  </a:lnTo>
                  <a:lnTo>
                    <a:pt x="1258" y="164"/>
                  </a:lnTo>
                  <a:lnTo>
                    <a:pt x="1216" y="174"/>
                  </a:lnTo>
                  <a:lnTo>
                    <a:pt x="1174" y="184"/>
                  </a:lnTo>
                  <a:lnTo>
                    <a:pt x="1129" y="191"/>
                  </a:lnTo>
                  <a:lnTo>
                    <a:pt x="1083" y="198"/>
                  </a:lnTo>
                  <a:lnTo>
                    <a:pt x="1041" y="201"/>
                  </a:lnTo>
                  <a:lnTo>
                    <a:pt x="1002" y="204"/>
                  </a:lnTo>
                  <a:lnTo>
                    <a:pt x="966" y="204"/>
                  </a:lnTo>
                  <a:lnTo>
                    <a:pt x="936" y="203"/>
                  </a:lnTo>
                  <a:lnTo>
                    <a:pt x="912" y="198"/>
                  </a:lnTo>
                  <a:lnTo>
                    <a:pt x="897" y="191"/>
                  </a:lnTo>
                  <a:lnTo>
                    <a:pt x="891" y="183"/>
                  </a:lnTo>
                  <a:lnTo>
                    <a:pt x="894" y="169"/>
                  </a:lnTo>
                  <a:lnTo>
                    <a:pt x="912" y="154"/>
                  </a:lnTo>
                  <a:lnTo>
                    <a:pt x="942" y="136"/>
                  </a:lnTo>
                  <a:lnTo>
                    <a:pt x="966" y="121"/>
                  </a:lnTo>
                  <a:lnTo>
                    <a:pt x="978" y="109"/>
                  </a:lnTo>
                  <a:lnTo>
                    <a:pt x="978" y="100"/>
                  </a:lnTo>
                  <a:lnTo>
                    <a:pt x="966" y="94"/>
                  </a:lnTo>
                  <a:lnTo>
                    <a:pt x="948" y="89"/>
                  </a:lnTo>
                  <a:lnTo>
                    <a:pt x="921" y="87"/>
                  </a:lnTo>
                  <a:lnTo>
                    <a:pt x="888" y="87"/>
                  </a:lnTo>
                  <a:lnTo>
                    <a:pt x="852" y="89"/>
                  </a:lnTo>
                  <a:lnTo>
                    <a:pt x="810" y="92"/>
                  </a:lnTo>
                  <a:lnTo>
                    <a:pt x="764" y="97"/>
                  </a:lnTo>
                  <a:lnTo>
                    <a:pt x="719" y="104"/>
                  </a:lnTo>
                  <a:lnTo>
                    <a:pt x="674" y="110"/>
                  </a:lnTo>
                  <a:lnTo>
                    <a:pt x="629" y="119"/>
                  </a:lnTo>
                  <a:lnTo>
                    <a:pt x="587" y="127"/>
                  </a:lnTo>
                  <a:lnTo>
                    <a:pt x="551" y="136"/>
                  </a:lnTo>
                  <a:lnTo>
                    <a:pt x="518" y="146"/>
                  </a:lnTo>
                  <a:lnTo>
                    <a:pt x="454" y="159"/>
                  </a:lnTo>
                  <a:lnTo>
                    <a:pt x="388" y="164"/>
                  </a:lnTo>
                  <a:lnTo>
                    <a:pt x="322" y="162"/>
                  </a:lnTo>
                  <a:lnTo>
                    <a:pt x="256" y="156"/>
                  </a:lnTo>
                  <a:lnTo>
                    <a:pt x="196" y="146"/>
                  </a:lnTo>
                  <a:lnTo>
                    <a:pt x="141" y="136"/>
                  </a:lnTo>
                  <a:lnTo>
                    <a:pt x="99" y="127"/>
                  </a:lnTo>
                  <a:lnTo>
                    <a:pt x="72" y="121"/>
                  </a:lnTo>
                  <a:lnTo>
                    <a:pt x="60" y="117"/>
                  </a:lnTo>
                  <a:lnTo>
                    <a:pt x="45" y="112"/>
                  </a:lnTo>
                  <a:lnTo>
                    <a:pt x="33" y="109"/>
                  </a:lnTo>
                  <a:lnTo>
                    <a:pt x="27" y="107"/>
                  </a:lnTo>
                  <a:lnTo>
                    <a:pt x="6" y="97"/>
                  </a:lnTo>
                  <a:lnTo>
                    <a:pt x="0" y="89"/>
                  </a:lnTo>
                  <a:lnTo>
                    <a:pt x="18" y="87"/>
                  </a:lnTo>
                  <a:lnTo>
                    <a:pt x="60" y="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38600" y="2197800"/>
              <a:ext cx="695880" cy="18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044800" y="3287880"/>
            <a:ext cx="1752480" cy="598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ff"/>
                </a:solidFill>
                <a:latin typeface="Tahoma"/>
              </a:rPr>
              <a:t>Transmi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97280" y="42544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canismo por medio del c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agente causal del bro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propaga desde una fuente o reservorio hacia una perso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62064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ff"/>
                </a:solidFill>
                <a:latin typeface="Tahoma"/>
              </a:rPr>
              <a:t>MODO DE TRANSMISION: concep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42920" y="40464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5920" y="1494000"/>
            <a:ext cx="8370720" cy="38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00"/>
                </a:solidFill>
                <a:latin typeface="Tahoma"/>
              </a:rPr>
              <a:t>Endemia: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Presencia habitual de una enfermedad dentro de un área geográfica; puede también referirse a la prevalencia usual de una enfermedad dada en esta área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 (tiempo indeterminado)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00"/>
                </a:solidFill>
                <a:latin typeface="Tahoma"/>
              </a:rPr>
              <a:t>Epidemia: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Ocurrencia de un grupo de casos de enfermedad de naturaleza similar en una comunidad o región, que es claramente en exceso de lo que se esperaría normalmente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. (tiempo determina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00"/>
                </a:solidFill>
                <a:latin typeface="Tahoma"/>
              </a:rPr>
              <a:t>Pandemia: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Epidemia mundial.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 (tiempo determina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371600" y="7621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EMIA” vs “EPIDEM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11280" y="2276640"/>
            <a:ext cx="0" cy="297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11280" y="5229360"/>
            <a:ext cx="5867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2743200"/>
            <a:ext cx="152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casos de una enferme-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63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em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5867280"/>
            <a:ext cx="2133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4648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ndem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9920" y="47242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pidem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87640" y="2421000"/>
            <a:ext cx="5029200" cy="1828800"/>
          </a:xfrm>
          <a:custGeom>
            <a:avLst/>
            <a:gdLst/>
            <a:ahLst/>
            <a:rect l="l" t="t" r="r" b="b"/>
            <a:pathLst>
              <a:path w="3600" h="2520">
                <a:moveTo>
                  <a:pt x="0" y="2220"/>
                </a:moveTo>
                <a:cubicBezTo>
                  <a:pt x="60" y="2070"/>
                  <a:pt x="120" y="1920"/>
                  <a:pt x="180" y="1860"/>
                </a:cubicBezTo>
                <a:cubicBezTo>
                  <a:pt x="240" y="1800"/>
                  <a:pt x="300" y="1800"/>
                  <a:pt x="360" y="1860"/>
                </a:cubicBezTo>
                <a:cubicBezTo>
                  <a:pt x="420" y="1920"/>
                  <a:pt x="480" y="2160"/>
                  <a:pt x="540" y="2220"/>
                </a:cubicBezTo>
                <a:cubicBezTo>
                  <a:pt x="600" y="2280"/>
                  <a:pt x="660" y="2280"/>
                  <a:pt x="720" y="2220"/>
                </a:cubicBezTo>
                <a:cubicBezTo>
                  <a:pt x="780" y="2160"/>
                  <a:pt x="840" y="1920"/>
                  <a:pt x="900" y="1860"/>
                </a:cubicBezTo>
                <a:cubicBezTo>
                  <a:pt x="960" y="1800"/>
                  <a:pt x="1020" y="1800"/>
                  <a:pt x="1080" y="1860"/>
                </a:cubicBezTo>
                <a:cubicBezTo>
                  <a:pt x="1140" y="1920"/>
                  <a:pt x="1200" y="2160"/>
                  <a:pt x="1260" y="2220"/>
                </a:cubicBezTo>
                <a:cubicBezTo>
                  <a:pt x="1320" y="2280"/>
                  <a:pt x="1380" y="2250"/>
                  <a:pt x="1440" y="2220"/>
                </a:cubicBezTo>
                <a:cubicBezTo>
                  <a:pt x="1500" y="2190"/>
                  <a:pt x="1560" y="2070"/>
                  <a:pt x="1620" y="2040"/>
                </a:cubicBezTo>
                <a:cubicBezTo>
                  <a:pt x="1680" y="2010"/>
                  <a:pt x="1740" y="2010"/>
                  <a:pt x="1800" y="2040"/>
                </a:cubicBezTo>
                <a:cubicBezTo>
                  <a:pt x="1860" y="2070"/>
                  <a:pt x="1890" y="2190"/>
                  <a:pt x="1980" y="2220"/>
                </a:cubicBezTo>
                <a:cubicBezTo>
                  <a:pt x="2070" y="2250"/>
                  <a:pt x="2280" y="2520"/>
                  <a:pt x="2340" y="2220"/>
                </a:cubicBezTo>
                <a:cubicBezTo>
                  <a:pt x="2400" y="1920"/>
                  <a:pt x="2280" y="750"/>
                  <a:pt x="2340" y="420"/>
                </a:cubicBezTo>
                <a:cubicBezTo>
                  <a:pt x="2400" y="90"/>
                  <a:pt x="2580" y="0"/>
                  <a:pt x="2700" y="240"/>
                </a:cubicBezTo>
                <a:cubicBezTo>
                  <a:pt x="2820" y="480"/>
                  <a:pt x="2910" y="1560"/>
                  <a:pt x="3060" y="1860"/>
                </a:cubicBezTo>
                <a:cubicBezTo>
                  <a:pt x="3210" y="2160"/>
                  <a:pt x="3510" y="2010"/>
                  <a:pt x="3600" y="204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042920" y="40464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68360" y="1700280"/>
            <a:ext cx="837108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Variaciones en el tiemp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dencias se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aciones est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aciones cíc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lutinación tempo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ariaciones inespe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116000" y="2205000"/>
            <a:ext cx="24494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Casos  observados en el período y l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Casos esperados en el período y l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6920" y="3284640"/>
            <a:ext cx="338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522936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La mediana de los últimos 5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411280" y="4508640"/>
            <a:ext cx="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90920" y="2205000"/>
            <a:ext cx="4753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alores de referencia del 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0,75&lt;IE&lt;1,25 = notificación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E&lt;= 0,75 = notificación b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E &gt;= 1,25 = notificación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27280" y="7650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CE EPIDE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ituación de las principales enfermedades de notificación obligatoria. Chile, 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7360" y="4400640"/>
            <a:ext cx="793908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CIDENCIA DE SARAMPIÓN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E 1981-200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82880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69560" cy="467388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1349280" y="2286000"/>
            <a:ext cx="6443640" cy="2743200"/>
            <a:chOff x="1349280" y="2286000"/>
            <a:chExt cx="6443640" cy="2743200"/>
          </a:xfrm>
        </p:grpSpPr>
        <p:sp>
          <p:nvSpPr>
            <p:cNvPr id="345" name=""/>
            <p:cNvSpPr/>
            <p:nvPr/>
          </p:nvSpPr>
          <p:spPr>
            <a:xfrm>
              <a:off x="134928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6532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8136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97400" y="2286000"/>
              <a:ext cx="715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1308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2912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4516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6120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77240" y="2286000"/>
              <a:ext cx="715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49280" y="2438280"/>
              <a:ext cx="71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2065320" y="2438280"/>
              <a:ext cx="5715000" cy="2581560"/>
              <a:chOff x="2065320" y="2438280"/>
              <a:chExt cx="5715000" cy="2581560"/>
            </a:xfrm>
          </p:grpSpPr>
          <p:sp>
            <p:nvSpPr>
              <p:cNvPr id="356" name=""/>
              <p:cNvSpPr/>
              <p:nvPr/>
            </p:nvSpPr>
            <p:spPr>
              <a:xfrm>
                <a:off x="2065320" y="2438280"/>
                <a:ext cx="5715000" cy="258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65320" y="2438280"/>
                <a:ext cx="5715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349280" y="259092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49280" y="27432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49280" y="2895480"/>
              <a:ext cx="71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49280" y="304812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49280" y="32004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49280" y="3352680"/>
              <a:ext cx="71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49280" y="350532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49280" y="36576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49280" y="3809880"/>
              <a:ext cx="71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49280" y="396252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49280" y="41148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49280" y="4267080"/>
              <a:ext cx="71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49280" y="441972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49280" y="4572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49280" y="4724280"/>
              <a:ext cx="71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49280" y="487692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s primeros 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l inicio el termino de vigilancia estuvo muy vinculado a las campañas de erradicación de la viruela y de la malaria y es aplicado para la búsqueda de casos con el objetivo de realizar interven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ero es Raska que se uso el termino como estudio epidemiológico de la enfermedad que comprende al agente infeccioso, los reservorios ,los vectores, el medio ambiente y todos los mecanismos de transmisión de la enfermeda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28600" y="1828800"/>
          <a:ext cx="8712360" cy="505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71236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cia de Rubéo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e 1980-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2111400" cy="22575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705720" y="3506760"/>
            <a:ext cx="0" cy="1217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65040" y="5850000"/>
            <a:ext cx="1684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74800" y="1371600"/>
            <a:ext cx="1440" cy="43624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35200" y="5734080"/>
            <a:ext cx="396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35200" y="5006880"/>
            <a:ext cx="39600" cy="18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" y="4278240"/>
            <a:ext cx="39600" cy="18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5200" y="3551400"/>
            <a:ext cx="396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35200" y="2822400"/>
            <a:ext cx="39600" cy="18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5200" y="2097000"/>
            <a:ext cx="39600" cy="18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04960" y="1347840"/>
            <a:ext cx="69840" cy="223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41320" y="5715000"/>
            <a:ext cx="756288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874800" y="5733720"/>
            <a:ext cx="0" cy="334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63188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38752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14496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390060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65768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41512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17076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92784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68348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844056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235160" y="2235240"/>
            <a:ext cx="793800" cy="1701720"/>
          </a:xfrm>
          <a:custGeom>
            <a:avLst/>
            <a:gdLst/>
            <a:ahLst/>
            <a:rect l="l" t="t" r="r" b="b"/>
            <a:pathLst>
              <a:path w="500" h="1072">
                <a:moveTo>
                  <a:pt x="24" y="0"/>
                </a:moveTo>
                <a:lnTo>
                  <a:pt x="0" y="11"/>
                </a:lnTo>
                <a:lnTo>
                  <a:pt x="475" y="1071"/>
                </a:lnTo>
                <a:lnTo>
                  <a:pt x="499" y="1060"/>
                </a:lnTo>
                <a:lnTo>
                  <a:pt x="24" y="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03400" y="3730680"/>
            <a:ext cx="770040" cy="217440"/>
          </a:xfrm>
          <a:custGeom>
            <a:avLst/>
            <a:gdLst/>
            <a:ahLst/>
            <a:rect l="l" t="t" r="r" b="b"/>
            <a:pathLst>
              <a:path w="485" h="137">
                <a:moveTo>
                  <a:pt x="0" y="110"/>
                </a:moveTo>
                <a:lnTo>
                  <a:pt x="6" y="136"/>
                </a:lnTo>
                <a:lnTo>
                  <a:pt x="484" y="26"/>
                </a:lnTo>
                <a:lnTo>
                  <a:pt x="478" y="0"/>
                </a:lnTo>
                <a:lnTo>
                  <a:pt x="0" y="11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79560" y="3762360"/>
            <a:ext cx="750960" cy="195120"/>
          </a:xfrm>
          <a:custGeom>
            <a:avLst/>
            <a:gdLst/>
            <a:ahLst/>
            <a:rect l="l" t="t" r="r" b="b"/>
            <a:pathLst>
              <a:path w="473" h="123">
                <a:moveTo>
                  <a:pt x="5" y="0"/>
                </a:moveTo>
                <a:lnTo>
                  <a:pt x="0" y="26"/>
                </a:lnTo>
                <a:lnTo>
                  <a:pt x="467" y="122"/>
                </a:lnTo>
                <a:lnTo>
                  <a:pt x="472" y="96"/>
                </a:lnTo>
                <a:lnTo>
                  <a:pt x="5" y="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21160" y="3914640"/>
            <a:ext cx="792000" cy="195480"/>
          </a:xfrm>
          <a:custGeom>
            <a:avLst/>
            <a:gdLst/>
            <a:ahLst/>
            <a:rect l="l" t="t" r="r" b="b"/>
            <a:pathLst>
              <a:path w="499" h="123">
                <a:moveTo>
                  <a:pt x="5" y="0"/>
                </a:moveTo>
                <a:lnTo>
                  <a:pt x="0" y="26"/>
                </a:lnTo>
                <a:lnTo>
                  <a:pt x="493" y="122"/>
                </a:lnTo>
                <a:lnTo>
                  <a:pt x="498" y="96"/>
                </a:lnTo>
                <a:lnTo>
                  <a:pt x="5" y="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76800" y="4059360"/>
            <a:ext cx="763560" cy="98280"/>
          </a:xfrm>
          <a:custGeom>
            <a:avLst/>
            <a:gdLst/>
            <a:ahLst/>
            <a:rect l="l" t="t" r="r" b="b"/>
            <a:pathLst>
              <a:path w="481" h="62">
                <a:moveTo>
                  <a:pt x="2" y="0"/>
                </a:moveTo>
                <a:lnTo>
                  <a:pt x="0" y="27"/>
                </a:lnTo>
                <a:lnTo>
                  <a:pt x="478" y="61"/>
                </a:lnTo>
                <a:lnTo>
                  <a:pt x="480" y="34"/>
                </a:lnTo>
                <a:lnTo>
                  <a:pt x="2" y="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4114800"/>
            <a:ext cx="771480" cy="330120"/>
          </a:xfrm>
          <a:custGeom>
            <a:avLst/>
            <a:gdLst/>
            <a:ahLst/>
            <a:rect l="l" t="t" r="r" b="b"/>
            <a:pathLst>
              <a:path w="486" h="208">
                <a:moveTo>
                  <a:pt x="10" y="0"/>
                </a:moveTo>
                <a:lnTo>
                  <a:pt x="0" y="25"/>
                </a:lnTo>
                <a:lnTo>
                  <a:pt x="475" y="207"/>
                </a:lnTo>
                <a:lnTo>
                  <a:pt x="485" y="182"/>
                </a:lnTo>
                <a:lnTo>
                  <a:pt x="10" y="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86280" y="4238640"/>
            <a:ext cx="770040" cy="206280"/>
          </a:xfrm>
          <a:custGeom>
            <a:avLst/>
            <a:gdLst/>
            <a:ahLst/>
            <a:rect l="l" t="t" r="r" b="b"/>
            <a:pathLst>
              <a:path w="485" h="130">
                <a:moveTo>
                  <a:pt x="0" y="103"/>
                </a:moveTo>
                <a:lnTo>
                  <a:pt x="6" y="129"/>
                </a:lnTo>
                <a:lnTo>
                  <a:pt x="484" y="26"/>
                </a:lnTo>
                <a:lnTo>
                  <a:pt x="478" y="0"/>
                </a:lnTo>
                <a:lnTo>
                  <a:pt x="0" y="103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543720" y="4240080"/>
            <a:ext cx="772920" cy="306360"/>
          </a:xfrm>
          <a:custGeom>
            <a:avLst/>
            <a:gdLst/>
            <a:ahLst/>
            <a:rect l="l" t="t" r="r" b="b"/>
            <a:pathLst>
              <a:path w="487" h="193">
                <a:moveTo>
                  <a:pt x="9" y="0"/>
                </a:moveTo>
                <a:lnTo>
                  <a:pt x="0" y="25"/>
                </a:lnTo>
                <a:lnTo>
                  <a:pt x="477" y="192"/>
                </a:lnTo>
                <a:lnTo>
                  <a:pt x="486" y="167"/>
                </a:lnTo>
                <a:lnTo>
                  <a:pt x="9" y="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99360" y="4208400"/>
            <a:ext cx="771480" cy="338040"/>
          </a:xfrm>
          <a:custGeom>
            <a:avLst/>
            <a:gdLst/>
            <a:ahLst/>
            <a:rect l="l" t="t" r="r" b="b"/>
            <a:pathLst>
              <a:path w="486" h="213">
                <a:moveTo>
                  <a:pt x="0" y="187"/>
                </a:moveTo>
                <a:lnTo>
                  <a:pt x="10" y="212"/>
                </a:lnTo>
                <a:lnTo>
                  <a:pt x="485" y="25"/>
                </a:lnTo>
                <a:lnTo>
                  <a:pt x="475" y="0"/>
                </a:lnTo>
                <a:lnTo>
                  <a:pt x="0" y="187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14280" y="2208240"/>
            <a:ext cx="81000" cy="69840"/>
          </a:xfrm>
          <a:custGeom>
            <a:avLst/>
            <a:gdLst/>
            <a:ahLst/>
            <a:rect l="l" t="t" r="r" b="b"/>
            <a:pathLst>
              <a:path w="51" h="44">
                <a:moveTo>
                  <a:pt x="25" y="0"/>
                </a:moveTo>
                <a:lnTo>
                  <a:pt x="50" y="22"/>
                </a:lnTo>
                <a:lnTo>
                  <a:pt x="25" y="43"/>
                </a:lnTo>
                <a:lnTo>
                  <a:pt x="0" y="22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68480" y="3892680"/>
            <a:ext cx="8244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25" y="0"/>
                </a:moveTo>
                <a:lnTo>
                  <a:pt x="51" y="21"/>
                </a:lnTo>
                <a:lnTo>
                  <a:pt x="25" y="43"/>
                </a:lnTo>
                <a:lnTo>
                  <a:pt x="0" y="21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725560" y="3716280"/>
            <a:ext cx="8280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26" y="0"/>
                </a:moveTo>
                <a:lnTo>
                  <a:pt x="51" y="22"/>
                </a:lnTo>
                <a:lnTo>
                  <a:pt x="26" y="43"/>
                </a:lnTo>
                <a:lnTo>
                  <a:pt x="0" y="22"/>
                </a:lnTo>
                <a:lnTo>
                  <a:pt x="26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84440" y="3902040"/>
            <a:ext cx="81000" cy="69840"/>
          </a:xfrm>
          <a:custGeom>
            <a:avLst/>
            <a:gdLst/>
            <a:ahLst/>
            <a:rect l="l" t="t" r="r" b="b"/>
            <a:pathLst>
              <a:path w="51" h="44">
                <a:moveTo>
                  <a:pt x="25" y="0"/>
                </a:moveTo>
                <a:lnTo>
                  <a:pt x="50" y="21"/>
                </a:lnTo>
                <a:lnTo>
                  <a:pt x="25" y="43"/>
                </a:lnTo>
                <a:lnTo>
                  <a:pt x="0" y="21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38640" y="4044960"/>
            <a:ext cx="8244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25" y="0"/>
                </a:moveTo>
                <a:lnTo>
                  <a:pt x="51" y="22"/>
                </a:lnTo>
                <a:lnTo>
                  <a:pt x="25" y="43"/>
                </a:lnTo>
                <a:lnTo>
                  <a:pt x="0" y="22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97520" y="4100400"/>
            <a:ext cx="81000" cy="69840"/>
          </a:xfrm>
          <a:custGeom>
            <a:avLst/>
            <a:gdLst/>
            <a:ahLst/>
            <a:rect l="l" t="t" r="r" b="b"/>
            <a:pathLst>
              <a:path w="51" h="44">
                <a:moveTo>
                  <a:pt x="25" y="0"/>
                </a:moveTo>
                <a:lnTo>
                  <a:pt x="50" y="21"/>
                </a:lnTo>
                <a:lnTo>
                  <a:pt x="25" y="43"/>
                </a:lnTo>
                <a:lnTo>
                  <a:pt x="0" y="21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51360" y="4387680"/>
            <a:ext cx="81000" cy="70200"/>
          </a:xfrm>
          <a:custGeom>
            <a:avLst/>
            <a:gdLst/>
            <a:ahLst/>
            <a:rect l="l" t="t" r="r" b="b"/>
            <a:pathLst>
              <a:path w="51" h="44">
                <a:moveTo>
                  <a:pt x="25" y="0"/>
                </a:moveTo>
                <a:lnTo>
                  <a:pt x="50" y="22"/>
                </a:lnTo>
                <a:lnTo>
                  <a:pt x="25" y="43"/>
                </a:lnTo>
                <a:lnTo>
                  <a:pt x="0" y="22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08800" y="4226040"/>
            <a:ext cx="8244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26" y="0"/>
                </a:moveTo>
                <a:lnTo>
                  <a:pt x="51" y="21"/>
                </a:lnTo>
                <a:lnTo>
                  <a:pt x="26" y="43"/>
                </a:lnTo>
                <a:lnTo>
                  <a:pt x="0" y="21"/>
                </a:lnTo>
                <a:lnTo>
                  <a:pt x="26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267680" y="4491000"/>
            <a:ext cx="81000" cy="69840"/>
          </a:xfrm>
          <a:custGeom>
            <a:avLst/>
            <a:gdLst/>
            <a:ahLst/>
            <a:rect l="l" t="t" r="r" b="b"/>
            <a:pathLst>
              <a:path w="51" h="44">
                <a:moveTo>
                  <a:pt x="25" y="0"/>
                </a:moveTo>
                <a:lnTo>
                  <a:pt x="50" y="21"/>
                </a:lnTo>
                <a:lnTo>
                  <a:pt x="25" y="43"/>
                </a:lnTo>
                <a:lnTo>
                  <a:pt x="0" y="21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21520" y="4194000"/>
            <a:ext cx="82800" cy="70200"/>
          </a:xfrm>
          <a:custGeom>
            <a:avLst/>
            <a:gdLst/>
            <a:ahLst/>
            <a:rect l="l" t="t" r="r" b="b"/>
            <a:pathLst>
              <a:path w="52" h="44">
                <a:moveTo>
                  <a:pt x="25" y="0"/>
                </a:moveTo>
                <a:lnTo>
                  <a:pt x="51" y="21"/>
                </a:lnTo>
                <a:lnTo>
                  <a:pt x="25" y="43"/>
                </a:lnTo>
                <a:lnTo>
                  <a:pt x="0" y="21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0"/>
            <a:ext cx="62550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304920"/>
            <a:ext cx="84582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ARALISIS FLACCIDA (P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asa de Notificación  Chile 1990-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84280" y="5665680"/>
            <a:ext cx="2127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84280" y="56736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4280" y="4938840"/>
            <a:ext cx="212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4280" y="49467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4280" y="4210200"/>
            <a:ext cx="212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84280" y="42181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84280" y="3483000"/>
            <a:ext cx="212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4280" y="34909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4280" y="2754360"/>
            <a:ext cx="212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27622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4280" y="2028960"/>
            <a:ext cx="212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4280" y="2036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4280" y="1298520"/>
            <a:ext cx="2127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2952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107064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182628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258372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6200000">
            <a:off x="334080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409644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485388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560952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636660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712368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787932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-976320" y="3409920"/>
            <a:ext cx="26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a por cien mil &lt; 15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5920" y="6373800"/>
            <a:ext cx="38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07544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TAVIR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PH): Tendencia y Magnitu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le, 1995- 200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5080" y="6461280"/>
            <a:ext cx="3391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artamento Epidemi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201240" cy="426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612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298440" y="2060640"/>
            <a:ext cx="8545680" cy="33447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755640" y="5589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uente : BEM 51 EPI MIN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318960" y="1989000"/>
            <a:ext cx="8504280" cy="37292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24000" y="580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uente : BEM 51 EPI MIN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585720" y="1989000"/>
            <a:ext cx="7970760" cy="36244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611280" y="57340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uente : BEM 51 EPI MIN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20560" y="1989000"/>
            <a:ext cx="8101080" cy="38181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11280" y="587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uente : BEM 51 EPI MIN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447920" y="7621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finiendo Br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“inusual” de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mitados a un tiempo claramente definido, área y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en infeccioso o no infecci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600200" y="83808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rote y Epid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idemia: mayor población, enfermedad se disemina a lo largo de una mayor área geográf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te: población pequeña con fronteras geográficas y de tiempo claramente defin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mayor parte de epidemias comienzan con br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333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GILANCIA EPIDEM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1052640"/>
            <a:ext cx="6769440" cy="53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bjetiv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antener actualizado el conocimiento del comportamiento de las enfermedades y eventos sujetos a la vigila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ar los brotes epidémicos. Antes, después y durante su ocurre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acilitar la acción rápida e informada frente a los cambios de la  situación epidemiológica y la posibilidad de predecir estos camb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ablecer la susceptibilidad de la población a las enfermedades y eventos bajo vigila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tervenir, en forma eficaz, ante la presencia de factores de riesgo y enfermeda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971640" y="692280"/>
            <a:ext cx="63691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stablezca una definición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Información clí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L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Tiem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(triángulo epidemiológ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16720" y="3213000"/>
            <a:ext cx="1066680" cy="13716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508720" y="5013360"/>
            <a:ext cx="1704960" cy="7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003640" y="3213000"/>
            <a:ext cx="803520" cy="133056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892440" cy="9763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7308720" y="4653000"/>
            <a:ext cx="868320" cy="8618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rcRect l="0" t="0" r="69883" b="41241"/>
          <a:stretch/>
        </p:blipFill>
        <p:spPr>
          <a:xfrm>
            <a:off x="4572000" y="4653000"/>
            <a:ext cx="757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Terminología relacio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95280" y="141300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Confirmación por nexo epidemiológico: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sos sin confirmación laboratorial, pero que se asume que se deben a la misma etiología por coincidir en tiempo y lugar con los casos confir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Casos primario y secundarios: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el primer caso que se presenta en un ámbito (vivienda, colegio, etc) y los siguientes casos que se presentan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Caso índice: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mer caso reportado del brote aunque no sea el primer caso que ocurr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Vigilancia Nutr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Que e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La alarma, el, peligro y la norma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gilancia nutr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vigilancia de todo lo concerniente a la evolución del estado nutricional y sus factores condicionantes más dir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gilancia Nutr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eo de largo plazo: Se refiere a todo lo que afecta la situación nutricional incluido el consumo de alimentos y el estado nutricional. También implica que hay que preocuparse de grupos especiales, analizar el efecto de programas y predecir la situación futura (pronós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rta precoz para movilización inmediata de recurs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gilancia del estado nutriciona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Chile lo que se monito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estado nutricional del infante y pre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vie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gilancia Nutr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d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Indica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punto de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fuente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616720" cy="41036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tuación Nutricional escolares primer año bás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17160" y="417240"/>
            <a:ext cx="863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Evolución de la situación nutricional en menores de 6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457200" y="1600200"/>
          <a:ext cx="8291520" cy="4487760"/>
        </p:xfrm>
        <a:graphic>
          <a:graphicData uri="http://schemas.openxmlformats.org/drawingml/2006/table">
            <a:tbl>
              <a:tblPr/>
              <a:tblGrid>
                <a:gridCol w="2386080"/>
                <a:gridCol w="1224000"/>
                <a:gridCol w="1512720"/>
                <a:gridCol w="1584360"/>
                <a:gridCol w="158436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9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snutri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iesgo de desnut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rma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brep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bes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460440" y="61722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ente: www minsal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ndencia del suministro diario de energía por persona y según origen de los productos. Chile 1995-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1560" y="-1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971640" y="1628640"/>
          <a:ext cx="6553080" cy="577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628640"/>
                    <a:ext cx="6553080" cy="57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69228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GILANCIA EPIDEM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628640"/>
            <a:ext cx="70567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iv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ción de las enfermedades, eventos y condicionantes que deben ser vigil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lección de los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álisis e interpretación de l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jecución de las acciones o interve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minación de la información sobre las enfermedades y eventos y sobre los resultados de las medidas aplic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dencia del suministro diario de energía por persona y según origen de los productos. Chile 1995-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835280" y="1628640"/>
          <a:ext cx="5906880" cy="554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628640"/>
                    <a:ext cx="590688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246320" y="1449360"/>
            <a:ext cx="6651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75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acabaron las clases teóricas este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gracias por la atención dispens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6920" y="33336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GILANCIA EPIDEM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1916280"/>
            <a:ext cx="6767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pos de Sistemas de Vigilancia Epidemi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estras de ca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sión de registros institu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cu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ntin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bor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838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0066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3. Análisis e interpretación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análisis bus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ecer tendencias de la enfermedad a fin de detectar aumentos o descensos y o cambios en su comportamient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r factores asociados  al incremento o descenso e identificar grupos de mayor ries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r áreas en que se puedan aplicar medidas de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5242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0066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4. Ejecución de las medidas de prevención 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n ser ejecutadas por la entidad correspondiente, consultorios, servicios de salud, servicio clínico, etc.,  de acuerdo a normas propias o emitidas desde el nivel cent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9:45:31Z</dcterms:created>
  <dc:creator>Universidad de Chile</dc:creator>
  <dc:description/>
  <dc:language>en-US</dc:language>
  <cp:lastModifiedBy>Lorena Ulloa</cp:lastModifiedBy>
  <dcterms:modified xsi:type="dcterms:W3CDTF">2008-07-21T21:51:24Z</dcterms:modified>
  <cp:revision>50</cp:revision>
  <dc:subject/>
  <dc:title>Diapositiva 1</dc:title>
</cp:coreProperties>
</file>