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F8FD-E89D-452A-82C7-4C1731B47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1BDB-5C72-453F-A562-7AA050E7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C537-1CAA-4C3E-AAF0-43837CFEB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A580-2E1D-4D16-9E63-ED6BE201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40B6-8EA9-4CDF-AEC4-84823FDB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7763-B5C2-4463-A1F9-FE5505AD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1312-9E3D-46AF-AF43-BE31C9AD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B64F-CCBD-445A-B0A9-63A61AF3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D375-EA9D-41D1-BF81-E166346C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0724-01A7-4B3D-938B-C620AE4D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E446-EABD-41D5-832A-AE5A7268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96F4-B47B-48A2-A126-35D90CAE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cc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cc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cc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24BE-6928-4C62-B6B9-55C8C5490BA9}" type="slidenum">
              <a:rPr b="0" lang="es-ES_tradnl" sz="1400" spc="-1" strike="noStrike">
                <a:solidFill>
                  <a:srgbClr val="ffffc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INDICADORES DE SITUACION DE SALUD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Dra. Julia González M.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DIVISION DE PROMOCION DE LA SALUD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ESCUELA DE SALUD PUBLICA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continuación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2" marL="1097280" indent="-219240">
              <a:lnSpc>
                <a:spcPct val="70000"/>
              </a:lnSpc>
              <a:spcBef>
                <a:spcPts val="700"/>
              </a:spcBef>
              <a:buClr>
                <a:srgbClr val="ffff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Nº y tasas de episodios percibidos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2" marL="1097280" indent="-219240">
              <a:lnSpc>
                <a:spcPct val="70000"/>
              </a:lnSpc>
              <a:spcBef>
                <a:spcPts val="700"/>
              </a:spcBef>
              <a:buClr>
                <a:srgbClr val="ffff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Nº y tasas de consulta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2" marL="1097280" indent="-219240">
              <a:lnSpc>
                <a:spcPct val="70000"/>
              </a:lnSpc>
              <a:spcBef>
                <a:spcPts val="700"/>
              </a:spcBef>
              <a:buClr>
                <a:srgbClr val="ffff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Nº y tasas de hospitalización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2" marL="1097280" indent="-219240">
              <a:lnSpc>
                <a:spcPct val="70000"/>
              </a:lnSpc>
              <a:spcBef>
                <a:spcPts val="700"/>
              </a:spcBef>
              <a:buClr>
                <a:srgbClr val="ffff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Tasas de letalidad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- AVISA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INDICADORES BIODEMOGRAFICOS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lnSpc>
                <a:spcPct val="70000"/>
              </a:lnSpc>
              <a:spcBef>
                <a:spcPts val="700"/>
              </a:spcBef>
              <a:buClr>
                <a:srgbClr val="ffff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mic Sans MS"/>
              </a:rPr>
              <a:t>Nº absoluto de habitantes por: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2" marL="114300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ffcc"/>
                </a:solidFill>
                <a:latin typeface="Comic Sans MS"/>
              </a:rPr>
              <a:t>edad, sexo, residencia, etc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2" marL="114300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2" marL="1143000" indent="-228600" algn="just">
              <a:lnSpc>
                <a:spcPct val="70000"/>
              </a:lnSpc>
              <a:spcBef>
                <a:spcPts val="700"/>
              </a:spcBef>
              <a:buClr>
                <a:srgbClr val="ffff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mic Sans MS"/>
              </a:rPr>
              <a:t>Indices de dependencia, vejez, masculinidad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2" marL="114300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2" marL="1143000" indent="-228600" algn="just">
              <a:lnSpc>
                <a:spcPct val="70000"/>
              </a:lnSpc>
              <a:spcBef>
                <a:spcPts val="700"/>
              </a:spcBef>
              <a:buClr>
                <a:srgbClr val="ffff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mic Sans MS"/>
              </a:rPr>
              <a:t>Tasa de crecimiento de la población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2" marL="1143000" indent="-228600" algn="just">
              <a:lnSpc>
                <a:spcPct val="70000"/>
              </a:lnSpc>
              <a:spcBef>
                <a:spcPts val="700"/>
              </a:spcBef>
              <a:buClr>
                <a:srgbClr val="ffff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mic Sans MS"/>
              </a:rPr>
              <a:t>Otros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Comic Sans MS"/>
              </a:rPr>
              <a:t>RECORDAR: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Comic Sans MS"/>
              </a:rPr>
              <a:t>Hay múltiples fuentes de información sistemáticas y estudios especiales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Comic Sans MS"/>
              </a:rPr>
              <a:t>Las sistemáticas suelen concordar con la estructura político administrativa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Comic Sans MS"/>
              </a:rPr>
              <a:t>Los indicadores representan valores promedio; no muestran distribución y no expresan inequidades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3416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CONCEPTO DE INDICADOR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jemplos: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ENOMENO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DICADORES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INDICADOR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ndición o atributo lo suficientemente ligado (conceptual y estadísticamente) a un fenómeno, para que las variaciones del fenómeno se reflejen en el atributo.  Debe ser válido, sensible, confiable y factible.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32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32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TIPOS DE INDICADORES DE SITUACION DE SALUD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Comic Sans MS"/>
              </a:rPr>
              <a:t>Nivel de salud</a:t>
            </a:r>
            <a:r>
              <a:rPr b="1" lang="es-ES_tradnl" sz="3200" spc="-1" strike="noStrike">
                <a:solidFill>
                  <a:srgbClr val="ffffcc"/>
                </a:solidFill>
                <a:latin typeface="Comic Sans MS"/>
              </a:rPr>
              <a:t>, resultado o impacto</a:t>
            </a: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:  mortalidad, morbilidad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Comic Sans MS"/>
              </a:rPr>
              <a:t>Factores condicionantes o determinantes de la salud: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ff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mic Sans MS"/>
              </a:rPr>
              <a:t>personales: ej. </a:t>
            </a:r>
            <a:r>
              <a:rPr b="0" lang="es-ES_tradnl" sz="2800" spc="-1" strike="noStrike">
                <a:solidFill>
                  <a:srgbClr val="ffff66"/>
                </a:solidFill>
                <a:latin typeface="Comic Sans MS"/>
              </a:rPr>
              <a:t>demográficos</a:t>
            </a:r>
            <a:r>
              <a:rPr b="0" lang="es-ES_tradnl" sz="2800" spc="-1" strike="noStrike">
                <a:solidFill>
                  <a:srgbClr val="ffffcc"/>
                </a:solidFill>
                <a:latin typeface="Comic Sans MS"/>
              </a:rPr>
              <a:t>, biológicos, psicológicos, conductuales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ff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mic Sans MS"/>
              </a:rPr>
              <a:t>sociales: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cc"/>
                </a:solidFill>
                <a:latin typeface="Comic Sans MS"/>
              </a:rPr>
              <a:t>- del sector salud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cc"/>
                </a:solidFill>
                <a:latin typeface="Comic Sans MS"/>
              </a:rPr>
              <a:t>- extrasectoriales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USOS DE LOS INDICADORES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PLANIFICACION Y GESTION EN SALUD: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DIAGNOSTICO DE SITUACION DE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SALUD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MONITOREO DE LA EJECUCION DE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INTERVENCIONES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EVALUACION DE INTERVENCIONES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INVESTIGACION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EXPRESION DE INDICADORES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025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mic Sans MS"/>
              </a:rPr>
              <a:t>Números absolutos:</a:t>
            </a:r>
            <a:r>
              <a:rPr b="0" lang="es-ES_tradnl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mic Sans MS"/>
              </a:rPr>
              <a:t>INDICADORES RELATIVOS: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mic Sans MS"/>
              </a:rPr>
              <a:t>Razones:</a:t>
            </a:r>
            <a:r>
              <a:rPr b="0" lang="es-ES_tradnl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cc"/>
                </a:solidFill>
                <a:latin typeface="Comic Sans MS"/>
              </a:rPr>
              <a:t>a/b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mic Sans MS"/>
              </a:rPr>
              <a:t>Proporciones:</a:t>
            </a:r>
            <a:r>
              <a:rPr b="0" lang="es-ES_tradnl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cc"/>
                </a:solidFill>
                <a:latin typeface="Comic Sans MS"/>
              </a:rPr>
              <a:t>a/a+b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mic Sans MS"/>
              </a:rPr>
              <a:t>Tasas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mic Sans MS"/>
              </a:rPr>
              <a:t>Indices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INDICADORES DE MORTALIDAD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º absoluto de defunciones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asas de mortalidad general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asas de mortalidad específicas por sexo, edad, otros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asas de mortalidad específicas por causa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asas de letalidad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continuación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Proporción o Importancia relativa por causas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Indice de Swaroop (proporción de muertes de 50 años y más en el total)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Expectativa de vida al nacer y a distintas edades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Años de vida perdidos prematuramente 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(AVPP)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INDICADORES DE MORBILIDAD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2" marL="1085760" indent="-217080" algn="just">
              <a:lnSpc>
                <a:spcPct val="70000"/>
              </a:lnSpc>
              <a:spcBef>
                <a:spcPts val="700"/>
              </a:spcBef>
              <a:buClr>
                <a:srgbClr val="ffff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mic Sans MS"/>
              </a:rPr>
              <a:t>Nº absoluto de casos nuevos (incidencia)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2" marL="108576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2" marL="1085760" indent="-217080" algn="just">
              <a:lnSpc>
                <a:spcPct val="70000"/>
              </a:lnSpc>
              <a:spcBef>
                <a:spcPts val="700"/>
              </a:spcBef>
              <a:buClr>
                <a:srgbClr val="ffff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mic Sans MS"/>
              </a:rPr>
              <a:t>Nº absoluto de casos existentes (prevalencia)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2580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2" marL="1085760" indent="-217080" algn="just">
              <a:lnSpc>
                <a:spcPct val="70000"/>
              </a:lnSpc>
              <a:spcBef>
                <a:spcPts val="700"/>
              </a:spcBef>
              <a:buClr>
                <a:srgbClr val="ffff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mic Sans MS"/>
              </a:rPr>
              <a:t>Tasas de incidencia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2580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2" marL="1085760" indent="-217080" algn="just">
              <a:lnSpc>
                <a:spcPct val="70000"/>
              </a:lnSpc>
              <a:spcBef>
                <a:spcPts val="700"/>
              </a:spcBef>
              <a:buClr>
                <a:srgbClr val="ffff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mic Sans MS"/>
              </a:rPr>
              <a:t>Tasas de prevalencia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2580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2" marL="1085760" indent="-217080" algn="just">
              <a:lnSpc>
                <a:spcPct val="70000"/>
              </a:lnSpc>
              <a:spcBef>
                <a:spcPts val="700"/>
              </a:spcBef>
              <a:buClr>
                <a:srgbClr val="ffff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mic Sans MS"/>
              </a:rPr>
              <a:t>Proporción o importancia relativa de causas de enfermedad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2580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9:03:43Z</dcterms:created>
  <dc:creator>División de Informática</dc:creator>
  <dc:description/>
  <dc:language>en-US</dc:language>
  <cp:lastModifiedBy>Lorena Ulloa</cp:lastModifiedBy>
  <dcterms:modified xsi:type="dcterms:W3CDTF">2008-03-19T15:14:14Z</dcterms:modified>
  <cp:revision>10</cp:revision>
  <dc:subject/>
  <dc:title>INDICADORES DE NIVEL DE SALUD</dc:title>
</cp:coreProperties>
</file>