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4579938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DDB-E205-41CC-B629-3EBC9A9E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5CA-92CD-4CE3-9CCB-6B249475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816-65F3-48B2-8538-84602C4A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745-07F2-41D1-9EDD-E6759436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D7CE-FECC-4E65-A333-2176594A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1AEE-B710-4DB2-A62D-9017608A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466C-6190-4820-BE9C-CCD0E0D3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478A-9A89-4CDF-A479-562AF896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4B22-0A08-46F0-A834-AE705928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560" y="228240"/>
            <a:ext cx="897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06E9-74B5-48D2-975D-AC61D3CB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04EA-4C99-40DF-BBFA-633E2C78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1EB-035E-4709-99CD-E9CB53F7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571E-B9AA-4862-B2BD-893B424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96FC-01CA-4E11-A89D-7161F9DB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A402-616A-45CE-ADF3-556DC269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03F3-F37D-4FD8-989D-3B8104CF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7945-399A-4F85-96DF-D62FFAA2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529-3CCD-4F40-900B-C233309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74F-F606-4AD9-9412-D7FB4B26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E28-8555-4E16-8B27-EA7B8DBB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560" y="228240"/>
            <a:ext cx="897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C08-5731-4F5C-B153-BF66D46E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E59-DC0B-4A18-AE21-090BD86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EDF-D723-44B1-975C-5492FD1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468-D398-43EA-AB84-DC7EF0B4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29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294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1440" y="62294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1DD-06FE-49D0-A39D-A78D6A2AB688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90720" y="131436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68544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BD6B-DB33-4611-B713-1ED68F04141A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8960" y="1904760"/>
            <a:ext cx="6933960" cy="177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RODUCCIÓN  A LA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ABILIDA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6B51-9EFA-4AE0-A70A-1212847888C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44160" y="620640"/>
            <a:ext cx="9072360" cy="583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alquier problema de probabilidad puede resolverse en teoría mediante aplicación de los axiomas. Sin embargo, </a:t>
            </a:r>
            <a:r>
              <a:rPr b="0" lang="es-ES" sz="1800" spc="-1" strike="noStrike">
                <a:solidFill>
                  <a:srgbClr val="339933"/>
                </a:solidFill>
                <a:latin typeface="Tahoma"/>
              </a:rPr>
              <a:t>es más cómodo conocer algunas reglas de cálcul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P(A’) = 1 - P(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P(AUB) = P(A) + P(B) - P(AB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P(AB) = P(A/B)*P(B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P(ABC)=P(A)*P(B/A)*P(C/AB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Dos sucesos son independiente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i la el que ocurra uno no añade información sobre el otro. En lenguaje probabilístic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cc3300"/>
                </a:solidFill>
                <a:latin typeface="Tahoma"/>
              </a:rPr>
              <a:t>indep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B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P(A|B) = P(A)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cho de otra form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cc3300"/>
                </a:solidFill>
                <a:latin typeface="Tahoma"/>
              </a:rPr>
              <a:t>indep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B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66ff"/>
                </a:solidFill>
                <a:latin typeface="Tahoma"/>
              </a:rPr>
              <a:t>P(AB) = P(A) P(B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573-FC9C-430E-A07A-67AABB8240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88880" y="691920"/>
            <a:ext cx="8928000" cy="58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JEMPLO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n una muestra de 1000 individuos elegidos al azar, entre una población de enfermos de osteoporosis 760 eran muje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¿Qué porcentaje de mujeres hay en la muestr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9933"/>
                </a:solidFill>
                <a:latin typeface="Tahoma"/>
              </a:rPr>
              <a:t>760/1000=0,76=76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elegimos a un individuo de la población, qué probabilidad hay de que sea muj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9933"/>
                </a:solidFill>
                <a:latin typeface="Tahoma"/>
              </a:rPr>
              <a:t>La noc. frec. de prob. nos permite aproximarlo a P(Mujer)=0’7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¿Cuál es la probabilidad de que elegido un individuo de la población sea hombr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9933"/>
                </a:solidFill>
                <a:latin typeface="Tahoma"/>
              </a:rPr>
              <a:t>P(Hombre)=P(Mujer</a:t>
            </a:r>
            <a:r>
              <a:rPr b="1" lang="es-ES" sz="1800" spc="-1" strike="noStrike">
                <a:solidFill>
                  <a:srgbClr val="339933"/>
                </a:solidFill>
                <a:latin typeface="Tahoma"/>
              </a:rPr>
              <a:t>’</a:t>
            </a:r>
            <a:r>
              <a:rPr b="0" lang="es-ES" sz="1600" spc="-1" strike="noStrike">
                <a:solidFill>
                  <a:srgbClr val="339933"/>
                </a:solidFill>
                <a:latin typeface="Tahoma"/>
              </a:rPr>
              <a:t>)=1-0,76=0,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sabe de otros estudios que entre los individuos con osteoporosis, aprox. la cuarta parte de las mujeres fuman y la tercera parte de los hombres. Elegimos a un individuo al azar de la población de enferm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¿Qué probabilidad hay de que sea mujer fumador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9933"/>
                </a:solidFill>
                <a:latin typeface="Tahoma"/>
              </a:rPr>
              <a:t>P(Mujer ∩ Fumar) = P(Mujer) P(Fumar|Mujer) = 0,76 x ¼ = 0,1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¿Qué probabilidad hay de que sea un hombre fumado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9933"/>
                </a:solidFill>
                <a:latin typeface="Tahoma"/>
              </a:rPr>
              <a:t>P(Hombre ∩ Fumar) = P(Hombre) P(Fumar|Hombre) = 0,24 x 1/3 = 0,0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88E-4B82-43FB-A0B4-8A19B715007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76160" y="2997360"/>
            <a:ext cx="1656000" cy="1655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268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stema exhaustivo y excluyente de suces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776160" y="1341360"/>
            <a:ext cx="3313080" cy="3314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32160" y="1341360"/>
            <a:ext cx="0" cy="331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6160" y="2997360"/>
            <a:ext cx="331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9000" y="141912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93520" y="1413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58240" y="4221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21880" y="4221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9440" y="1563840"/>
            <a:ext cx="4648320" cy="302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on una colección de su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s-E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s-E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s-ES" sz="1900" spc="-1" strike="noStrike">
                <a:solidFill>
                  <a:srgbClr val="339933"/>
                </a:solidFill>
                <a:latin typeface="Arial"/>
              </a:rPr>
              <a:t>, </a:t>
            </a:r>
            <a:r>
              <a:rPr b="0" lang="es-ES" sz="19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es-ES" sz="19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s-ES" sz="19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s-ES" sz="1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s-ES" sz="1900" spc="-1" strike="noStrike">
                <a:solidFill>
                  <a:srgbClr val="0066ff"/>
                </a:solidFill>
                <a:latin typeface="Arial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ales que la unión de todos ellos forman</a:t>
            </a:r>
            <a:br>
              <a:rPr sz="1900"/>
            </a:b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el espacio muestral, y sus intersec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on disjunt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6160" y="1341360"/>
            <a:ext cx="1656000" cy="16560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2160" y="1341360"/>
            <a:ext cx="1655640" cy="165600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2160" y="2997360"/>
            <a:ext cx="1655640" cy="165564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1C4-D144-499B-B687-F04B4B91F1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vide y vencerá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776160" y="1341360"/>
            <a:ext cx="3313080" cy="3314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32160" y="1341360"/>
            <a:ext cx="0" cy="331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76160" y="2997360"/>
            <a:ext cx="331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9000" y="141912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93520" y="1413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8240" y="4221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1880" y="4221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16160" y="2637000"/>
            <a:ext cx="216000" cy="36036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32160" y="2637000"/>
            <a:ext cx="649080" cy="3603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16160" y="2997360"/>
            <a:ext cx="216000" cy="4316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32160" y="2997360"/>
            <a:ext cx="649080" cy="43164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16160" y="2637000"/>
            <a:ext cx="863640" cy="792000"/>
            <a:chOff x="2216160" y="2637000"/>
            <a:chExt cx="863640" cy="792000"/>
          </a:xfrm>
        </p:grpSpPr>
        <p:sp>
          <p:nvSpPr>
            <p:cNvPr id="309" name=""/>
            <p:cNvSpPr/>
            <p:nvPr/>
          </p:nvSpPr>
          <p:spPr>
            <a:xfrm>
              <a:off x="2216160" y="2637000"/>
              <a:ext cx="863640" cy="792000"/>
            </a:xfrm>
            <a:prstGeom prst="rect">
              <a:avLst/>
            </a:pr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51400" y="299556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789440" y="1563840"/>
            <a:ext cx="4648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do suceso B, puede ser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descompuest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en componentes de dicho sistem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71920" y="3429000"/>
            <a:ext cx="4795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= (B∩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U (B∩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U ( B∩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A3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U ( B∩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2600" y="5445000"/>
            <a:ext cx="4966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s permite descomponer el problema B en </a:t>
            </a:r>
            <a:br>
              <a:rPr sz="1900"/>
            </a:b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subproblemas más simples.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7497720" y="4476600"/>
            <a:ext cx="798480" cy="127476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776160" y="1341360"/>
            <a:ext cx="3311640" cy="3311640"/>
            <a:chOff x="776160" y="1341360"/>
            <a:chExt cx="3311640" cy="3311640"/>
          </a:xfrm>
        </p:grpSpPr>
        <p:sp>
          <p:nvSpPr>
            <p:cNvPr id="316" name=""/>
            <p:cNvSpPr/>
            <p:nvPr/>
          </p:nvSpPr>
          <p:spPr>
            <a:xfrm>
              <a:off x="776160" y="2997360"/>
              <a:ext cx="1656000" cy="1655640"/>
            </a:xfrm>
            <a:prstGeom prst="rect">
              <a:avLst/>
            </a:prstGeom>
            <a:blipFill rotWithShape="0">
              <a:blip r:embed="rId6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6160" y="1341360"/>
              <a:ext cx="1656000" cy="1656000"/>
            </a:xfrm>
            <a:prstGeom prst="rect">
              <a:avLst/>
            </a:prstGeom>
            <a:blipFill rotWithShape="0">
              <a:blip r:embed="rId7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32160" y="1341360"/>
              <a:ext cx="1655640" cy="1656000"/>
            </a:xfrm>
            <a:prstGeom prst="rect">
              <a:avLst/>
            </a:prstGeom>
            <a:blipFill rotWithShape="0">
              <a:blip r:embed="rId8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32160" y="2997360"/>
              <a:ext cx="1655640" cy="1655640"/>
            </a:xfrm>
            <a:prstGeom prst="rect">
              <a:avLst/>
            </a:prstGeom>
            <a:blipFill rotWithShape="0">
              <a:blip r:embed="rId9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6B3-7230-4E23-8525-D8FDCF49ED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orema de la probabilidad tot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"/>
          <p:cNvSpPr/>
          <p:nvPr/>
        </p:nvSpPr>
        <p:spPr>
          <a:xfrm>
            <a:off x="776160" y="1341360"/>
            <a:ext cx="3313080" cy="3314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32160" y="1341360"/>
            <a:ext cx="0" cy="331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76160" y="2997360"/>
            <a:ext cx="331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09000" y="141912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93520" y="1413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58240" y="4221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21880" y="4221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16160" y="2637000"/>
            <a:ext cx="216000" cy="36036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32160" y="2637000"/>
            <a:ext cx="649080" cy="3603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16160" y="2997360"/>
            <a:ext cx="216000" cy="4316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32160" y="2997360"/>
            <a:ext cx="649080" cy="43164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216160" y="2637000"/>
            <a:ext cx="863640" cy="792000"/>
            <a:chOff x="2216160" y="2637000"/>
            <a:chExt cx="863640" cy="792000"/>
          </a:xfrm>
        </p:grpSpPr>
        <p:sp>
          <p:nvSpPr>
            <p:cNvPr id="333" name=""/>
            <p:cNvSpPr/>
            <p:nvPr/>
          </p:nvSpPr>
          <p:spPr>
            <a:xfrm>
              <a:off x="2216160" y="2637000"/>
              <a:ext cx="863640" cy="792000"/>
            </a:xfrm>
            <a:prstGeom prst="rect">
              <a:avLst/>
            </a:pr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51400" y="299556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592520" y="1563840"/>
            <a:ext cx="4845240" cy="21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 conocemos la probabilidad de B en cada uno de los componentes de un sistema exhaustivo y excluyente de sucesos, entonce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demos calcular la probabilidad de B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67840" y="5229360"/>
            <a:ext cx="5507640" cy="133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B) = P(B∩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P(B∩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P( B∩</a:t>
            </a:r>
            <a:r>
              <a:rPr b="0" lang="en-US" sz="19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( B∩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P(B|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P(B|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15800" y="2924280"/>
            <a:ext cx="7308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77960" y="2924280"/>
            <a:ext cx="719280" cy="237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60520" y="3284640"/>
            <a:ext cx="2160720" cy="201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36880" y="3357720"/>
            <a:ext cx="3240000" cy="187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172-4C65-48A8-98E2-4D3F22326C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28520" y="228600"/>
            <a:ext cx="9777600" cy="6153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Ejempl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: En este aula el 70% de los alumnos son mujeres. De ellas el 10% son fumadoras. De los varones, son fumadores el 20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¿Qué porcentaje de fumadores hay en tot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(F) = P(F∩H) + P(F∩M)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P(F|H) P(H) + P(F|M) P(M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0,2 x 0,3 + 0,1 x 0,7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0,13 =13%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¿Se elije a un individuo al azar y result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mador. ¿Cuál es la probabilidad de que sea un homb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(H|F) = P(F ∩ H)/P(F)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= P(F|H) P(H) / P(F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= 0x2 x 0,3 / 0,13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= 0,46 = 46%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5529240" y="4414680"/>
            <a:ext cx="431964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8553600" y="44146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5943600"/>
            <a:ext cx="3024000" cy="3808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53600" y="5927760"/>
            <a:ext cx="1295280" cy="431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29240" y="4414680"/>
            <a:ext cx="3024360" cy="172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53600" y="4414680"/>
            <a:ext cx="1295280" cy="1513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25200" y="4487760"/>
            <a:ext cx="103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je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628480" y="4632480"/>
            <a:ext cx="1078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92080" y="6072120"/>
            <a:ext cx="132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mad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6840" y="-627120"/>
            <a:ext cx="897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6548760" y="1989000"/>
            <a:ext cx="3089880" cy="1251720"/>
          </a:xfrm>
          <a:prstGeom prst="rect">
            <a:avLst/>
          </a:prstGeom>
          <a:solidFill>
            <a:srgbClr val="ff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. Prob. Tot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Hombres y mujeres form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Un Sist. Exh. Exc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 su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8800" y="5257800"/>
            <a:ext cx="1172880" cy="383400"/>
          </a:xfrm>
          <a:prstGeom prst="rect">
            <a:avLst/>
          </a:prstGeom>
          <a:solidFill>
            <a:srgbClr val="ff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. Ba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F88-C581-47BF-A20F-E507B9F951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58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xpresión del problema en forma de arb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200160" y="3141720"/>
            <a:ext cx="122400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udi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27080" y="2276640"/>
            <a:ext cx="1224000" cy="86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j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43440" y="2708280"/>
            <a:ext cx="1224000" cy="86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fu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55800" y="4149720"/>
            <a:ext cx="1224000" cy="8636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mb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413000"/>
            <a:ext cx="1224000" cy="863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73600" y="5157720"/>
            <a:ext cx="1224000" cy="86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fu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43440" y="3860640"/>
            <a:ext cx="1224000" cy="863640"/>
          </a:xfrm>
          <a:prstGeom prst="ellipse">
            <a:avLst/>
          </a:prstGeom>
          <a:solidFill>
            <a:srgbClr val="ff0000">
              <a:alpha val="5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52520" y="3070080"/>
            <a:ext cx="57456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52520" y="3862440"/>
            <a:ext cx="57456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079800" y="2133720"/>
            <a:ext cx="936720" cy="35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79800" y="2925720"/>
            <a:ext cx="792000" cy="287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152880" y="4292280"/>
            <a:ext cx="718920" cy="14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4797360"/>
            <a:ext cx="720720" cy="503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89800" y="2571840"/>
            <a:ext cx="515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26680" y="1844640"/>
            <a:ext cx="515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26680" y="3933720"/>
            <a:ext cx="515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89800" y="4013280"/>
            <a:ext cx="515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83760" y="5084640"/>
            <a:ext cx="515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50160" y="2644920"/>
            <a:ext cx="515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52840" y="1700280"/>
            <a:ext cx="2914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F) = 0,7 x 0,1 + 0,3x0,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24840" y="2781360"/>
            <a:ext cx="2622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H | F) = 0,3x0,2/P(F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16520" y="3573360"/>
            <a:ext cx="3859200" cy="183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 caminos a través de nodos representan intersecciones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s bifurcaciones representan uniones disjuntas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0A7-0C86-48F2-AD14-51C6E25818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Teorema de Bay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776160" y="1341360"/>
            <a:ext cx="3313080" cy="3314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32160" y="1341360"/>
            <a:ext cx="0" cy="331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76160" y="2997360"/>
            <a:ext cx="331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09000" y="141912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3520" y="1413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58240" y="4221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21880" y="4221000"/>
            <a:ext cx="41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32160" y="2637000"/>
            <a:ext cx="649080" cy="36036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216160" y="2637000"/>
            <a:ext cx="863640" cy="792000"/>
            <a:chOff x="2216160" y="2637000"/>
            <a:chExt cx="863640" cy="792000"/>
          </a:xfrm>
        </p:grpSpPr>
        <p:sp>
          <p:nvSpPr>
            <p:cNvPr id="387" name=""/>
            <p:cNvSpPr/>
            <p:nvPr/>
          </p:nvSpPr>
          <p:spPr>
            <a:xfrm>
              <a:off x="2216160" y="2637000"/>
              <a:ext cx="863640" cy="792000"/>
            </a:xfrm>
            <a:prstGeom prst="rect">
              <a:avLst/>
            </a:pr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51400" y="299556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789440" y="907920"/>
            <a:ext cx="4648320" cy="273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 conocemos la probabilidad de B en cada uno de los componentes de un sistema exhaustivo y excluyente de sucesos, entonce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 ocurre B, podemos calcular la probabilidad 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 posterior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de ocurrencia de cada 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5240" y="4941720"/>
            <a:ext cx="8085240" cy="162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nde P(B) se puede calcular usando el teorema de la probabilidad total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B)=P(B∩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P(B∩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P( B∩</a:t>
            </a:r>
            <a:r>
              <a:rPr b="0" lang="en-US" sz="19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( B∩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P(B|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P(B|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lang="en-US" sz="19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en-US" sz="19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+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68800" y="3654360"/>
                <a:ext cx="3299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i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 A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 flipH="1">
            <a:off x="1784160" y="4292640"/>
            <a:ext cx="540036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0A0-F4ED-4CCC-8A6C-53CD6A7B238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47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uebas diagnóstic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88520" y="979560"/>
            <a:ext cx="9217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a </a:t>
            </a:r>
            <a:r>
              <a:rPr b="0" lang="es-ES" sz="1800" spc="-1" strike="noStrike">
                <a:solidFill>
                  <a:srgbClr val="0066ff"/>
                </a:solidFill>
                <a:latin typeface="Tahoma"/>
              </a:rPr>
              <a:t>prueba diagnóstic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irve para ayudar a mejorar una estimación de la probabilidad de que un individuo presente una enfermeda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pricipio tenemos una </a:t>
            </a:r>
            <a:r>
              <a:rPr b="0" lang="es-ES" sz="1800" spc="-1" strike="noStrike">
                <a:solidFill>
                  <a:srgbClr val="339933"/>
                </a:solidFill>
                <a:latin typeface="Tahoma"/>
              </a:rPr>
              <a:t>idea subjetiv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de  P(Enfermo). Nos ayudamos de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Incidenci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orcentaje de nuevos casos de la  enfermedad en la població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Prevalenci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orcentaje de la población que presenta una enferme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r otra parte, para confirmar, usamos una prueba diagnóstica. La misma ha sido evaluada con anterioridad sobre dos grupos de individuos: sanos y enfermos. Así </a:t>
            </a:r>
            <a:r>
              <a:rPr b="0" lang="es-ES" sz="1800" spc="-1" strike="noStrike">
                <a:solidFill>
                  <a:srgbClr val="339933"/>
                </a:solidFill>
                <a:latin typeface="Tahoma"/>
              </a:rPr>
              <a:t>de modo frecuentist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 ha estimad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Sensibilidad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(verdaderos +)= Tasa de acierto sobre enferm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Especificidad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(verdaderos -)= Tasa de acierto sobre san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partir de lo anterior y usando el </a:t>
            </a:r>
            <a:r>
              <a:rPr b="0" lang="es-ES" sz="1800" spc="-1" strike="noStrike">
                <a:solidFill>
                  <a:srgbClr val="339933"/>
                </a:solidFill>
                <a:latin typeface="Tahoma"/>
              </a:rPr>
              <a:t>teorema de Baye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, podemos calcular las probabilidades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a posteriori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en función de los resultados del test): 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Índices predic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(Enfermo | Test +) = Índice predictivo posi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(Sano | Test -) = </a:t>
            </a: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Índice predictivo nega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FC1-662A-4ADF-A70F-8C335C7078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ruebas diagnósticas: aplicación T. Bayes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200160" y="3141720"/>
            <a:ext cx="122400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1240" y="2276640"/>
            <a:ext cx="1224000" cy="86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ferm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97600" y="2708280"/>
            <a:ext cx="1224000" cy="86364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09960" y="4149720"/>
            <a:ext cx="1224000" cy="8636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97600" y="1413000"/>
            <a:ext cx="1224000" cy="86364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24520" y="5157720"/>
            <a:ext cx="1224000" cy="86364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97600" y="3860640"/>
            <a:ext cx="1224000" cy="863640"/>
          </a:xfrm>
          <a:prstGeom prst="ellipse">
            <a:avLst/>
          </a:prstGeom>
          <a:solidFill>
            <a:srgbClr val="ffff0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352520" y="2707920"/>
            <a:ext cx="1728720" cy="577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52520" y="3862440"/>
            <a:ext cx="1584360" cy="646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233960" y="1844280"/>
            <a:ext cx="259056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33960" y="2925720"/>
            <a:ext cx="259056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07040" y="4221000"/>
            <a:ext cx="251748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33960" y="4797360"/>
            <a:ext cx="251928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0160" y="2111400"/>
            <a:ext cx="352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. </a:t>
            </a:r>
            <a:r>
              <a:rPr b="0" i="1" lang="es-ES" sz="19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de enfermedad: incid., preval., intuición,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65560" y="1535040"/>
            <a:ext cx="16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nsibilidad,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erdaderos 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67400" y="3860640"/>
            <a:ext cx="1098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lsos 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45040" y="5300640"/>
            <a:ext cx="1666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ecificidad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erdaderos 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79640" y="3048120"/>
            <a:ext cx="103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lsos 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41E-DAC7-43B8-AC05-C22CBA6EB4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GUNAS DEFINICIO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RIMENTO ALEATORIO:Es todo fenómeno que puede ocurrir de diferentes fo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PACIO MUESTRAL:Son todos los posibles resultados del experimento aleato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CESO: Es todo subconjunto de un espacio muestr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26D-6D39-4BCC-8760-5104BDCBA0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91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jemplo: Pruebas diagnóstica y T. Bay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9072720" cy="18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diabetes afecta al 20% de los individuos que acuden a una consulta. La presencia de glucosuria se usa como indicador de diabetes. Su sensibilidad es de 0,3 y la especificidad de 0,99. Calcular los índices predic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205160" y="3154320"/>
                <a:ext cx="487368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nf</m:t>
                            </m:r>
                            <m:r>
                              <m:t xml:space="preserve">intersect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nf</m:t>
                            </m:r>
                            <m:r>
                              <m:t xml:space="preserve">intersect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ano</m:t>
                            </m:r>
                            <m:r>
                              <m:t xml:space="preserve">intersect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r>
                              <m:t xml:space="preserve">0,3</m:t>
                            </m:r>
                          </m:num>
                          <m:den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r>
                              <m:t xml:space="preserve">0,3</m:t>
                            </m:r>
                            <m:r>
                              <m:t xml:space="preserve">+</m:t>
                            </m:r>
                            <m:r>
                              <m:t xml:space="preserve">0,8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200160" y="4508640"/>
            <a:ext cx="936360" cy="57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39800" y="4005360"/>
            <a:ext cx="863640" cy="57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fer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36880" y="4365720"/>
            <a:ext cx="576360" cy="431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96880" y="5229360"/>
            <a:ext cx="792360" cy="5745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08160" y="3716280"/>
            <a:ext cx="57492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20880" y="5877000"/>
            <a:ext cx="576360" cy="3603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65600" y="5084640"/>
            <a:ext cx="647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20880" y="4292640"/>
            <a:ext cx="647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65240" y="5013360"/>
            <a:ext cx="4316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505240" y="3933720"/>
            <a:ext cx="50292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5240" y="4437000"/>
            <a:ext cx="4316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289240" y="5300280"/>
            <a:ext cx="576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16160" y="5734080"/>
            <a:ext cx="4334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34320" y="3500280"/>
            <a:ext cx="515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18680" y="4992840"/>
            <a:ext cx="650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3240" y="5950080"/>
            <a:ext cx="668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,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9240" y="4508640"/>
            <a:ext cx="647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20880" y="393372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75600" y="4011480"/>
            <a:ext cx="515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02520" y="5092560"/>
            <a:ext cx="515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05280" y="4903920"/>
                <a:ext cx="461664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no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ano</m:t>
                            </m:r>
                            <m:r>
                              <m:t xml:space="preserve">intersect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ano</m:t>
                            </m:r>
                            <m:r>
                              <m:t xml:space="preserve">intersect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nf</m:t>
                            </m:r>
                            <m:r>
                              <m:t xml:space="preserve">intersect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0,8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t xml:space="preserve">0,8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  <m:r>
                              <m:t xml:space="preserve">+</m:t>
                            </m:r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r>
                              <m:t xml:space="preserve">0,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4E5-42BA-4A1B-91E0-B6466C81B5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bservacio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5545080" cy="525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l ejemplo anterior, al llegar un individuo a la consulta tenemos una idea </a:t>
            </a:r>
            <a:r>
              <a:rPr b="0" i="1" lang="en-US" sz="2000" spc="-1" strike="noStrike">
                <a:solidFill>
                  <a:srgbClr val="339933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bre la probabilidad de que tenga una enferme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tinuación se le pasa una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prueba diagnóstic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que nos aportará nueva información: Presenta glucosuria o 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función del resultado tenemos una nueva idea (</a:t>
            </a:r>
            <a:r>
              <a:rPr b="0" i="1" lang="en-US" sz="2000" spc="-1" strike="noStrike">
                <a:solidFill>
                  <a:srgbClr val="339933"/>
                </a:solidFill>
                <a:latin typeface="Tahoma"/>
              </a:rPr>
              <a:t>a poste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obre la probabilidad de que esté enfer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estra opinión a priori ha sido modificada por el resultado de un experiment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997760" y="2959200"/>
            <a:ext cx="1231920" cy="9810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548320" y="549360"/>
            <a:ext cx="1349280" cy="1847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5816520" y="4437000"/>
            <a:ext cx="1349280" cy="1847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897600" y="476280"/>
            <a:ext cx="2735280" cy="1389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¿Qué probabilidad tengo de estar enferm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En principio un 20%. Le haremos unas prueb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70840" y="4508640"/>
            <a:ext cx="2735280" cy="871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Presenta glucosuria. La probabilidad ahora es del 88%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00880" y="2205000"/>
            <a:ext cx="504720" cy="2448000"/>
          </a:xfrm>
          <a:custGeom>
            <a:avLst/>
            <a:gdLst>
              <a:gd name="textAreaLeft" fmla="*/ 67320 w 504720"/>
              <a:gd name="textAreaRight" fmla="*/ 437400 w 50472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6CA-7FC9-4E74-9433-20B173CD78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9560" y="228600"/>
            <a:ext cx="8971200" cy="69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¿Qué hemos visto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5440" y="1125360"/>
            <a:ext cx="7489800" cy="532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Álgebra de suces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ión, intersección, comple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Probabilida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o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Frecuentist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Subjetiva o Bayesian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xio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abilidad condicio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glas de cálcu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Complementario, Unión, Intersecció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dependencia de suc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stema exhaustivo y excluyente de suc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Teorema probabilidad total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ahoma"/>
              </a:rPr>
              <a:t>Teorema de Bay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Pruebas diagnóstica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26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3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: Incidencia, prevalenc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26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Eficacia de la prueba: Sensibilidad, especificidad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26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300" spc="-1" strike="noStrike">
                <a:solidFill>
                  <a:srgbClr val="000000"/>
                </a:solidFill>
                <a:latin typeface="Tahoma"/>
              </a:rPr>
              <a:t>A posteriori</a:t>
            </a: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: Índices predictivo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576-B852-4574-8CBF-86FE2D645EA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4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4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4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4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4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4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finición de probabilidad clásica o a priori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i un fenómeno puede ocurrir de N formas mutuamente excluyentes e igualmente verosímiles,y si Na de esas formas poseen un atributo “a”.,entonces la probabilidad de “a” se define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(a)=Na/N ; Na=casos favor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=casos pos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62B-551A-4372-8A36-6229235591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58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ciones de probabili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8520" y="1219320"/>
            <a:ext cx="9417240" cy="518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y dos maneras principales de entender la probabil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recuentist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bjetiva): Probabilidad de un suceso es la frecuencia relativa (%) de veces que ocurriría el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uces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 realizar un experimento repetidas ve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bjeti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ayesiana): Grado de certeza que se posee sobre un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uces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Es pers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ambos tipos de definiciones aparece el concepto de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uces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Vamos a recordar  qué son y algunas operaciones que se pueden realizar con su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B8F-36C9-41CB-B6D2-D08EA0027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04280"/>
            <a:ext cx="8994600" cy="4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ces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7056360" cy="403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ando se realiza un experimento aleatorio diversos resultados son posibles. El conjunto de todos los resultados posibles se llama </a:t>
            </a: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espacio muestr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E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llama </a:t>
            </a: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suces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 un subconjunto de dichos resulta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llama </a:t>
            </a: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suceso contrari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omplementario) de un suceso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A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al formado por los elementos que no están en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llama </a:t>
            </a: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suceso un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AU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al formado por los resultados experimentales que están en A o en B (incluyendo los que están en amb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llama </a:t>
            </a: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suceso intersec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A∩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simplemente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al formado por los resultados experimentales que están simultáneamente en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600" spc="-1" strike="noStrike">
                <a:solidFill>
                  <a:srgbClr val="0066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616880" y="404640"/>
            <a:ext cx="2089080" cy="1800360"/>
            <a:chOff x="7616880" y="404640"/>
            <a:chExt cx="2089080" cy="1800360"/>
          </a:xfrm>
        </p:grpSpPr>
        <p:sp>
          <p:nvSpPr>
            <p:cNvPr id="94" name=""/>
            <p:cNvSpPr/>
            <p:nvPr/>
          </p:nvSpPr>
          <p:spPr>
            <a:xfrm>
              <a:off x="7616880" y="404640"/>
              <a:ext cx="208908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13800" y="411120"/>
              <a:ext cx="1467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spacio muest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77240" y="981000"/>
              <a:ext cx="71280" cy="73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77240" y="1484280"/>
              <a:ext cx="71280" cy="73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53600" y="1989000"/>
              <a:ext cx="71280" cy="73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24880" y="907920"/>
              <a:ext cx="71280" cy="73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56520" y="1989000"/>
              <a:ext cx="71640" cy="73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1600" y="1916280"/>
              <a:ext cx="7164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24880" y="1484280"/>
              <a:ext cx="71280" cy="73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489960" y="1844640"/>
              <a:ext cx="71640" cy="73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56520" y="1197000"/>
              <a:ext cx="71640" cy="73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616880" y="2276640"/>
            <a:ext cx="2089080" cy="1800000"/>
            <a:chOff x="7616880" y="2276640"/>
            <a:chExt cx="2089080" cy="1800000"/>
          </a:xfrm>
        </p:grpSpPr>
        <p:grpSp>
          <p:nvGrpSpPr>
            <p:cNvPr id="106" name=""/>
            <p:cNvGrpSpPr/>
            <p:nvPr/>
          </p:nvGrpSpPr>
          <p:grpSpPr>
            <a:xfrm>
              <a:off x="7616880" y="2276640"/>
              <a:ext cx="2089080" cy="1800000"/>
              <a:chOff x="7616880" y="2276640"/>
              <a:chExt cx="2089080" cy="180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7616880" y="2276640"/>
                <a:ext cx="2089080" cy="18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13800" y="2282760"/>
                <a:ext cx="146700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spacio muest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77240" y="285264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77240" y="335592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53600" y="386064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24880" y="277956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56520" y="3860640"/>
                <a:ext cx="7164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121600" y="3787920"/>
                <a:ext cx="71640" cy="72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624880" y="335592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489960" y="3716280"/>
                <a:ext cx="7164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056520" y="3068640"/>
                <a:ext cx="7164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761240" y="2708280"/>
              <a:ext cx="720720" cy="1297080"/>
            </a:xfrm>
            <a:prstGeom prst="ellipse">
              <a:avLst/>
            </a:prstGeom>
            <a:solidFill>
              <a:srgbClr val="ffcc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31240" y="286056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895240" y="3219480"/>
              <a:ext cx="394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72880" y="4724280"/>
            <a:ext cx="2089080" cy="1800360"/>
            <a:chOff x="272880" y="4724280"/>
            <a:chExt cx="2089080" cy="1800360"/>
          </a:xfrm>
        </p:grpSpPr>
        <p:grpSp>
          <p:nvGrpSpPr>
            <p:cNvPr id="122" name=""/>
            <p:cNvGrpSpPr/>
            <p:nvPr/>
          </p:nvGrpSpPr>
          <p:grpSpPr>
            <a:xfrm>
              <a:off x="272880" y="4724280"/>
              <a:ext cx="2089080" cy="1800360"/>
              <a:chOff x="272880" y="4724280"/>
              <a:chExt cx="2089080" cy="1800360"/>
            </a:xfrm>
          </p:grpSpPr>
          <p:sp>
            <p:nvSpPr>
              <p:cNvPr id="123" name=""/>
              <p:cNvSpPr/>
              <p:nvPr/>
            </p:nvSpPr>
            <p:spPr>
              <a:xfrm>
                <a:off x="272880" y="4724280"/>
                <a:ext cx="2089080" cy="180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800" y="4730760"/>
                <a:ext cx="146700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spacio muest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3240" y="5300640"/>
                <a:ext cx="71280" cy="73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3240" y="5803920"/>
                <a:ext cx="71280" cy="73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09600" y="6308640"/>
                <a:ext cx="71280" cy="73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80880" y="5227560"/>
                <a:ext cx="71280" cy="73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12520" y="6308640"/>
                <a:ext cx="71640" cy="73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77600" y="6235920"/>
                <a:ext cx="7164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80880" y="5803920"/>
                <a:ext cx="71280" cy="73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45960" y="6164280"/>
                <a:ext cx="71640" cy="73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12520" y="5516640"/>
                <a:ext cx="71640" cy="73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17240" y="5156280"/>
              <a:ext cx="720720" cy="129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240" y="530856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960" y="5661000"/>
              <a:ext cx="1726920" cy="86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05240" y="4724280"/>
            <a:ext cx="2089080" cy="1800360"/>
            <a:chOff x="2505240" y="4724280"/>
            <a:chExt cx="2089080" cy="1800360"/>
          </a:xfrm>
        </p:grpSpPr>
        <p:grpSp>
          <p:nvGrpSpPr>
            <p:cNvPr id="138" name=""/>
            <p:cNvGrpSpPr/>
            <p:nvPr/>
          </p:nvGrpSpPr>
          <p:grpSpPr>
            <a:xfrm>
              <a:off x="2505240" y="4724280"/>
              <a:ext cx="2089080" cy="1800360"/>
              <a:chOff x="2505240" y="4724280"/>
              <a:chExt cx="2089080" cy="1800360"/>
            </a:xfrm>
          </p:grpSpPr>
          <p:sp>
            <p:nvSpPr>
              <p:cNvPr id="139" name=""/>
              <p:cNvSpPr/>
              <p:nvPr/>
            </p:nvSpPr>
            <p:spPr>
              <a:xfrm>
                <a:off x="2505240" y="5084640"/>
                <a:ext cx="1870200" cy="1432080"/>
              </a:xfrm>
              <a:custGeom>
                <a:avLst/>
                <a:gdLst/>
                <a:ahLst/>
                <a:rect l="l" t="t" r="r" b="b"/>
                <a:pathLst>
                  <a:path w="1178" h="902">
                    <a:moveTo>
                      <a:pt x="540" y="326"/>
                    </a:moveTo>
                    <a:cubicBezTo>
                      <a:pt x="517" y="259"/>
                      <a:pt x="577" y="223"/>
                      <a:pt x="511" y="180"/>
                    </a:cubicBezTo>
                    <a:cubicBezTo>
                      <a:pt x="459" y="102"/>
                      <a:pt x="491" y="134"/>
                      <a:pt x="413" y="82"/>
                    </a:cubicBezTo>
                    <a:cubicBezTo>
                      <a:pt x="403" y="76"/>
                      <a:pt x="384" y="63"/>
                      <a:pt x="384" y="63"/>
                    </a:cubicBezTo>
                    <a:cubicBezTo>
                      <a:pt x="342" y="0"/>
                      <a:pt x="303" y="26"/>
                      <a:pt x="237" y="43"/>
                    </a:cubicBezTo>
                    <a:cubicBezTo>
                      <a:pt x="193" y="87"/>
                      <a:pt x="212" y="59"/>
                      <a:pt x="189" y="131"/>
                    </a:cubicBezTo>
                    <a:cubicBezTo>
                      <a:pt x="182" y="154"/>
                      <a:pt x="149" y="190"/>
                      <a:pt x="149" y="190"/>
                    </a:cubicBezTo>
                    <a:cubicBezTo>
                      <a:pt x="126" y="259"/>
                      <a:pt x="147" y="236"/>
                      <a:pt x="101" y="268"/>
                    </a:cubicBezTo>
                    <a:cubicBezTo>
                      <a:pt x="82" y="344"/>
                      <a:pt x="81" y="376"/>
                      <a:pt x="101" y="453"/>
                    </a:cubicBezTo>
                    <a:cubicBezTo>
                      <a:pt x="86" y="497"/>
                      <a:pt x="67" y="501"/>
                      <a:pt x="23" y="512"/>
                    </a:cubicBezTo>
                    <a:cubicBezTo>
                      <a:pt x="16" y="522"/>
                      <a:pt x="4" y="529"/>
                      <a:pt x="3" y="541"/>
                    </a:cubicBezTo>
                    <a:cubicBezTo>
                      <a:pt x="0" y="574"/>
                      <a:pt x="13" y="662"/>
                      <a:pt x="42" y="687"/>
                    </a:cubicBezTo>
                    <a:cubicBezTo>
                      <a:pt x="60" y="702"/>
                      <a:pt x="101" y="726"/>
                      <a:pt x="101" y="726"/>
                    </a:cubicBezTo>
                    <a:cubicBezTo>
                      <a:pt x="141" y="790"/>
                      <a:pt x="95" y="730"/>
                      <a:pt x="149" y="766"/>
                    </a:cubicBezTo>
                    <a:cubicBezTo>
                      <a:pt x="161" y="774"/>
                      <a:pt x="167" y="787"/>
                      <a:pt x="179" y="795"/>
                    </a:cubicBezTo>
                    <a:cubicBezTo>
                      <a:pt x="204" y="812"/>
                      <a:pt x="240" y="821"/>
                      <a:pt x="267" y="834"/>
                    </a:cubicBezTo>
                    <a:cubicBezTo>
                      <a:pt x="277" y="839"/>
                      <a:pt x="285" y="851"/>
                      <a:pt x="296" y="853"/>
                    </a:cubicBezTo>
                    <a:cubicBezTo>
                      <a:pt x="364" y="866"/>
                      <a:pt x="433" y="864"/>
                      <a:pt x="501" y="873"/>
                    </a:cubicBezTo>
                    <a:cubicBezTo>
                      <a:pt x="559" y="893"/>
                      <a:pt x="619" y="883"/>
                      <a:pt x="677" y="902"/>
                    </a:cubicBezTo>
                    <a:cubicBezTo>
                      <a:pt x="703" y="899"/>
                      <a:pt x="731" y="902"/>
                      <a:pt x="755" y="892"/>
                    </a:cubicBezTo>
                    <a:cubicBezTo>
                      <a:pt x="766" y="888"/>
                      <a:pt x="765" y="870"/>
                      <a:pt x="774" y="863"/>
                    </a:cubicBezTo>
                    <a:cubicBezTo>
                      <a:pt x="782" y="856"/>
                      <a:pt x="795" y="858"/>
                      <a:pt x="804" y="853"/>
                    </a:cubicBezTo>
                    <a:cubicBezTo>
                      <a:pt x="902" y="798"/>
                      <a:pt x="818" y="820"/>
                      <a:pt x="930" y="805"/>
                    </a:cubicBezTo>
                    <a:cubicBezTo>
                      <a:pt x="968" y="780"/>
                      <a:pt x="992" y="774"/>
                      <a:pt x="1038" y="766"/>
                    </a:cubicBezTo>
                    <a:cubicBezTo>
                      <a:pt x="1048" y="759"/>
                      <a:pt x="1056" y="751"/>
                      <a:pt x="1067" y="746"/>
                    </a:cubicBezTo>
                    <a:cubicBezTo>
                      <a:pt x="1086" y="737"/>
                      <a:pt x="1126" y="726"/>
                      <a:pt x="1126" y="726"/>
                    </a:cubicBezTo>
                    <a:cubicBezTo>
                      <a:pt x="1161" y="672"/>
                      <a:pt x="1178" y="613"/>
                      <a:pt x="1116" y="570"/>
                    </a:cubicBezTo>
                    <a:cubicBezTo>
                      <a:pt x="1098" y="519"/>
                      <a:pt x="1114" y="547"/>
                      <a:pt x="1048" y="502"/>
                    </a:cubicBezTo>
                    <a:cubicBezTo>
                      <a:pt x="1038" y="495"/>
                      <a:pt x="1018" y="482"/>
                      <a:pt x="1018" y="482"/>
                    </a:cubicBezTo>
                    <a:cubicBezTo>
                      <a:pt x="992" y="443"/>
                      <a:pt x="976" y="435"/>
                      <a:pt x="930" y="424"/>
                    </a:cubicBezTo>
                    <a:cubicBezTo>
                      <a:pt x="848" y="369"/>
                      <a:pt x="895" y="388"/>
                      <a:pt x="784" y="375"/>
                    </a:cubicBezTo>
                    <a:cubicBezTo>
                      <a:pt x="726" y="355"/>
                      <a:pt x="669" y="352"/>
                      <a:pt x="608" y="346"/>
                    </a:cubicBezTo>
                    <a:cubicBezTo>
                      <a:pt x="602" y="344"/>
                      <a:pt x="498" y="326"/>
                      <a:pt x="540" y="326"/>
                    </a:cubicBez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505240" y="4724280"/>
                <a:ext cx="2089080" cy="1800360"/>
                <a:chOff x="2505240" y="4724280"/>
                <a:chExt cx="2089080" cy="180036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2505240" y="4724280"/>
                  <a:ext cx="2089080" cy="1800360"/>
                  <a:chOff x="2505240" y="4724280"/>
                  <a:chExt cx="2089080" cy="18003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2505240" y="4724280"/>
                    <a:ext cx="2089080" cy="180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702160" y="4730760"/>
                    <a:ext cx="146700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87480"/>
                        <a:tab algn="l" pos="1974960"/>
                        <a:tab algn="l" pos="2962440"/>
                        <a:tab algn="l" pos="3949560"/>
                        <a:tab algn="l" pos="4937040"/>
                        <a:tab algn="l" pos="5924520"/>
                        <a:tab algn="l" pos="6912000"/>
                        <a:tab algn="l" pos="7899480"/>
                        <a:tab algn="l" pos="8886960"/>
                        <a:tab algn="l" pos="9874080"/>
                        <a:tab algn="l" pos="1086156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</a:rPr>
                      <a:t>E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espacio muestra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865600" y="530064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2865600" y="580392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441960" y="630864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513240" y="522756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944880" y="6308640"/>
                    <a:ext cx="7164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009960" y="6235920"/>
                    <a:ext cx="71640" cy="727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513240" y="580392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378320" y="6164280"/>
                    <a:ext cx="7164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944880" y="5516640"/>
                    <a:ext cx="7164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"/>
                <p:cNvSpPr/>
                <p:nvPr/>
              </p:nvSpPr>
              <p:spPr>
                <a:xfrm>
                  <a:off x="2649600" y="5156280"/>
                  <a:ext cx="720720" cy="1297080"/>
                </a:xfrm>
                <a:prstGeom prst="ellipse">
                  <a:avLst/>
                </a:prstGeom>
                <a:solidFill>
                  <a:srgbClr val="ffcc99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919600" y="5308560"/>
                  <a:ext cx="3409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578320" y="5661000"/>
                  <a:ext cx="1726920" cy="863640"/>
                </a:xfrm>
                <a:prstGeom prst="ellipse">
                  <a:avLst/>
                </a:prstGeom>
                <a:solidFill>
                  <a:srgbClr val="ffcc99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3660120" y="5157720"/>
              <a:ext cx="793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665600" y="4724280"/>
            <a:ext cx="2132280" cy="1800360"/>
            <a:chOff x="4665600" y="4724280"/>
            <a:chExt cx="2132280" cy="1800360"/>
          </a:xfrm>
        </p:grpSpPr>
        <p:grpSp>
          <p:nvGrpSpPr>
            <p:cNvPr id="158" name=""/>
            <p:cNvGrpSpPr/>
            <p:nvPr/>
          </p:nvGrpSpPr>
          <p:grpSpPr>
            <a:xfrm>
              <a:off x="4665600" y="4724280"/>
              <a:ext cx="2089080" cy="1800360"/>
              <a:chOff x="4665600" y="4724280"/>
              <a:chExt cx="2089080" cy="180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4809960" y="5659560"/>
                <a:ext cx="672840" cy="728640"/>
              </a:xfrm>
              <a:custGeom>
                <a:avLst/>
                <a:gdLst/>
                <a:ahLst/>
                <a:rect l="l" t="t" r="r" b="b"/>
                <a:pathLst>
                  <a:path w="424" h="459">
                    <a:moveTo>
                      <a:pt x="24" y="117"/>
                    </a:moveTo>
                    <a:cubicBezTo>
                      <a:pt x="144" y="38"/>
                      <a:pt x="108" y="51"/>
                      <a:pt x="278" y="39"/>
                    </a:cubicBezTo>
                    <a:cubicBezTo>
                      <a:pt x="327" y="27"/>
                      <a:pt x="377" y="16"/>
                      <a:pt x="424" y="0"/>
                    </a:cubicBezTo>
                    <a:cubicBezTo>
                      <a:pt x="424" y="6"/>
                      <a:pt x="408" y="290"/>
                      <a:pt x="405" y="302"/>
                    </a:cubicBezTo>
                    <a:cubicBezTo>
                      <a:pt x="395" y="345"/>
                      <a:pt x="345" y="386"/>
                      <a:pt x="317" y="420"/>
                    </a:cubicBezTo>
                    <a:cubicBezTo>
                      <a:pt x="310" y="429"/>
                      <a:pt x="308" y="443"/>
                      <a:pt x="298" y="449"/>
                    </a:cubicBezTo>
                    <a:cubicBezTo>
                      <a:pt x="287" y="457"/>
                      <a:pt x="271" y="456"/>
                      <a:pt x="258" y="459"/>
                    </a:cubicBezTo>
                    <a:cubicBezTo>
                      <a:pt x="256" y="459"/>
                      <a:pt x="164" y="454"/>
                      <a:pt x="141" y="439"/>
                    </a:cubicBezTo>
                    <a:cubicBezTo>
                      <a:pt x="66" y="389"/>
                      <a:pt x="154" y="424"/>
                      <a:pt x="83" y="400"/>
                    </a:cubicBezTo>
                    <a:cubicBezTo>
                      <a:pt x="70" y="364"/>
                      <a:pt x="46" y="343"/>
                      <a:pt x="24" y="312"/>
                    </a:cubicBezTo>
                    <a:cubicBezTo>
                      <a:pt x="10" y="206"/>
                      <a:pt x="0" y="226"/>
                      <a:pt x="24" y="117"/>
                    </a:cubicBezTo>
                    <a:close/>
                  </a:path>
                </a:pathLst>
              </a:custGeom>
              <a:solidFill>
                <a:srgbClr val="ffcc99">
                  <a:alpha val="20000"/>
                </a:srgbClr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4665600" y="4724280"/>
                <a:ext cx="2089080" cy="1800360"/>
                <a:chOff x="4665600" y="4724280"/>
                <a:chExt cx="2089080" cy="180036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665600" y="4724280"/>
                  <a:ext cx="2089080" cy="1800360"/>
                  <a:chOff x="4665600" y="4724280"/>
                  <a:chExt cx="2089080" cy="180036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4665600" y="4724280"/>
                    <a:ext cx="2089080" cy="1800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862520" y="4730760"/>
                    <a:ext cx="146700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87480"/>
                        <a:tab algn="l" pos="1974960"/>
                        <a:tab algn="l" pos="2962440"/>
                        <a:tab algn="l" pos="3949560"/>
                        <a:tab algn="l" pos="4937040"/>
                        <a:tab algn="l" pos="5924520"/>
                        <a:tab algn="l" pos="6912000"/>
                        <a:tab algn="l" pos="7899480"/>
                        <a:tab algn="l" pos="8886960"/>
                        <a:tab algn="l" pos="9874080"/>
                        <a:tab algn="l" pos="1086156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</a:rPr>
                      <a:t>E 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espacio muestra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025960" y="530064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025960" y="580392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602320" y="630864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673600" y="522756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105240" y="6308640"/>
                    <a:ext cx="7164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170320" y="6235920"/>
                    <a:ext cx="71640" cy="727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673600" y="5803920"/>
                    <a:ext cx="7128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38680" y="6164280"/>
                    <a:ext cx="7164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105240" y="5516640"/>
                    <a:ext cx="71640" cy="730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>
                  <a:off x="4809960" y="5156280"/>
                  <a:ext cx="720720" cy="1297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079960" y="5308560"/>
                  <a:ext cx="3409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738680" y="5661000"/>
                  <a:ext cx="1726920" cy="863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87480"/>
                      <a:tab algn="l" pos="1974960"/>
                      <a:tab algn="l" pos="2962440"/>
                      <a:tab algn="l" pos="3949560"/>
                      <a:tab algn="l" pos="4937040"/>
                      <a:tab algn="l" pos="5924520"/>
                      <a:tab algn="l" pos="6912000"/>
                      <a:tab algn="l" pos="7899480"/>
                      <a:tab algn="l" pos="8886960"/>
                      <a:tab algn="l" pos="9874080"/>
                      <a:tab algn="l" pos="1086156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5603760" y="5229360"/>
              <a:ext cx="1194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RSEC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9CD-A2B4-467E-B9FC-280A043CAA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go sobre lenguaj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95360" y="1885680"/>
            <a:ext cx="8859600" cy="417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B :”ocurre al menos un suceso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:”ocurren ambos suceso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B”)U(A”B):”ocurre solo un suceso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”B”: “no ocurre ningún suceso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781-A254-4B22-8E8A-7494EACE03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971200" cy="585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finición de probabilidad y prob. condicionad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28000" cy="43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llama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robabilid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cualquier función,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que asigna a cada suceso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 valor numérico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P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erificando las siguientes reglas (axiom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0≤P(A) ≤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(E)=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(AUB)=P(A)+P(B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i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B=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Ø es el conjunto vací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llama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robabilidad de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condicionada a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o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robabilidad de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sabiendo que pasa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15800" y="5334120"/>
                <a:ext cx="3021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5384880" y="2133720"/>
            <a:ext cx="1874880" cy="1582560"/>
            <a:chOff x="5384880" y="2133720"/>
            <a:chExt cx="1874880" cy="1582560"/>
          </a:xfrm>
        </p:grpSpPr>
        <p:grpSp>
          <p:nvGrpSpPr>
            <p:cNvPr id="183" name=""/>
            <p:cNvGrpSpPr/>
            <p:nvPr/>
          </p:nvGrpSpPr>
          <p:grpSpPr>
            <a:xfrm>
              <a:off x="5384880" y="2133720"/>
              <a:ext cx="1874880" cy="1582560"/>
              <a:chOff x="5384880" y="2133720"/>
              <a:chExt cx="1874880" cy="1582560"/>
            </a:xfrm>
          </p:grpSpPr>
          <p:sp>
            <p:nvSpPr>
              <p:cNvPr id="184" name=""/>
              <p:cNvSpPr/>
              <p:nvPr/>
            </p:nvSpPr>
            <p:spPr>
              <a:xfrm>
                <a:off x="5384880" y="2133720"/>
                <a:ext cx="1874880" cy="1582560"/>
              </a:xfrm>
              <a:prstGeom prst="rect">
                <a:avLst/>
              </a:prstGeom>
              <a:solidFill>
                <a:srgbClr val="ffcc99">
                  <a:alpha val="1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0560" y="2140920"/>
                <a:ext cx="146700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spacio muest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08160" y="2640240"/>
                <a:ext cx="63720" cy="6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08160" y="3082680"/>
                <a:ext cx="63720" cy="6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25480" y="3526200"/>
                <a:ext cx="63720" cy="6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89200" y="2575800"/>
                <a:ext cx="63720" cy="6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76920" y="3526200"/>
                <a:ext cx="64080" cy="6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37760" y="3462480"/>
                <a:ext cx="64080" cy="63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89200" y="3082680"/>
                <a:ext cx="63720" cy="6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065720" y="3399480"/>
                <a:ext cx="64080" cy="6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76920" y="2829960"/>
                <a:ext cx="64080" cy="6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5564880" y="2582640"/>
              <a:ext cx="7963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473960" y="1916280"/>
            <a:ext cx="2089080" cy="1800000"/>
            <a:chOff x="7473960" y="1916280"/>
            <a:chExt cx="2089080" cy="1800000"/>
          </a:xfrm>
        </p:grpSpPr>
        <p:grpSp>
          <p:nvGrpSpPr>
            <p:cNvPr id="197" name=""/>
            <p:cNvGrpSpPr/>
            <p:nvPr/>
          </p:nvGrpSpPr>
          <p:grpSpPr>
            <a:xfrm>
              <a:off x="7473960" y="1916280"/>
              <a:ext cx="2089080" cy="1800000"/>
              <a:chOff x="7473960" y="1916280"/>
              <a:chExt cx="2089080" cy="1800000"/>
            </a:xfrm>
          </p:grpSpPr>
          <p:sp>
            <p:nvSpPr>
              <p:cNvPr id="198" name=""/>
              <p:cNvSpPr/>
              <p:nvPr/>
            </p:nvSpPr>
            <p:spPr>
              <a:xfrm>
                <a:off x="7473960" y="1916280"/>
                <a:ext cx="2089080" cy="18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70880" y="1922400"/>
                <a:ext cx="146700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spacio muest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834320" y="249228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34320" y="299556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410680" y="350028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81960" y="241920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13600" y="3500280"/>
                <a:ext cx="7164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78680" y="3427560"/>
                <a:ext cx="71640" cy="72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81960" y="2995560"/>
                <a:ext cx="7128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9347040" y="3355920"/>
                <a:ext cx="7164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913600" y="2708280"/>
                <a:ext cx="71640" cy="72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7691400" y="2347920"/>
              <a:ext cx="502920" cy="1296360"/>
            </a:xfrm>
            <a:prstGeom prst="ellipse">
              <a:avLst/>
            </a:prstGeom>
            <a:solidFill>
              <a:srgbClr val="ffcc99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26320" y="3139920"/>
              <a:ext cx="863280" cy="504360"/>
            </a:xfrm>
            <a:prstGeom prst="ellipse">
              <a:avLst/>
            </a:prstGeom>
            <a:solidFill>
              <a:srgbClr val="ffcc99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43600" y="249876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68880" y="4869000"/>
            <a:ext cx="2089080" cy="1800000"/>
            <a:chOff x="5168880" y="4869000"/>
            <a:chExt cx="2089080" cy="1800000"/>
          </a:xfrm>
        </p:grpSpPr>
        <p:sp>
          <p:nvSpPr>
            <p:cNvPr id="213" name=""/>
            <p:cNvSpPr/>
            <p:nvPr/>
          </p:nvSpPr>
          <p:spPr>
            <a:xfrm>
              <a:off x="6021360" y="5373720"/>
              <a:ext cx="527040" cy="936000"/>
            </a:xfrm>
            <a:custGeom>
              <a:avLst/>
              <a:gdLst/>
              <a:ahLst/>
              <a:rect l="l" t="t" r="r" b="b"/>
              <a:pathLst>
                <a:path w="332" h="590">
                  <a:moveTo>
                    <a:pt x="234" y="0"/>
                  </a:moveTo>
                  <a:cubicBezTo>
                    <a:pt x="181" y="64"/>
                    <a:pt x="128" y="128"/>
                    <a:pt x="98" y="181"/>
                  </a:cubicBezTo>
                  <a:cubicBezTo>
                    <a:pt x="68" y="234"/>
                    <a:pt x="67" y="273"/>
                    <a:pt x="52" y="318"/>
                  </a:cubicBezTo>
                  <a:cubicBezTo>
                    <a:pt x="37" y="363"/>
                    <a:pt x="14" y="416"/>
                    <a:pt x="7" y="454"/>
                  </a:cubicBezTo>
                  <a:cubicBezTo>
                    <a:pt x="0" y="492"/>
                    <a:pt x="0" y="521"/>
                    <a:pt x="7" y="544"/>
                  </a:cubicBezTo>
                  <a:cubicBezTo>
                    <a:pt x="14" y="567"/>
                    <a:pt x="45" y="590"/>
                    <a:pt x="52" y="590"/>
                  </a:cubicBezTo>
                  <a:cubicBezTo>
                    <a:pt x="59" y="590"/>
                    <a:pt x="44" y="552"/>
                    <a:pt x="52" y="544"/>
                  </a:cubicBezTo>
                  <a:cubicBezTo>
                    <a:pt x="60" y="536"/>
                    <a:pt x="68" y="559"/>
                    <a:pt x="98" y="544"/>
                  </a:cubicBezTo>
                  <a:cubicBezTo>
                    <a:pt x="128" y="529"/>
                    <a:pt x="196" y="499"/>
                    <a:pt x="234" y="454"/>
                  </a:cubicBezTo>
                  <a:cubicBezTo>
                    <a:pt x="272" y="409"/>
                    <a:pt x="316" y="332"/>
                    <a:pt x="324" y="272"/>
                  </a:cubicBezTo>
                  <a:cubicBezTo>
                    <a:pt x="332" y="212"/>
                    <a:pt x="294" y="129"/>
                    <a:pt x="279" y="91"/>
                  </a:cubicBezTo>
                  <a:cubicBezTo>
                    <a:pt x="264" y="53"/>
                    <a:pt x="249" y="49"/>
                    <a:pt x="234" y="45"/>
                  </a:cubicBezTo>
                </a:path>
              </a:pathLst>
            </a:custGeom>
            <a:solidFill>
              <a:srgbClr val="ff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68880" y="4869000"/>
              <a:ext cx="2089080" cy="18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65800" y="4875120"/>
              <a:ext cx="1467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spacio muest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29240" y="5445000"/>
              <a:ext cx="7164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29240" y="5948280"/>
              <a:ext cx="7164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5600" y="6453000"/>
              <a:ext cx="7128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6880" y="5371920"/>
              <a:ext cx="7164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08880" y="6453000"/>
              <a:ext cx="7128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73600" y="6379920"/>
              <a:ext cx="7164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6880" y="5948280"/>
              <a:ext cx="7164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42320" y="6308640"/>
              <a:ext cx="7128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08880" y="5661000"/>
              <a:ext cx="7128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11800" y="5157720"/>
              <a:ext cx="1224000" cy="11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5440" y="588492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824600">
              <a:off x="6103800" y="5289480"/>
              <a:ext cx="701640" cy="1171080"/>
            </a:xfrm>
            <a:prstGeom prst="ellipse">
              <a:avLst/>
            </a:prstGeom>
            <a:solidFill>
              <a:srgbClr val="ff6600">
                <a:alpha val="10000"/>
              </a:srgbClr>
            </a:solidFill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 flipV="1">
            <a:off x="3368160" y="5589360"/>
            <a:ext cx="2953080" cy="14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297240" y="6237360"/>
            <a:ext cx="3168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7515200">
            <a:off x="3670560" y="5429520"/>
            <a:ext cx="132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” de uno respecto al o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267-E2F5-4EED-B786-DD21920C8A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9560" y="228600"/>
            <a:ext cx="89712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uir  la probabilidad condicionad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81240" y="1916280"/>
            <a:ext cx="863640" cy="792000"/>
            <a:chOff x="1281240" y="1916280"/>
            <a:chExt cx="863640" cy="792000"/>
          </a:xfrm>
        </p:grpSpPr>
        <p:sp>
          <p:nvSpPr>
            <p:cNvPr id="233" name=""/>
            <p:cNvSpPr/>
            <p:nvPr/>
          </p:nvSpPr>
          <p:spPr>
            <a:xfrm>
              <a:off x="1281240" y="1916280"/>
              <a:ext cx="863640" cy="792000"/>
            </a:xfrm>
            <a:prstGeom prst="rect">
              <a:avLst/>
            </a:prstGeom>
            <a:blipFill rotWithShape="0">
              <a:blip r:embed="rId1">
                <a:alphaModFix amt="50000"/>
              </a:blip>
              <a:srcRect/>
              <a:tile tx="0" ty="0" sx="100000" sy="100000" algn="ctr"/>
            </a:blipFill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16480" y="2274840"/>
              <a:ext cx="340920" cy="38340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88880" y="1052640"/>
            <a:ext cx="3313080" cy="3314520"/>
            <a:chOff x="488880" y="1052640"/>
            <a:chExt cx="3313080" cy="3314520"/>
          </a:xfrm>
        </p:grpSpPr>
        <p:sp>
          <p:nvSpPr>
            <p:cNvPr id="236" name=""/>
            <p:cNvSpPr/>
            <p:nvPr/>
          </p:nvSpPr>
          <p:spPr>
            <a:xfrm>
              <a:off x="488880" y="1052640"/>
              <a:ext cx="3313080" cy="33145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44880" y="1052640"/>
              <a:ext cx="0" cy="3311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8880" y="2708280"/>
              <a:ext cx="331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8880" y="1052640"/>
              <a:ext cx="1656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520" y="113004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427760" y="4435560"/>
            <a:ext cx="1566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A)   = 0,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B)   = 0,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AB) = 0,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113600" y="2060640"/>
            <a:ext cx="863640" cy="792000"/>
            <a:chOff x="7113600" y="2060640"/>
            <a:chExt cx="863640" cy="792000"/>
          </a:xfrm>
        </p:grpSpPr>
        <p:sp>
          <p:nvSpPr>
            <p:cNvPr id="243" name=""/>
            <p:cNvSpPr/>
            <p:nvPr/>
          </p:nvSpPr>
          <p:spPr>
            <a:xfrm>
              <a:off x="7113600" y="2060640"/>
              <a:ext cx="863640" cy="792000"/>
            </a:xfrm>
            <a:prstGeom prst="rect">
              <a:avLst/>
            </a:pr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8840" y="241920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176880" y="1052640"/>
            <a:ext cx="3313080" cy="3314520"/>
            <a:chOff x="6176880" y="1052640"/>
            <a:chExt cx="3313080" cy="3314520"/>
          </a:xfrm>
        </p:grpSpPr>
        <p:sp>
          <p:nvSpPr>
            <p:cNvPr id="246" name=""/>
            <p:cNvSpPr/>
            <p:nvPr/>
          </p:nvSpPr>
          <p:spPr>
            <a:xfrm>
              <a:off x="6176880" y="1052640"/>
              <a:ext cx="3313080" cy="33145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32880" y="1052640"/>
              <a:ext cx="0" cy="3311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6880" y="2708280"/>
              <a:ext cx="331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76880" y="1052640"/>
              <a:ext cx="1656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02520" y="113004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113600" y="2060640"/>
            <a:ext cx="719280" cy="6476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720" y="5568840"/>
            <a:ext cx="5299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¿Probabilidad de A sabiendo que ha pasado B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83040" y="596916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(A|B)=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86680" y="5950080"/>
            <a:ext cx="1520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(A|B)=0,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17200" y="4437000"/>
            <a:ext cx="1566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A)   = 0,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B)   = 0,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AB) = 0,0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47A-E995-4EF7-8AEA-5AFD355F83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9560" y="228600"/>
            <a:ext cx="89712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uir  la probabilidad condicionad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88880" y="1052640"/>
            <a:ext cx="3313080" cy="3314520"/>
            <a:chOff x="488880" y="1052640"/>
            <a:chExt cx="3313080" cy="3314520"/>
          </a:xfrm>
        </p:grpSpPr>
        <p:sp>
          <p:nvSpPr>
            <p:cNvPr id="258" name=""/>
            <p:cNvSpPr/>
            <p:nvPr/>
          </p:nvSpPr>
          <p:spPr>
            <a:xfrm>
              <a:off x="488880" y="1052640"/>
              <a:ext cx="3313080" cy="33145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44880" y="1052640"/>
              <a:ext cx="0" cy="3311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8880" y="2708280"/>
              <a:ext cx="331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8880" y="1052640"/>
              <a:ext cx="1656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4520" y="113004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977240" y="2852640"/>
            <a:ext cx="863640" cy="792360"/>
            <a:chOff x="7977240" y="2852640"/>
            <a:chExt cx="863640" cy="792360"/>
          </a:xfrm>
        </p:grpSpPr>
        <p:sp>
          <p:nvSpPr>
            <p:cNvPr id="264" name=""/>
            <p:cNvSpPr/>
            <p:nvPr/>
          </p:nvSpPr>
          <p:spPr>
            <a:xfrm>
              <a:off x="7977240" y="2852640"/>
              <a:ext cx="863640" cy="792360"/>
            </a:xfrm>
            <a:prstGeom prst="rect">
              <a:avLst/>
            </a:pr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12480" y="321156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176880" y="1052640"/>
            <a:ext cx="3313080" cy="3314520"/>
            <a:chOff x="6176880" y="1052640"/>
            <a:chExt cx="3313080" cy="3314520"/>
          </a:xfrm>
        </p:grpSpPr>
        <p:sp>
          <p:nvSpPr>
            <p:cNvPr id="267" name=""/>
            <p:cNvSpPr/>
            <p:nvPr/>
          </p:nvSpPr>
          <p:spPr>
            <a:xfrm>
              <a:off x="6176880" y="1052640"/>
              <a:ext cx="3313080" cy="33145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32880" y="1052640"/>
              <a:ext cx="0" cy="3311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76880" y="2708280"/>
              <a:ext cx="331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76880" y="1052640"/>
              <a:ext cx="1656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02520" y="113004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857240" y="2419200"/>
            <a:ext cx="863640" cy="792360"/>
            <a:chOff x="1857240" y="2419200"/>
            <a:chExt cx="863640" cy="792360"/>
          </a:xfrm>
        </p:grpSpPr>
        <p:sp>
          <p:nvSpPr>
            <p:cNvPr id="273" name=""/>
            <p:cNvSpPr/>
            <p:nvPr/>
          </p:nvSpPr>
          <p:spPr>
            <a:xfrm>
              <a:off x="1857240" y="2419200"/>
              <a:ext cx="863640" cy="792360"/>
            </a:xfrm>
            <a:prstGeom prst="rect">
              <a:avLst/>
            </a:pr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92480" y="2778120"/>
              <a:ext cx="34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57240" y="2419200"/>
            <a:ext cx="287640" cy="28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76720" y="5568840"/>
            <a:ext cx="5299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¿Probabilidad de A sabiendo que ha pasado B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82680" y="5969160"/>
            <a:ext cx="1668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(A|B)=0,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86680" y="5950080"/>
            <a:ext cx="129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(A|B)=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56480" y="4556160"/>
            <a:ext cx="1700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A)   = 0,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B)   = 0,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AB) = 0,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45200" y="4557600"/>
            <a:ext cx="1540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A)   = 0,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B)   = 0,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(AB) =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a 4: Probabilid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E9F-914D-4616-B88C-72B0BDD7F9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ioestadístic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7:28:59Z</dcterms:created>
  <dc:creator>Fco. Javier Barón López</dc:creator>
  <dc:description/>
  <cp:keywords>Bioestadística probabilidad</cp:keywords>
  <dc:language>en-US</dc:language>
  <cp:lastModifiedBy>Usuario</cp:lastModifiedBy>
  <dcterms:modified xsi:type="dcterms:W3CDTF">2008-04-10T15:45:58Z</dcterms:modified>
  <cp:revision>235</cp:revision>
  <dc:subject/>
  <dc:title>Tema 4: Introducción a la probabilidad</dc:title>
</cp:coreProperties>
</file>