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E77-244E-44A6-9D05-5C979C75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4B3-1FAC-477B-94A4-61E0CF57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382-14C7-4215-A2F6-16733DFB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C0D-664F-4A04-AD79-E97B1E8D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3F9-9BEF-4984-94CD-30A76256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5E3-BBA1-4680-9610-35700C38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A3C-EE7A-4DAB-A966-74012F4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927-DDD1-4807-8A0F-9C68B8B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548-7CFB-4E61-AC30-F681E1FA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A30-834D-45A2-8E07-92D3746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BA8-3F2C-4BB9-B17B-7A89616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B11-9A58-4EBE-AF86-FC1C85B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E7F-7213-4D80-A158-7A7F83C6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6:09:02Z</dcterms:created>
  <dc:creator>Nina</dc:creator>
  <dc:description/>
  <dc:language>en-US</dc:language>
  <cp:lastModifiedBy>Nina</cp:lastModifiedBy>
  <dcterms:modified xsi:type="dcterms:W3CDTF">2007-03-29T16:11:39Z</dcterms:modified>
  <cp:revision>2</cp:revision>
  <dc:subject/>
  <dc:title>Presentación de PowerPoint</dc:title>
</cp:coreProperties>
</file>