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6419-34AA-4390-80A1-2EF1119F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00DF-2BD3-417A-A44F-F73825AB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7AC7-1259-4AC8-80EA-49A0188B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0355-4C4C-4B13-8832-B54A8429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9667-FDFA-4EF7-9C89-F6F4656C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99DB-69D0-4349-B3F2-13B0300D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548A-AE41-4785-A4FD-3A294138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707E-569F-490A-A2C6-FA0B51D7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5BBE-1EED-4938-9709-342C6870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0E4-67C1-4BFB-A50D-FDABA68E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8B9F-EEA8-45F6-B578-027B9ED3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2DA9-0312-4256-A6BB-7D3EC994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C24B-FA54-46E3-889D-40081C2B1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6:09:02Z</dcterms:created>
  <dc:creator>Nina</dc:creator>
  <dc:description/>
  <dc:language>en-US</dc:language>
  <cp:lastModifiedBy>Nina</cp:lastModifiedBy>
  <dcterms:modified xsi:type="dcterms:W3CDTF">2007-03-29T16:11:39Z</dcterms:modified>
  <cp:revision>2</cp:revision>
  <dc:subject/>
  <dc:title>Presentación de PowerPoint</dc:title>
</cp:coreProperties>
</file>