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2CF-BB39-44A4-8C4D-D15DD129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4B6-F8D4-403C-98A8-55F3E29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530-6BA0-4529-B854-6B821C2C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E9F-FF6F-4536-9312-CCDE7D0E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33F4-94C3-4A69-81F0-2124605C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A526F-E773-46D6-91FF-937F9E3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A746E-5A70-4873-8A02-7536D81B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A371D-CD8C-4E2A-A661-63AD4C6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0EB24-E1EB-40A9-A79E-C784F471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B6933-BE1D-4042-9825-220EF95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11B85-0FA8-4D72-9200-D4D7A2B0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1F0-43E3-41A0-B8FB-979F908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FFF5-5C4A-4198-885B-8BBA423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A5B48-8F4D-43EB-B699-715547F6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A8686-4CC7-4227-BCD1-17D478C9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CDB4-C708-4142-9EED-DC8571B3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4C30-80C6-4D83-A9D8-09119B8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CC7-596C-4AA6-9145-C26FC1F8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620-C0CE-45CF-87F3-518D9DD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246-A58C-45CD-9315-11F357CF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96-83E0-4E64-9D0B-842CB7F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49F-5AF6-4C6C-B84D-99E659B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5CB1-2F2B-4F2C-8AA0-25A8B1F6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F5F-0894-452F-8E7C-5250AEF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E68-B8B4-4904-B908-E7B550223F1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FC47-F99A-4537-B165-E565EFB7C9A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S REUMATOLOGIC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R. Omar Valenzuela 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CCION REUMAT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PTO. DE MEDIC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2 a 4 semanas post infección (genitales gralmente. asintomat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Uretriti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ombres son mas sintomáticos, descarga mucopurulenta, prostatitis o epididimiti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mujeres: disuria, cervicitis, vag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juntivit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er leve y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veítis anterior puede afectar un solo ojo con eritema, fotofobia y dol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Artri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. Artic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ligoartritis (prom: 4 arti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ditiva, asimé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fección ppal de EEII, rodillas, tobillos, dedos de 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actilitis o dedos en salchich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tesitis o entesopatias (aquilianos, calcane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umbago en 50% (sacroiliacas o espin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4462560" cy="40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Keratoderma blenorrágica a dermatitis exfolia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ñas de pies y manos engrosadas, opacas, asemejando onicomic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lanitis circinada: ulceras serpiginosa que rodea me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Ulceras orales indoloras en lengua y palad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ortitis por engrosamiento inflam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14680" y="1244520"/>
            <a:ext cx="5715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CRE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cin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yna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fageal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erodact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langectas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d. Reumatológico que engloba características de esclerodermia sistémica limit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85840" y="114480"/>
            <a:ext cx="6772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7840" y="228600"/>
            <a:ext cx="878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5761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ocrinopatía autoinmune  por proliferación de linfocitos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 o 2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ria: 0.05  a 1% de la población. Relación mujer/hombre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ínica princip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ftalmia (queratoconjuntivitis sicca, secre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xerostomía (boca seca, queilosis, periodontitis, policaries, grietas linguales, sobreinfección, disgeus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TUNEL CARPIAN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d. Por atrapamiento del nervio Mediano a nivel de  su paso bajo el retinaculo flex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ayoría de las veces es idiopático. Un 30% tiene una causa subyacente (hipotiroidismo, obesidad, diabetes, embaraz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estesias, dolor, adormecimiento de 1 a 3er dedo mano afectada. Signo de sacudida altamente específ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estados avanzados. Perdida de fuerza motora (pin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gnos de Phalen y Ti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47840" cy="410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97560" y="2060640"/>
            <a:ext cx="42717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lamación y necrosis de un vaso sanguíneo con la consecuente alteración de la circulación. Lesión endotelial causa trombosis e isqu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dependen de los vasos afectados y si es sistémica o locali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íntomas suger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stém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táne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eurológ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istem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ja de peso, fieb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efal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utane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úrpura palp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vedo reticul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fartos digit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lcer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919080"/>
            <a:ext cx="61930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371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19280" y="1022400"/>
            <a:ext cx="554508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166760"/>
            <a:ext cx="64803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eurolog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lineuropa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ononeuritis mult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cidente va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pi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emorragia alveolar (hemopti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lomerulonefritis (sd. Nefrotico, sd. Nefrit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5346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843120"/>
            <a:ext cx="72723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47800" y="685800"/>
            <a:ext cx="564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VASCULIT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Grande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de Takaya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rteritis A.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dian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rteritis Nod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Kawasak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queños vas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ermedad de Wege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f. De Churg-Strau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liangeitis Microscop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Vasculitis por Hipersensib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21120" y="620640"/>
            <a:ext cx="3711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9280" y="861840"/>
            <a:ext cx="770544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INDROME DE SJÖGR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as manifestacion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algias, artralgias, artritis indistinguible de artritis reumato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iel seca, pru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lmonar: tos seca, nodulos pulmonares, enfermedad interst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nal. Acidosis tubular renal, vejiga irri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enital: sequedad vaginal, dispareunia, sobreinf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asocia a: Hipotiroidismo, neuropatía perifé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uede sufrir transformación a Linfoma No Hodg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SJÖGREN: Exáme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Test de Schirmer: &lt; 5mm en 5 minu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intigrama de glándulas salivales con disminución de la excre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esencia de un Anticuerpo: Factor Reumatoideo, Anticuerpo antinuclear, Anti Ro, Anti 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iopsia de Gl. Salivales con infiltrado mononucl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1149480"/>
            <a:ext cx="669780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SINDROME DE REITER (Artritis Reactiva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rtritis periférica acompañada de manifestaciones extraarticulares que suceden luego de infecciones gastrointestinales o genitourinarias. Curso autolimitado 3 a 12 me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ombres jóvenes. Relación hombre/mujer = 9/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LA B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gentes involucrados: Shighella, salmonella, campilobacter y uretritis no gonococcica, pplmente Chlamydia. Tb respiratorias como C. Pneumonia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6:14:35Z</dcterms:created>
  <dc:creator>MARTIN ZUÑIGA</dc:creator>
  <dc:description/>
  <dc:language>en-US</dc:language>
  <cp:lastModifiedBy>O</cp:lastModifiedBy>
  <dcterms:modified xsi:type="dcterms:W3CDTF">2008-06-02T15:20:58Z</dcterms:modified>
  <cp:revision>6</cp:revision>
  <dc:subject/>
  <dc:title>SINDROMES REUMATOLOGICOS</dc:title>
</cp:coreProperties>
</file>