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5CF-15BE-4D58-B1F1-1E4232DE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779-CD92-4EC1-BACF-87D79A0A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7C94-A6BB-45A4-AFAD-AD32D8A4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CE4-D034-401D-AC09-60A1B06C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371A2-C885-41AB-A951-AC18F382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2C7E-165B-42DD-A32C-3D3EF80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EEF01-A13E-4D41-A5D2-C044E665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F5EB9-C054-4C8A-8D34-126999A2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B3292-065F-47B8-8BAF-C08ACDD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A868C-271F-4AE1-A358-5B043291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B5C3-C38D-46C2-B065-CB715536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019-EA1C-4459-9AC3-1DAF522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A735E-6DF0-4533-B7F9-A021D511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24284-2661-41CC-8EDC-4AF17F3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5FC0-E4F4-4EC6-80F2-07606286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F30E3-2735-4708-9AF0-2A42D0A6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769CB-AF7C-4355-A400-722D8A37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EAC-03D7-4E0B-BD0D-DF53BA9E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28F-DF78-4CA8-BB1F-7E168217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E68-9309-4A07-AF85-D206720E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ADB-E414-4440-AE60-E45F9D0A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86D-C8EB-47F9-9BD6-9B4027F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F76-92A5-441C-A1C2-87D7F31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0B7-669E-4A93-B106-8C163C4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A91-AB1D-43AC-BDE3-F2FB9F81DE0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2FE5-10CB-44BB-B85A-2BB2A87232D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S REUMATOLOGIC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R. Omar Valenzuela 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CCION REUMATOLOG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PTO. DE MEDI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2 a 4 semanas post infección (genitales gralmente. asintomat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Uretriti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ombres son mas sintomáticos, descarga mucopurulenta, prostatitis o epididimit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mujeres: disuria, cervicitis, vagi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juntivit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ede ser leve y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veítis anterior puede afectar un solo ojo con eritema, fotofobia y dol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Art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. Artic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ligoartritis (prom: 4 art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itiva, as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fección ppal de EEII, rodillas, tobillos, dedos de 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ctilitis o dedos en salchich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esitis o entesopatias (aquilianos, calcane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umbago en 50% (sacroiliacas o espin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8000" y="1125360"/>
            <a:ext cx="446256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Keratoderma blenorrágica a dermatitis exfoli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ñas de pies y manos engrosadas, opacas, asemejando onicomic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lanitis circinada: ulceras serpiginosa que rodea me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lceras orales indoloras en lengua y pala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ortitis por engrosamiento inflam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14680" y="1244520"/>
            <a:ext cx="5715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C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ci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yna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ofageal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lerodact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angectas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d. Reumatológico que engloba características de esclerodermia sistémica limit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5840" y="114480"/>
            <a:ext cx="67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7840" y="228600"/>
            <a:ext cx="878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981000"/>
            <a:ext cx="5761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 DE SJÖG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ocrinopatía autoinmune  por proliferación de linfocitos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ria o 2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ria: 0.05  a 1% de la población. Relación mujer/hombre = 9/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ínica princip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xeroftalmia (queratoconjuntivitis sicca, secre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xerostomía (boca seca, queilosis, periodontitis, policaries, grietas linguales, sobreinfección, disgeus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TUNEL CARPIAN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d. Por atrapamiento del nervio Mediano a nivel de  su paso bajo el retinaculo flex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ayoría de las veces es idiopático. Un 30% tiene una causa subyacente (hipotiroidismo, obesidad, diabetes, embar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estesias, dolor, adormecimiento de 1 a 3er dedo mano afectada. Signo de sacudida altamente específ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estados avanzados. Perdida de fuerza motora (pin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gnos de Phalen y Ti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047840" cy="410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97560" y="2060640"/>
            <a:ext cx="4271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lamación y necrosis de un vaso sanguíneo con la consecuente alteración de la circulación. Lesión endotelial causa trombosis e isqu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dependen de los vasos afectados y si es sistémica o locali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suger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stém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táne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eurológ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ste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ja de peso, fie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efal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tan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úrpura palp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vedo retic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fartos digi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lce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919080"/>
            <a:ext cx="6193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371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1022400"/>
            <a:ext cx="5545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1166760"/>
            <a:ext cx="6480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eurolog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lineuropa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noneuritis mult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cidente va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pi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emorragia alveolar (hemopti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lomerulonefritis (sd. Nefrotico, sd. Nefri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346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843120"/>
            <a:ext cx="72723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47800" y="685800"/>
            <a:ext cx="564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rande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eritis de Takaya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eritis A.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ediano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liarteritis Nod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ermedad de Kawasa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queño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ermedad de Wege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. De Churg-Strau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liangeitis Microscop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asculitis por Hipersensi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21120" y="620640"/>
            <a:ext cx="3711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9280" y="861840"/>
            <a:ext cx="77054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 DE SJÖG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as manifesta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algias, artralgias, artritis indistinguible de artritis reumato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iel seca, prur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lmonar: tos seca, nodulos pulmonares, enfermedad interst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nal. Acidosis tubular renal, vejiga irri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enital: sequedad vaginal, dispareunia, sobreinf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asocia a: Hipotiroidismo, neuropatía perifé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ede sufrir transformación a Linfoma No Hodg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SJÖGREN: Exáme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Test de Schirmer: &lt; 5mm en 5 minu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intigrama de glándulas salivales con disminución de la excre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esencia de un Anticuerpo: Factor Reumatoideo, Anticuerpo antinuclear, Anti Ro, Anti 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iopsia de Gl. Salivales con infiltrado mononu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1149480"/>
            <a:ext cx="66978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ritis periférica acompañada de manifestaciones extraarticulares que suceden luego de infecciones gastrointestinales o genitourinarias. Curso autolimitado 3 a 12 me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ombres jóvenes. Relación hombre/mujer = 9/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LA 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gentes involucrados: Shighella, salmonella, campilobacter y uretritis no gonococcica, pplmente Chlamydia. Tb respiratorias como C. Pneumoni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6:14:35Z</dcterms:created>
  <dc:creator>MARTIN ZUÑIGA</dc:creator>
  <dc:description/>
  <dc:language>en-US</dc:language>
  <cp:lastModifiedBy>O</cp:lastModifiedBy>
  <dcterms:modified xsi:type="dcterms:W3CDTF">2008-06-02T15:20:58Z</dcterms:modified>
  <cp:revision>6</cp:revision>
  <dc:subject/>
  <dc:title>SINDROMES REUMATOLOGICOS</dc:title>
</cp:coreProperties>
</file>