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DD1-8035-4492-8DEE-362F8A25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9CC-DB47-43D5-B70E-AA2439C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BCB-5E86-47B4-A158-6ED6FD3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61F-E299-45E4-9677-5C015370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84E-2737-4998-81A2-9ECEDC8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C18-4E72-4D5D-B398-2A463823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0A6-56CC-413E-82AF-C62EA7C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5DE-1A22-4F17-8A48-3F61F0E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73C-2D0C-4C41-ACB7-DEBA1CE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58D-ACE4-4C3C-835F-3C9DC245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EA3-EC7A-4364-AD87-FC5C8F4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AC0-C25A-4ED9-9C36-2D2ED0BC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2D6-28DE-4F4A-AEC4-24DCAF43CA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iología de la Insuficiencia R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ejandro Co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amento de Med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spital Clínico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fermedad  Renal Crónic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lasificación (NK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- Evidencia de daño renal con Cl de creatinina &gt; de 9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- Evidencia de daño renal con Cl de creatinina 60 – 9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- Evidencia de daño renal con Cl de creatinina 60 – 3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4- Evidencia de daño renal con Cl de creatinina 30 – 15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- Evidencia de daño renal con Cl de creatinina menor de 15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suficiencia Renal Crónic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ncipales Manifes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teraciones urin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teraciónes asíntomáticas de examen de o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teraciones bioquímicas asinto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teraciones anatómicas asintom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suficiencia Renal Crónic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índrome Urémi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- Manifestaciones gastro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- Manifestaciones neur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- Manifestacion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- Manifestaciones hemat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- Manifestaciones cut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6- Manifestaciones o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 Manifestaciones ó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8- Manifestaciones respira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- Manifestaciones endocr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 puede prevenir la Enfermedad Renal Terminal?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, porque conocemos la población en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Hipert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yores de 60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amiliares primer grado de hipertensos, diabéticos, nefróp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Prevenir la Insuficiencia Renal 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- Chequeo periódico de microalbuminuria en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- Tratamiento de la H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- Control metabólico en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- Uso de inhibidores 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- Uso de bloqueadores del receptor de A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mportancia de la Enfermedad Renal C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considerada una epi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oluciona en forma asinto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prev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un alto costo financiero, en morbilidad y mort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pidemia de Enfermedad Renal Crónica en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2776680"/>
            <a:ext cx="864072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pidemia de Enfermedad Renal Crónic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2262240"/>
          <a:ext cx="7632720" cy="43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62240"/>
                    <a:ext cx="763272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>
            <a:off x="971280" y="422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 Enfermedad Renal Crónica Evoluciona Asinto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1600200"/>
          <a:ext cx="648180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00200"/>
                    <a:ext cx="648180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CION PARA CHILE DE DISTINTOS GRADOS DE IRC DESDE ESTUDIO NHANE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666720" indent="-285840">
              <a:spcBef>
                <a:spcPts val="45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285840"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FG   &lt; 30 ml/min 0,6%  (90.000 paci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285840"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- 60 ml/min 5,7% (800.000 paci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285840">
              <a:spcBef>
                <a:spcPts val="601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60 ml/min 93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suficiencia Renal Crónic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la VF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 Cr =  (140 – edad ) * Peso  * (0.85 e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2 *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p= 1 mg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60 años, 50 Kg = 47 ml/min (ERC etapa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2 años, 75 kg = 12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335772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uficiencia Renal C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dida lenta y progresiva de la función renal, de evolución principalmente asintom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índrome Ur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junto de manifestaciones de la etapa terminal de la insuficiencia renal ya sea aguda o cró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suficiencia Renal Crónic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fropatía Diab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ipertensión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ermedades Glomer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ermedades túbulo interst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lfo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struccion ur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fermedades hered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4:26:54Z</dcterms:created>
  <dc:creator>acotera</dc:creator>
  <dc:description/>
  <dc:language>en-US</dc:language>
  <cp:lastModifiedBy>0642</cp:lastModifiedBy>
  <dcterms:modified xsi:type="dcterms:W3CDTF">2008-05-21T23:26:31Z</dcterms:modified>
  <cp:revision>10</cp:revision>
  <dc:subject/>
  <dc:title>Semiología de la Insuficiencia Renal</dc:title>
</cp:coreProperties>
</file>