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331-37EC-49CB-9614-388A88F4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127-0287-436B-A6ED-60F83B3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307-F4E6-4958-842C-43CA878A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91A-5CB1-4811-AC35-49D15A93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1EB4-402C-4334-9200-B16B3FF6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0F56-3CC7-4F87-9561-3FCBABDB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1C8A-3EEC-4454-B706-7570C15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533A-347E-4B78-8EF5-EE37BF6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1ECA-90F2-4BD1-B0AB-70E96EE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9B4C-72F7-4B01-8C36-B149C594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99A-9306-4D8E-95CD-91D1CF3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96D-65E5-4A81-9923-798D2AEE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073-E80A-4798-B9AF-F47F0A7A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C5CC-A920-45EB-AF5E-49E7B41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336-DF15-40D0-A24C-9242D719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DA5-46FF-45D7-B0C3-E286A2D2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77D1-63B7-4E3D-83E5-699809AD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F6E-BFC9-4F97-9E8B-34E48A0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DF9-A05B-4792-846A-C128493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EE8-3BCD-45BB-9EBF-8D61BB3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FF4-A2F2-45A6-9424-C7A8F6A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107-72B2-45FF-93FD-CBC383C9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BBD-D656-479C-BB01-410DB2B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66F-43AD-4344-B915-DFB45C4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114-3F7F-4D7E-8960-C7DF4560C3C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67D-BA34-4797-B045-54AC88C0C39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8-06-09T08:58:46Z</dcterms:modified>
  <cp:revision>15</cp:revision>
  <dc:subject/>
  <dc:title>Diapositiva 1</dc:title>
</cp:coreProperties>
</file>