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416-6408-451E-9D1C-E87865B0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649-552C-439E-A41C-5A4AB76D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387-7967-4B1F-972F-146F6E55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D96-12B7-4F12-8E5D-4D8AB289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D7B5-9A95-4434-BE91-86686F7E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5C58-C2E0-4BB9-A69E-E8D7DAA4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DF30-A770-4193-9685-28102FB7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FEBA-FF0F-4E19-B225-DF40083A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8091-C783-494D-AF7A-EF11E3BD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3E09-5983-47E4-B4A0-B0A0DB9F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7A69-4990-41C0-9538-CEBCA287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D2F-E58E-47E1-8E6D-4BEFD35C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9FAE-D8F0-4949-A7BD-17C3579F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3E50-1348-4EAA-B433-9B4B0870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2202-06DF-4E9F-89E6-4D396617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2F71-FEA5-411D-9937-FBC08342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7D9F-A913-4123-A82D-E15173E4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BC7-4D6A-48B6-BB83-C85D5669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AE0-D2FA-4C34-A702-1C3EA5B9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93C-02BA-4559-B72D-4237D826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EFC-B3A1-4AC2-BC44-F843B42A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61C-D24D-46DE-889C-DE8DEF3D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B53-B86C-4C80-B62D-4DDC01A7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ECF-E280-47D7-9D17-4F3BFE32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A3BE-989B-4061-B3B3-470015D9EB16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239E-BCC6-4734-97FD-E8F151EC6E78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999900"/>
                </a:solidFill>
                <a:latin typeface="Garamond"/>
              </a:rPr>
              <a:t>Semiología trastornos sensitivos.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L Castil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12600"/>
            <a:ext cx="63356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193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6767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19080"/>
            <a:ext cx="7920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342440"/>
            <a:ext cx="88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l Sistema sen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de un punto de vista clínico la sensibilidad se divide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ter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tacto, dolor y tempera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pi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relacionadas con los músculos, articulaciones o la posi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ter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visce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cepción a distanci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de olfato, sonido, vista y gu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70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Estereognosi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Consiste en la capacidad de identificar objetos por palpac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Identificación de textura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Se da al paciente un trozo de papel, de tela, de madera o de metal y se le pide que identifique el tipo de materi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Grafestesi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Esta prueba mide la capacidad de reconocer números trazados por un objeto sobre la palma de la ma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Extinción sensitiv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Es una prueba que mide la percepción de dos estímulos a la vez en localización simétrica a ambos lados del cuerp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249800" cy="309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4276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2472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86040" cy="5038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4140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3960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7:35:19Z</dcterms:created>
  <dc:creator>José Luis Castillo</dc:creator>
  <dc:description/>
  <dc:language>en-US</dc:language>
  <cp:lastModifiedBy>Fac. de Medicina</cp:lastModifiedBy>
  <dcterms:modified xsi:type="dcterms:W3CDTF">2008-06-09T08:58:46Z</dcterms:modified>
  <cp:revision>15</cp:revision>
  <dc:subject/>
  <dc:title>Diapositiva 1</dc:title>
</cp:coreProperties>
</file>