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9A85-72AE-4284-82ED-DA5170AA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21C-02FE-498D-9ACF-F333EAFB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F2A-8975-41AE-A56B-8AC027FE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A8F-E725-4485-A804-CD5CB21B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8E03-B82F-414F-97B6-AF047B5C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1F83-A353-44AE-B30F-D13322F7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E4A7-4FBD-451B-84D4-57D33CF9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93B1-8623-4415-B969-65399D88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255F-6A89-4870-8A3B-67B2C1A0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65E0-B574-4024-9711-EB20D0E3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6740-15B5-4A6F-A9E4-E336AD0C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A07-7C40-4C72-91AD-584B9378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FB6A-CE14-4D96-A49E-04EEA83D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DA82-E2EA-4473-B708-33E6939B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68C6-14A1-468D-8396-5908AC4B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9DCE-FF71-4C65-8A37-CAA12F99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8BE7-1370-4893-BBDF-B9A609C7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247-CA0C-467C-98D3-F29145D7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B60B-4BB0-4D21-ACBF-D8D0C321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E0B3-42D2-4320-88DB-C62FE7D6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703-73EE-4EA6-995D-9D799415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538-24A4-4123-AA43-F845C3DF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355-2BE7-4654-B396-2918B942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0050-5054-4FA6-AE53-4A110D75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46B1-1553-47F1-8878-38E86F0B0A92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BB28-7E73-430D-A581-4BC2D3122909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999900"/>
                </a:solidFill>
                <a:latin typeface="Garamond"/>
              </a:rPr>
              <a:t>Semiología trastornos sensitivos.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L Castil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12600"/>
            <a:ext cx="63356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193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6767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19080"/>
            <a:ext cx="7920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342440"/>
            <a:ext cx="88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l Sistema sen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de un punto de vista clínico la sensibilidad se divide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ter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tacto, dolor y tempera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pi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relacionadas con los músculos, articulaciones o la posi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nter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visce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ecepción a distanci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de olfato, sonido, vista y gu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70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Estereognosi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Consiste en la capacidad de identificar objetos por palpac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Identificación de textura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Se da al paciente un trozo de papel, de tela, de madera o de metal y se le pide que identifique el tipo de materi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Grafestesi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Esta prueba mide la capacidad de reconocer números trazados por un objeto sobre la palma de la ma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Extinción sensitiv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Es una prueba que mide la percepción de dos estímulos a la vez en localización simétrica a ambos lados del cuerp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249800" cy="3095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4276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2472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86040" cy="5038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4140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3960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17:35:19Z</dcterms:created>
  <dc:creator>José Luis Castillo</dc:creator>
  <dc:description/>
  <dc:language>en-US</dc:language>
  <cp:lastModifiedBy>Fac. de Medicina</cp:lastModifiedBy>
  <dcterms:modified xsi:type="dcterms:W3CDTF">2008-06-09T08:58:46Z</dcterms:modified>
  <cp:revision>15</cp:revision>
  <dc:subject/>
  <dc:title>Diapositiva 1</dc:title>
</cp:coreProperties>
</file>