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0A4-22CE-4054-BC40-9718FA71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336-7065-4ABB-BA0C-6AA7C4A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35D-D1FE-42E7-82D5-57918F38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EF9-E588-480C-83AA-9FC31869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6F7-C2ED-46B5-ACBF-7B3CD284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331-ABED-4F45-8C7D-F26040E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C70-BA99-406A-B560-86E94FD0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2D1-D3E2-4B41-87ED-DF0207A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CC8-F2FE-4EC4-9BE6-A44F4E5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E42-536E-4FBA-8A0D-86177B3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C51-E551-45E5-8387-CCB92B1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599-8F0A-4980-80AC-EC0A092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44B-03B2-44CB-9B7E-EAA6F1F5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OLOGIA DE LA M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. Olga B. Barajas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ólogo Mé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de Oncología Méd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Clínico Universidad de Ch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524040" cy="25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1905120" cy="115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121608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imetría post-mastectomía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0760" y="4005360"/>
            <a:ext cx="3044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l de naran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dema secundario a obstrucción linfática)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7000" cy="3476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99440" y="568008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so inflamatorio agudo (mast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réo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zona pigmentada que rodea el pe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inencias pequeñas, glándulas sebáceas (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ubérculos de Montgomer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7288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4033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fectúa frecuentemente estando la paciente en decúbito dor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e pide que levante el brazo del lado que se va a examinar y que coloque la mano detrás de la cab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2641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3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no del examinador presiona la glándula contra la pared torácica y la recorre sistemáticamente. Puede ser en forma radial o por cuadr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5338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03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 ser completa, sin dejar de palpar el tejido glandular debajo del pezón, la cola en el cuadrante superior externo y las axilas mis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l pezón pueden salir distintos líquidos en forma espontánea o exprimiendo la glándula o el pezón mism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s pueden tener un aspecto lechoso o ser de otro tipo (seroso, hemático o purulento), según su eti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embarazo, la lactancia, trastornos endocrinológicos o por efecto de medicamentos puede salir una descarga lechos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alida de un material serohemático puede deberse, especialmente en una mujer mayor, a un papiloma intradu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991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ODULO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bic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según los cuadrantes, la distancia respecto al pezón y la hora según la esfera de un relo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amañ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se expresa en centíme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Forma 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donda, alargada, estrellada, etc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sist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blanda, elástica, fluctuante, dur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Bor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bien definidos o  difíciles de precisa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dherenci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 estructuras vecinas, puede ser difícil desplazar la lesión respecto a los planos profund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DULO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 Enfermedad fibroquís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broadenomas : lesiones de bordes nítidos más frecuentes en mujeres jóv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ncer : en general es nódulo duro, bordes poco definidos, fijo piel o planos profu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alpación de las axilas tiene especial importancia por la posibilidad de encontrar ganglios compromet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ndo el brazo del costado del tórax, el examinador palpa la axila con sus cuatro dedos presionando contra la pared torác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su mano derecha palpa la axila izquierda, y con la mano izquierda palpa la axila derec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494240" cy="32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056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CER DE M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de riesgo para desarrollar cáncer de m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edad (riesgo progresiv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cercano que haya tenido cáncer de mama (madre, hermana, abuela, tí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ecedentes de haber tenido con anterioridad un cáncer de m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narquia precoz (antes de los 12 añ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mer parto después de los 30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ber tenido h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nopausia después de los 55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9690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5121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EX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ujeres deben tener el hábito de autoexaminarse por lo menos una vez al 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sto levantan un brazo y se examinan la mama con la otra man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buena oportunidad es efectuarlo en la ducha o al acostar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571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170028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6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9120" y="1268280"/>
            <a:ext cx="62136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NECOMAS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arrollo de las mamas en el hombre, más allá de lo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uede verse en jóvenes en pu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dultos se observa ocasionalmente por trastornos hormonales, por ingesta de algunos medicamentos, o en enfermedades como la cirrosis hepátic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333680" cy="572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 rot="10771800">
            <a:off x="231840" y="1628280"/>
            <a:ext cx="33400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bres también pueden desarrollar cáncer de mamas,  poco frecu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mujer:hombre 100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lactorre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secreción abundante o excesiva de lec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stalg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orresponde a un dolor en las m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larqu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parición de los primeros signos de desarrollo mama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562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en la detección precoz del cáncer.  (Chile segunda causa de muerte por cáncer 13,5 /100.000 ha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prop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381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jido glandular y fibroso, grasa subcutánea y retromam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jido glandular : lóbulos y lobulillos que drenan a los conductos galactófo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algunas mujeres la grasa es el tejido que más predo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dad el componente glandular se atrofia y es reemplazado por g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54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FI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pe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lp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57596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FI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drantes (4) dos líneas virtuales transversales que pasan por el pe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jido glandular en su mayoría ubicado en el CSE, se prolonga hacia la axila formando un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renaje linfático se efectúa principalmente a la ax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obalt Appeal Fund - Cancer Prevention Services - Diagram of Breast"/>
          <p:cNvPicPr/>
          <p:nvPr/>
        </p:nvPicPr>
        <p:blipFill>
          <a:blip r:embed="rId1"/>
          <a:stretch/>
        </p:blipFill>
        <p:spPr>
          <a:xfrm>
            <a:off x="4925880" y="1600200"/>
            <a:ext cx="348624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43640" y="2565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0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met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pecto y orientación de los pez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ormaciones o retra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romiso de la p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02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43240" cy="27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504880" cy="18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241920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55840" y="4149720"/>
            <a:ext cx="53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ezón aplanado, retraido, umbil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ciente, antigu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3:48Z</dcterms:created>
  <dc:creator>Olguita</dc:creator>
  <dc:description/>
  <dc:language>en-US</dc:language>
  <cp:lastModifiedBy>Olguita</cp:lastModifiedBy>
  <dcterms:modified xsi:type="dcterms:W3CDTF">2008-03-25T03:10:26Z</dcterms:modified>
  <cp:revision>91</cp:revision>
  <dc:subject/>
  <dc:title>SEMIOLOGIA DE LA MAMA</dc:title>
</cp:coreProperties>
</file>