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EDE-4B68-43B0-9A78-A62A4D03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897-FF44-48FA-B07F-DCB7921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B0E-54E5-4846-81F8-190D8175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853-3893-4143-AF5A-0952AB0A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F48-3318-4E24-ADC8-153D4B2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B1C-B81A-43D4-9B98-A2A35A3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3FC-D868-4371-A177-9229C34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EEB-52E8-4E0A-AECA-A1C8325B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D63-149D-4DAB-850A-7815963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22E-348B-4FF7-A43B-B894BD9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BCF-F8F8-4CEA-804E-D479E06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8AB-863B-46F6-9F82-0F77FC2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44F-CF5E-45E4-9EA6-668DFED1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OLOGIA DE LA M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. Olga B. Barajas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ólogo Mé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de Oncología Méd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Clínico Universidad de Ch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524040" cy="25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1905120" cy="115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121608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imetría post-mastectomía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0760" y="4005360"/>
            <a:ext cx="3044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l de naran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dema secundario a obstrucción linfática)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7000" cy="3476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99440" y="568008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so inflamatorio agudo (mast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réo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zona pigmentada que rodea el pe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inencias pequeñas, glándulas sebáceas (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ubérculos de Montgomer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7288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4033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fectúa frecuentemente estando la paciente en decúbito dor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e pide que levante el brazo del lado que se va a examinar y que coloque la mano detrás de la cab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2641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33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no del examinador presiona la glándula contra la pared torácica y la recorre sistemáticamente. Puede ser en forma radial o por cuadr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5338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03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 ser completa, sin dejar de palpar el tejido glandular debajo del pezón, la cola en el cuadrante superior externo y las axilas mis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l pezón pueden salir distintos líquidos en forma espontánea o exprimiendo la glándula o el pezón mism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s pueden tener un aspecto lechoso o ser de otro tipo (seroso, hemático o purulento), según su eti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embarazo, la lactancia, trastornos endocrinológicos o por efecto de medicamentos puede salir una descarga lechos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alida de un material serohemático puede deberse, especialmente en una mujer mayor, a un papiloma intradu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9914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ODULO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bic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según los cuadrantes, la distancia respecto al pezón y la hora según la esfera de un relo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amañ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se expresa en centíme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Forma 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donda, alargada, estrellada, etc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sist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blanda, elástica, fluctuante, dur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Bor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bien definidos o  difíciles de precisa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dherenci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 estructuras vecinas, puede ser difícil desplazar la lesión respecto a los planos profund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DULO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 Enfermedad fibroquís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broadenomas : lesiones de bordes nítidos más frecuentes en mujeres jóv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ncer : en general es nódulo duro, bordes poco definidos, fijo piel o planos profu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LP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alpación de las axilas tiene especial importancia por la posibilidad de encontrar ganglios compromet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ndo el brazo del costado del tórax, el examinador palpa la axila con sus cuatro dedos presionando contra la pared torác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su mano derecha palpa la axila izquierda, y con la mano izquierda palpa la axila derec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494240" cy="32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056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CER DE M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de riesgo para desarrollar cáncer de m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edad (riesgo progresiv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cercano que haya tenido cáncer de mama (madre, hermana, abuela, tí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ecedentes de haber tenido con anterioridad un cáncer de m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narquia precoz (antes de los 12 añ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mer parto después de los 30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haber tenido h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nopausia después de los 55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49690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5121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EX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mujeres deben tener el hábito de autoexaminarse por lo menos una vez al 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sto levantan un brazo y se examinan la mama con la otra man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buena oportunidad es efectuarlo en la ducha o al acostar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571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1700280"/>
            <a:ext cx="142884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6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9120" y="1268280"/>
            <a:ext cx="62136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NECOMAS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arrollo de las mamas en el hombre, más allá de lo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uede verse en jóvenes en pu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dultos se observa ocasionalmente por trastornos hormonales, por ingesta de algunos medicamentos, o en enfermedades como la cirrosis hepátic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333680" cy="572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 rot="10771800">
            <a:off x="231840" y="1628280"/>
            <a:ext cx="33400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bres también pueden desarrollar cáncer de mamas,  poco frecu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mujer:hombre 100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lactorre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secreción abundante o excesiva de lec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stalg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orresponde a un dolor en las m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larqu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parición de los primeros signos de desarrollo mama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562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en la detección precoz del cáncer.  (Chile segunda causa de muerte por cáncer 13,5 /100.000 ha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prop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381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TO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jido glandular y fibroso, grasa subcutánea y retromam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jido glandular : lóbulos y lobulillos que drenan a los conductos galactófo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algunas mujeres la grasa es el tejido que más predo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dad el componente glandular se atrofia y es reemplazado por g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54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FI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pe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lp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57596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FI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drantes (4) dos líneas virtuales transversales que pasan por el pe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jido glandular en su mayoría ubicado en el CSE, se prolonga hacia la axila formando una 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renaje linfático se efectúa principalmente a la ax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obalt Appeal Fund - Cancer Prevention Services - Diagram of Breast"/>
          <p:cNvPicPr/>
          <p:nvPr/>
        </p:nvPicPr>
        <p:blipFill>
          <a:blip r:embed="rId1"/>
          <a:stretch/>
        </p:blipFill>
        <p:spPr>
          <a:xfrm>
            <a:off x="4925880" y="1600200"/>
            <a:ext cx="348624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43640" y="256536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0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met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pecto y orientación de los pez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ormaciones o retra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romiso de la p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02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PE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43240" cy="27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2504880" cy="185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241920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55840" y="4149720"/>
            <a:ext cx="53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ezón aplanado, retraido, umbil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ciente, antigu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3:48Z</dcterms:created>
  <dc:creator>Olguita</dc:creator>
  <dc:description/>
  <dc:language>en-US</dc:language>
  <cp:lastModifiedBy>Olguita</cp:lastModifiedBy>
  <dcterms:modified xsi:type="dcterms:W3CDTF">2008-03-25T03:10:26Z</dcterms:modified>
  <cp:revision>91</cp:revision>
  <dc:subject/>
  <dc:title>SEMIOLOGIA DE LA MAMA</dc:title>
</cp:coreProperties>
</file>