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1CA-E863-487B-BE55-9EB5D01F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4E2-64FD-4E28-9DA2-851A930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AB4-91FD-4973-81E7-F56DFBE9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92D-8562-46DF-934A-FEFD3EFE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6471-AFDB-469E-B410-B402D675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798D-98ED-42FD-828C-9DDAAF6F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C70-25CC-4014-B8FC-3A1ABEA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82B9-26CD-467C-9626-BC897C4A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6B2-78C9-46F4-87AC-0BC267A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F29C-E25A-491C-9ED2-BDBA80E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FFB4-B04F-4431-A40C-E7710F6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35D-1A96-4AD2-BE7D-7BD5E92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682D-A1E0-4733-B80B-350B239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0686-F12E-4575-BF59-8904109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04A4-2C99-4271-BE97-CA26DDB7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59FD-EE4C-496A-A1EA-4004128A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640-6DEA-42CB-BC08-4E3286DD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7347-787C-49DD-A902-FE97CFA7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571A-5553-4892-8ACA-CAF7E78D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188B-1205-4650-AB09-D32B9F15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461F-DBFB-496B-A664-FAD094B6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9A72-1257-413C-86F8-4F0DEA7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746-4678-42D5-B254-4CEA8D77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508F-B991-4084-872A-E4D7B366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86E0-A4D6-4DE7-8856-75E31B7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8081-FDC2-4210-91FE-B3B53B1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2F02-8DE8-4B15-9917-5EDB288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4B2C-2E04-41B3-90CE-B59984F7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7B88-FEE1-4CF2-8A69-69CB508A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5DD7-6B65-42D7-A492-1587C834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B518D-EB3C-4CD0-B9D5-8724D452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F549-D1A3-4FB4-8EC9-764804C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679F-7E5C-4F92-AB0B-5C2E86CB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62D-CDD8-4D60-9498-212520D1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62B0-EC92-4B5A-84BF-40E45562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0CF39-0187-4FC3-BAC8-17AAFBAC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EBBE-305D-4340-8450-2AB16CE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D106-DE2F-4A06-8481-775B2FE3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8201-CFEF-4032-860C-05A23DC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45BB-FFE5-4F95-9110-190C4C11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0B52-EBA8-4B86-9EE5-B6057B07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CE58-E36E-4BC9-833D-E974B4C9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CAF5A-9BF1-4F13-A096-BCCA21BB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DFAA-4652-4896-984B-DB6B4EE8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DCC-7157-499D-B6FB-0370EA12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59262-AABC-4E0C-B950-01608F8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713B-527A-49AB-BBE0-625423F7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F657-8E11-4B75-8978-74FD6CD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26B5-2072-45A0-96F3-45E4CAE7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030B9-007C-453E-B519-7C6A5602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C000-1B6E-449F-988D-959CF0E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BFCB-4CC3-4A60-AD9A-FCFABF7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CC2F-6A74-455D-BCCF-114155B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B536-5991-444E-93B1-12581ADF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C275-4D09-46BD-A768-59C65334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DBC-F3B9-43FD-A71F-E4F52271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6D6B-0059-42BC-8607-A403919D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A42A2-1817-4C4D-80BC-97141081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A07D-27B1-4E27-999E-7D56814C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0FEA-7542-41F0-A146-BC7BF58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D5C4-A303-44F9-9BBF-BCA1FB22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7CD6-DE05-4B08-BBDB-1FBC5A3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35C0D-45DE-49FB-B9E7-417C581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05D28-F0EC-4808-A70C-55CCF79F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AE1F-8F18-4D25-9140-F244E6A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6AD6D-5DD5-4DEE-9BF0-C78247C1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433-FB30-4382-B76D-EE75C48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D2110-DBC2-4676-B114-FCEC0647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A832-3BB1-4641-9BFA-14794142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DFDC-F84D-4ACF-9F25-E21F2F0C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FBA0-D030-48CC-9422-E2D59174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E214-0765-475B-B4A0-D04D0F8A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084D-2D1B-483C-A606-FE20C20C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586A-A116-41DC-94E6-08237A9B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12A3-32E4-4564-ADA8-7034919E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6A04-FF78-4D5D-9029-43CDEE8C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6D453-9170-4F7D-A653-0381D42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8C4-C50D-4F79-805A-A7F01801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F75D-F014-429C-9160-13BFA0D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2F64C-C22C-4E42-A591-EA4FF76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4408-3AA5-45F2-ABBF-B6B8A8BF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79E02-5F32-4FA0-B3A7-7F8A5574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66739-0B37-4901-B636-7A4FA43C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1E3-313B-4CD1-88DC-28D9D37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C0C0-C5F5-4644-82CE-9ECB69BC9E56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86E6-C3CF-4A4A-8252-F53B47DAF8B8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1E4B-6A39-4CCC-AAB5-444D51E0D429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DA12-F2F7-4CDD-86E7-13C53C0EC5D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2F5-51FB-47E8-8DA7-21FD436B804B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CD48-E6E8-490E-B815-1CFA1BBC3413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D87-0B01-4BEE-980E-B63BBEB50DA1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raciones bimembr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raciones bimembr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4 CuadroTexto"/>
          <p:cNvSpPr/>
          <p:nvPr/>
        </p:nvSpPr>
        <p:spPr>
          <a:xfrm>
            <a:off x="1428840" y="1857240"/>
            <a:ext cx="2714400" cy="1557000"/>
          </a:xfrm>
          <a:prstGeom prst="rect">
            <a:avLst/>
          </a:prstGeom>
          <a:solidFill>
            <a:srgbClr val="dac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Oraciones con un núcleo predicativo de carácter verb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5 CuadroTexto"/>
          <p:cNvSpPr/>
          <p:nvPr/>
        </p:nvSpPr>
        <p:spPr>
          <a:xfrm>
            <a:off x="2928960" y="335772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1) El verbo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está conjug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9 CuadroTexto"/>
          <p:cNvSpPr/>
          <p:nvPr/>
        </p:nvSpPr>
        <p:spPr>
          <a:xfrm>
            <a:off x="4786200" y="2000160"/>
            <a:ext cx="41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n verbo será núcleo predicativo si cumple las siguientes dos condic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24" name="12 Conector recto de flecha"/>
          <p:cNvCxnSpPr/>
          <p:nvPr/>
        </p:nvCxnSpPr>
        <p:spPr>
          <a:xfrm>
            <a:off x="4213800" y="2357280"/>
            <a:ext cx="500760" cy="15120"/>
          </a:xfrm>
          <a:prstGeom prst="straightConnector1">
            <a:avLst/>
          </a:prstGeom>
          <a:ln w="28440">
            <a:solidFill>
              <a:srgbClr val="967d42"/>
            </a:solidFill>
            <a:miter/>
            <a:tailEnd len="med" type="arrow" w="med"/>
          </a:ln>
        </p:spPr>
      </p:cxnSp>
      <p:sp>
        <p:nvSpPr>
          <p:cNvPr id="325" name="14 CuadroTexto"/>
          <p:cNvSpPr/>
          <p:nvPr/>
        </p:nvSpPr>
        <p:spPr>
          <a:xfrm>
            <a:off x="1714680" y="4214880"/>
            <a:ext cx="2786040" cy="2654280"/>
          </a:xfrm>
          <a:prstGeom prst="rect">
            <a:avLst/>
          </a:prstGeom>
          <a:solidFill>
            <a:srgbClr val="dac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Verbos conjugados (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verbos en forma personal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n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He mir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u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15 CuadroTexto"/>
          <p:cNvSpPr/>
          <p:nvPr/>
        </p:nvSpPr>
        <p:spPr>
          <a:xfrm>
            <a:off x="5072040" y="4214880"/>
            <a:ext cx="2786040" cy="3020040"/>
          </a:xfrm>
          <a:prstGeom prst="rect">
            <a:avLst/>
          </a:prstGeom>
          <a:solidFill>
            <a:srgbClr val="dac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Verbos no conjugados (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verbos en forma no personal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ntar (infinitiv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irado (participi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Yendo (gerundi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2 CuadroTexto"/>
          <p:cNvSpPr/>
          <p:nvPr/>
        </p:nvSpPr>
        <p:spPr>
          <a:xfrm>
            <a:off x="1643040" y="28584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2) El verbo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no está subordinado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r ninguna “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partícula subordinant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3 CuadroTexto"/>
          <p:cNvSpPr/>
          <p:nvPr/>
        </p:nvSpPr>
        <p:spPr>
          <a:xfrm>
            <a:off x="1643040" y="1357200"/>
            <a:ext cx="6215040" cy="1191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artículas subordinantes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: que, el cual, quien, donde, cuando, como, aunque, porque, si, el que, para que, hasta qu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5 CuadroTexto"/>
          <p:cNvSpPr/>
          <p:nvPr/>
        </p:nvSpPr>
        <p:spPr>
          <a:xfrm>
            <a:off x="1643040" y="3286080"/>
            <a:ext cx="32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 el verbo cumple con esas dos condiciones (estar conjugado en una forma personal y no estar subordinado), ese verbo es el </a:t>
            </a: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núcleo predicativ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de una oración bimemb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6 CuadroTexto"/>
          <p:cNvSpPr/>
          <p:nvPr/>
        </p:nvSpPr>
        <p:spPr>
          <a:xfrm>
            <a:off x="5572080" y="4071960"/>
            <a:ext cx="3000600" cy="1922760"/>
          </a:xfrm>
          <a:prstGeom prst="rect">
            <a:avLst/>
          </a:prstGeom>
          <a:solidFill>
            <a:srgbClr val="faa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Otros nombres: </a:t>
            </a:r>
            <a:r>
              <a:rPr b="1" i="1" lang="es-ES" sz="2400" spc="-1" strike="noStrike">
                <a:solidFill>
                  <a:srgbClr val="000000"/>
                </a:solidFill>
                <a:latin typeface="Gill Sans MT"/>
              </a:rPr>
              <a:t>verbo autónomo / verbo principal / verbo núcleo or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4:50:20Z</dcterms:created>
  <dc:creator>Alejandra</dc:creator>
  <dc:description/>
  <dc:language>en-US</dc:language>
  <cp:lastModifiedBy>Alejandra</cp:lastModifiedBy>
  <dcterms:modified xsi:type="dcterms:W3CDTF">2008-04-07T01:25:09Z</dcterms:modified>
  <cp:revision>3</cp:revision>
  <dc:subject/>
  <dc:title>Oraciones bimembres verbales</dc:title>
</cp:coreProperties>
</file>