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4B3-997A-428F-AFE9-1FFF1A5A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06A-7085-4947-9F02-C0263CD1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AE9-BC48-43CA-AF56-6921BE9C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A0D-CA3C-4AE1-B72C-8E5128C6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496A-10B2-4952-A32E-7FFCF674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6641-5F18-440C-8595-4B3B80CF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F22D-AED5-4C9E-B9AF-73EED0BD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6BC4-CFD2-4CF9-ADDB-36FBCCED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9CEB-3DF6-4C94-A30B-45AB58F6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13E4-F546-4151-A88E-D5861F41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B5B0-7418-472A-B685-8A238B36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600-BB1B-4DCB-A76B-5D016ADA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55A5-86B2-4BD6-9A3E-3D0B54D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654B-7C85-498F-8D30-99027572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27A5-F10F-4324-BBC2-D583DD73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DE94-B72F-439D-B6AD-869C63C2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51F6-2744-4141-A801-C2212EE6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F9BB0-E7A2-4BC4-B61A-4F67906D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05C1A-7B83-46C9-8027-327BC7E7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10378-4DDC-4B7B-B465-78D7DA3B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D1B9F-66B4-4F8A-9DB4-832B5CCE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EA334-CFE4-4FCF-8A6D-6D5AB047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8B8-0598-4B50-96A5-185440D0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C0CBF-A89D-44B8-9CD6-9FD53F35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CA4F0-B35B-4F72-B86D-C7475D0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98D58-D813-4EAA-8B98-848C1F73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29E6B-5509-4C9A-9F08-0913B1A9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F1195-D850-494F-98D9-45F92AB7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46AA1-DA23-4AF7-8501-466BFF4D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C1315-3FB8-453C-9819-ACD57C0D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A6C30-7629-4BD1-820B-7A9505A6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03A95-C0D9-4D40-B969-DA91C5F9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C45A-5466-47EC-921A-F2956E8F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786-2A05-485C-863B-418DE331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4EBE-FD42-4E68-8FC8-212D0094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7BD6E-9E3E-41BF-9886-ECB5AF73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5F525-3868-4DD2-AD18-B74C3777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18EF-485B-4AB7-81E4-C32687BF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495F1-B360-4411-8145-DE295CED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D832-DD6F-4182-93AC-EEC461C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BCC27-2A5A-4938-8A14-644B8DB8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958B8-EE26-4D29-B6F6-6B760B20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D8EBE-99A4-4A7D-B15D-51BAB4B6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0874B-2988-447E-8852-C38C02E6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A1E-4B26-4BBB-B232-8AA31A86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31307-E643-4662-B0BB-8D814F7D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3392C-5C3B-4172-B09B-197BC7F0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AAC1F-7311-4658-B6AF-1EB5904C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60F28-9567-4D92-8E5F-AEC8D8AE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38477-75F0-400C-9802-63C7048A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35E7E-BE49-4017-8ACB-42E6D7B6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99821-FB88-4D33-A35E-149913A8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D8B2B-43B6-4C2D-94BA-44030087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1D045-E5A6-4A78-B861-9818B288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0203D-9E52-4F12-AF99-810675F0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431-8232-40E5-9386-48F27471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43DE5-E4B7-4DD5-AC34-797E8011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F62AF-04CA-4FFD-A235-794FEA37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29141-6116-453F-B446-DB97BFE7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4B3EEF-9B9B-4133-9E10-319F53BB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87B2D-23FC-42B1-80BC-9C8F45F9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23C83-9C2E-4F54-BBA2-488E53F6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DA7E3-9709-431B-8358-A08A0CE7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9E1AC-8C29-43A9-89E8-041D8DCF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9D652-20F9-40DB-9CF7-161BA239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60371-91F9-429D-80E2-8D2133F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287-BB0E-4DAA-A80F-A7A0C59A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30E9A-50BF-489C-B2A8-07542871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516BB-5DFA-4851-A5C2-4399679E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2CA76-5174-480B-A6A5-4AF00396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8BA8F-04C6-44D8-AF9C-C85DDBE9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FCD2B-3006-4082-A020-31D12B03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9AF87-2DDE-4E5C-BBEB-8BDEC2E2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0BA63-6632-4F6B-BEF3-9E3589BC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FE272-DA41-4C13-8988-473BF5D7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DC0DE-2DB1-443A-B147-956DE8FE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4FD8B-D3FF-4BB3-9575-2982F52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93B-8D57-4BF6-93F5-FD044404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119E6-703A-45E9-9DA2-BD716F6C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80391-07A3-49FC-B972-95E60BB8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EFDB9-45C5-448F-B771-245EDE14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C50F2-3A88-4CC2-B116-C316150E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051EF-BF03-488F-B802-CD61CEA8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FB4-DC31-4656-90DD-F1F0A6D3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6D45-0D33-48E6-BDF2-49661DE0F6AA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2893-87A0-45F9-B4EE-7C14E1699655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02A9-BA0A-41F8-B5D2-46420843A239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DE7A-2C03-4792-94AC-62FD8BCA9155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822B-DD0D-4831-B8DC-D7362FC3EFF7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2C8A-57F6-4544-B810-949F3797D23D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6B96-5185-44FE-990E-8FCD53A6CF0A}" type="slidenum"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MODELOS COMUNICATIV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"/>
          <p:cNvSpPr/>
          <p:nvPr/>
        </p:nvSpPr>
        <p:spPr>
          <a:xfrm>
            <a:off x="468360" y="620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Cooper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necesidad esencial de la vida social de nuestra especie y que se traduce en la activación de las garantías de pertin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do evento comunicativo es un evento dialógico,             co-construido entre interloc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395280" y="37162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Negoci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uesta de acuerdo (normalmente dialógica) en relación a logros de metas, estrategias desplegadas, etc.  La negociación involucra aspectos como los tópicos, los límites del evento, la adopción de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5"/>
          <p:cNvSpPr/>
          <p:nvPr/>
        </p:nvSpPr>
        <p:spPr>
          <a:xfrm>
            <a:off x="1403280" y="260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Y para qué el lenguaje verb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250920" y="206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comunicar de manera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económica, precisa y elabo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250920" y="3716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sí mismo expresa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tencional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Implica, por lo tanto, menos esfuerzo mental y permite obtener efectos más relevantes que activando comunicación con sistemas no codif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esquema de la comunicación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575f6d"/>
                </a:solidFill>
                <a:latin typeface="Trebuchet MS"/>
              </a:rPr>
              <a:t>ROMAN JAKOBSON (1896 -1982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719280" y="1860120"/>
            <a:ext cx="7634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mplía la “gama de funciones” y reformula el esquema de la teoría de la inform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174680" y="4475160"/>
            <a:ext cx="143676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HABL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722760" y="4278240"/>
            <a:ext cx="143676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ENS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008760" y="4475160"/>
            <a:ext cx="143820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Y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3722760" y="3494160"/>
            <a:ext cx="143676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ON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3722760" y="4997520"/>
            <a:ext cx="143676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ONT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3722760" y="5452920"/>
            <a:ext cx="143676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ÓDI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0"/>
          <p:cNvSpPr/>
          <p:nvPr/>
        </p:nvSpPr>
        <p:spPr>
          <a:xfrm>
            <a:off x="2808360" y="4603680"/>
            <a:ext cx="300492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174680" y="3430440"/>
            <a:ext cx="143676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XPRE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722760" y="3235320"/>
            <a:ext cx="143676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É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6008760" y="3430440"/>
            <a:ext cx="143820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ON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592440" y="2449440"/>
            <a:ext cx="176364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EFERE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3722760" y="3952800"/>
            <a:ext cx="143676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F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525840" y="4408560"/>
            <a:ext cx="2155680" cy="309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ETALINGÜÍ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2808360" y="3560760"/>
            <a:ext cx="300492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652320" y="816120"/>
            <a:ext cx="7707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ES" sz="2200" spc="-1" strike="noStrike">
                <a:solidFill>
                  <a:srgbClr val="ff0066"/>
                </a:solidFill>
                <a:latin typeface="Trebuchet MS"/>
                <a:ea typeface="Arial Unicode MS"/>
              </a:rPr>
              <a:t>El elemento predominante determina la fu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6726240" y="5322960"/>
            <a:ext cx="784080" cy="718920"/>
          </a:xfrm>
          <a:custGeom>
            <a:avLst/>
            <a:gdLst>
              <a:gd name="textAreaLeft" fmla="*/ 46440 w 784080"/>
              <a:gd name="textAreaRight" fmla="*/ 737640 w 784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557" h="21600">
                <a:moveTo>
                  <a:pt x="0" y="0"/>
                </a:moveTo>
                <a:lnTo>
                  <a:pt x="23557" y="0"/>
                </a:lnTo>
                <a:lnTo>
                  <a:pt x="23557" y="21600"/>
                </a:lnTo>
                <a:lnTo>
                  <a:pt x="0" y="21600"/>
                </a:lnTo>
                <a:close/>
              </a:path>
              <a:path fill="lightenLess" w="23557" h="21600">
                <a:moveTo>
                  <a:pt x="0" y="0"/>
                </a:moveTo>
                <a:lnTo>
                  <a:pt x="23557" y="0"/>
                </a:lnTo>
                <a:lnTo>
                  <a:pt x="22157" y="1400"/>
                </a:lnTo>
                <a:lnTo>
                  <a:pt x="1400" y="1400"/>
                </a:lnTo>
                <a:close/>
              </a:path>
              <a:path fill="darken" w="23557" h="21600">
                <a:moveTo>
                  <a:pt x="23557" y="0"/>
                </a:moveTo>
                <a:lnTo>
                  <a:pt x="23557" y="21600"/>
                </a:lnTo>
                <a:lnTo>
                  <a:pt x="22157" y="20200"/>
                </a:lnTo>
                <a:lnTo>
                  <a:pt x="22157" y="1400"/>
                </a:lnTo>
                <a:close/>
              </a:path>
              <a:path fill="darkenLess" w="23557" h="21600">
                <a:moveTo>
                  <a:pt x="23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7" y="20200"/>
                </a:lnTo>
                <a:close/>
              </a:path>
              <a:path fill="lighten" w="23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7" h="21600">
                <a:moveTo>
                  <a:pt x="4772" y="3794"/>
                </a:moveTo>
                <a:lnTo>
                  <a:pt x="18785" y="10800"/>
                </a:lnTo>
                <a:lnTo>
                  <a:pt x="4772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Schoolbook"/>
              </a:rPr>
              <a:t>MODELO OSTENSIÓN - INFERENCI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entury Schoolbook"/>
              </a:rPr>
              <a:t>(SPERBER Y WILSON, 1986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comunicación se realiza por medio de índices que el comunicador proporciona con el fin de que el destinatario pueda inferir sus intencione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468360" y="414972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rebuchet MS"/>
              </a:rPr>
              <a:t>CAPACIDAD DE ATRIBUIR INTENCIÓN COMUNI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4500720" y="414972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rebuchet MS"/>
              </a:rPr>
              <a:t>MODELO NO LINEAL. EL “MENSAJE” ES SOLO UN DETONADOR DE PROCESOS GLOBALES DE I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entury Schoolbook"/>
              </a:rPr>
              <a:t>GARANTÍA DE PERTINENCIA:   ASIGNACIÓN DE “COHERENCIA”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Todo acto ostensivo conlleva una garantía de pertinencia, es decir, un valor informativo coherente, de interés para el recep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Todo destinatario capta la voluntad ostensiva, esto es, presume la pertinencia de lo que el emisor le comun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HACIA UNA DEFINICIÓN DE COMUN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324000" y="1844640"/>
            <a:ext cx="82105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tribución de estados ment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segundo y tercer grado: atribución a otras personas de estados mentales diferentes de los propios, por lo tanto capacidad de precisar particularidades en las intenciones, creencias y conocimientos de uno mismo y del otro. Anticipación de la conducta del otro en función de tales infer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comunicación es posible, incluso en ausencia de código, entre organismos que tienen la suficiente capacidad como para atribuirse mutuamente estados 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95280" y="404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ementos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onstituyentes de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solidarios e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un evento comunicat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395280" y="404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tencional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identificación de una meta, representación de la meta, anticipación de un plan específico y planes alternativos, persistencia conductual en pos de la 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468360" y="2349360"/>
            <a:ext cx="8064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Pertinencia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ltro subjetivo de interpretación humana de acuerdo con el cual algunas, y solo algunas, de las conductas del otro son juzgadas como relevantes y coherentes en términos humanos, esto es, como conductas nacidas de intenciones o como (potenciales) comunicaciones dirigidas a otro socialmente involuc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respuestas en situaciones comunicativas son respuestas evaluadas como respuesta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TIN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4:30:44Z</dcterms:created>
  <dc:creator>WinuE</dc:creator>
  <dc:description/>
  <dc:language>en-US</dc:language>
  <cp:lastModifiedBy>Alejandra</cp:lastModifiedBy>
  <dcterms:modified xsi:type="dcterms:W3CDTF">2008-04-29T07:38:19Z</dcterms:modified>
  <cp:revision>4</cp:revision>
  <dc:subject/>
  <dc:title>Modelos comunicativos</dc:title>
</cp:coreProperties>
</file>