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172-5F56-4818-9D3A-350ECBFF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69F-C4FB-47B9-8900-2A2A115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E85-3B9B-4E36-B76A-1835835A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C7A-13C1-4C96-A4E1-54B3DEB7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63C0-0408-44EB-A908-2D8EEE31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81BC-104F-45C3-A9EC-1378EA5C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01FC-2D04-4A6C-B5D6-F42F547B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ECEF-2F23-46BC-913E-A503F9CE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BB1D-26AA-48C9-ACBF-EA5F2236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8FC2-780B-477D-81F3-4291287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3B7C-4BC5-423D-B91B-557A2B2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86A-7CC7-4236-B04A-AA1C85A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0285-004C-484C-9BDF-7ADD508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2A8-C006-46E4-A3B6-9AE1D8EE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B95F-73E7-4825-820F-DE2A097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2E9F-BD35-489E-9591-5CDD36D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E31-777E-4C0A-8020-E53381D4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251-3844-4728-BD19-15DB1442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D5C-9DEC-4C9B-B479-E273A32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F9B-D285-4C87-A530-B161FCB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F14-8E23-4DB8-9636-EF1B7C4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0D8-62F7-4F43-91D0-CAECA0F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AF1-D0A5-4A98-B28B-45B707D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4F0-1428-4B53-BED1-30A7880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CE8-9723-4D73-B17B-B560B665631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C0D-3245-4579-96B3-70E3C676816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43200"/>
            <a:ext cx="792468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DIDA DE LA  INDEPENDENCIA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143000"/>
            <a:ext cx="8610480" cy="71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3. Moderada Asistencia o Ayu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 aporta mas del 50% y menos del  75% del esfuerzo necesario para hacer una tarea,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equiere  más que un ayudante o cont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2. Máxima Asistencia o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pone menos el de 50% del esfuerzo necesario para hacer una tarea, pero a lo menos  el 25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08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13372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Ayuda o asistencia completa o tot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pone menos del 25% del esfuerzo necesario para hacer una t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2600" y="2309760"/>
            <a:ext cx="3810240" cy="35305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untu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strar el nº que mejor describa el nivel de fun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no puede ser comprobado, registrar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muestra mayor funcionalidad en evaluación que en VD, indicar el nivel V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da nivel: Máximo 7, mínimo 1 (sens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tal máximo 126 – 1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pectos de Conciencia del Mundo Exterior (IS, RP y M): No hay acuerdo claro en su cuantificación, s/e  confiabilidad acep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s para el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base: si se requiere o no la ayuda de otra perso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ñala la magnitud de la ayuda (tiempo/energí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dida de la discapacidad no de la d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de lo que hace realmente la persona (independiente del Dg. o de las posibilida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existe el “no aplicabl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eñada para aplicación independiente de la especialidad. Puede dividirse entre el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8 hrs. Después de adm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º evaluación basada en 24 a 72 horas precedentes (flex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2 horas antes del al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guimiento: 80-180 días después del a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gistra puntaje que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mejor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describe lo que hace la person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general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e duda de puntaje registrar el más 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posición de elementos =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os ayudas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 blanco, no N/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asarse 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la mejor información dispon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 requiere supervisión no es independ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14400"/>
            <a:ext cx="861048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Defini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ncluye el uso de utensilios para  cortar y llevar el alimento a la boca, masticando, y tragando, una vez que la comida esté preparada apropiad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 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cc"/>
                </a:solidFill>
                <a:latin typeface="Arial"/>
                <a:ea typeface="Arial"/>
              </a:rPr>
              <a:t>SIN  AYUD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cc"/>
                </a:solidFill>
                <a:latin typeface="Arial"/>
                <a:ea typeface="Arial"/>
              </a:rPr>
              <a:t>7. Independencia comple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-- come de un plato, maneja todas las consistencias de alimento, y bebe de una taza o de un vaso con la comida presentada de la manera acostumbrada en una mesa o una bandeja. Utiliza una cuchara o un tenedor para llevar el alimento a la boca;  mastica y  traga el alim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cc"/>
                </a:solidFill>
                <a:latin typeface="Arial"/>
                <a:ea typeface="Arial"/>
              </a:rPr>
              <a:t>6. Independencia modifica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-- requiere un dispositivo de asistencia o adaptación tal como una paja, cuchara-tenedor, cuchillo oscilante, requiere más que una cantidad de tiempo razonable para comer, o requiere consistencia modificada del alimento o alimento molido (papilla), o hay consideraciones de seguridad. Si se alimenta por   otros medios, tales como parenteral debido a  gastroctomía, entonces él  administra los implementos independientemen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: </a:t>
            </a:r>
            <a:br>
              <a:rPr sz="2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m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  <a:ea typeface="Arial"/>
              </a:rPr>
              <a:t>CON </a:t>
            </a: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AYUDANTE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5. Supervisión o asistido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de supervisión (estar presente, dar instrucciones, o motivando) o AT (uso de órtesis o adaptaciones); o requiere a otra persona para abrir los envases, cortar la carne, poner la mantequilla al pan, o que vierta los líqu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4. Ayuda mínima  asistencia por contacto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75% o más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3. Ayuda mode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50% al 75%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2. Ayuda máxim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25% al 50%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1. Ayuda total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menos del  25% de tareas de alimentación. O, el individuo no come  las comidas completamente  por vía oral, si se alimenta por  otros </a:t>
            </a:r>
            <a:r>
              <a:rPr b="1" i="1" lang="es-CL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dios, tales como alimentaciones parenterales no administra las técnicas por sí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371600"/>
            <a:ext cx="88390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ACTERISTICAS GENERALES D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ALA USADA EN  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ER:  EVALUACION DE DESEMPEÑO US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916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.  CARACTERISTICAS GENERALES DEL FI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645000"/>
            <a:ext cx="7391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.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2. Instr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1.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983: Grupo de trabajo para el desarrollo de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“Conjunto de Datos Uniformizados para la Rehabilitación Médica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ecesidad de instrumento para documentar la SEVERIDAD  de la incapacidad y los progresos de la rehabil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un “conjunto de datos mínimos” válido, confiable, apropiado, de aplicación rápida, uniforme, independiente de las especialidades y apropiada para el uso clín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1.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btener datos  sobre características funcionales básicas para seguimiento inicio-post a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visión 36 métodos publicados y no publicados, seleccionando las más útiles y comu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se piloto, experimentación e implantación desde 1984 (50 instituciones, EEUU), múltiples modificaciones, demostrando confiablidad y valide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la inicial 4 p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2. El Instrumento: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mensiones y 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idado pers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idados de apariencia exter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a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stido parte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stido parte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eo pers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ol de esfín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ol ves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ol intesti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nsferencias (mov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a, silla, silla de rue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w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K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ina o duc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como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i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sar escale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mpren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ciencia del Mundo Exter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acción so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olución de problemas de la vida dia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= 1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Niveles de Funcionalidad y Puntu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00cc"/>
                </a:solidFill>
                <a:uFillTx/>
                <a:latin typeface="Tahoma"/>
              </a:rPr>
              <a:t>INDEPEND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7.</a:t>
            </a: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Independencia Compl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Independencia M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59320" y="2017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DEPEND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A.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Dependencia Modifi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Vigilancia o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Ayuda con Contacto Mínimo 7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Ayuda Moderada 5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B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Dependencia Compl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.   Ayuda Máxima 2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yuda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066680"/>
            <a:ext cx="8534160" cy="81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Independencia To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s necesario ayud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la tarea con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una cantidad de tiempo razonable,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 dispositivos, ayudas, o modificaciones de la tarea o amb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Independencia Modific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s necesario algún ayudante,  p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 mas del  tiempo normal  para  hacer una tarea, 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de un dispositivo de asistencia o modificacion de la t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5. Supervisión o Preparación de los Med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cesita  solamente a alguien  cerca, 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cesita las órdenes o supervisión para ejecutar la tarea (sin contacto físic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4. Mínima asistencia por contacto o ayu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aporta el 75% o más del esfuerzo necesario para hacer la t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0:29:45Z</dcterms:created>
  <dc:creator>Isaura Fagnilli</dc:creator>
  <dc:description/>
  <dc:language>en-US</dc:language>
  <cp:lastModifiedBy>Fac. de Medicina</cp:lastModifiedBy>
  <dcterms:modified xsi:type="dcterms:W3CDTF">2008-07-25T20:32:40Z</dcterms:modified>
  <cp:revision>74</cp:revision>
  <dc:subject/>
  <dc:title>PowerPoint Presentation</dc:title>
</cp:coreProperties>
</file>