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0.wmf" ContentType="image/x-wmf"/>
  <Override PartName="/ppt/media/image25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3.jpeg" ContentType="image/jpeg"/>
  <Override PartName="/ppt/media/image14.wmf" ContentType="image/x-wmf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Evelyn Alvarez Espinoza" initials="EAE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7-26T01:41:25.290000000" idx="1">
    <p:pos x="5602" y="1434"/>
    <p:text>Control de aspectos de seguridad.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A45-4E22-431A-9DCD-1DB41DB8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90B-9207-4248-BCF7-B553F53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06F-E1A2-4DD4-9FC2-3C629CC3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D64-5D9A-4D55-976C-E31FD9A5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E6F7-2895-47F0-9462-EE7A026B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DE80-D7E2-4195-9C96-8B366EEE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FE34-9A2C-44DE-BF77-C52696B8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3D03-FE46-42C4-BF9F-6564E4B9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9C18-869A-4619-8A33-CB255635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0FB2-B790-481E-A6B3-B63403F9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E21E-8B6C-4A58-8EF1-CF1B75A8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001-89B1-4E37-9385-1731C4CD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93EC-1E97-40A5-8CE2-4E1D76F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C30D-59A7-4998-904C-DE60762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A0FC-94A5-47AE-BB06-D57E65CD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29E0-6E20-4960-9554-6A36134D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8520-1EEA-40FE-8C3D-F6FDE310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D4F-1C86-4F4B-B2BB-297773C2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61A-166B-4B51-A4CB-178D18DC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226-D972-4490-B5FF-7B0954B8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13B-2152-45EF-98DF-B33730B7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2AA-12F2-4B9E-881E-AF63E5A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19A-6D88-43CF-99B7-655286A1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8E9-2EA7-43AA-BC51-17CCBF1B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1D55-A1D6-4795-8EAC-3DD07086B06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512D-D95B-45F3-A79C-CFAE2F15C88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0000"/>
                </a:solidFill>
                <a:latin typeface="Arial"/>
              </a:rPr>
              <a:t>TRANSFERENCIAS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fer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inal Cord Injury Patient-Family Teaching Manual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tamiento motor de la paralisis cerebral y del retraso motor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troke Rehabilitation A function- Based Approach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19280" y="6206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Con tabla de trans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523880"/>
          <a:ext cx="9144000" cy="53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9640" y="333360"/>
            <a:ext cx="734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Arial"/>
              </a:rPr>
              <a:t>Transferencia realizadas por el usuario de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628640"/>
            <a:ext cx="84582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d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ma a una silla de ruedas sin apoyabrazo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ma a una silla de ruedas con apoyabraz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illa de ruedas hacia una cama ( técnica para ni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illa de ruedas al suelo y viceversa (con o sin ban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erencia con y sin uso de tabla de 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77880" y="841320"/>
          <a:ext cx="8435880" cy="957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841320"/>
                    <a:ext cx="8435880" cy="957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11280" y="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 rot="5400000">
            <a:off x="-1606680" y="3309840"/>
            <a:ext cx="3952800" cy="23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800080">
                    <a:alpha val="57000"/>
                  </a:srgbClr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Kartika"/>
              </a:rPr>
              <a:t>Cama a una silla de ruedas sin apoyabrazos  </a:t>
            </a:r>
            <a:endParaRPr b="0" i="1" lang="en-US" sz="1800" spc="1" strike="noStrike">
              <a:ln w="0">
                <a:noFill/>
              </a:ln>
              <a:solidFill>
                <a:srgbClr val="800080">
                  <a:alpha val="57000"/>
                </a:srgbClr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Kartika"/>
              <a:ea typeface="Karti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539640" y="2068560"/>
          <a:ext cx="8604360" cy="47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68560"/>
                    <a:ext cx="860436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42920" y="2602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 rot="5400000">
            <a:off x="-2967840" y="3336120"/>
            <a:ext cx="6453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669999"/>
                    </a:gs>
                    <a:gs pos="50000">
                      <a:srgbClr val="330066">
                        <a:alpha val="10196"/>
                      </a:srgbClr>
                    </a:gs>
                    <a:gs pos="100000">
                      <a:srgbClr val="669999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Sylfaen"/>
              </a:rPr>
              <a:t>Cama a una silla de ruedas con apoyabrazos.</a:t>
            </a:r>
            <a:endParaRPr b="0" i="1" lang="en-US" sz="1800" spc="1" strike="noStrike">
              <a:ln w="126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669999"/>
                  </a:gs>
                  <a:gs pos="50000">
                    <a:srgbClr val="330066">
                      <a:alpha val="10196"/>
                    </a:srgbClr>
                  </a:gs>
                  <a:gs pos="100000">
                    <a:srgbClr val="669999"/>
                  </a:gs>
                </a:gsLst>
                <a:lin ang="135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16000" y="620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1981080"/>
          <a:ext cx="91440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971640" y="2602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971640" y="4762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335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mbios de posi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posicionar en la sil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ntado – acostado (vicever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95720" y="361080"/>
            <a:ext cx="643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Reposicionar en la silla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468144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Frenar la silla de rue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El asistente está parado delante / detrás de la silla de rue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Los pies del usuario deben tocar el pi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. Las rodillas del asistente deben rodean las rodillas del usuario a horcajadas (no en los musl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. El usuario pone los brazos doblados en el tron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 Asistente ma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debajo de tus nalgas (del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sobre antebrazos (detr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781680" y="3357720"/>
            <a:ext cx="2362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059520" cy="5035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Considerar las siguientes preguntas antes de comenzar la transferencia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precauciones médicas afectan la movilidad o métodos de transferenc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 ser la transferencia realizada correctamente por una persona?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 la duda solicitar as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go tiempo suficiente para hacer una transferencia segura? O estoy apurado (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liente entiende que se va a hacer?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operación del sujeto a ser transf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Sentado – acostado (viceversa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étodo u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sistente rodea la cintura escapular  y apoya brazo afec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étodo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sistente toma la cintura escapular con un brazo y el otro brazo debajo de ambas rod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levar los miembros inferiores al pecho, pivotes  sobre glúteos y  bajar suave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2847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raslado con 2 personas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19160" y="1719360"/>
            <a:ext cx="2914560" cy="2130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210280" y="1719360"/>
            <a:ext cx="2914560" cy="2130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017720" y="3998880"/>
            <a:ext cx="2916000" cy="2131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284720" y="4005360"/>
            <a:ext cx="1641240" cy="2187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443640" y="3770280"/>
            <a:ext cx="23144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er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pinal Cord Injury Patient-Family Teaching Manual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tamiento motor de la paralisis cerebral y del retraso motor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troke Rehabilitation A function- Based Approach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116000" y="620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3106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INA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36831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r el apoya-pie y apoya-brazo más cercano a la t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ner los fre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car la silla de ruedas en el tercero posterior de la t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tarse al borde de la silla de ruedas, apoyando los pies en el p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sistente debe estar parado adelante del usuario y estabilizar las rodil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sistente asiste a nivel de la cadera. Con una toalla o un debajo de las glúteos o un cinturón de segurida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2994120" cy="2128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516720" y="1149480"/>
            <a:ext cx="2627280" cy="2033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140360" y="2565360"/>
            <a:ext cx="2842920" cy="1828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012000" y="4502160"/>
            <a:ext cx="3132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692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TRANSFERENCIAS SEGURAS</a:t>
            </a:r>
            <a:r>
              <a:rPr b="1" lang="es-ES" sz="2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134136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Consid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27664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 todo el equipamiento preparado? Necesito una tabla de transfer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y objetos o elementos innecesarios fuera del área de trabaj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alturas de las superficies de transferencias son similares?  Se pueden ajustar?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parar niveles de superf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cesito un cinturón de seguridad para la asist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65760" y="375120"/>
            <a:ext cx="81342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Arial"/>
              </a:rPr>
              <a:t>Consideraciones de propiedades mecánicas del asistente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1979640"/>
            <a:ext cx="83628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er al cliente o usuario cerca de u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cionar el cuerpo frente a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blar las rodillas, usar las piernas no la espal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tener la espalda der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tener una amplia base de so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ombinar movimientos, evitar rotación al mismo tiempo de flectar o ext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tener talones apoy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92120" y="583920"/>
            <a:ext cx="40449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bla de transferenci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63640" y="3789360"/>
            <a:ext cx="3005280" cy="2604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370320" cy="2957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61657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óx. 23 x 65 c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4402080" cy="2359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076720" y="4759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corpo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98560" y="981000"/>
            <a:ext cx="3097080" cy="2230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11280" y="475920"/>
            <a:ext cx="22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tur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736720" cy="1560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47600" y="3715920"/>
            <a:ext cx="260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16360" y="981000"/>
            <a:ext cx="3552840" cy="3841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89760" y="259920"/>
            <a:ext cx="418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vador Multi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23240" y="608652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lifante.cl/index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476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TRANSFERENCIAS SEGU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981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Precau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1773360"/>
            <a:ext cx="830556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strucciones entend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eparación del lugar y ele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enos de la silla de rue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sición de las ruedas delante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ir atrapamiento de ropa o roce de la piel que pueda causar d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olsa recolectora de ori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189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Transferencias con ayuda de un as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6560" y="1614600"/>
            <a:ext cx="8498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ipo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n pi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n tabla de trans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s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lla de ruedas a la cama (vice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lla de ruedas a tina (vice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lla de ruedas a toilette (vice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lla de ruedas al auto (vice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4360" y="1419120"/>
            <a:ext cx="2374920" cy="2073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25840" y="1231920"/>
            <a:ext cx="2557440" cy="2228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567480" y="1368360"/>
            <a:ext cx="2254320" cy="21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900000" y="4221000"/>
          <a:ext cx="7186680" cy="2386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4221000"/>
                    <a:ext cx="71866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84360" y="260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Con pi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31:08Z</dcterms:created>
  <dc:creator>Facultad de Medicina</dc:creator>
  <dc:description/>
  <dc:language>en-US</dc:language>
  <cp:lastModifiedBy>Fac. de Medicina</cp:lastModifiedBy>
  <dcterms:modified xsi:type="dcterms:W3CDTF">2008-07-07T13:09:38Z</dcterms:modified>
  <cp:revision>26</cp:revision>
  <dc:subject/>
  <dc:title>Sin título de diapositiva</dc:title>
</cp:coreProperties>
</file>