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382-1C6A-4829-9FE9-6D1D750C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A6DF-01AC-44A2-8EEC-C53D5A61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5993-A1A4-4199-AEE3-1CACFD30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980A-2166-42B4-8F8B-9F861A6E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680-4BDA-4AE1-BB9A-63C7A487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650-B872-457C-A8DE-C9805D78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E702-FE5D-4E5B-9DE7-FD04068E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E86-209E-4243-B5A2-A4D0865C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030C-C981-47EC-A7E4-FFF94872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5B7-B5B5-4A7B-B0A6-E5F8F713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F84-0E62-4A3A-9ACF-12945E74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1E60-64D1-4EE9-9E16-609071C1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2DC1-81FB-446B-99FE-53F37A1F7D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66688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” -  DISEÑO OCUPACIONAL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ESDE EL MARCO DE REFERENCI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ADAPTACIÓN OCUPACIONAL</a:t>
            </a:r>
            <a:br>
              <a:rPr sz="1800"/>
            </a:b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JANETTE SCHKADE SALLY SCHULTZ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5334120"/>
            <a:ext cx="40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Laura Rueda  -  Paula S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9144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ahoma"/>
              </a:rPr>
              <a:t>AVD en Personas con Discapacidad Psíqu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Propósito global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ncrementar el funcionamiento psicosocial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omentar el desenvolvimiento autónomo en la comun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ceso de reflexión sobre las necesidades únicas de las personas, los recursos disponibles y de los procesos apropiados de interven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plicación del sentido comú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Fundamentación del trabajo de AVD en Psiquiatría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enfermedad mental en un alto porcentaje de los casos,cursa con un deterioro en los aspectos básicos 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utocuidado y autonomía fun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rganización del ritmo de vi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ocimiento del entorno socio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anejo de los recursos sociales que les rod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ún, contando con  habilidades físicas para su desarrollo y habitualmente necesidades conscientes de la importancia de estas actividad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Proceso de Valoració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ntecedentes Generales: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 la persona y su contexto socio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aluación específica de AVD: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focadas en el contexto de desempeñ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aluación de Contexto de Desempeñ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nálisis de rutinas habituales: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sos sociales, costumbres y ritu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Contexto de Desempeñ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58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Aspectos Temporal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” Cuales AVD se deben desarrolla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 Edad cronológica, Edad de desarrollo, etapa ciclo vital, situación psicoafectiv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En la intervención, significar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acer ver la necesidad de autocuid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tablecer un ritmo de vida salud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grar la mayor participación en tareas domést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lcanzar un nivel cultural mínimo que facilite su autonom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umentar el interés por su entorno socio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Contexto de Desempeñ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 u="sng">
                <a:solidFill>
                  <a:srgbClr val="000000"/>
                </a:solidFill>
                <a:uFillTx/>
                <a:latin typeface="Tahoma"/>
              </a:rPr>
              <a:t>Aspectos Medioambientales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En la intervención, significará un análisis de fac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ísicos: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spectos tangibles, materiales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ociales: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sos sociales, códigos morales, lengua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ulturales: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valores, costumbres y ri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Análisis y Planificación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tablecer objetivos med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egociar” con los intereses, valores, roles, y motiv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tablecer los medios y herramien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Tipo de Intervención: Grupal o Individ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ugar: Situación real u ot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Intervenció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1000"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encuentran adscriptas en el Modelo Teórico de Intervención que maneje el equipo de aten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objetivos se explicitarán en términos del mismo mode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xisten modelos que utilizan indicadores preferentemente cuantific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xisten modelos que utilizan indicadores preferentemente cuantific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Intervenció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I.- Contexto de Desempeñ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 Modificación de la Actividad, Ayudas Técnicas y Adaptación del Amb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II.- Entrenamiento de AVD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 Ejercicio de la actividad con una metodología específica , hasta el logro dese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Modificación de la Activid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54380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decuar Tareas a condiciones particula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ecuencias, considerando grados de adaptabil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spectos Culturales, uso y manejo de situación 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685800"/>
            <a:ext cx="777240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finiciones disciplinar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DAPTACIÓN OCUPAC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El desarrollo de un rol ocupacional le permite a la persona responder satisfactoriamente desde sí mismo,a las demandas del med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PUESTA OCUPAC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Durante el desarrollo de una ocupación se establece una interacción específica entre la persona y el ambiente ocupaci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MBIENTE OCUPAC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Contexto comunicacional donde se desarrolla la ocupación: ambiente físico,relaciones sociales,vinculación interpersonal, subjetividad, intersubjetividad, determinantes culturales y todo lo que se da en la condición huma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Ayudas Técnicas y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 un instrumento que facilita la independencia de las personas y el desarrollo personal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mbiente facilitad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sicofárma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Yo auxili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Ayudas Técnicas y..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Arial"/>
              </a:rPr>
              <a:t>Apoyo para la comunicación, información y señal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Arial"/>
              </a:rPr>
              <a:t>Apoyo económico para mejorar del entorn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Arial"/>
              </a:rPr>
              <a:t>Acceso actividades de tiempo lib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Entrenamiento de AV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 una mediación entre el sujeto y el Contexto de desempeñ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ol del T.O. Mantener Estado de flujo: Aprendizaje significativo, procuran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Desarrollar un comportamiento nuevo o que se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a dejado de hac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Fortalecer un comportamien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Mantener un comporta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Suprimir un comportamient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Finalmente..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aluación: Antes y despu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dentificar logros , dificultades y nuevos desafí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gistro de evolución: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con información cuantificable y cualific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058120" y="754200"/>
            <a:ext cx="46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FIGURACIÓN DE LAS AV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1947960"/>
            <a:ext cx="2163960" cy="981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70360" y="1890720"/>
            <a:ext cx="2163960" cy="9795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03440" y="1371600"/>
            <a:ext cx="2392560" cy="403200"/>
          </a:xfrm>
          <a:custGeom>
            <a:avLst/>
            <a:gdLst>
              <a:gd name="textAreaLeft" fmla="*/ 418680 w 2392560"/>
              <a:gd name="textAreaRight" fmla="*/ 1734840 w 2392560"/>
              <a:gd name="textAreaTop" fmla="*/ 54000 h 403200"/>
              <a:gd name="textAreaBottom" fmla="*/ 349200 h 403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0617600">
            <a:off x="3118680" y="3101760"/>
            <a:ext cx="2390760" cy="403200"/>
          </a:xfrm>
          <a:custGeom>
            <a:avLst/>
            <a:gdLst>
              <a:gd name="textAreaLeft" fmla="*/ 418320 w 2390760"/>
              <a:gd name="textAreaRight" fmla="*/ 1733400 w 2390760"/>
              <a:gd name="textAreaTop" fmla="*/ 54000 h 403200"/>
              <a:gd name="textAreaBottom" fmla="*/ 349200 h 403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388620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structura psíquica alte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88620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Amenaza consta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533412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Niveles de conciencia no desarrol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48769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gano, apat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4343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nquietud psicomot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42670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Restri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46483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Rechazo social, inde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50292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Recursos limitados/esca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1523880"/>
            <a:ext cx="76201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RE” - DISEÑO OCUPACION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PROCESO POR EL CUAL UNA PERSO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RE” - CONSTRUYE LA RESPUESTA OCUPACIONAL AJUSTADA 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MBIENTE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703400" y="3421080"/>
            <a:ext cx="38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AFÍO OCUP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82600" y="2201760"/>
            <a:ext cx="68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SONA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MBIENTE OCUP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0800" y="3421080"/>
            <a:ext cx="350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PECTATIVAS DE 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CUP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5562720"/>
            <a:ext cx="7549920" cy="672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ADO DE DOMINIO RELATIVO ESP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TEGRACIÓN DE HABITOS, PATRONES CONDUCTU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58320" y="601560"/>
            <a:ext cx="73159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INTERVENCIÓN DEL TERAPEUTA OCUP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21337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2057400"/>
            <a:ext cx="45720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3124080"/>
            <a:ext cx="152280" cy="381240"/>
          </a:xfrm>
          <a:prstGeom prst="downArrow">
            <a:avLst>
              <a:gd name="adj1" fmla="val 50000"/>
              <a:gd name="adj2" fmla="val 6258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2971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81280" y="479268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CTIVIDAD CON 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9366800">
            <a:off x="3505320" y="419076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1371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637000">
            <a:off x="5638320" y="4266720"/>
            <a:ext cx="152640" cy="609840"/>
          </a:xfrm>
          <a:prstGeom prst="downArrow">
            <a:avLst>
              <a:gd name="adj1" fmla="val 50000"/>
              <a:gd name="adj2" fmla="val 998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637000">
            <a:off x="3428640" y="129528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2362320"/>
            <a:ext cx="533160" cy="228600"/>
          </a:xfrm>
          <a:prstGeom prst="leftRightArrow">
            <a:avLst>
              <a:gd name="adj1" fmla="val 50000"/>
              <a:gd name="adj2" fmla="val 4643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33680" y="7542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PUESTA ADAP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720" y="1676520"/>
            <a:ext cx="70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PCIÓN DE EXPECTATIVAS DE ROL OCUP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9880" y="3200400"/>
            <a:ext cx="683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CESO INTERNO DE GENERACIÓN DE RESPUEST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APT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3160" y="5562720"/>
            <a:ext cx="42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PUESTA OCUP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213372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4038480"/>
            <a:ext cx="304920" cy="1524240"/>
          </a:xfrm>
          <a:prstGeom prst="downArrow">
            <a:avLst>
              <a:gd name="adj1" fmla="val 50000"/>
              <a:gd name="adj2" fmla="val 12497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05320" y="4191120"/>
            <a:ext cx="2361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AMBI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838080"/>
            <a:ext cx="1524240" cy="52578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1011600 h 5257800"/>
              <a:gd name="textAreaBottom" fmla="*/ 335376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13" stAng="-5400000" swAng="-5400000"/>
                <a:lnTo>
                  <a:pt x="0" y="9621"/>
                </a:lnTo>
                <a:arcTo wR="21600" hR="8313" stAng="10800000" swAng="-2845668"/>
                <a:lnTo>
                  <a:pt x="14400" y="21125"/>
                </a:lnTo>
                <a:lnTo>
                  <a:pt x="21600" y="17280"/>
                </a:lnTo>
                <a:lnTo>
                  <a:pt x="14400" y="12485"/>
                </a:lnTo>
                <a:lnTo>
                  <a:pt x="14400" y="16151"/>
                </a:lnTo>
                <a:arcTo wR="21600" hR="8313" stAng="7954332" swAng="2741289"/>
                <a:lnTo>
                  <a:pt x="67" y="8967"/>
                </a:lnTo>
                <a:arcTo wR="21600" hR="8313" stAng="-10695621" swAng="5295621"/>
                <a:close/>
              </a:path>
              <a:path fill="darkenLess" w="21600" h="21600">
                <a:moveTo>
                  <a:pt x="21600" y="0"/>
                </a:moveTo>
                <a:arcTo wR="21600" hR="8313" stAng="-5400000" swAng="-5400000"/>
                <a:lnTo>
                  <a:pt x="0" y="8313"/>
                </a:lnTo>
                <a:arcTo wR="21600" hR="8313" stAng="10800000" swAng="-104379"/>
                <a:lnTo>
                  <a:pt x="67" y="8967"/>
                </a:lnTo>
                <a:arcTo wR="21600" hR="8313" stAng="-10695621" swAng="5295621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834920" y="64296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.O. EN EL REDISEÑO OCUP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1160" y="1973160"/>
            <a:ext cx="366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MA TERAPÉU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enera demandas control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 estimula deseos de domi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11600" y="1668600"/>
            <a:ext cx="4101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ILITADOR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BIENTE OCUP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dentifica y orien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xperimentación y s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32767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67360" y="3233880"/>
            <a:ext cx="29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SOS GENE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9120" y="3919680"/>
            <a:ext cx="825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y DESARROLLO  de la INTERV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 EVALUACIÓN y AJUSTE de INTERV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RO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05120" y="6858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HERRAMIE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057400"/>
            <a:ext cx="71784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LACIÓN T.O. - PA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ÉCNICAS COMPENSATO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APTACIÓ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 LAS TAREAS, DEPENDENCIA SANA, AYUDAS TÉCNICAS, ADAPTACIÓN DEL 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SICOEDU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BAJO EN REDES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STITUCIONALES Y/O PERS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BILIDADES 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AVD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Razonamiento Clínico e intervención en personas con conflictos menta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01:44:58Z</dcterms:created>
  <dc:creator>Laura Rueda C.</dc:creator>
  <dc:description/>
  <dc:language>en-US</dc:language>
  <cp:lastModifiedBy>Fac. de Medicina</cp:lastModifiedBy>
  <cp:lastPrinted>2002-09-03T18:33:15Z</cp:lastPrinted>
  <dcterms:modified xsi:type="dcterms:W3CDTF">2008-07-01T12:51:09Z</dcterms:modified>
  <cp:revision>57</cp:revision>
  <dc:subject>MITO MENTALES</dc:subject>
  <dc:title>AVD en Discapacidad Psíquica</dc:title>
</cp:coreProperties>
</file>