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E99-DD43-4C7C-9F17-3B5FCBBB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86D-303A-4637-B148-6F2FBBD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E9D-108A-4685-8CDB-8883852C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6F8-BD76-466D-8F62-8A18A34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7FDE-7EDE-4ABD-A273-1DC9769D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7F20-6D31-4B87-A1E0-7E7F50A1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8240-EE1F-4566-92CF-1FC5C22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A989-A700-4069-91B9-6BA4B97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3535-1AAE-45FE-8D87-7100260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E74-93A1-4938-A085-C47479B8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87A8-6D19-4646-980C-4A4BF63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697-B876-4F96-8770-ED04041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D8A5-DD56-407E-AE45-BEAC466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96F-29B0-40FB-B2EA-5415853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7324-F612-46E2-8333-D3FA43B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D821-68D9-49B6-9B53-F21D3CD3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B029-56ED-4BF3-8F00-215A386A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4B6-AF51-4C10-96D1-AF2F6E2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832-4ACC-46A3-B314-B804A88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829-E67A-40E4-84F1-2B17D29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98E-8D48-4CEB-8712-2AA7FC7D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E1E-A75C-4997-B559-7076CEA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40A-F390-4383-BD5F-A56A26B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6B4-B689-4736-A604-141F5F41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1DDF-C3FA-4FB9-9D5D-81A4EC6F97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E2A-F8C2-488C-8852-C957B28BC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Marco Lóg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para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Diseño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ª Elena Riv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nfoque de ML</a:t>
            </a: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 objetivo es darle estructura al proceso de planificación y comunicar la información esencial sobre un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nfoque de ML</a:t>
            </a: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omentos o F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nde 2 momentos o F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rebuchet MS"/>
              </a:rPr>
              <a:t>Analítico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álisis de una realidad compleja, pero que a través de una serie de técnicas  se vuelve perceptible y posible de ser tra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rebuchet MS"/>
              </a:rPr>
              <a:t>Matriz de Planificación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igue a la fase anterior. Comprende una serie de pasos que en conjunto constituyen la estructura integral de un proyecto lógico y fac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paso Ráp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e la lista que aparece abajo, señale 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afirmaciones considera VERDADERA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lación al SML y la M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)__ La MML se utiliza sólo al principio del proyecto y no cambia a medida que se ejecuta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)__ La MML  deber ser modificada y mejorada repetidamente a lo largo de las etapas de preparación y ejecución de un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)__ El SML ofrece herramientas para la conceptualización, diseño, ejecución, seguimiento de desempeño y evaluación de proy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)__ La participación de involucrados en la preparación de la MML ocurre sólo al final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Herramientas de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1628640"/>
            <a:ext cx="1224000" cy="10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43120" y="1700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3480" y="3232080"/>
            <a:ext cx="8012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general, los proyectos son desarrollados para dar respuesta a un problema u  obstáculo a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chas veces existe consenso de que la sit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ante es insatisfactoria y se requiere un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situación insatisfactoria se denomin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Ejercicio Nº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¿Cuál es la situación actual en el Caso de Ciudad Palmi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Herramientas de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3232080"/>
            <a:ext cx="80121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o la situación actual es insatisfactoria, se presume que existe una situación futura deseada que resultará de la intervención diseñada para abordar todos o algunos de los problemas asociados a la situación 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a intervención se denomina PROYECTO o PROGRAMA,  es de corto o mediano plazo, y es diseñada para obtener un cambio a mediano o largo plazo requerido para el logro de la situación futura des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Herramientas de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480" y="3232080"/>
            <a:ext cx="80121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</a:t>
            </a: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diagnostica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</a:t>
            </a: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especifica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la 1ª herramienta en el SML para diagnosticar l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usa tanto en el diseño, como en la ejecución, para aclarar cuáles grupos están directa o indirectamente involucrados en un problema específico de desarrollo, así como para considerar sus intereses, potencial y lim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ber cuáles grupos apoyarían una determinada estrategia para abordar un problema considerado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ber cuáles grupos serían oposi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diseño incluye medios para maximizar el apoyo y minimizar la res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 mayor objetividad al proceso de planificación, al considerar diversos puntos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menta sentido de pertenencia en beneficiarios y prestatarios, al incluirlos desde el comienzo en el proceso de plan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5600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larando 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rebuchet MS"/>
              </a:rPr>
              <a:t>Pl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resa lineamientos políticos fundamentales; prioridades que se derivan de esas formulaciones; asignación de recursos de acuerdo a esas prioridades; estrategias de acción y; conjunto de medios e instrumentos a utilizar para alcanzar objetivos pro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globa programas y proyectos, pero no está compuesto sólo por un conjunto de programas y proyectos debido a que su formulación se deriva de propósitos y objetivos más amplios que la suma de amb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tal incluir ambos grupos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bien el grupo de involucrados  a favor del proyecto puede aportar recursos, el grupo que se opone puede utilizar estos recursos para obstaculizar o impedir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403848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apoyan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se oponen a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1628640"/>
            <a:ext cx="26607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inicia el análisis de involucrados con la preparación de un cuadro con 4 columnas y 1 fila para cada grupo específico (no se consideran individuos, sólo grup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628640"/>
          <a:ext cx="4751280" cy="453096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quellos directa o indirectamente involucrados o afectados por el problema central y su(s) posible(s) solución(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na manera para identificar los grupos es usar una tip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or ejemplo, se podrían considerar grupos a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de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relig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9640" y="1844640"/>
          <a:ext cx="4751280" cy="453060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3280" y="1844640"/>
            <a:ext cx="2881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la 1ª columna del cuadro de involucrados se incluyen los nombres de los diferentes grupos de involucrados ident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ocamos cada grupo en 1 fila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Inter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la 2ª columna del cuadro de involucrados colocamos los intereses de cada grupo en relación al problem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se refiere a todos los intereses que pueda tener un determinado grupo, sino aquellos que tienen relación directa con el problema selec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intereses también pueden reflejar soluciones sugeridas por cada grupo que esté perjudicado por el problem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blemas Percib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3ª columna colocamos los problemas específicos o situaciones negativas, de la manera que son percibidas por el grupo de involucrados en relación con el problema central, en la fil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importante enfatizar que los problemas percibidos deben ser planteados de la manera más negativa posible; no deben constituir soluciones “encubiert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emás las frases deben ser claras, no ambi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amos el siguiente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48320" y="160020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tenemos taller de manteni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s vehículos están mal manten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64832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burocráticos para aprobación de proyec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rgas demoras para aprobación de proyect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hora prueben Uds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¿Cuál de los siguientes problemas percibidos  están bien redac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__ La escasez de recursos nos ha retra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__ No se han cumplido las metas trimest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__ No hay pest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__ La cosecha se está perdiendo debido a las pla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 y 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4ª columna del cuadro de involucrados se incluyen los recursos y mandatos de cada involuc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quellos que un grupo puede poner a disposición para contribuir a la solución del problema central (o para bloquear una solución propue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eden ser financieros y no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 frecuencia los segundos (opinión pública; huelgas, influencias, votación) son más importantes que los pri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910800"/>
            <a:ext cx="8238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Herramientas de Diagnóstico </a:t>
            </a:r>
            <a:r>
              <a:rPr b="0" lang="en-US" sz="34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rebuchet MS"/>
              </a:rPr>
              <a:t>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oridad formal que tiene un grupo de involucrados para dar un servicio o cumplir una función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ralmente corresponden a organizaciones formalmente constituidas y se encuentran en documentos oficiales como estatutos que describen los objetivos o la misión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84360" y="86796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larando 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rebuchet MS"/>
              </a:rPr>
              <a:t>Programa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organizado, coherente e integrado de actividades, recursos, servicios o procesos expresados en un conjunto de proyectos relacionados o coordinados entre sí, de similar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 plan está constituido por un conjunto de programas. Ejemplo: programa del adulto mayor; programa prevención de riesgos labo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longación operacional de un plan y parte integrante de éste. Realiza acciones orientadas a alcanzar las metas y objetivos propuestos dentro de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modo de co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análisis de involucrados es importante no sólo en el proceso de identificación y diseño del proyecto, sino también es una fuente indispensable de información para la ejecución, seguimiento de desempeño y evalua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ello es fundamental mantener esta cuadro actualizado, así como entender bien el papel que juega cada involucrado en la ejecu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jercicio Nº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udio de caso continuo: Proyecto Ciudad Palmira. Análisis de involucrados del ca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26920" y="620640"/>
          <a:ext cx="7921800" cy="5824440"/>
        </p:xfrm>
        <a:graphic>
          <a:graphicData uri="http://schemas.openxmlformats.org/drawingml/2006/table">
            <a:tbl>
              <a:tblPr/>
              <a:tblGrid>
                <a:gridCol w="1981440"/>
                <a:gridCol w="1979640"/>
                <a:gridCol w="1981080"/>
                <a:gridCol w="197964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Gru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Inter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Problemas percib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Recursos y mand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826920" y="333360"/>
          <a:ext cx="7921800" cy="6308640"/>
        </p:xfrm>
        <a:graphic>
          <a:graphicData uri="http://schemas.openxmlformats.org/drawingml/2006/table">
            <a:tbl>
              <a:tblPr/>
              <a:tblGrid>
                <a:gridCol w="1981440"/>
                <a:gridCol w="1979640"/>
                <a:gridCol w="1981080"/>
                <a:gridCol w="1979640"/>
              </a:tblGrid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Gru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Inter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Problemas percib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Recursos y mand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aj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ner sist. transp. pub. confiable y bajo cos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. CPA no confi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feres conducen m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ccid. Frec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ajeros h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disponibilidad pago serv. de transporte confi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pasaj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ducción co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hicul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cuente conges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uso de transporte si es confi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dicato chof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jores condiciones de trabajo chof. autobu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rios ba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rnada prolong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hículos mal 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minos mal 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elevada influencia. Afiliación 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: representar intereses de sus miembros en negociaciones colectiv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veer serv. pub. seguro y costo – efi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ta vie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utobuses mal man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Flota; presupuesto ope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: Proveer serv. pub. seguro y costo - efic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cald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ner sist. transp. pub. confiable y bajo cos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ducción co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umento cong. tráns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chos ciudadanos se quejan sist. de trans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apoyo popular; veto sobre Consejo ciuda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: Servir mejores intereses ciudad Palmir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jorar cam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lm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minos mal 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supuesto insufic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umento cong. tráns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: presupuesto an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: construir y mantener camin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rot="16200000">
            <a:off x="-3053520" y="3421080"/>
            <a:ext cx="68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studio Caso “Ciudad Palmira”. Análisis Involuc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l análisis de problemas es una buena herramienta para entender el problem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 realiza mediante el desarrollo de un diagrama conocido como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la 2ª herramienta del ML para diagnosticar la situación ac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alizar la situación actual en el contexto del problema selec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dentificar los problemas principales en torno al problema de desarrollo y sus relaciones de causalidad (causa – efecto)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sualizar las relaciones de causalidad e interrelaciones en un diagrama (Árbol de Problem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837720"/>
            <a:ext cx="8238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Herramientas de Diagnóstico </a:t>
            </a:r>
            <a:r>
              <a:rPr b="0" lang="en-US" sz="34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rebuchet MS"/>
              </a:rPr>
              <a:t>¿Cuál es la contribución del árbo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rebuchet MS"/>
              </a:rPr>
              <a:t>probl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 definición correcta de las relaciones de causalidad de los problemas permite mejorar el diseño de proyectos, porque es el fundamento del “modelo lógico” en el que se basa la M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¿Cómo hacer el análisis de problem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ome el problema central, escríbalo en una tarjeta y péguelo en la parte superior de la superficie de trabajo (pizarrón u ot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Identifique otros problemas, percibidos por los involucrados, que son causas directas del problema central </a:t>
            </a:r>
            <a:r>
              <a:rPr b="0" lang="es-ES" sz="1600" spc="-1" strike="noStrike">
                <a:solidFill>
                  <a:srgbClr val="000099"/>
                </a:solidFill>
                <a:latin typeface="Trebuchet MS"/>
              </a:rPr>
              <a:t>(el problema central se convierte en efecto de esas caus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iga colocando otros problemas percibidos que son causa del problema central hasta que llegue a las causas que son raí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termine si algunos problemas percibidos por los involucrados son efectos del problema central y colóquelos en la superficie de trabajo que está por encima del problema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race líneas con flechas que apunten desde cada problema que es una causa al(los) problema(s) que representan efectos y asegúrese que el diagrama tiene sent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83040" y="620640"/>
            <a:ext cx="543996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apacidad permanente producto de EP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31160" y="1341360"/>
            <a:ext cx="77976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2920" y="2133720"/>
            <a:ext cx="12124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re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50120" y="2133720"/>
            <a:ext cx="11836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Postu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vic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1120" y="3645000"/>
            <a:ext cx="207036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Organiz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trabajo d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11040" y="2133720"/>
            <a:ext cx="152352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Sobrecar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manten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29720" y="5324400"/>
            <a:ext cx="539748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Altas exigencias laborales de la vid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4320" y="3429000"/>
            <a:ext cx="201240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Escaso enf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preventivo s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ambiente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872760" y="2158200"/>
            <a:ext cx="371016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ÁRBOL DE PROBLEMAS -</a:t>
            </a: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 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076720" y="5013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16000" y="5013360"/>
            <a:ext cx="21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5013360"/>
            <a:ext cx="1943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16360" y="4581360"/>
            <a:ext cx="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020000" y="4652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916360" y="3068280"/>
            <a:ext cx="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249228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492280"/>
            <a:ext cx="14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258920" y="1989000"/>
            <a:ext cx="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16360" y="1989000"/>
            <a:ext cx="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89000"/>
            <a:ext cx="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8920" y="1989000"/>
            <a:ext cx="302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16360" y="1700280"/>
            <a:ext cx="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16360" y="1196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1197000"/>
            <a:ext cx="21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076720" y="105228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020000" y="1557000"/>
            <a:ext cx="0" cy="1871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720" y="1557360"/>
            <a:ext cx="3743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516720" y="2565000"/>
            <a:ext cx="0" cy="86364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59280" y="2565360"/>
            <a:ext cx="165744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11400" y="2205000"/>
            <a:ext cx="543996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apacidad permanente producto de EP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31160" y="2781360"/>
            <a:ext cx="77976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920" y="3500280"/>
            <a:ext cx="12124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re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26680" y="3429000"/>
            <a:ext cx="152352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Sobrecar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manten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0480" y="3429000"/>
            <a:ext cx="11836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Postu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vic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56880" y="1268280"/>
            <a:ext cx="187236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Trebuchet MS"/>
              </a:rPr>
              <a:t>Calidad de 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Trebuchet MS"/>
              </a:rPr>
              <a:t>alt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08640" y="1268280"/>
            <a:ext cx="26740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Trebuchet MS"/>
              </a:rPr>
              <a:t>Productividad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Trebuchet MS"/>
              </a:rPr>
              <a:t>alt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2760" y="4653000"/>
            <a:ext cx="207036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Organiz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trabajo d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7000" y="5805360"/>
            <a:ext cx="539748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Altas exigencias laborales de la vid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0320" y="4292640"/>
            <a:ext cx="201240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Escaso enf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preventivo s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ambiente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93600" y="404640"/>
            <a:ext cx="42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ÁRBOL DE PROBLEMAS </a:t>
            </a:r>
            <a:r>
              <a:rPr b="0" lang="en-US" sz="1800" spc="-1" strike="noStrike">
                <a:solidFill>
                  <a:srgbClr val="00cc00"/>
                </a:solidFill>
                <a:latin typeface="Trebuchet MS"/>
              </a:rPr>
              <a:t> 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364000" y="5660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132000" y="5661000"/>
            <a:ext cx="223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0" y="5661000"/>
            <a:ext cx="244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132000" y="558972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12000" y="551628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4508640"/>
            <a:ext cx="3384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332000" y="4149360"/>
            <a:ext cx="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716360" y="4076640"/>
            <a:ext cx="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987640" y="4365360"/>
            <a:ext cx="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3284640"/>
            <a:ext cx="34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2000" y="3284280"/>
            <a:ext cx="0" cy="21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87640" y="3141360"/>
            <a:ext cx="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3284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3284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2708280"/>
            <a:ext cx="194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2708280"/>
            <a:ext cx="0" cy="73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932360" y="2565000"/>
            <a:ext cx="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2060640"/>
            <a:ext cx="576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547640" y="191592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08720" y="191592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2360" y="206028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84360" y="79632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larando 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rebuchet MS"/>
              </a:rPr>
              <a:t>Proyecto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de actividades concretas, interrelacionadas y coordinadas entre sí, que se realizan con el fin de producir determinados bienes y servicios capaces de satisfacer necesidades o resolver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nte del programa, de extensión más restringida y abarcando menos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 realización es a corto plazo y es menos permanente que el progr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a y proyecto NO son independiente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ando la acción a realizar es compleja, se plantea un programa con varios proyectos; si es sencilla, un único proyecto la puede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jercicio Nº 4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Estudio de Caso continuo “Proyecto Ciudad Palmir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684360" y="333360"/>
          <a:ext cx="78483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84836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pa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rebuchet MS"/>
              </a:rPr>
              <a:t>Seleccione VERDADERO o FALSO en relación a la siguiente afi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iante la colocación de los problemas principales de acuerdo con sus relaciones de causa-efecto y sus interrelaciones, el árbol de problemas nos ayuda a establecer el “modelo lógico” en el cual estará basado el proyect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)__ Fal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)__ Verdad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jercicio Nº 5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Desarrollo de árbol de problemas de su Ca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bajo G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40000" y="364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3573360"/>
            <a:ext cx="8012160" cy="38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diagnosticar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especificar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3604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cord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n como punto de partida para la identificación del proyecto, una vez que se ha diagnosticado un problema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 el análisis de objetivos convertimos los problemas que aparecen en el árbol de problemas en objetivos o soluciones a dichos problemas, como parte del paso inicial para especificar la Situación Futura “Deseada”, es decir, para identificar un proyect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scribir una situación que podría existir después de resolver los proble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car las relaciones de tipo medio-fin entre 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sualizar estas relaciones medio-fin en un diagrama (árbol de objetiv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 lugar de tener las relaciones causa-efecto (árbol de problemas), el diagrama resultante, llamado árbol de objetivos, refleja las relaciones medio-f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Pasos a segui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a identificar el Fin tome el problema que aparece en el nivel más alto del árbol de problemas y conviértalo en un objetivo (que es una manera de abordar el problem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pués, trabaje hacia abajo del árbol de problemas, para identificar objetivos para cada problema, que se convierten en medios para abordar el problema cent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5164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61000" y="1916280"/>
            <a:ext cx="15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7636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44960" y="1773360"/>
            <a:ext cx="171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cript MT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128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5480" y="3357720"/>
            <a:ext cx="905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na vez que haya reformulado todas las condiciones negativa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Árbol de Problemas a condiciones positivas (objetivos) que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eseables y factibles en la realidad, complete la revisión del dia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que muestre las relaciones medio-fin en la forma de un árbol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i es necesario Ud.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Reformula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gregar nuevos objetivos (medios) si considera que son pertin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y necesarios para lograr un objetivo (fin) en el nivel inmedi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perior; y eliminar objetivos innecesarios o no re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larando Conceptos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la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ervici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rograma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e infancia y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royecto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realización de un campamento familiar de ver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ctividad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excursión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Tarea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eparar materiales necesarios para la excu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jercicio: relacione cada problema (colum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izquierda) con su objetivo correcta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formulado (columna derech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a) Empleados conducen mal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__ Carga enviada de acuerdo a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hor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b) Presupuesto del Depto. cubre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__ Empleados obedecen regla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ólo 80% de costos.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ráns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) Reducción de la demanda de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__ Situación de financiamiento del Dep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Paltas.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mejo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) Frecuentes demoras de carga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__ Demanda de paltas aum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jercicio Nº 6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Estudio de caso continuo “Proyecto Ciudad Palmir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1763640" y="260280"/>
          <a:ext cx="712944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60280"/>
                    <a:ext cx="71294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72320" y="3075120"/>
            <a:ext cx="86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jercicio Nº 7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rabajo Grup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objetivos de su Ca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álisis de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camos diferentes estrategias (del árbol de objetivos) que, si son ejecutadas, podrían contribuir a promover el cambio de la </a:t>
            </a:r>
            <a:r>
              <a:rPr b="0" lang="en-US" sz="3000" spc="-1" strike="noStrike">
                <a:solidFill>
                  <a:srgbClr val="000099"/>
                </a:solidFill>
                <a:latin typeface="Trebuchet MS"/>
              </a:rPr>
              <a:t>Situación Actual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a la </a:t>
            </a:r>
            <a:r>
              <a:rPr b="0" lang="en-US" sz="3000" spc="-1" strike="noStrike">
                <a:solidFill>
                  <a:srgbClr val="000099"/>
                </a:solidFill>
                <a:latin typeface="Trebuchet MS"/>
              </a:rPr>
              <a:t>Situación Futur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“Deseada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755640" y="380520"/>
            <a:ext cx="816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a vez identificadas las posibles estrategias, a partir del árbol de objetivos, éstas deben ser evaluadas utilizando diferentes herramientas d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decisión sobre qué estrategia adoptar debe tomarse en base 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de los beneficiarios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recursos financiero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resultados de estudios (económicos; financieros; sociales; institucionales; ambien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y mandatos de instituciones financieras pot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55640" y="380520"/>
            <a:ext cx="809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mplo de cuadro para análisis de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059280" y="1628640"/>
          <a:ext cx="5475240" cy="4546800"/>
        </p:xfrm>
        <a:graphic>
          <a:graphicData uri="http://schemas.openxmlformats.org/drawingml/2006/table">
            <a:tbl>
              <a:tblPr/>
              <a:tblGrid>
                <a:gridCol w="1101600"/>
                <a:gridCol w="1614600"/>
                <a:gridCol w="1609560"/>
                <a:gridCol w="114948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iterio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.ej. financi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iterio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.ej.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iterio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.ej.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strate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strate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strate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9280" y="414360"/>
            <a:ext cx="874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jemplo: analizando el caso de ciudad Palmira, apare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3 medios para lograr el efecto principal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 la CPA adecuado/conf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hof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Vehíc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i la entidad ejecutora del proyec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PA sólo se podrán contemplar en la estrategia chof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y vehículos, ya que su mandato no incluye cam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16720" y="184464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rebuchet MS"/>
              </a:rPr>
              <a:t>La Matriz de Marco Lógico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2728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triz de 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 objetivo es darle estructura al proceso de planificación y comunicar la información esencial sobre un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be ser mejorada y modificada más de una vez durante la ejecución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rco Lógico</a:t>
            </a: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484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istema de Marco Lógico (SML) es una de las herramientas principales que utilizan organizaciones internacionales para el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planificació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e proyec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s centraremos en lo que se denomina Matriz de Marco Lógico (MM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7668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triz de 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presenta como una matriz de 4 x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s 4 columnas contienen la siguient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Resumen narrativ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de objetivos y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Indicadores verificables objetivament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metas específicas a ser alcanz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Medios de verificació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donde puede obtenerse la información sobre los indic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rebuchet MS"/>
              </a:rPr>
              <a:t>Supuestos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factores que están fuera del control de la unidad de ejecución del proyecto y de la entidad ejecutora, que implican riesg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62728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triz de 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s 4 filas de la MML contiene información sobre objetivos y actividades, indicadores, medios de verificación y supuestos, en 4 niveles jerárquico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ropósi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omponentes (producto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ctiv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55600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triz de 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00000" y="1916280"/>
          <a:ext cx="7291440" cy="4376520"/>
        </p:xfrm>
        <a:graphic>
          <a:graphicData uri="http://schemas.openxmlformats.org/drawingml/2006/table">
            <a:tbl>
              <a:tblPr/>
              <a:tblGrid>
                <a:gridCol w="1717560"/>
                <a:gridCol w="1243080"/>
                <a:gridCol w="1484280"/>
                <a:gridCol w="1541520"/>
                <a:gridCol w="130500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u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rr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di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r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on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556000" y="1012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triz de 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Fin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mpacto al que contribuirá el proyecto de manera significativa después que éste entre en la fase de op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pósito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fecto directo que se logra después de completar la ejecución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Componentes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roductos que se logran durante la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Actividades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requeridas para producir los componentes (productos) plan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5600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umen Narrativo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do proyecto financiado responde a un problema u obstáculo que ha sido dete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FIN es una expresión de la solución al problema que ha sido diagnost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ejemplo, si el problema en el sector salud es la alta tasa de mortalidad materna e infantil en la población de bajos ingresos, el objetivo a nivel de FIN sería reducir la tasa de mortalidad materna e infantil de dich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grado en que el proyecto CONTRIBUYE a dicho fin determinará, en gran medida, su efe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56000" y="644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umen Nar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deben enfatizar 2 aspectos relacionados co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proyecto por sí solo no será suficiente para lograr el FIN; únicamente refleja la razón por la que se lleva a cabo un proyecto, el cual debe contribuir significativamente al logro del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general, no sería logrado poco después de la ejecución del proyecto. Es un objetivo de mediano a largo plazo al cual contribuirá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484360" y="69012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p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cione las afirmaciones que son VERDADERAS en relación el FIN  de un proyecto. Marque TODAS las que apliq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s suficiente que el proyecto contribuya significativamente al logro del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l FIN debe ser logrado poco después que el proyecto entre en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l FIN es un objetivo de mediano a largo plazo al cual contribuye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l FIN expresa el problema que ha sido diagnost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l FIN es una expresión de la solución al problema que ha sido diagnost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__ El proyecto, por sí solo, será suficiente para lograr el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484360" y="94104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umen Narrativo.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Propó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el efecto directo que se espera  a partir del periodo de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presenta el cambio que fomentará el proy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propósito es una hipótesis sobre el efecto directo que debe resultar de la producción y utilización de los componentes (productos) y se expresa como resul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título del proyecto debe derivarse de lo expresado en el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5600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umen Narrativo.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Propó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SML requiere que todo proyecto tenga un solo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razón para ello es la cla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ando existe más de un propósito pueden usarse distintos criterios de selección: importancia; fácil logro; menos costo;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mplo: propósitos bien y mal formu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jercicio: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Trebuchet MS"/>
              </a:rPr>
              <a:t>Propósitos bien y mal formu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ñale qué propósitos están formulados correct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68360" y="2060640"/>
          <a:ext cx="8229600" cy="4065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yecto de educ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lidad de la educación primaria mejor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raestructura mejorada y expand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fesores capacitados y certif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yecto de salu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entros de salud funcionan autónomam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ficiencia de los servicios de salud mejor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istema de Marco Lógico - SML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Qué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“una manera de estructurar los principales elementos de un proyecto, subrayando los lazos lógicos entre insumos previstos, las actividades planeadas y los resultados esperad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actualmente el sistema más utilizado para el diseño, ejecución, seguimiento del desempeño y evaluación de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0000" y="404280"/>
            <a:ext cx="795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umen Narrativo.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5280" y="1052640"/>
            <a:ext cx="82296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n los resultados específicos: obras, estudios, servicios, capacitación – que deben ser producidos por el ejecutor con el presupuesto asig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n los productos que financia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da uno de los componentes (productos) debe ser necesario para alcanzar el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razonable plantear que si todos los componentes son producidos de la manera planeada, se logrará el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ben ser redactados claramente y como resultados o productos finales Por ejemplo: escuelas o carreteras termin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4360" y="867960"/>
            <a:ext cx="823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umen Narrativo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quellas que la gerencia o administración del proyecto deben asegurar que se lleven a cabo para producir cada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importante tener una lista detallada de actividades, porque es el punto de partida para la preparación de un plan de ejecución (calendario del proyec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coloca cada actividad necesaria para producir un componente en orden cronológico y se estima el tiempo y los recursos requeridos para realiz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lo tanto, en la MML la ejecución está directamente vinculada la diseño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95280" y="308880"/>
            <a:ext cx="852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lógica de un proyecto: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una serie de hipótesis vincul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empieza de la parte inferior de la columna del resumen narrativo, si llevamos a cabo las actividades produciremos los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inuando hacia arriba, si producimos los componentes deberíamos lograr el propós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 logramos el propósito deberíamos hacer una contribución significativa al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440000" y="765000"/>
            <a:ext cx="770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lgunos ejemplos de hipótesis vincul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71640" y="2060640"/>
          <a:ext cx="7848360" cy="3983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Tasas de morbilidad y mortalidad reduci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Unidad de salud satisface necesidades de la población loc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Destrezas del personal de salud mejor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eñar cursos de capacitación para personal de sal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823680" y="1341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jempl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440000" y="765000"/>
            <a:ext cx="770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lgunos ejemplos de hipótesis vincul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971640" y="2060640"/>
          <a:ext cx="7848360" cy="37288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Nivel de vida en el área rural mejor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Ingreso per cápita de pequeños agricultores increment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Producción de trigo incrementa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tribuir semill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823680" y="1341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jempl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55640" y="256680"/>
            <a:ext cx="7951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Ahora prueben Uds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iquen las relaciones medio – fin  de las siguientes afirmaciones, marcándolas de 1 a 4 empezando con el primer med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4360" y="2421000"/>
          <a:ext cx="8229600" cy="2974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  Sistemas de purificación de agua en operació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 Seleccionar los sitios para sistemas de purificación de agu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 Enfermedades debidas  a impurezas en el a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ducidas en la región su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 Poblados en la región sur abastecidos de agua potabl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24000" y="380520"/>
            <a:ext cx="867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ndicadores Verificables Objetivamente (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puede definir un indicado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 especificación cualitativa o cuantitativa que utilizamos para medir el logro de un objetivo. Dicha especificación ha sido aceptada colectivamente por los involucrados como adecuada para medir el logro de los objetivos del proyec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55600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s dan las bases para el seguimiento del desempeño y la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pecifican de manera precisa cada objetivo a nivel de componentes, propósito y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estran cómo puede ser medido el éxito de un proy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da indicador incluye la meta que nos permite medir si el objetivo ha sido alcan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484360" y="86796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CT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ntidad: ¿cuá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lidad: ¿de qué ti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empo: ¿para 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+ También podría ser necesario especificar grupo social o grupo objetivo de la población, así como lugar o loc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5600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n buen indicador debe tener 4 atributos críticos. Los indicadores deben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Prácticos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medir lo que es importante; tener el número mínimo de indicadores necesarios para medir cada objetivo; la meta es realizable: los medios para medir cada objetivo son eficientes en función del costo; el indicador no se refiere a algo que no ocurri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Independientes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no puede haber una relación causa – efecto entre indicador y objetivo correspondiente Por ej. el Nº de consultores contratados para completar un componente nunca sería un indicador para ese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Focalizados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específico y medible. Significa que debe especificar el grupo objetivo, así como la cantidad, la calidad, el tiempo y el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Verificables objetivamente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relacionado con la columna de medios de verificación en donde se indican fuentes acordadas de información que pueden ser examinadas objetivamente para verificar si se ha alcanzado un objetiv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M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l SML fue desarrollado por la Agencia para el Desarrollo Internacional de Estados Unidos (USAID)  a fines de los años 60 y principios de los 70 y luego a principio de los años 80 en Alem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Ofrece herramientas para 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guimiento de desempeñ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e un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11280" y="380520"/>
            <a:ext cx="831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so simulado: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Formulación de un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Trebuchet MS"/>
              </a:rPr>
              <a:t>Objetivo: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“los pequeños agricultores mejoran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ndimiento de arroz” (Nivel Propósi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rebuchet MS"/>
              </a:rPr>
              <a:t>Paso 1:</a:t>
            </a:r>
            <a:r>
              <a:rPr b="0" lang="es-E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blecer </a:t>
            </a:r>
            <a:r>
              <a:rPr b="0" lang="es-ES" sz="2800" spc="-1" strike="noStrike">
                <a:solidFill>
                  <a:srgbClr val="000099"/>
                </a:solidFill>
                <a:latin typeface="Trebuchet MS"/>
              </a:rPr>
              <a:t>metas Cuantit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pecificar Nº de pequeños agricultores: 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pecificar qué significa “pequeños agricultores”: tienen 2 hectáreas o 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pecificar en cuánto mejorarán el rendimiento de arroz: en 40% ( y Nºs absolutos, de x a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39640" y="380520"/>
            <a:ext cx="831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so simulado: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Formulación de un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55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aso 2:</a:t>
            </a:r>
            <a:r>
              <a:rPr b="0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pecificar</a:t>
            </a:r>
            <a:r>
              <a:rPr b="0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este caso se define calidad como el peso promedio del grano de arroz, utilizando como año bas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aso 2:</a:t>
            </a:r>
            <a:r>
              <a:rPr b="0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pecificar</a:t>
            </a:r>
            <a:r>
              <a:rPr b="0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Tiempo y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re noviembre de 2003 y noviembre de 2006 en la provincia de Esmer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68360" y="1012320"/>
            <a:ext cx="8454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so simulado: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Formulación de un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ntando lo anterior ten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000 pequeños agricultores (2 hectáreas o menos) en la provincia de Esmeralda aumentan los rendimientos de arroz en un 40% (de x a y) entre noviembre de 2003 y noviembre de 2006, manteniendo la misma calidad (peso promedio del grano) de la cosecha de 2002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emás , en cuadro adjunto deben especificarse metas intermedias (trimestrales, semestrales, anu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627280" y="941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Formulación de un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 importante incluir al menos un indicador cualitativo en un proyecto, especialmente opiniones de los beneficiarios con respecto al desempeño del proyec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ende a formar sentido de pertenencia por parte de los beneficiarios y acerca  a ejecutores y “client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55600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p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ique para cada término que se encuentra 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zquierda, su explicación correspondiente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á a la derecha, uniendo las letra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áctic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) Medir lo que es important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 el Nº min. de indi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ependient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) La información sobre el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ortamiento del indicador está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ponibl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calizado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) No hay relación causa- efecto entr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icador y objetivo correspond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ificabl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) Especificar el grupo objetivo, así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bjetivament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, calidad, tiempo y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627280" y="79632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edios de Ver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entes de datos donde la entidad ejecutora o evaluador puede obtener información sobre la situación, comportamiento o desempeño de cada Indicador durante la ejecu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lo requiere que los que diseñan proyectos identifiquen fuentes de información o que hagan arreglos especiales para recoger la información, posiblemente como actividad del proyecto, con su costo correspon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62728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refiere a cómo podemos manejar los ries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todo proyecto existen riesgos: ambientales, institucionales, sociales, políticos u otros factores que podrían llevar a que el proyecto fra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MML requiere que se identifiquen los riesgos en cada fase: Actividades, Componentes, Propósito y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riesgo se expresa como un supuesto que debe ocurrir, es decir, como un objetivo, para poder proceder al nivel siguiente de la jerarquía de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 nivel de Fin los riesgos tienen que ver con sosteni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556000" y="766080"/>
            <a:ext cx="6367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upuestos. </a:t>
            </a:r>
            <a:r>
              <a:rPr b="0" i="1" lang="en-US" sz="2800" spc="-1" strike="noStrike">
                <a:solidFill>
                  <a:srgbClr val="000099"/>
                </a:solidFill>
                <a:latin typeface="Trebuchet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ongamos que nuestro objetivo es llegar al trabaj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cro, en 30 minutos o menos. En un día cualquiera é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ede ser una meta razonable. Sin embargo, hay v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esgos asociados al logro de este 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micro pasa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micro no queda en p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caminos no están bloqueados debido a un accidente o reparaciones en la r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484360" y="941040"/>
            <a:ext cx="636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uestos </a:t>
            </a:r>
            <a:r>
              <a:rPr b="0" i="1" lang="en-US" sz="2800" spc="-1" strike="noStrike">
                <a:solidFill>
                  <a:srgbClr val="000099"/>
                </a:solidFill>
                <a:latin typeface="Trebuchet MS"/>
              </a:rPr>
              <a:t>Concepto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y 3 conceptos claves relacionados con los Supue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pecifique bien los supuestos (riesgos) que son demasiado 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ejemplo: existe apoyo político para la estrategia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e supuesto es muy vago y general para ser útil en la ejecu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ueva redacción: la Asamblea Legislativa aprueba anualmente los recursos que requiere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627280" y="941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uestos </a:t>
            </a:r>
            <a:r>
              <a:rPr b="0" i="1" lang="en-US" sz="2800" spc="-1" strike="noStrike">
                <a:solidFill>
                  <a:srgbClr val="000099"/>
                </a:solidFill>
                <a:latin typeface="Trebuchet MS"/>
              </a:rPr>
              <a:t>Concepto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 Analice la probabilidad de ocurrencia de 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pu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. Administre y ejerza influencia en los supuestos durante el diseño y la ejecución del proyecto, para aumentar la probabilidad de que ocur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M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 parte de los proyectos carecían de la precisión requerida, incorporando múltiples objetivos no directamente relacionados entre sí, ni con la finalidad última que había dado origen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proyectos no estaban siendo ejecutados exitosamente y no quedaba claro el alcance del organismo ejecutor de dich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había una idea clara de cómo determinar si un proyecto había sido exitoso y tampoco había una base objetiva para comparar lo planeado con lo ej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56000" y="941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Supuestos o riesgos del proyecto tiene una característica muy importante en común: se definen como que están fuera del control directo de la gerencia o de la entidad ejecutora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 convencional en el SML es expresar los supuestos como objetivos, es decir, condiciones que deben ocur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muchos casos la gerencia puede llevar a cabo actividades que aumenten la probabilidad de que un Supuesto ocu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556000" y="86796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equipo de diseño del proyecto se pregunta qué podría fallar en cada nivel. Por ejemplo, a nivel de actividades puede que no lleguen los recursos en el tiempo especificado; puede que cambien las prioridades; etc. No se trata de considerar todas las posibilidades, sino aquellas que razonablemente pueden ocur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columna de supuestos juega un papel muy importante, tanto en el diseño como la ejecución. En el diseño ayuda  a identificar riesgos que pueden ser evitados o mitigados mediante la inclusión de actividades adicionales y hasta componentes en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627280" y="941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uestos </a:t>
            </a:r>
            <a:r>
              <a:rPr b="0" i="1" lang="en-US" sz="2800" spc="-1" strike="noStrike">
                <a:solidFill>
                  <a:srgbClr val="000099"/>
                </a:solidFill>
                <a:latin typeface="Trebuchet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 proyecto de prevención de enfermedades profesionales en una empresa X, el supuesto podría ser que la gerencia esté dispuesta a implementar un programa de educación para los trabajadores. Dado que la voluntad de la gerencia es fundamental para el éxito del proyecto, no puede dejarse al a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equipo de diseño debe incluir en el proyecto actividades y componentes que aseguren que la Gerencia de la empresa X implemente un programa de educación para los trabaj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gunas actividades o componentes podrían ser: sistema de incentivos para empresas que incorporen programas de educación y preven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56000" y="725040"/>
            <a:ext cx="6367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uestos </a:t>
            </a:r>
            <a:r>
              <a:rPr b="0" i="1" lang="en-US" sz="3200" spc="-1" strike="noStrike">
                <a:solidFill>
                  <a:srgbClr val="000099"/>
                </a:solidFill>
                <a:latin typeface="Trebuchet MS"/>
              </a:rPr>
              <a:t>(riesg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3800" y="494172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se realiz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080" y="38606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se produ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66880" y="1700280"/>
            <a:ext cx="1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 contribuy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 logr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640" y="49417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13040" y="3860640"/>
            <a:ext cx="207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 produ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17800" y="278136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 lo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13680" y="49417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 se cumplen 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314840" y="49417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13680" y="278136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 se cumplen 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59560" y="37893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59560" y="27813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10520" y="2781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se lo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55480" y="170028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11280" y="51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77080" y="51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11280" y="40766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08720" y="4869000"/>
            <a:ext cx="1584360" cy="5760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80360" y="3716280"/>
            <a:ext cx="1584360" cy="57636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4427640" y="4365360"/>
            <a:ext cx="29527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58040" y="386064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 se cumplen 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20000" y="40766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20000" y="299736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80360" y="2708280"/>
            <a:ext cx="1584360" cy="57636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56000" y="299736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140360" y="3357720"/>
            <a:ext cx="3240000" cy="57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1640" y="191628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771280" y="1915920"/>
            <a:ext cx="4681800" cy="93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6000" y="6427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/ETOUCh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8:28:20Z</dcterms:created>
  <dc:creator>mele</dc:creator>
  <dc:description/>
  <dc:language>en-US</dc:language>
  <cp:lastModifiedBy>Maria Elena Riveros Espiñeir</cp:lastModifiedBy>
  <dcterms:modified xsi:type="dcterms:W3CDTF">2008-07-03T17:10:49Z</dcterms:modified>
  <cp:revision>59</cp:revision>
  <dc:subject/>
  <dc:title>Diapositiva 1</dc:title>
</cp:coreProperties>
</file>