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FBE-4583-4509-8564-5228639F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23B-003F-4EAC-AA70-3FB818A8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1A9-B96E-4D2F-A8A1-C9118D65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639-EB98-419A-8DEF-B5BBEF79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1356-FBD3-4108-A683-556C1C4B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BEAF-FA13-4158-8BB3-8764A375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1225-91F5-428F-AB12-B4FD6A31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13A6-C941-49F0-A591-91E02CAA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5C8A-7B52-4FBD-9AA9-9FAB9BBD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849B-BFA2-40A4-B0C5-EF7C2E3C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098C-4718-45E9-9396-D6143E8F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E7E-20A7-44CD-AFA6-4A5B583D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D68F-CBD6-478D-B5CF-485F117C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BA63-BC0D-4398-A7A9-210C6FC9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BE22-7057-482C-81B2-0C21D411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3809-6FA1-44D8-9B1A-A607F5C6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B75C-5F9A-4635-8D5A-BB0120DE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4F6-D6D9-44B1-9021-A9533354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53D-DA59-4712-87A5-3A37E7CC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D48-305D-4310-B42A-F93A8F11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5FD-4999-42C8-959E-E960CDAB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163-0A76-4B43-B78B-B65CB1E0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2AF-DE95-4C75-A3DF-4A235F47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8F7-E2E0-43FA-A084-792C3359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9E4D-40C5-4248-80B9-9D296401453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D968-5275-4F6C-8CB2-E21592B7BD6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rebuchet MS"/>
              </a:rPr>
              <a:t>Sistematización</a:t>
            </a:r>
            <a:br>
              <a:rPr sz="4400"/>
            </a:br>
            <a:r>
              <a:rPr b="1" i="1" lang="en-US" sz="3600" spc="-1" strike="noStrike">
                <a:solidFill>
                  <a:srgbClr val="006666"/>
                </a:solidFill>
                <a:latin typeface="Trebuchet MS"/>
              </a:rPr>
              <a:t>en el trabajo comunitario</a:t>
            </a:r>
            <a:endParaRPr b="1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rebuchet MS"/>
              </a:rPr>
              <a:t>Mª Elena Rivero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¿Qué sistematizamos?</a:t>
            </a:r>
            <a:br>
              <a:rPr sz="2800"/>
            </a:br>
            <a:r>
              <a:rPr b="0" i="1" lang="en-US" sz="2800" spc="-1" strike="noStrike">
                <a:solidFill>
                  <a:srgbClr val="006666"/>
                </a:solidFill>
                <a:latin typeface="Trebuchet MS"/>
              </a:rPr>
              <a:t>(nuestro objeto de sistematización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La globalidad de un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Uno o más aspectos de un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La respuesta a una pregunta inicial o a una hipótesis de la intervenció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¿Qué sistematizamos?</a:t>
            </a:r>
            <a:br>
              <a:rPr sz="2800"/>
            </a:br>
            <a:r>
              <a:rPr b="0" i="1" lang="en-US" sz="2800" spc="-1" strike="noStrike">
                <a:solidFill>
                  <a:srgbClr val="006666"/>
                </a:solidFill>
                <a:latin typeface="Trebuchet MS"/>
              </a:rPr>
              <a:t>(nuestro objeto de sistematización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rebuchet MS"/>
              </a:rPr>
              <a:t>Contexto:</a:t>
            </a: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 ¿cuándo y en qué condiciones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rebuchet MS"/>
              </a:rPr>
              <a:t>Marco conceptual:</a:t>
            </a: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 conjunto mínimo de conceptos que plantean el enfoque de trabajo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rebuchet MS"/>
              </a:rPr>
              <a:t>Propósito:</a:t>
            </a: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 ¿por qué?; ¿para quiénes?; ¿dónde?; ¿para qué vamos a intervenir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rebuchet MS"/>
              </a:rPr>
              <a:t>Metodología:</a:t>
            </a: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 ¿cómo lo hicimos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3200" spc="-1" strike="noStrike">
                <a:solidFill>
                  <a:srgbClr val="ff0066"/>
                </a:solidFill>
                <a:latin typeface="Trebuchet MS"/>
              </a:rPr>
              <a:t>¿Qué sistematizamos?</a:t>
            </a:r>
            <a:br>
              <a:rPr sz="3200"/>
            </a:br>
            <a:r>
              <a:rPr b="0" i="1" lang="en-US" sz="3200" spc="-1" strike="noStrike">
                <a:solidFill>
                  <a:srgbClr val="006666"/>
                </a:solidFill>
                <a:latin typeface="Trebuchet MS"/>
              </a:rPr>
              <a:t>(nuestro objeto de sistematización)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Actividades:</a:t>
            </a:r>
            <a:r>
              <a:rPr b="0" lang="en-US" sz="3200" spc="-1" strike="noStrike">
                <a:solidFill>
                  <a:srgbClr val="006699"/>
                </a:solidFill>
                <a:latin typeface="Trebuchet MS"/>
              </a:rPr>
              <a:t> planificadas y ejecutada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Tiempo:</a:t>
            </a:r>
            <a:r>
              <a:rPr b="0" lang="en-US" sz="3200" spc="-1" strike="noStrike">
                <a:solidFill>
                  <a:srgbClr val="006699"/>
                </a:solidFill>
                <a:latin typeface="Trebuchet MS"/>
              </a:rPr>
              <a:t> planificado y real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Evaluación y monitoreo:</a:t>
            </a:r>
            <a:r>
              <a:rPr b="0" lang="en-US" sz="3200" spc="-1" strike="noStrike">
                <a:solidFill>
                  <a:srgbClr val="006699"/>
                </a:solidFill>
                <a:latin typeface="Trebuchet MS"/>
              </a:rPr>
              <a:t> lo que ayuda a responder a la pregunta de cuánto se ha logrado alcanzar de lo propuesto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¿Qué se requiere para sistematizar?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rebuchet MS"/>
              </a:rPr>
              <a:t>Un cierto tramo del camino recorrido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rebuchet MS"/>
              </a:rPr>
              <a:t>Acumulación de inquietudes e intereses por profundizar y un ambiente que lo favorezca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rebuchet MS"/>
              </a:rPr>
              <a:t>Un diagnóstico o cierta precisión, profundización, acerca del problema en el que se interviene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rebuchet MS"/>
              </a:rPr>
              <a:t>Objetivos claro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rebuchet MS"/>
              </a:rPr>
              <a:t>Una metodología definida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rebuchet MS"/>
              </a:rPr>
              <a:t>Algunos resultados preliminare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rebuchet MS"/>
              </a:rPr>
              <a:t>Un registro de lo realizado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los 3 momentos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1557360"/>
            <a:ext cx="247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Punto de Partid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35280" y="2276640"/>
            <a:ext cx="2479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Webdings"/>
                <a:ea typeface="Webdings"/>
              </a:rPr>
              <a:t>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Dónde Estamo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(camino recorrido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4076640"/>
            <a:ext cx="24796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Webdings"/>
                <a:ea typeface="Webdings"/>
              </a:rPr>
              <a:t>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Las Leccion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Aprendida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los 3 momentos</a:t>
            </a:r>
            <a:br>
              <a:rPr sz="2800"/>
            </a:br>
            <a:r>
              <a:rPr b="0" i="1" lang="en-US" sz="2800" spc="-1" strike="noStrike">
                <a:solidFill>
                  <a:srgbClr val="006666"/>
                </a:solidFill>
                <a:latin typeface="Trebuchet MS"/>
              </a:rPr>
              <a:t>(lo que se analiza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rebuchet MS"/>
              </a:rPr>
              <a:t>Primer momento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Condiciones inicial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Cambios propuesto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Forma en que se lograrán dichos cambio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62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los 3 momentos</a:t>
            </a:r>
            <a:br>
              <a:rPr sz="2800"/>
            </a:br>
            <a:r>
              <a:rPr b="0" i="1" lang="en-US" sz="2800" spc="-1" strike="noStrike">
                <a:solidFill>
                  <a:srgbClr val="006666"/>
                </a:solidFill>
                <a:latin typeface="Trebuchet MS"/>
              </a:rPr>
              <a:t>(lo que se analiza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rebuchet MS"/>
              </a:rPr>
              <a:t>Segundo momento: </a:t>
            </a:r>
            <a:r>
              <a:rPr b="0" lang="en-US" sz="3200" spc="-1" strike="noStrike">
                <a:solidFill>
                  <a:srgbClr val="ff0066"/>
                </a:solidFill>
                <a:latin typeface="Webdings"/>
                <a:ea typeface="Webdings"/>
              </a:rPr>
              <a:t>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Las actividades realizada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Las condiciones para su realizació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Verificación de cambio de las condicion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Problemas enfrentado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Lecciones aprendida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los 3 momentos</a:t>
            </a:r>
            <a:br>
              <a:rPr sz="2800"/>
            </a:br>
            <a:r>
              <a:rPr b="0" i="1" lang="en-US" sz="2800" spc="-1" strike="noStrike">
                <a:solidFill>
                  <a:srgbClr val="006666"/>
                </a:solidFill>
                <a:latin typeface="Trebuchet MS"/>
              </a:rPr>
              <a:t>(lo que se analiza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rebuchet MS"/>
              </a:rPr>
              <a:t>Segundo momento: </a:t>
            </a:r>
            <a:r>
              <a:rPr b="0" lang="en-US" sz="2800" spc="-1" strike="noStrike">
                <a:solidFill>
                  <a:srgbClr val="ff0066"/>
                </a:solidFill>
                <a:latin typeface="Webdings"/>
                <a:ea typeface="Webdings"/>
              </a:rPr>
              <a:t>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El camino recorrido por la experienci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Se señalan los hitos y hechos más importantes que se dier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Se describen estos hitos y hecho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Se describe el contexto en el que se dieron (coyuntura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Se describen personas e instituciones involucrada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Se describe la capacidad de reaccionar ante los hecho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Se identifican nuevas actividades ejecutadas y se hace una representación gráfica de ésta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400" spc="-1" strike="noStrike">
                <a:solidFill>
                  <a:srgbClr val="ff0066"/>
                </a:solidFill>
                <a:latin typeface="Trebuchet MS"/>
              </a:rPr>
              <a:t>los 3 momentos</a:t>
            </a:r>
            <a:br>
              <a:rPr sz="2400"/>
            </a:br>
            <a:r>
              <a:rPr b="0" i="1" lang="en-US" sz="2400" spc="-1" strike="noStrike">
                <a:solidFill>
                  <a:srgbClr val="006666"/>
                </a:solidFill>
                <a:latin typeface="Trebuchet MS"/>
              </a:rPr>
              <a:t>(lo que se analiza)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rebuchet MS"/>
              </a:rPr>
              <a:t>Tercer momento: </a:t>
            </a:r>
            <a:r>
              <a:rPr b="0" lang="en-US" sz="3200" spc="-1" strike="noStrike">
                <a:solidFill>
                  <a:srgbClr val="ff0066"/>
                </a:solidFill>
                <a:latin typeface="Webdings"/>
                <a:ea typeface="Webdings"/>
              </a:rPr>
              <a:t>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Coherencia entre las actividades realiza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Contradicciones encontra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Correspondencia entre acciones iniciales y acciones realiza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Pertinencia y eficacia de los contenidos y métodos aplicado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¿Cómo se construye?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Se describe la experiencia en forma glob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Se distinguen los componentes de la experiencia y su interacción (mapa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Cada componente es un campo de informació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Se recuperan dudas, inquietudes, interrogantes y reflexiones relativas a los componentes o a la globalidad a las que nos interesa dar respuest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¿Qué es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Es construir nuevo conocimiento a partir de la recuperación de un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Es hacer una reflexión teniendo como punto de partida la propia práctic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Es realizar un análisis organizado de la propi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Es comunicar o dar cuenta lo realizad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¿Cómo se construye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Se confronta la realidad con el marco conceptual escogid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Se considera la experiencia como una pregunta a la que se irá dando respuesta con el desarrollo de la experiencia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Se trata de una guía con pasos a seguir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¿Cómo se construye?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No existe una sola manera o método para sistematizar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La ETOUCh ha adoptado una metodologí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Estructura sugerid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Formal: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Tapa e Índic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Introducción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(breve reseña de la experiencia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Antecedentes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de la experiencia (contexto en que se desarrolla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Descripción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de situación problem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Solución propuesta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(descripción de diseño global; incluye marco conceptual o teórico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Objetivos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de la intervenció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Estructura sugerid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Actividade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Carta Gantt o cronograma (cuando se requiera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Resultados – impacto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Análisis de la experiencia (sus resultados, sustentabilidad, logros, obstáculos, facilitadores, etc.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Reflexiones – conclusiones – síntesi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Anexos (información que se considera valiosa o complementaria, pero no imprescindible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3200" spc="-1" strike="noStrike">
                <a:solidFill>
                  <a:srgbClr val="ff0066"/>
                </a:solidFill>
                <a:latin typeface="Trebuchet MS"/>
              </a:rPr>
              <a:t>otra estructura sugerida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El gran resumen de nuestr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Se construye una matriz integradora que conteng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rebuchet MS"/>
              </a:rPr>
              <a:t>Aspectos a sistematizar y los momentos de la mism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rebuchet MS"/>
              </a:rPr>
              <a:t>El futuro: qué deseamos para nuestra experiencia, señalando metas y estrategia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69720" y="289080"/>
            <a:ext cx="8404560" cy="62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Resultado, el documento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l documento puede ser escrito, audiovisual u otr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irigido a un público específic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Brev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atura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ntundent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e fácil lectur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e fácil comprensió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tractivo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¿Qué es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Es una forma de aprender de nuestra experiencia en forma ordenada y metódic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Implica investigar para interpretar los hechos que forman parte de la experiencia que estamos sistematizando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Es un proceso riguroso, basado en el método científico. Usa procedimientos o técnicas propias de la investigación, tales como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4" marL="1913040" indent="-2124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rebuchet MS"/>
              </a:rPr>
              <a:t>Entrevista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4" marL="1913040" indent="-2124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rebuchet MS"/>
              </a:rPr>
              <a:t>Recopilación y ordenamiento de dato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4" marL="1913040" indent="-2124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rebuchet MS"/>
              </a:rPr>
              <a:t>Otro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Articula la descripción, con el análisis de situación y la evaluació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¿Qué es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rebuchet MS"/>
              </a:rPr>
              <a:t>La sistematización es una invitación a aprovechar mejor la riqueza de nuestras experienci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¿Para qué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Para comunicar un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Para tomar conciencia de lo realizad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Para comprender mejor los factores involucrados en una experiencia (sociales, económicos, políticos, otros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Para mejorar la propia práctic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¿Para qué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Para evitar que una experiencia se pierd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Como “antídoto” frente al “activismo”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Con el fin de ser un aporte a experiencias similare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Para producir conocimiento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Para dar un marco a futuras acciones que sean sustentables en el tiempo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¿Para qué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Para responder a interrogantes sobre el grado de efectividad de las acciones ejecuta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En momentos claves, ayuda a identificar dificultades y aprovechar las ventaj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Favorece la comprensión de los fundamentos implícitos y explícitos que guían l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Dos aproximacione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rebuchet MS"/>
              </a:rPr>
              <a:t>Oscar Jar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Tener una comprensión más profunda de lo que se hac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Compartir con otros prácticas similares y enseñanzas obteni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Aportar a la reflexión teórica aquellos conocimientos derivados de las experiencias vivi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n-US" sz="2800" spc="-1" strike="noStrike">
                <a:solidFill>
                  <a:srgbClr val="ff0066"/>
                </a:solidFill>
                <a:latin typeface="Trebuchet MS"/>
              </a:rPr>
              <a:t>Dos aproximacione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Trebuchet MS"/>
              </a:rPr>
              <a:t>Carlos Brene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Importancia de valorar y colaborar en el crecimiento de la autoestima de las personas protagonistas de la experiencia vivida, que muchas veces no es visibl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Importancia de cultivar y reforzar las propias capacidades de las personas protagonistas para la acción - reflexión que conduce a la transformació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18:55:57Z</dcterms:created>
  <dc:creator>mele</dc:creator>
  <dc:description/>
  <dc:language>en-US</dc:language>
  <cp:lastModifiedBy>mele</cp:lastModifiedBy>
  <dcterms:modified xsi:type="dcterms:W3CDTF">2006-05-17T15:16:30Z</dcterms:modified>
  <cp:revision>26</cp:revision>
  <dc:subject/>
  <dc:title>Sistematización</dc:title>
</cp:coreProperties>
</file>