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6F2-9A6F-402D-99D7-B6821D06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76F-EC8F-4530-87BC-086B87B1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8EE-9665-40F3-BA21-415EF5FC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B72-1AB9-47E6-AACA-9458444E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F27C-7E58-4880-8698-42AF1238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2D24-DBEF-442D-89C7-ADBA8E7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C4F5-2557-4F3B-9F3C-57D86668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F2AA-E5BA-4382-97C8-8ACF506B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11C2-D04A-4B01-B29F-032E8115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57C5-54F4-44F9-96D3-007F4919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CC8C-F021-41F4-86AC-94FDD8AD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52A-DA0F-4AAD-B35B-52AE462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CCB7-337F-4370-8222-4863F20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E06E-6F35-4501-87D5-9EA1BDDB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7E0-21B6-4860-91C5-E1C6CF1C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C8F2-B23A-4A88-A307-BC896B14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5035-94CB-4DB8-9284-9CFAAC12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DAE-A225-43FE-B465-5D07D944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819-8325-4983-9367-F02495F7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040-F207-4A26-8BB2-294EF9A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C02-B04A-42E2-8355-BD9AFC2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613-85B1-4766-A112-367DF40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B64-FDED-470C-81B0-B3DC33F9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9B9-5770-4B38-87C5-EC43C94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506B-AAD9-420B-85D8-F1811D10904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046C-516E-4387-AB05-E513E231C7D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Diagnóstico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Participativo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2296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Modelos de Intervención y Práctica Comunitar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rebuchet MS"/>
              </a:rPr>
              <a:t>Mª Elena Riveros 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Como proceso educativo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Paso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Identificar el problema central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nocer a fondo el problem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Formular una solución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municar los resultados a la comunidad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lang="en-US" sz="2800" spc="-1" strike="noStrike">
                <a:solidFill>
                  <a:srgbClr val="cc99ff"/>
                </a:solidFill>
                <a:latin typeface="Trebuchet MS"/>
              </a:rPr>
              <a:t>Identificar el problema central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Discusión: acordar problema central a diagnostica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nfrontar ambas visiones y privilegiar acuerdos a través del debat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Métodos para identificar los problemas. Algunas posibilidades son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Lluvia de idea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Espina de pescad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lang="en-US" sz="2800" spc="-1" strike="noStrike">
                <a:solidFill>
                  <a:srgbClr val="cc99ff"/>
                </a:solidFill>
                <a:latin typeface="Trebuchet MS"/>
              </a:rPr>
              <a:t>Identificar el problema central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riterios para seleccionar un problem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Gravedad y urgencia del problem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Cantidad de personas afectada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Grado de disposición de la comunidad a movilizarse para la búsqueda de soluciones al   proble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Otros: costo beneficio y vulnerabilida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lang="en-US" sz="2800" spc="-1" strike="noStrike">
                <a:solidFill>
                  <a:srgbClr val="cc99ff"/>
                </a:solidFill>
                <a:latin typeface="Trebuchet MS"/>
              </a:rPr>
              <a:t>Conocer el problem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nversar para determinar qué sabemos y qué información nos falt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Poner límites al proble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Definiendo lo que necesitamos saber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Marco de análisis: forma preliminar y provisoria de explicar y comprender el proble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Preguntas claves: aspectos básicos a abordar para comprender el problema y buscar solucion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lang="en-US" sz="2800" spc="-1" strike="noStrike">
                <a:solidFill>
                  <a:srgbClr val="cc99ff"/>
                </a:solidFill>
                <a:latin typeface="Trebuchet MS"/>
              </a:rPr>
              <a:t>Conocer el problem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Llegar a un acuerdo acerca de cómo vamos a definir el problema seleccionado, se trata de una definición operacional, que nos servirá para orientar el trabajo hacia lo esencial: </a:t>
            </a:r>
            <a:r>
              <a:rPr b="0" i="1" lang="es-ES" sz="2400" spc="-1" strike="noStrike">
                <a:solidFill>
                  <a:srgbClr val="006699"/>
                </a:solidFill>
                <a:latin typeface="Trebuchet MS"/>
              </a:rPr>
              <a:t>las causas del proble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rebuchet MS"/>
              </a:rPr>
              <a:t>Al definir el problema debemos señalar, como mínimo y en forma sintética los siguientes aspecto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99"/>
                </a:solidFill>
                <a:uFillTx/>
                <a:latin typeface="Trebuchet MS"/>
              </a:rPr>
              <a:t>Qué es </a:t>
            </a: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 el problema, o de qué se trat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99"/>
                </a:solidFill>
                <a:uFillTx/>
                <a:latin typeface="Trebuchet MS"/>
              </a:rPr>
              <a:t>A quién(es) afect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99"/>
                </a:solidFill>
                <a:uFillTx/>
                <a:latin typeface="Trebuchet MS"/>
              </a:rPr>
              <a:t>Cómo afecta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99"/>
                </a:solidFill>
                <a:uFillTx/>
                <a:latin typeface="Trebuchet MS"/>
              </a:rPr>
              <a:t>Por qué ocurre </a:t>
            </a: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(causas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lang="en-US" sz="2800" spc="-1" strike="noStrike">
                <a:solidFill>
                  <a:srgbClr val="cc99ff"/>
                </a:solidFill>
                <a:latin typeface="Trebuchet MS"/>
              </a:rPr>
              <a:t>Formular una solució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lantearse la pregunta </a:t>
            </a:r>
            <a:r>
              <a:rPr b="1" lang="es-ES" sz="2400" spc="-1" strike="noStrike">
                <a:solidFill>
                  <a:srgbClr val="006699"/>
                </a:solidFill>
                <a:latin typeface="Trebuchet MS"/>
              </a:rPr>
              <a:t>¿cómo solucionamos el problema?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Recoger </a:t>
            </a:r>
            <a:r>
              <a:rPr b="1" lang="es-ES" sz="2400" spc="-1" strike="noStrike">
                <a:solidFill>
                  <a:srgbClr val="006699"/>
                </a:solidFill>
                <a:latin typeface="Trebuchet MS"/>
              </a:rPr>
              <a:t>todas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las ideas que salgan, sin rechazar ninguna  a priori. Ej. Lluvia de ide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rebuchet MS"/>
              </a:rPr>
              <a:t>Discutir </a:t>
            </a:r>
            <a:r>
              <a:rPr b="0" lang="es-ES_tradnl" sz="2400" spc="-1" strike="noStrike" u="sng">
                <a:solidFill>
                  <a:srgbClr val="006699"/>
                </a:solidFill>
                <a:uFillTx/>
                <a:latin typeface="Trebuchet MS"/>
              </a:rPr>
              <a:t>todas </a:t>
            </a:r>
            <a:r>
              <a:rPr b="0" lang="es-ES_tradnl" sz="2400" spc="-1" strike="noStrike">
                <a:solidFill>
                  <a:srgbClr val="006699"/>
                </a:solidFill>
                <a:latin typeface="Trebuchet MS"/>
              </a:rPr>
              <a:t>las ideas propuestas, buscar combinaciones, hasta llegar a las alternativas de solución consideradas más apropiad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rebuchet MS"/>
              </a:rPr>
              <a:t>Evaluar las ventajas y desventajas de estas alternativas y escoger la mejor </a:t>
            </a:r>
            <a:r>
              <a:rPr b="1" i="1" lang="es-ES_tradnl" sz="2400" spc="-1" strike="noStrike">
                <a:solidFill>
                  <a:srgbClr val="006699"/>
                </a:solidFill>
                <a:latin typeface="Trebuchet MS"/>
              </a:rPr>
              <a:t>mediante consenso.</a:t>
            </a:r>
            <a:r>
              <a:rPr b="0" lang="es-ES_tradnl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lang="en-US" sz="2800" spc="-1" strike="noStrike">
                <a:solidFill>
                  <a:srgbClr val="cc99ff"/>
                </a:solidFill>
                <a:latin typeface="Trebuchet MS"/>
              </a:rPr>
              <a:t>Comunicar los resultado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Acción que debe realizarse al interior de la comunidad y también fuera de ést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Buenas práctic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br>
              <a:rPr sz="3200"/>
            </a:b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Síntesi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191628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La comunidad participa en todas las etapas del proceso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El equipo de salud en conjunto con la comunidad toman decision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Busca la participación de todos los involucrad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br>
              <a:rPr sz="3200"/>
            </a:b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Síntesi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nstituye un espacio democrático de participación para todos los secto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munidad: no sólo espacio para obtener información. Conoce problemas; formula objetivos; propone métodos y visualiza resultados posibles del diagnóstico y posterior intervenció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br>
              <a:rPr sz="3200"/>
            </a:b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Ejercicio Grup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Caso: Ciudad Palmir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¿Cuál es el problema que afecta a Ciudad Palmira de acuerdo a la perspectiva del involucrado que les toca representar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¿Qué es diagnosticar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RA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erspectiva biomédic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T.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Diagnosticar es investiga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rimera etapa del CT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br>
              <a:rPr sz="3200"/>
            </a:b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Ejercicio Grup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Grupo 1: Pasajer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Grupo 2: No pasajer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Grupo 3: Sindicato de Chofer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Grupo 4: Compañía Pública de Autobus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Grupo 5: Depto. Municipal de Obras Públic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Grupo 6: Alcalde(sa) de Palmir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lang="en-US" sz="2800" spc="-1" strike="noStrike">
                <a:solidFill>
                  <a:srgbClr val="cc99ff"/>
                </a:solidFill>
                <a:latin typeface="Trebuchet MS"/>
              </a:rPr>
              <a:t>¿Por qué es importante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Si no realizamos Diagnóstic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Error en identificación del problem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No comprender relaciones de causalida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Planificar y ejecutar acciones poco efectiv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Las debilidades o errores en el Diagnóstico impactan las otras etapas del TC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Característica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Punto de partida de un problema o necesidad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Primero se requiere entender para poder resolv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Implica 2 actividades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Recogida de dato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rebuchet MS"/>
              </a:rPr>
              <a:t>Reflexió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Va desde el fenómeno a una comprensión más profund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Se basa en teorí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Es parci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Es una actividad permanen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rebuchet MS"/>
              </a:rPr>
              <a:t>Conduce a soluciones práctica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br>
              <a:rPr sz="3200"/>
            </a:b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Aspectos posibles de diagnostica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Aspectos positivos y negativ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Aspectos objetivos y subjetiv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Aspectos cuantitativos y cualitativ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Aspectos locales y regiona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Qué 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Organizaciones participan en todas las etapas (o sus representantes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Las decisiones se toman en conjunto, partiendo de conocimientos y necesidad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Organizaciones deben buscar participación amplia de toda la comunidad en todo el proces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arácter participativo = acceso de comunidad organizada a decisiones central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Comunidad organizada = sujeto de anális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Para qué sirv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Conocer mejor la realidad, problemas y causas, dando relevancia a opinión de los involucrado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Seleccionar áreas de intervención, usando criterios comunes de priorizació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Motivar a la comunidad a buscar soluciones v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Compartir soluciones en los ámbitos público y privad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Quiénes partici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Muchas personas a distintos nivel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Todos los involucrados directa o indirectamente en el problem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rebuchet MS"/>
              </a:rPr>
              <a:t>Es importante determinar, al inicio del diagnóstico, quiénes serán parte del mismo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Diagnóstico Participativo </a:t>
            </a:r>
            <a:r>
              <a:rPr b="0" i="1" lang="en-US" sz="2800" spc="-1" strike="noStrike">
                <a:solidFill>
                  <a:srgbClr val="cc99ff"/>
                </a:solidFill>
                <a:latin typeface="Trebuchet MS"/>
              </a:rPr>
              <a:t>Como proceso educativo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Valiosa experiencia educativa en sí mis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Parte  necesariamente de los conocimientos y experiencias de los participantes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rebuchet MS"/>
              </a:rPr>
              <a:t>Asegurar que todos los participantes tengan la suficiente información acerca de los objetivos, la metodología y los mecanismos de parti­ci­pación de cada uno de los actores involucrado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6:00:13Z</dcterms:created>
  <dc:creator>mele</dc:creator>
  <dc:description/>
  <dc:language>en-US</dc:language>
  <cp:lastModifiedBy>Maria Elena Riveros Espiñeir</cp:lastModifiedBy>
  <dcterms:modified xsi:type="dcterms:W3CDTF">2008-05-22T14:45:06Z</dcterms:modified>
  <cp:revision>16</cp:revision>
  <dc:subject/>
  <dc:title>Diapositiva 1</dc:title>
</cp:coreProperties>
</file>