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4BF11-9584-47F2-932D-D422E7B5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C1A5-69FD-402F-8B8B-2F8AE2C79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903DB-D63B-4190-98C6-746B3CBF5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934FE-7D59-4C7A-8913-ED95ECAB2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FAE83-2537-40EA-B563-B4C370708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8093F-1D7D-4671-92BA-FD4F1F320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3BF71-84D4-4ED4-9151-91634CCC7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2A74E-7C6D-458A-A30B-29373E7BD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33951-FA67-4AA3-B285-52B206936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4CBE1-A4E2-46FD-83B0-6845F78FC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51201-BCB4-4B63-88BE-01144978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62C6D-81D2-49AA-BEF7-6E158BE3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2ED1E-C387-4ABB-87F9-1204D2C1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59EA2-E4EE-4348-AED7-3F2F7D52D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1CFE0-2B59-4EA9-A1F1-FA932E003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15F60-7D98-4DD2-95C1-964D14038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EAB18-4FDB-4435-977F-655F3E095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9F3C-9C1F-4593-A542-F5D63E142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CF3B-B2ED-4BBE-9D81-918A4DA3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0CD5-8B21-4FF0-AA18-B196A884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D763-24FF-4040-BB80-D10E9C97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A369-2284-48B7-9E6D-28B3A2A18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9330-1336-44BD-AEA0-3F2BD5F6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88A7-971D-4EAC-B401-5726BE1B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D2F6-7EB6-4451-89C9-DCB9B5FC133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1743-CB66-4EC7-8889-A0C56E2E0DD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Trebuchet MS"/>
              </a:rPr>
              <a:t>Antecedentes Históricos del</a:t>
            </a:r>
            <a:br>
              <a:rPr sz="3600"/>
            </a:br>
            <a:r>
              <a:rPr b="0" lang="en-US" sz="3600" spc="-1" strike="noStrike">
                <a:solidFill>
                  <a:srgbClr val="336666"/>
                </a:solidFill>
                <a:latin typeface="Trebuchet MS"/>
              </a:rPr>
              <a:t>Trabajo Comunitario en Salud</a:t>
            </a:r>
            <a:endParaRPr b="0" lang="en-US" sz="36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ª Elena Rive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5</a:t>
            </a:r>
            <a:r>
              <a:rPr b="0" lang="en-US" sz="2500" spc="-1" strike="noStrike">
                <a:solidFill>
                  <a:srgbClr val="000000"/>
                </a:solidFill>
                <a:latin typeface="Trebuchet MS"/>
              </a:rPr>
              <a:t>)</a:t>
            </a:r>
            <a:endParaRPr b="0" lang="en-US" sz="2500" spc="-1" strike="noStrike">
              <a:solidFill>
                <a:srgbClr val="336666"/>
              </a:solidFill>
              <a:latin typeface="Arial"/>
            </a:endParaRPr>
          </a:p>
        </p:txBody>
      </p:sp>
      <p:sp>
        <p:nvSpPr>
          <p:cNvPr id="112" name=""/>
          <p:cNvSpPr/>
          <p:nvPr/>
        </p:nvSpPr>
        <p:spPr>
          <a:xfrm>
            <a:off x="838080" y="2057400"/>
            <a:ext cx="390204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Protagonismo; beneficiarios como actores (aprender haciendo), profesional como “facilitador”.</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Ludicidad; importancia del valor metodológico del juego y la recreación en el desarrollo personal y grupal.</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Especificidad de los beneficiarios; cada grupo tiene situaciones de vida específicas, y características que deben ser consideradas.</a:t>
            </a:r>
            <a:endParaRPr b="0" lang="en-US" sz="2000" spc="-1" strike="noStrike">
              <a:solidFill>
                <a:srgbClr val="336666"/>
              </a:solidFill>
              <a:latin typeface="Arial"/>
            </a:endParaRPr>
          </a:p>
        </p:txBody>
      </p:sp>
      <p:pic>
        <p:nvPicPr>
          <p:cNvPr id="113" name="" descr=""/>
          <p:cNvPicPr/>
          <p:nvPr/>
        </p:nvPicPr>
        <p:blipFill>
          <a:blip r:embed="rId1"/>
          <a:stretch/>
        </p:blipFill>
        <p:spPr>
          <a:xfrm>
            <a:off x="4863960" y="2530440"/>
            <a:ext cx="3903840" cy="32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6)</a:t>
            </a:r>
            <a:endParaRPr b="0" lang="en-US" sz="2500" spc="-1" strike="noStrike">
              <a:solidFill>
                <a:srgbClr val="336666"/>
              </a:solidFill>
              <a:latin typeface="Arial"/>
            </a:endParaRPr>
          </a:p>
        </p:txBody>
      </p:sp>
      <p:sp>
        <p:nvSpPr>
          <p:cNvPr id="115" name=""/>
          <p:cNvSpPr/>
          <p:nvPr/>
        </p:nvSpPr>
        <p:spPr>
          <a:xfrm>
            <a:off x="4876920" y="2438280"/>
            <a:ext cx="390348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sociatividad; búsqueda de soluciones y apoyo interactivo y sinérgico entre pare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rticulación con redes; coordinación con organismos públicos y privados evitando dispersión de esfuerzo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6" name="" descr=""/>
          <p:cNvPicPr/>
          <p:nvPr/>
        </p:nvPicPr>
        <p:blipFill>
          <a:blip r:embed="rId1"/>
          <a:stretch/>
        </p:blipFill>
        <p:spPr>
          <a:xfrm>
            <a:off x="809640" y="2981160"/>
            <a:ext cx="3902040" cy="2347920"/>
          </a:xfrm>
          <a:prstGeom prst="rect">
            <a:avLst/>
          </a:prstGeom>
          <a:ln w="76320">
            <a:solidFill>
              <a:srgbClr val="99cccc"/>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18" name=""/>
          <p:cNvSpPr/>
          <p:nvPr/>
        </p:nvSpPr>
        <p:spPr>
          <a:xfrm>
            <a:off x="4876920" y="2590920"/>
            <a:ext cx="390348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ce de las necesidades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 desarrolla en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y transforma las condiciones de acuerdo a la cultura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9" name="" descr=""/>
          <p:cNvPicPr/>
          <p:nvPr/>
        </p:nvPicPr>
        <p:blipFill>
          <a:blip r:embed="rId1"/>
          <a:stretch/>
        </p:blipFill>
        <p:spPr>
          <a:xfrm>
            <a:off x="809640" y="2862360"/>
            <a:ext cx="3902040" cy="2584440"/>
          </a:xfrm>
          <a:prstGeom prst="rect">
            <a:avLst/>
          </a:prstGeom>
          <a:ln w="38160">
            <a:solidFill>
              <a:srgbClr val="0066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1" name=""/>
          <p:cNvSpPr/>
          <p:nvPr/>
        </p:nvSpPr>
        <p:spPr>
          <a:xfrm>
            <a:off x="619560" y="3125880"/>
            <a:ext cx="36900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y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Diagnóstico epidemiológ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Recursos humanos, material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tecnológico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osibles solucione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Saber técnico, científ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Uso de tecnologías</a:t>
            </a:r>
            <a:endParaRPr b="0" lang="en-US" sz="1800" spc="-1" strike="noStrike">
              <a:solidFill>
                <a:srgbClr val="336666"/>
              </a:solidFill>
              <a:latin typeface="Arial"/>
            </a:endParaRPr>
          </a:p>
        </p:txBody>
      </p:sp>
      <p:sp>
        <p:nvSpPr>
          <p:cNvPr id="122" name=""/>
          <p:cNvSpPr/>
          <p:nvPr/>
        </p:nvSpPr>
        <p:spPr>
          <a:xfrm>
            <a:off x="304920" y="2209680"/>
            <a:ext cx="4572000" cy="4267440"/>
          </a:xfrm>
          <a:prstGeom prst="ellipse">
            <a:avLst/>
          </a:prstGeom>
          <a:noFill/>
          <a:ln w="93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3" name=""/>
          <p:cNvSpPr/>
          <p:nvPr/>
        </p:nvSpPr>
        <p:spPr>
          <a:xfrm>
            <a:off x="4267080" y="2133720"/>
            <a:ext cx="4572000" cy="426708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4" name=""/>
          <p:cNvSpPr/>
          <p:nvPr/>
        </p:nvSpPr>
        <p:spPr>
          <a:xfrm>
            <a:off x="4902840" y="3049560"/>
            <a:ext cx="3232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De salud</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riorización de ést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Vivencia de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 experiencia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tencialidade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sibles soluciones propi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Saber popular</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Uso de sus propia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a:t>
            </a:r>
            <a:endParaRPr b="0" lang="en-US" sz="1800" spc="-1" strike="noStrike">
              <a:solidFill>
                <a:srgbClr val="336666"/>
              </a:solidFill>
              <a:latin typeface="Arial"/>
            </a:endParaRPr>
          </a:p>
        </p:txBody>
      </p:sp>
      <p:sp>
        <p:nvSpPr>
          <p:cNvPr id="125" name=""/>
          <p:cNvSpPr/>
          <p:nvPr/>
        </p:nvSpPr>
        <p:spPr>
          <a:xfrm rot="16200000">
            <a:off x="3604680" y="3938760"/>
            <a:ext cx="193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rebuchet MS"/>
              </a:rPr>
              <a:t>CONSENS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Permite:</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Aumento de la eficacia de las intervenciones, al mejorar los canales de comunicación.</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orporación de una ética de la participación en la relación profesional-usuario.</a:t>
            </a:r>
            <a:endParaRPr b="0" lang="en-US" sz="2600" spc="-1" strike="noStrike">
              <a:solidFill>
                <a:srgbClr val="336666"/>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remento de los recursos disponibles para el mejoramiento de los niveles de salud de la población.</a:t>
            </a:r>
            <a:r>
              <a:rPr b="0" lang="es-ES" sz="2600" spc="-1" strike="noStrike">
                <a:solidFill>
                  <a:srgbClr val="000000"/>
                </a:solidFill>
                <a:latin typeface="Trebuchet MS"/>
              </a:rPr>
              <a:t> </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2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alud de la población como nuestra responsabilidad profesion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tilización de recursos comunitarios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habilitación en contextos sociales.</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tención en el hogar.</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ducación para la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apoyos comunitarios en el proceso de rehabilitación-integración de PcD</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3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mpoderamiento de las Pc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en Red Soci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familia como unidad de atención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institucionalización de pacientes psiquiátricos de larga evolución (del Modelos Asilar al Modelo de RBC).</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bogacía en discapacida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justicia social como paradigma de la profesión.</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br>
              <a:rPr sz="2800"/>
            </a:br>
            <a:endParaRPr b="0" lang="en-US" sz="2800" spc="-1" strike="noStrike">
              <a:solidFill>
                <a:srgbClr val="000000"/>
              </a:solidFill>
              <a:latin typeface="Arial"/>
            </a:endParaRPr>
          </a:p>
        </p:txBody>
      </p:sp>
      <p:sp>
        <p:nvSpPr>
          <p:cNvPr id="1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expandir el rol del T.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mplementación de intervenciones basadas en evidencia. Desafío de investig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especialización y generación de nuevas habilidad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oco conocimiento del impacto de la intervención de T.O a nivel comunitari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de T.O a distintos niveles: individual, familiar, comunitario, administrativo; político,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porte desde mirada integral; persona en relación con un contexto.</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mplios horizontes y posibilidades de intervención para la T.O. Nuevas áreas de intervención.</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trabajo complementario, interdisciplinario e intersectorial.</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desarrollar identidad propi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so de herramientas propias de la disciplin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intervención en los contex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ransición del Modelo Biomédico al Modelo Comunitario. Cambio de paradigma.</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ambio en perfil epidemiológico y demográfico de la pobl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linear la práctica de T.O con desafíos emergent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revisar cuerpo de conocimientos de la profes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blecer mecanismos de control y supervisión de nuestro quehac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Antecedentes</a:t>
            </a:r>
            <a:endParaRPr b="0" lang="en-US" sz="3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istoria de experiencias participativa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jos de producir salu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cepto de TC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yer destinatarios, hoy suje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para los pobres</a:t>
            </a:r>
            <a:endParaRPr b="0" lang="en-US" sz="3200" spc="-1" strike="noStrike">
              <a:solidFill>
                <a:srgbClr val="336666"/>
              </a:solidFill>
              <a:latin typeface="Arial"/>
            </a:endParaRPr>
          </a:p>
        </p:txBody>
      </p:sp>
      <p:sp>
        <p:nvSpPr>
          <p:cNvPr id="13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ampliar lo que se denomina “ciudadanía” o participación entre igual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historia; religión; habilidades manuales; escritura y aritmética básic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como Extensión</a:t>
            </a:r>
            <a:endParaRPr b="0" lang="en-US" sz="3200" spc="-1" strike="noStrike">
              <a:solidFill>
                <a:srgbClr val="336666"/>
              </a:solidFill>
              <a:latin typeface="Arial"/>
            </a:endParaRPr>
          </a:p>
        </p:txBody>
      </p:sp>
      <p:sp>
        <p:nvSpPr>
          <p:cNvPr id="14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introducir elementos de modernización sin cambiar las estructur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salud; tecnología.</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71600" y="6094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66"/>
                </a:solidFill>
                <a:latin typeface="Trebuchet MS"/>
              </a:rPr>
              <a:t>Evolución TC: Crítica  a la </a:t>
            </a:r>
            <a:r>
              <a:rPr b="0" i="1" lang="es-ES" sz="3200" spc="-1" strike="noStrike">
                <a:solidFill>
                  <a:srgbClr val="336666"/>
                </a:solidFill>
                <a:latin typeface="Trebuchet MS"/>
              </a:rPr>
              <a:t>Educación de Adultos y al Extensionismo</a:t>
            </a:r>
            <a:endParaRPr b="0" lang="en-US" sz="3200" spc="-1" strike="noStrike">
              <a:solidFill>
                <a:srgbClr val="336666"/>
              </a:solidFill>
              <a:latin typeface="Arial"/>
            </a:endParaRPr>
          </a:p>
        </p:txBody>
      </p:sp>
      <p:sp>
        <p:nvSpPr>
          <p:cNvPr id="143" name=""/>
          <p:cNvSpPr/>
          <p:nvPr/>
        </p:nvSpPr>
        <p:spPr>
          <a:xfrm>
            <a:off x="838080" y="25909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su propósito fundamental es “iluminar” a las masas, hacerlas conscientes de la realidad en que están inmers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todas las relacionadas con condiciones de vida de sectores más pobr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Reconstrucción del tejido social</a:t>
            </a:r>
            <a:endParaRPr b="0" lang="en-US" sz="3200" spc="-1" strike="noStrike">
              <a:solidFill>
                <a:srgbClr val="336666"/>
              </a:solidFill>
              <a:latin typeface="Arial"/>
            </a:endParaRPr>
          </a:p>
        </p:txBody>
      </p:sp>
      <p:sp>
        <p:nvSpPr>
          <p:cNvPr id="145"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busca reestablecer las relaciones democráticas y los vínculos entre las personas, y fortalecer a las comunidad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participación ciudadana; mejoramiento calidad de vida (énfasis especial en temas de salud; alimentación; derechos humanos; entre otros).</a:t>
            </a:r>
            <a:endParaRPr b="0" lang="en-US" sz="26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611280" y="1413000"/>
          <a:ext cx="8315280" cy="5200560"/>
        </p:xfrm>
        <a:graphic>
          <a:graphicData uri="http://schemas.openxmlformats.org/drawingml/2006/table">
            <a:tbl>
              <a:tblPr/>
              <a:tblGrid>
                <a:gridCol w="904680"/>
                <a:gridCol w="1001880"/>
                <a:gridCol w="1436400"/>
                <a:gridCol w="1011240"/>
                <a:gridCol w="1473480"/>
                <a:gridCol w="1284120"/>
                <a:gridCol w="120348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Mar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rebuchet MS"/>
                          <a:ea typeface="Times New Roman"/>
                        </a:rPr>
                        <a:t>P. 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Hipótes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Variab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Apor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Limita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Época y</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Representan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59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anitar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 y enfermedad resultado de condiciones sanitarias que rodean al individuo y del nivel de prevención-acción que se tiene sobre tales condi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mueve introducción de medidas de saneamiento y permite asignar un valor específico a los factores ambiental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o contempla factores sociales que determinan la prevalencia de condiciones de vida insalubres para diferentes grupos sociales. No explica génesis de perfiles diferenciales de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VIII.</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mith y Pettenkof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rot="16200000">
            <a:off x="-1206720" y="340992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49" name=""/>
          <p:cNvGraphicFramePr/>
          <p:nvPr/>
        </p:nvGraphicFramePr>
        <p:xfrm>
          <a:off x="755640" y="1700280"/>
          <a:ext cx="8137080" cy="4967280"/>
        </p:xfrm>
        <a:graphic>
          <a:graphicData uri="http://schemas.openxmlformats.org/drawingml/2006/table">
            <a:tbl>
              <a:tblPr/>
              <a:tblGrid>
                <a:gridCol w="1061280"/>
                <a:gridCol w="1078200"/>
                <a:gridCol w="1145520"/>
                <a:gridCol w="1145880"/>
                <a:gridCol w="1302120"/>
                <a:gridCol w="1319040"/>
                <a:gridCol w="1085040"/>
              </a:tblGrid>
              <a:tr h="4967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ioméd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la respuesta a la presencia activa de agentes externo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stituye un fenómeno dependiente de un agente causal biológico y respuesta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gente causal patógeno</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dentificación del agente biológico causal permitió la implementación de medidas de control y la investigación de fármacos y vacunas revolucionan tratamiento de enfermedades infecciosa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ajo esta perspectiva no es fácil explicar por qué el mismo agente causal no produce siempre la 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e descifra parcialmente causa biológica de la enfermedad, sin abordar estudio de rol que juegan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IX y principios s. XX</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Pasteur y Koch</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755640" y="1413000"/>
          <a:ext cx="8064360" cy="4680000"/>
        </p:xfrm>
        <a:graphic>
          <a:graphicData uri="http://schemas.openxmlformats.org/drawingml/2006/table">
            <a:tbl>
              <a:tblPr/>
              <a:tblGrid>
                <a:gridCol w="1325520"/>
                <a:gridCol w="1030320"/>
                <a:gridCol w="1173240"/>
                <a:gridCol w="934920"/>
                <a:gridCol w="1204920"/>
                <a:gridCol w="1320840"/>
                <a:gridCol w="1074600"/>
              </a:tblGrid>
              <a:tr h="4680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ás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nteracción de factores de riesgo individual y grupal, bajo cierta red de causalidad, explican los determinantes de la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individu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grup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d de causali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e enfoque permite considerar los diferentes factores de riesgo en tiempo, lugar y persona, que interactúan con la enfermedad, sobre los cuales se puede actuar desde la </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continúa sobre factores ambientales, biológicos e individuales. Los factores sociales aparecen como parte del entorno, sin determinar su valor específico y sin diferenciarlos de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c Mahon y Pugh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3" name=""/>
          <p:cNvGraphicFramePr/>
          <p:nvPr/>
        </p:nvGraphicFramePr>
        <p:xfrm>
          <a:off x="755640" y="692280"/>
          <a:ext cx="8101080" cy="5615640"/>
        </p:xfrm>
        <a:graphic>
          <a:graphicData uri="http://schemas.openxmlformats.org/drawingml/2006/table">
            <a:tbl>
              <a:tblPr/>
              <a:tblGrid>
                <a:gridCol w="1056960"/>
                <a:gridCol w="987480"/>
                <a:gridCol w="1119600"/>
                <a:gridCol w="1246680"/>
                <a:gridCol w="1296360"/>
                <a:gridCol w="1313280"/>
                <a:gridCol w="1080720"/>
              </a:tblGrid>
              <a:tr h="5615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Higienista</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tiv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salud depende del equilibrio entre agente, huésped y ambiente, y de la conducta individual o social que se teng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conductu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g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ermite considerar 4 factores participantes como riesgo comunitario sobre la salud. Sobre estos factores se puede actuar preventivamente tomando en cuenta como 1ª instancia aspectos conductuales y hábitos higién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se da sobre aspectos biológicos. Lo social aparece como un elemento más incluido en el entorno y además no establece peso específico para cada factor participa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Leavell y Clarke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5" name=""/>
          <p:cNvGraphicFramePr/>
          <p:nvPr/>
        </p:nvGraphicFramePr>
        <p:xfrm>
          <a:off x="826920" y="1557360"/>
          <a:ext cx="8064720" cy="4537080"/>
        </p:xfrm>
        <a:graphic>
          <a:graphicData uri="http://schemas.openxmlformats.org/drawingml/2006/table">
            <a:tbl>
              <a:tblPr/>
              <a:tblGrid>
                <a:gridCol w="1052640"/>
                <a:gridCol w="819000"/>
                <a:gridCol w="1368720"/>
                <a:gridCol w="1150920"/>
                <a:gridCol w="1290600"/>
                <a:gridCol w="1306440"/>
                <a:gridCol w="1076400"/>
              </a:tblGrid>
              <a:tr h="453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colog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s condiciones de salud dependen del equilibrio entre huésped y ambiente, en contexto bidimensional que descubre las relaciones de factores causales entre sí y sobre el efect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demás de los factores del ambiente, permite asignar un valor específico a otros factor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Mediante este enfoque no es posible identificar génesis de perfiles epidemiológicos diferenciales. Adolece de conceptos y métodos adecuados para abordar el determinante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usser y Dub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755640" y="1773360"/>
          <a:ext cx="8064360" cy="3816360"/>
        </p:xfrm>
        <a:graphic>
          <a:graphicData uri="http://schemas.openxmlformats.org/drawingml/2006/table">
            <a:tbl>
              <a:tblPr/>
              <a:tblGrid>
                <a:gridCol w="1295280"/>
                <a:gridCol w="1008360"/>
                <a:gridCol w="1081080"/>
                <a:gridCol w="1223640"/>
                <a:gridCol w="1224000"/>
                <a:gridCol w="1155960"/>
                <a:gridCol w="1076040"/>
              </a:tblGrid>
              <a:tr h="3816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producto de las condiciones de vida  y de trabajo de cada grupo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ilo de vid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Organización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diciones de trabaj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ivilegia lo social como el factor más importante que explica la presencia de otros factores determinantes d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 el uso de este enfoque se corre el riesgo de reducir la complejidad del proceso salud enfermedad a la problemática de las relaciones sociales, y marginar factores de riesgo de otra índo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assel, Antonovsky y Reed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3000" spc="-1" strike="noStrike">
                <a:solidFill>
                  <a:srgbClr val="000000"/>
                </a:solidFill>
                <a:latin typeface="Trebuchet MS"/>
              </a:rPr>
              <a:t>Comunidad y Equipo de Salud:</a:t>
            </a:r>
            <a:endParaRPr b="0" lang="en-US" sz="30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gnost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nif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jecut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valú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stemati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26920" y="1413000"/>
          <a:ext cx="8065800" cy="4471920"/>
        </p:xfrm>
        <a:graphic>
          <a:graphicData uri="http://schemas.openxmlformats.org/drawingml/2006/table">
            <a:tbl>
              <a:tblPr/>
              <a:tblGrid>
                <a:gridCol w="1142280"/>
                <a:gridCol w="1065240"/>
                <a:gridCol w="1140840"/>
                <a:gridCol w="1142640"/>
                <a:gridCol w="1293480"/>
                <a:gridCol w="1293480"/>
                <a:gridCol w="987840"/>
              </a:tblGrid>
              <a:tr h="4474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aterial histór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roceso salud enfermedad 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ferente para cada grupo social, dependiendo del contexto histórico, modos de producción y pertenencia de clas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mensión históric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ase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sgaste labor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ducción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corpora el determinante histórico-social al estudio del perfil epidemiológico de diferentes grupos. Cuestiona la eficacia de medidas correctivas y preventivas para el abordaje tanto de las condiciones de salud, como la respuesta social, manteniendo intactas relaciones de explota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hecho de que todos los factores determinantes pasan por lo histórico-social, conduce al riesgo de limitar el análisis a la problemática de factores sociales y determinantes histór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elinger; Waitzkin; Laurell, Breilh y Navarr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826920" y="765000"/>
          <a:ext cx="8066160" cy="5510520"/>
        </p:xfrm>
        <a:graphic>
          <a:graphicData uri="http://schemas.openxmlformats.org/drawingml/2006/table">
            <a:tbl>
              <a:tblPr/>
              <a:tblGrid>
                <a:gridCol w="1152720"/>
                <a:gridCol w="1008000"/>
                <a:gridCol w="1368360"/>
                <a:gridCol w="1152720"/>
                <a:gridCol w="1224000"/>
                <a:gridCol w="1295280"/>
                <a:gridCol w="865080"/>
              </a:tblGrid>
              <a:tr h="5510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e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onservado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erfil epidemiológico resulta de factores biológicos, psíquicos, sociales y culturales que operan jerárquicamente en distintos niveles de determinación. Tales factores también determinan la manera en que se organiza la sociedad para dar respuesta a las condiciones de salud que gener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ructur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 próximo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ado de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templa un enfoque integral sobre los determinantes del proceso salud enfermedad, Contrarresta el abordaje fragmentado del conocimiento de los diferentes factores. Incluye categorías de análisis para diferenciar el rol de la respuesta social organizada del sector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No desagrega la influencia de cada uno de los factores participant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or lo tanto, no es posible ponderar valor específico de cada determinante. Los niveles de jerarquía de cada determinante complican el análisis dependiendo del evento salud enfermedad bajo estudi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 </a:t>
                      </a:r>
                      <a:r>
                        <a:rPr b="0" lang="es-ES" sz="1200" spc="-1" strike="noStrike">
                          <a:solidFill>
                            <a:srgbClr val="336666"/>
                          </a:solidFill>
                          <a:latin typeface="Trebuchet MS"/>
                          <a:ea typeface="Times New Roman"/>
                        </a:rPr>
                        <a:t>(80’s y 90’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Frenk, Pearlin y Lew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Componente promocional y participativ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Objetivo de lograr mejores niveles de salud, implica mayores responsabilidades para toda la socieda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Necesidad de cambio profundo donde personas, familias y comunidades, políticos, Estado y todos los actores sociales se comprometan frente al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Fundamentos</a:t>
            </a:r>
            <a:endParaRPr b="0" lang="en-US" sz="3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cción multi 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acción y trabajo intere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pacio de encuentr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Hacer con la comunida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Desarrollo de Procesos Participativos (1)</a:t>
            </a:r>
            <a:endParaRPr b="0" lang="en-US" sz="3200" spc="-1" strike="noStrike">
              <a:solidFill>
                <a:srgbClr val="336666"/>
              </a:solidFill>
              <a:latin typeface="Arial"/>
            </a:endParaRPr>
          </a:p>
        </p:txBody>
      </p:sp>
      <p:sp>
        <p:nvSpPr>
          <p:cNvPr id="101"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justicia, con dos propósitos esenciales:</a:t>
            </a:r>
            <a:endParaRPr b="0" lang="en-US" sz="22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ínimos” (acceso a satisfacción de necesidades).</a:t>
            </a:r>
            <a:endParaRPr b="0" lang="en-US" sz="20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áximos” (construcción de ciudadanía- acceso a control social sobre el proceso de “producción de salud”).</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2" name=""/>
          <p:cNvSpPr/>
          <p:nvPr/>
        </p:nvSpPr>
        <p:spPr>
          <a:xfrm>
            <a:off x="4863960" y="2214720"/>
            <a:ext cx="39038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trabajo. Producción de un bien; metas claras y productividad precisa.</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2)</a:t>
            </a:r>
            <a:endParaRPr b="0" lang="en-US" sz="2500" spc="-1" strike="noStrike">
              <a:solidFill>
                <a:srgbClr val="336666"/>
              </a:solidFill>
              <a:latin typeface="Arial"/>
            </a:endParaRPr>
          </a:p>
        </p:txBody>
      </p:sp>
      <p:sp>
        <p:nvSpPr>
          <p:cNvPr id="104" name=""/>
          <p:cNvSpPr/>
          <p:nvPr/>
        </p:nvSpPr>
        <p:spPr>
          <a:xfrm>
            <a:off x="4876920" y="20574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Participación comunitaria en </a:t>
            </a:r>
            <a:r>
              <a:rPr b="0" lang="es-ES_tradnl" sz="2000" spc="-1" strike="noStrike" u="sng">
                <a:solidFill>
                  <a:srgbClr val="000000"/>
                </a:solidFill>
                <a:uFillTx/>
                <a:latin typeface="Trebuchet MS"/>
              </a:rPr>
              <a:t>todas</a:t>
            </a:r>
            <a:r>
              <a:rPr b="0" lang="es-ES_tradnl" sz="2000" spc="-1" strike="noStrike">
                <a:solidFill>
                  <a:srgbClr val="000000"/>
                </a:solidFill>
                <a:latin typeface="Trebuchet MS"/>
              </a:rPr>
              <a:t> las etapas de la intervención (incluye su visión y sus interese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conocimiento de la existencia de distintas racionalidades de interpretación de la realidad (no hay diagnóstico único ni solución únic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Trabajo basado en la concertación de voluntades (negociaciones, acuerdos, consenso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5" name="" descr=""/>
          <p:cNvPicPr/>
          <p:nvPr/>
        </p:nvPicPr>
        <p:blipFill>
          <a:blip r:embed="rId1"/>
          <a:stretch/>
        </p:blipFill>
        <p:spPr>
          <a:xfrm>
            <a:off x="1251000" y="2214720"/>
            <a:ext cx="3017880" cy="38811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3)</a:t>
            </a:r>
            <a:endParaRPr b="0" lang="en-US" sz="2500" spc="-1" strike="noStrike">
              <a:solidFill>
                <a:srgbClr val="336666"/>
              </a:solidFill>
              <a:latin typeface="Arial"/>
            </a:endParaRPr>
          </a:p>
        </p:txBody>
      </p:sp>
      <p:sp>
        <p:nvSpPr>
          <p:cNvPr id="107"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ol profesional: </a:t>
            </a:r>
            <a:r>
              <a:rPr b="0" lang="es-ES_tradnl" sz="2000" spc="-1" strike="noStrike" u="sng">
                <a:solidFill>
                  <a:srgbClr val="000000"/>
                </a:solidFill>
                <a:uFillTx/>
                <a:latin typeface="Trebuchet MS"/>
              </a:rPr>
              <a:t>facilitador</a:t>
            </a:r>
            <a:r>
              <a:rPr b="0" i="1" lang="es-ES_tradnl" sz="2000" spc="-1" strike="noStrike">
                <a:solidFill>
                  <a:srgbClr val="000000"/>
                </a:solidFill>
                <a:latin typeface="Trebuchet MS"/>
              </a:rPr>
              <a:t> </a:t>
            </a:r>
            <a:r>
              <a:rPr b="0" lang="es-ES_tradnl" sz="2000" spc="-1" strike="noStrike">
                <a:solidFill>
                  <a:srgbClr val="000000"/>
                </a:solidFill>
                <a:latin typeface="Trebuchet MS"/>
              </a:rPr>
              <a:t>(genera condiciones para el “encuentro” entre el saber técnico y el saber experiencial).</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lativismo cultural: las personas son competentes en su medio, por tanto valora e incorpora la cultura e idiosincracia de los beneficiarios (integración de saberes).</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8" name="" descr=""/>
          <p:cNvPicPr/>
          <p:nvPr/>
        </p:nvPicPr>
        <p:blipFill>
          <a:blip r:embed="rId1"/>
          <a:stretch/>
        </p:blipFill>
        <p:spPr>
          <a:xfrm>
            <a:off x="4863960" y="2671920"/>
            <a:ext cx="3903840" cy="29667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4)</a:t>
            </a:r>
            <a:endParaRPr b="0" lang="en-US" sz="2500" spc="-1" strike="noStrike">
              <a:solidFill>
                <a:srgbClr val="336666"/>
              </a:solidFill>
              <a:latin typeface="Arial"/>
            </a:endParaRPr>
          </a:p>
        </p:txBody>
      </p:sp>
      <p:sp>
        <p:nvSpPr>
          <p:cNvPr id="11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Carácter formativo de la Intervención: transferencia de conocimientos y metodologías (crear competenci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Énfasis en la sustentabilidad de la intervención.</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Resolver la tensión entre lo individual y lo colectivo como dos “momentos” de una misma intervención. </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15:47:09Z</dcterms:created>
  <dc:creator>mele</dc:creator>
  <dc:description/>
  <dc:language>en-US</dc:language>
  <cp:lastModifiedBy>Maria Elena Riveros Espiñeir</cp:lastModifiedBy>
  <dcterms:modified xsi:type="dcterms:W3CDTF">2008-04-17T18:02:26Z</dcterms:modified>
  <cp:revision>21</cp:revision>
  <dc:subject/>
  <dc:title>Antecedentes Históricos del Trabajo Comunitario en Salud</dc:title>
</cp:coreProperties>
</file>