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49961-EC8F-4940-AF13-58B101C6C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0ABAB-2CA9-435B-8EE3-DF6FFFCB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3110C-47B5-4013-A42F-A50F6AC63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F8990-C7BD-40F1-B24E-49AEAA864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E5335-92ED-4B76-94A7-A7C55CE00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45227-FA3A-4276-8DBF-36E79F069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85CE9-4C6D-48D7-890A-363F5EB91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83182-CD7B-49B1-A455-B0B3442E4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3D77B-B89D-4CD9-930E-908CD4141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C2F3B-5652-44AF-A303-D491FE65A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28765-DB5B-4A0B-A0D3-FF15021B9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361F-A295-429C-A537-0096AE06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19B34-C628-42EE-BCA0-721589F41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AECAB-116D-4B72-BB63-A2D8AEFBF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5103A-C2C4-4302-AC1D-2DA246653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B35E0-B57F-4330-9CED-CA5182F8A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68B6A-3B65-4015-92EF-510191917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F5BB2-B395-4C30-9B3F-14917C0A7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D75B5-4C58-4B9B-AB4F-42D921EB3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C9426-D943-4C72-947B-EEA7FA14C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7B37A-BCC7-43A8-AB93-4FE16E1D5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D6D9-35E6-4CDE-B2DC-19C4B345C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33BB6-5C06-42A3-968D-84CD0C1E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3095F-0AB2-414D-9F86-E0C76D8C8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0D9C-F54B-498A-810D-ECE10146B391}"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71DC-FB93-4932-A3AC-652481401B97}"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Concepto de Comunidad</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884160"/>
            <a:ext cx="7378560" cy="868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íntesis concept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9" name="PlaceHolder 2"/>
          <p:cNvSpPr>
            <a:spLocks noGrp="1"/>
          </p:cNvSpPr>
          <p:nvPr>
            <p:ph/>
          </p:nvPr>
        </p:nvSpPr>
        <p:spPr>
          <a:xfrm>
            <a:off x="380520" y="1599840"/>
            <a:ext cx="8178840" cy="4172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Convivencia </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tenenci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Dinámica demográfic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Territori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Century Gothic"/>
              </a:rPr>
              <a:t>Basado en Comunidad</a:t>
            </a:r>
            <a:endParaRPr b="0" lang="en-US" sz="3200" spc="-1" strike="noStrike">
              <a:solidFill>
                <a:srgbClr val="003366"/>
              </a:solidFill>
              <a:latin typeface="Times New Roman"/>
            </a:endParaRPr>
          </a:p>
        </p:txBody>
      </p:sp>
      <p:sp>
        <p:nvSpPr>
          <p:cNvPr id="311" name="PlaceHolder 2"/>
          <p:cNvSpPr>
            <a:spLocks noGrp="1"/>
          </p:cNvSpPr>
          <p:nvPr>
            <p:ph/>
          </p:nvPr>
        </p:nvSpPr>
        <p:spPr>
          <a:xfrm>
            <a:off x="592200" y="2133360"/>
            <a:ext cx="7958160" cy="388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entury Gothic"/>
                <a:ea typeface="Times New Roman"/>
              </a:rPr>
              <a:t>El control y las herramientas para la acción deben estar en la comunidad local, en las PcD, sus familias y otros miembros de la comunidad. </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entury Gothic"/>
                <a:ea typeface="Times New Roman"/>
              </a:rPr>
              <a:t>El T.O debe estar presente e interactuar con las personas en sus contextos de vida cotidiana.</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entury Gothic"/>
                <a:ea typeface="Times New Roman"/>
              </a:rPr>
              <a:t>El T.O tiene la oportunidad de obtener información de primera mano  y comprender mejor los problemas  e intereses cotidianos que experimentan las PcD.</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entury Gothic"/>
                <a:ea typeface="Times New Roman"/>
              </a:rPr>
              <a:t>Puede apoyar cambios a realizar a nivel comunitario</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Persona - Contexto</a:t>
            </a:r>
            <a:endParaRPr b="0" lang="en-US" sz="4000" spc="-1" strike="noStrike">
              <a:solidFill>
                <a:srgbClr val="003366"/>
              </a:solidFill>
              <a:latin typeface="Times New Roman"/>
            </a:endParaRPr>
          </a:p>
        </p:txBody>
      </p:sp>
      <p:sp>
        <p:nvSpPr>
          <p:cNvPr id="313"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volucrarse en ocupaciones para apoyar la participación en el contexto o contextos.</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Áreas de Desempeño Ocupacional: incluyen la participación social (Marco de Trabajo para la práctica de la T.O)</a:t>
            </a:r>
            <a:endParaRPr b="0" lang="en-US" sz="2800" spc="-1" strike="noStrike">
              <a:solidFill>
                <a:srgbClr val="0033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uando los individuos se involucran en ocupaciones, se comprometen en su desempeño como resultado de la elección personal, la motivación y el signific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imilitud entre perspectiva ocupacional y OM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entury Gothic"/>
              </a:rPr>
              <a:t>Participación Social</a:t>
            </a:r>
            <a:endParaRPr b="0" lang="en-US" sz="2800" spc="-1" strike="noStrike">
              <a:solidFill>
                <a:srgbClr val="0033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ctividades asociadas con patrones organizados de conducta que son característicos y esperados de un individuo, o de un individuo en interacción con otros dentro de un sistema social dado (adaptado de Mosey, 1996, p.340).</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Comunidad</a:t>
            </a:r>
            <a:r>
              <a:rPr b="0" lang="es-ES" sz="2400" spc="-1" strike="noStrike">
                <a:solidFill>
                  <a:srgbClr val="003366"/>
                </a:solidFill>
                <a:latin typeface="Century Gothic"/>
              </a:rPr>
              <a:t> – Actividades que tienen por resultado una interacción exitosa a nivel comunitario (ej. organizaciones del vecindario, trabajo, escuela).</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Familia</a:t>
            </a:r>
            <a:r>
              <a:rPr b="0" lang="es-ES" sz="2400" spc="-1" strike="noStrike">
                <a:solidFill>
                  <a:srgbClr val="003366"/>
                </a:solidFill>
                <a:latin typeface="Century Gothic"/>
              </a:rPr>
              <a:t> – (Actividades que tienen por resultado) una interacción exitosa en roles familiares específicos requeridos o deseados (Mosey, 1996, p.340).</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Pares, amigos</a:t>
            </a:r>
            <a:r>
              <a:rPr b="0" lang="es-ES" sz="2400" spc="-1" strike="noStrike">
                <a:solidFill>
                  <a:srgbClr val="003366"/>
                </a:solidFill>
                <a:latin typeface="Century Gothic"/>
              </a:rPr>
              <a:t> – Actividades de diferentes niveles de intimidad incluyendo involucrarse en actividad sexual desead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Desempeño ocupacional</a:t>
            </a:r>
            <a:endParaRPr b="0" lang="en-US" sz="3200" spc="-1" strike="noStrike">
              <a:solidFill>
                <a:srgbClr val="003366"/>
              </a:solidFill>
              <a:latin typeface="Times New Roman"/>
            </a:endParaRPr>
          </a:p>
        </p:txBody>
      </p:sp>
      <p:sp>
        <p:nvSpPr>
          <p:cNvPr id="3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l desempeño ocupacional es el producto de una relación dinámica entre las personas, sus ocupaciones y roles, y los ambientes en los que vive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Persona</a:t>
            </a:r>
            <a:endParaRPr b="0" lang="en-US" sz="3200" spc="-1" strike="noStrike">
              <a:solidFill>
                <a:srgbClr val="003366"/>
              </a:solidFill>
              <a:latin typeface="Times New Roman"/>
            </a:endParaRPr>
          </a:p>
        </p:txBody>
      </p:sp>
      <p:sp>
        <p:nvSpPr>
          <p:cNvPr id="32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dividuo o miembro de un grupo (comunidad).</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aracterísticas únicas, variedad de rol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xpectativas de éxito – fracaso.</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un grupo las características de un individuo son desplegada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prender de una persona de acuerdo a los grupos en que particip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mbiente = aquellos contextos y situaciones que ocurren fuera del individuo y que generan respuestas de éste.</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11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ariedad de condiciones interrelacionadas del cliente y alrededor del mismo que influyen en su desempeño.</a:t>
            </a:r>
            <a:r>
              <a:rPr b="0" lang="es-ES" sz="4400" spc="-1" strike="noStrike">
                <a:solidFill>
                  <a:srgbClr val="003366"/>
                </a:solidFill>
                <a:latin typeface="Times New Roman"/>
              </a:rPr>
              <a:t> </a:t>
            </a:r>
            <a:endParaRPr b="0" lang="en-US" sz="4400" spc="-1" strike="noStrike">
              <a:solidFill>
                <a:srgbClr val="003366"/>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rígenes concepto</a:t>
            </a:r>
            <a:endParaRPr b="0" lang="en-US" sz="32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timología</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Ciencias Sociales</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orriente</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ientífico</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os contextos pueden ser culturales, físicos, sociales, personales, espirituales, temporales y virtuales. </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xternos al cliente (por ej. contexto físico).</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Internos al cliente (ej. personal, espiritual).</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os contextos pueden incluir dimensiones temporales (ej. hora del día; edad) y dimensiones espaciales.</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pueden ser descritas como el conjunto de tareas funcionales y roles en los que una persona se involucra durante un periodo de tiempo debido a diferentes propósitos tales como subsistencia, auto expresión y auto satisfacción. </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as tareas se desarrollan en muchos contextos ambientales para satisfacer roles individuale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son plurales, complejas y una función necesaria del vivir.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l involucrarnos en ocupaciones significativas modelamos nuestro auto concepto e identidad.</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 través de la ejecución de tareas y ocupaciones, las personas despliegan sus capacidades y prueban sus competencias.</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7160" y="600120"/>
            <a:ext cx="8637480" cy="884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UNIDAD </a:t>
            </a:r>
            <a:br>
              <a:rPr sz="3200"/>
            </a:br>
            <a:r>
              <a:rPr b="0" lang="es-ES_tradnl" sz="3200" spc="-1" strike="noStrike">
                <a:solidFill>
                  <a:srgbClr val="0000cc"/>
                </a:solidFill>
                <a:latin typeface="Century Gothic"/>
              </a:rPr>
              <a:t>(del alemán </a:t>
            </a:r>
            <a:r>
              <a:rPr b="0" i="1" lang="es-ES_tradnl" sz="3200" spc="-1" strike="noStrike">
                <a:solidFill>
                  <a:srgbClr val="0000cc"/>
                </a:solidFill>
                <a:latin typeface="Century Gothic"/>
              </a:rPr>
              <a:t>Gemeinschaft</a:t>
            </a:r>
            <a:r>
              <a:rPr b="0" lang="es-ES_tradnl" sz="3200" spc="-1" strike="noStrike">
                <a:solidFill>
                  <a:srgbClr val="0000cc"/>
                </a:solidFill>
                <a:latin typeface="Century Gothic"/>
              </a:rPr>
              <a:t>)</a:t>
            </a:r>
            <a:endParaRPr b="0" lang="en-US" sz="3200" spc="-1" strike="noStrike">
              <a:solidFill>
                <a:srgbClr val="003366"/>
              </a:solidFill>
              <a:latin typeface="Times New Roman"/>
            </a:endParaRPr>
          </a:p>
        </p:txBody>
      </p:sp>
      <p:sp>
        <p:nvSpPr>
          <p:cNvPr id="295" name="PlaceHolder 2"/>
          <p:cNvSpPr>
            <a:spLocks noGrp="1"/>
          </p:cNvSpPr>
          <p:nvPr>
            <p:ph/>
          </p:nvPr>
        </p:nvSpPr>
        <p:spPr>
          <a:xfrm>
            <a:off x="647640" y="2209320"/>
            <a:ext cx="7848720" cy="4419720"/>
          </a:xfrm>
          <a:prstGeom prst="rect">
            <a:avLst/>
          </a:prstGeom>
          <a:noFill/>
          <a:ln w="0">
            <a:noFill/>
          </a:ln>
        </p:spPr>
        <p:txBody>
          <a:bodyPr lIns="90000" rIns="90000" tIns="46800" bIns="46800" anchor="t">
            <a:normAutofit/>
          </a:bodyPr>
          <a:p>
            <a:pPr lvl="2" marL="1085760" indent="-228600">
              <a:lnSpc>
                <a:spcPct val="100000"/>
              </a:lnSpc>
              <a:spcBef>
                <a:spcPts val="400"/>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entury Gothic"/>
              </a:rPr>
              <a:t>La comunidad (familia, nación, entre otros) es un grupo que no ha sido formado por decisión de sus componentes, para la realización de fines preconcebidos, sino que tiene un carácter originario, se constituye espontáneamente. Los sujetos no ingresan en ella por decisión, sino que se hallan en ella independientemente de su voluntad, viviendo en ella y desde ella, desarrollándose dentro de ella, y estando ligados por una solidaridad de la cual no son los autores deliberados </a:t>
            </a:r>
            <a:r>
              <a:rPr b="0" lang="es-ES_tradnl" sz="1600" spc="-1" strike="noStrike">
                <a:solidFill>
                  <a:srgbClr val="003366"/>
                </a:solidFill>
                <a:latin typeface="Century Gothic"/>
              </a:rPr>
              <a:t>(Adaptado de Tratado General de Sociología; México, Ed. Porrúa, 1956, p.336).</a:t>
            </a:r>
            <a:endParaRPr b="0" lang="en-US" sz="1600" spc="-1" strike="noStrike">
              <a:solidFill>
                <a:srgbClr val="003366"/>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Evolución histórica del concepto</a:t>
            </a:r>
            <a:endParaRPr b="0" lang="en-US" sz="32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magen heredada s. XVIII y XIX.</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isión territorial – grupos marginado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Realidad construida intersubjetivament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sociación de sujetos que se reconocen como similar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Hecho construido en la “experiencia de ser con otro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La experiencia de “ser con otros”</a:t>
            </a:r>
            <a:endParaRPr b="0" lang="en-US" sz="3200" spc="-1" strike="noStrike">
              <a:solidFill>
                <a:srgbClr val="003366"/>
              </a:solidFill>
              <a:latin typeface="Times New Roman"/>
            </a:endParaRPr>
          </a:p>
        </p:txBody>
      </p:sp>
      <p:sp>
        <p:nvSpPr>
          <p:cNvPr id="29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onocerse a si mism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únic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históric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761760"/>
            <a:ext cx="80010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1" name="PlaceHolder 2"/>
          <p:cNvSpPr>
            <a:spLocks noGrp="1"/>
          </p:cNvSpPr>
          <p:nvPr>
            <p:ph/>
          </p:nvPr>
        </p:nvSpPr>
        <p:spPr>
          <a:xfrm>
            <a:off x="419040" y="2057400"/>
            <a:ext cx="8305920" cy="443880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Existe una agrupación social o conjunto de individuos.</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xiste una localización geográfica de base (o vecindad) con estabilidad temporal. </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nfoque que concibe a la COMUNIDAD como un grupo territorial (enfoque geográfico) dentro del cual se puede llevar a cabo la totalidad del ciclo vital o donde se puede realizar completamente el quehacer de la vida humana.</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06160" y="68544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COMUNIDAD</a:t>
            </a:r>
            <a:endParaRPr b="0" lang="en-US" sz="32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Arial"/>
              </a:rPr>
              <a:t> </a:t>
            </a:r>
            <a:r>
              <a:rPr b="0" lang="es-ES_tradnl" sz="2400" spc="-1" strike="noStrike">
                <a:solidFill>
                  <a:srgbClr val="003366"/>
                </a:solidFill>
                <a:latin typeface="Century Gothic"/>
              </a:rPr>
              <a:t>Existe producción, distribución y consumo de bienes y servicios.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Hay interacción social y lazos culturales: significativa para la persona - desarrolla identificación con la comunidad- red afectiva de comunicación. Se comparten creencias, valores, intereses comunes.</a:t>
            </a: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Se forman estructuras sociales  y cultural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52000" y="76176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entido psicológic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ct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El sentimiento de que uno es parte de una red de relaciones  de apoyo mutuo en que se podría confiar y como resultado del cual no experimenta  sentimientos permanentes de soledad, que lo impulsan a actuar o adoptar un estilo de vida que enmascara  la ansiedad y predispone a una angustia posterior más destruct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52000" y="609480"/>
            <a:ext cx="8637480" cy="1067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sentido psicológico de COMUNIDAD</a:t>
            </a:r>
            <a:endParaRPr b="0" lang="en-US" sz="3200" spc="-1" strike="noStrike">
              <a:solidFill>
                <a:srgbClr val="003366"/>
              </a:solidFill>
              <a:latin typeface="Times New Roman"/>
            </a:endParaRPr>
          </a:p>
        </p:txBody>
      </p:sp>
      <p:sp>
        <p:nvSpPr>
          <p:cNvPr id="307" name="PlaceHolder 2"/>
          <p:cNvSpPr>
            <a:spLocks noGrp="1"/>
          </p:cNvSpPr>
          <p:nvPr>
            <p:ph/>
          </p:nvPr>
        </p:nvSpPr>
        <p:spPr>
          <a:xfrm>
            <a:off x="482760" y="2133360"/>
            <a:ext cx="817848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cepción de similitud de cada individuo con otros.</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Interdependencia mutua.</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Voluntad de mantener esa interdependencia </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reciprocidad conductual).</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Sentimiento de formar parte de una estructura social mayor estable y fiable (sentido de pertenencia o integración soci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30T07:27:20Z</dcterms:created>
  <dc:creator>R. MANRIQUEZ</dc:creator>
  <dc:description/>
  <dc:language>en-US</dc:language>
  <cp:lastModifiedBy>mele</cp:lastModifiedBy>
  <dcterms:modified xsi:type="dcterms:W3CDTF">2006-03-15T14:33:51Z</dcterms:modified>
  <cp:revision>24</cp:revision>
  <dc:subject/>
  <dc:title>COMUNIDAD  (del alemán Gemeinschaft)</dc:title>
</cp:coreProperties>
</file>