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CA5-D509-43CD-A8FE-A24BACEF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F23-CC65-4A55-94DE-4A509519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061-C856-4583-80D4-01FF1BF3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FF2-8F06-46EF-AD0D-33511483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8DE9-CDC9-492B-BAA8-BF84409E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2403-5AEB-4747-B263-1941302E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E1ED-E757-4054-A4A5-C3CCD808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3A0A-09D0-48B5-9375-AF6BF2C4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734A-A22F-412D-B7EC-071CA829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5794-4CBC-4EFC-B019-AF8B97A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881E-987C-4F57-8288-3444C855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58B-D701-4B58-B55A-152415BD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7287-497D-42FF-964C-FBBC40EA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61E1-6D6D-4A54-8212-B8AA984D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5687-ADB1-4414-A824-6D0F3F17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1B28-ED62-461B-AF76-290BC189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3AE9-3798-43EF-A302-5D14A916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703-AAE3-4B3D-AD95-9312CA61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4DD-FD7D-4EBD-A687-74E009BD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700-00F8-47E0-B0CD-15D6E02D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CE9-DB99-4B9C-A0BB-B5EFC356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0EC-9D50-48CB-84D8-BEA16181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5EF-B84A-402A-816A-492D44C7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BEB-70B3-4893-B3CD-39DFDF5E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9CBE-9DDA-48EC-B91B-0740081CFD7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FBE5-9720-421C-B8C0-A4F67D86DAE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Lucida Sans"/>
              </a:rPr>
              <a:t>Introducción a la Asignatura:</a:t>
            </a:r>
            <a:br>
              <a:rPr sz="3600"/>
            </a:br>
            <a:r>
              <a:rPr b="0" i="1" lang="en-US" sz="3600" spc="-1" strike="noStrike">
                <a:solidFill>
                  <a:srgbClr val="006633"/>
                </a:solidFill>
                <a:latin typeface="Lucida Sans"/>
              </a:rPr>
              <a:t>“Modelos de Intervención y Práctica  Comunitaria”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Mª Elena Riveros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Lucida Sans"/>
              </a:rPr>
              <a:t>Para reflexionar …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Dónde trabajarán los TT.OO en el fut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Qué problemas deberán enfren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uáles serán los principales desafíos que enfrentará la profes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ómo se vincula la T.O con el Trabajo Comunitario en Salud?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rabajo Comunitario en Salud (T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 orientada a lograr la participación efectiva de la comunidad en las acciones tendientes a elevar los niveles de salud y mejorar la calidad de vida en la pobl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os antes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destinatario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, hoy deberán ser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sujetos </a:t>
            </a:r>
            <a:r>
              <a:rPr b="0" i="1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articipante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a comunidad en conjunto con el Equipo de Salu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Diagnos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lani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jecu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val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Sistemati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Resultados en salud no dependen exclusivamente de las acciones del sector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Priorización de bases bioméd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Tareas de promoción y prevención ocupan un lugar central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Interacción en el espacio local e intersectorialidad</a:t>
            </a:r>
            <a:r>
              <a:rPr b="0" lang="es-ES_tradnl" sz="2600" spc="-1" strike="noStrike">
                <a:solidFill>
                  <a:srgbClr val="000000"/>
                </a:solidFill>
                <a:latin typeface="Berlin Sans FB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ecesidad de transitar desde el ambiente institucional a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Trabajar en la comunidad, sino con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Rol de la persona (usuario; cliente), en colaboración con el T.O es identificar qué significa calidad de vida y bienestar para ella, como también qué actividades le son significativas y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CS: Comunidad y Equip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095560"/>
            <a:ext cx="2666880" cy="26668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2060640"/>
            <a:ext cx="2667240" cy="2666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9920" y="292572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92560" y="307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Lucida Sans"/>
              </a:rPr>
              <a:t>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565360"/>
            <a:ext cx="1152360" cy="17272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uga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ncu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pel del  contexto en la incidencia y manutención de las disfun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Canales y estrategias de comunicación adecu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Logro de aprendizajes significativos y cambios a nivel individual, familiar y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Utilización de recursos necesarios para implementación de ac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s de atención grupal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Aportes de la estrategia de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Aumento de la eficacia de las interve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orporación de ética de la participación en relación profesional-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remento de los recursos disponible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Relación entre estrategia de TCS y T.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ecesidad de responder a las necesidades de la épo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Problemas actuales: violencia y abuso; enfermedad mental, desempleo; consumo de drogas; enfermedades crónicas; abuso infantil; abandono de los adultos mayores; entre muchos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uchos de estos problemas afectan el desempeño ocup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T.O: buscan entender mecanismos que sostienen el desempeño de acciones cotidianas de los individu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Entender el DO, las características del ambiente de la persona, la naturaleza del significado de las actividades, las tareas, y los r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3:39:47Z</dcterms:created>
  <dc:creator>mele</dc:creator>
  <dc:description/>
  <dc:language>en-US</dc:language>
  <cp:lastModifiedBy>mele</cp:lastModifiedBy>
  <dcterms:modified xsi:type="dcterms:W3CDTF">2006-03-06T14:04:46Z</dcterms:modified>
  <cp:revision>5</cp:revision>
  <dc:subject/>
  <dc:title>Introducción a la Asignatura: “Modelos de Intervención y Práctica  Comunitaria”</dc:title>
</cp:coreProperties>
</file>