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C4A-B267-4500-A96A-D8A75F1E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9B5-313F-48EB-94D4-0346CB87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A04-8F9B-4BF0-9C18-464E3E2E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8EF-9D98-48DC-AC03-AE493DA7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029E-C270-4229-9D62-75F057CD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5E97-ED30-462B-BEAA-D6DACD72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D86D-31B2-46F3-9693-9154E743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5EC5-7A73-4072-BC4D-BC8BEF7A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F2D7-2086-4C44-9D02-96F6E01B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66A2-674A-4D30-89D3-DB2254A1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6942-ECE9-4069-B3F5-28FA5058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58A-ED87-477B-94B4-3FDB3D58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F422-D917-4620-9E55-53596F64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DE87-11EF-4806-80DC-CAB02C99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617D-2E53-4939-9D80-520BA4CC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E250-C1A3-414B-A776-E6C01B44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D44D-2F0C-4718-B17C-93EC7FBA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FE5-4BDB-4A31-A305-A2728AA6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A47-6775-4545-8977-DCBE0523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45B-E8AD-4D97-B607-950F35AB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B8C-D01A-48F0-8BB0-0F7D7405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0D1-4F36-4DAA-A5AC-66F36B2C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081-307C-4B07-BCFF-E31B9D11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573-171E-4E0D-9B7A-49A47E4E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ED1A-433F-41DE-BC15-36C376CC1BA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0376-282D-4FB7-B10C-785D3834F8D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Lucida Sans"/>
              </a:rPr>
              <a:t>Introducción a la Asignatura:</a:t>
            </a:r>
            <a:br>
              <a:rPr sz="3600"/>
            </a:br>
            <a:r>
              <a:rPr b="0" i="1" lang="en-US" sz="3600" spc="-1" strike="noStrike">
                <a:solidFill>
                  <a:srgbClr val="006633"/>
                </a:solidFill>
                <a:latin typeface="Lucida Sans"/>
              </a:rPr>
              <a:t>“Modelos de Intervención y Práctica  Comunitaria”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Mª Elena Riveros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Lucida Sans"/>
              </a:rPr>
              <a:t>Para reflexionar …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Dónde trabajarán los TT.OO en el futu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Qué problemas deberán enfrent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Cuáles serán los principales desafíos que enfrentará la profes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Cómo se vincula la T.O con el Trabajo Comunitario en Salud?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rabajo Comunitario en Salud (T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905120"/>
            <a:ext cx="805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0000"/>
                </a:solidFill>
                <a:latin typeface="Lucida Sans"/>
                <a:ea typeface="Arial"/>
              </a:rPr>
              <a:t>Estrategia orientada a lograr la participación efectiva de la comunidad en las acciones tendientes a elevar los niveles de salud y mejorar la calidad de vida en la pobla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Los antes </a:t>
            </a:r>
            <a:r>
              <a:rPr b="0" i="1" lang="es-ES_tradnl" sz="2600" spc="-1" strike="noStrike">
                <a:solidFill>
                  <a:srgbClr val="006633"/>
                </a:solidFill>
                <a:latin typeface="Lucida Sans"/>
                <a:ea typeface="Arial"/>
              </a:rPr>
              <a:t>destinatarios</a:t>
            </a: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, hoy deberán ser </a:t>
            </a:r>
            <a:r>
              <a:rPr b="0" i="1" lang="es-ES_tradnl" sz="2600" spc="-1" strike="noStrike">
                <a:solidFill>
                  <a:srgbClr val="006633"/>
                </a:solidFill>
                <a:latin typeface="Lucida Sans"/>
                <a:ea typeface="Arial"/>
              </a:rPr>
              <a:t>sujetos </a:t>
            </a:r>
            <a:r>
              <a:rPr b="0" i="1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participantes</a:t>
            </a: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La comunidad en conjunto con el Equipo de Salu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Diagnos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Planif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Ejecu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Evalú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Sistemati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905120"/>
            <a:ext cx="798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Resultados en salud no dependen exclusivamente de las acciones del sector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Priorización de bases bioméd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Tareas de promoción y prevención ocupan un lugar central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Interacción en el espacio local e intersectorialidad</a:t>
            </a:r>
            <a:r>
              <a:rPr b="0" lang="es-ES_tradnl" sz="2600" spc="-1" strike="noStrike">
                <a:solidFill>
                  <a:srgbClr val="000000"/>
                </a:solidFill>
                <a:latin typeface="Berlin Sans FB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ecesidad de transitar desde el ambiente institucional a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Trabajar en la comunidad, sino con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Rol de la persona (usuario; cliente), en colaboración con el T.O es identificar qué significa calidad de vida y bienestar para ella, como también qué actividades le son significativas y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CS: Comunidad y Equipo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095560"/>
            <a:ext cx="2666880" cy="26668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2060640"/>
            <a:ext cx="2667240" cy="2666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9920" y="2925720"/>
            <a:ext cx="9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92560" y="3070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Lucida Sans"/>
              </a:rPr>
              <a:t>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565360"/>
            <a:ext cx="1152360" cy="17272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uga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ncu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pel del  contexto en la incidencia y manutención de las disfunciones.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Canales y estrategias de comunicación adecu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Logro de aprendizajes significativos y cambios a nivel individual, familiar y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Utilización de recursos necesarios para implementación de acciones.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Estrategias de atención grupal.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Aportes de la estrategia de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Aumento de la eficacia de las interve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ncorporación de ética de la participación en relación profesional-usu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ncremento de los recursos disponibles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Relación entre estrategia de TCS y T.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ecesidad de responder a las necesidades de la épo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Problemas actuales: violencia y abuso; enfermedad mental, desempleo; consumo de drogas; enfermedades crónicas; abuso infantil; abandono de los adultos mayores; entre muchos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Muchos de estos problemas afectan el desempeño ocup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T.O: buscan entender mecanismos que sostienen el desempeño de acciones cotidianas de los individu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Entender el DO, las características del ambiente de la persona, la naturaleza del significado de las actividades, las tareas, y los ro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3:39:47Z</dcterms:created>
  <dc:creator>mele</dc:creator>
  <dc:description/>
  <dc:language>en-US</dc:language>
  <cp:lastModifiedBy>mele</cp:lastModifiedBy>
  <dcterms:modified xsi:type="dcterms:W3CDTF">2006-03-06T14:04:46Z</dcterms:modified>
  <cp:revision>5</cp:revision>
  <dc:subject/>
  <dc:title>Introducción a la Asignatura: “Modelos de Intervención y Práctica  Comunitaria”</dc:title>
</cp:coreProperties>
</file>