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2.png" ContentType="image/png"/>
  <Override PartName="/ppt/media/image21.jpeg" ContentType="image/jpeg"/>
  <Override PartName="/ppt/media/image32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25.png" ContentType="image/png"/>
  <Override PartName="/ppt/media/image19.jpeg" ContentType="image/jpeg"/>
  <Override PartName="/ppt/media/image11.wmf" ContentType="image/x-wmf"/>
  <Override PartName="/ppt/media/image26.png" ContentType="image/png"/>
  <Override PartName="/ppt/media/image17.jpeg" ContentType="image/jpeg"/>
  <Override PartName="/ppt/media/image7.wmf" ContentType="image/x-wmf"/>
  <Override PartName="/ppt/media/image9.wmf" ContentType="image/x-wmf"/>
  <Override PartName="/ppt/media/image30.wmf" ContentType="image/x-wmf"/>
  <Override PartName="/ppt/media/image33.jpeg" ContentType="image/jpeg"/>
  <Override PartName="/ppt/media/image5.wmf" ContentType="image/x-wmf"/>
  <Override PartName="/ppt/media/image8.wmf" ContentType="image/x-wmf"/>
  <Override PartName="/ppt/media/image13.wmf" ContentType="image/x-wmf"/>
  <Override PartName="/ppt/media/image34.png" ContentType="image/png"/>
  <Override PartName="/ppt/media/image4.wmf" ContentType="image/x-wmf"/>
  <Override PartName="/ppt/media/image3.jpeg" ContentType="image/jpeg"/>
  <Override PartName="/ppt/media/image12.png" ContentType="image/png"/>
  <Override PartName="/ppt/media/image23.jpeg" ContentType="image/jpeg"/>
  <Override PartName="/ppt/media/image31.wmf" ContentType="image/x-wmf"/>
  <Override PartName="/ppt/media/image1.wmf" ContentType="image/x-wmf"/>
  <Override PartName="/ppt/media/image14.wmf" ContentType="image/x-wmf"/>
  <Override PartName="/ppt/media/image15.wmf" ContentType="image/x-wmf"/>
  <Override PartName="/ppt/media/image27.gif" ContentType="image/gif"/>
  <Override PartName="/ppt/media/image16.wmf" ContentType="image/x-wmf"/>
  <Override PartName="/ppt/media/image28.gif" ContentType="image/gif"/>
  <Override PartName="/ppt/media/image20.png" ContentType="image/png"/>
  <Override PartName="/ppt/media/image2.jpeg" ContentType="image/jpeg"/>
  <Override PartName="/ppt/media/image1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171C-FC59-48BF-A504-BBCA61FBD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0A13-8B05-4797-85A8-142EA160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DD04-5154-4154-87EC-E0A7328B9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F70F-6AF6-4768-8F93-1402366E9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9BC3-630D-4E82-907F-5D9614AF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D182-FF07-4B2B-9934-CE2AFB67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B3D4-F53D-426B-A581-7EB5BAB5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D7BB-54C1-498A-9207-6E0317FB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5E8C-A5F1-4A7D-8C7A-877B47FE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5089-F4EF-4074-B1A5-A34DB1B9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313A-FB89-43CA-9D7E-AF75D117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FC34-5EC3-4EC1-9796-2B21E4D3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EB35-766E-4F6C-B8E4-6226DFC9A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ANALES DE COMUNIC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5373720"/>
            <a:ext cx="64008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F ASISTENTE GLORIA CONTRERAS J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SCUELA DE OBSTETRI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59280" y="2133720"/>
            <a:ext cx="3095280" cy="28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763640" y="3573360"/>
            <a:ext cx="6782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AN PALABRAS COMO "ME HIZO CLICK..."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"ESCUCHAME...", "ME SUE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.."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ITMO ME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63640" y="4292640"/>
            <a:ext cx="69343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IENSAN DE MANERA SECUENCIAL, UNA 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R V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PIRACION HO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Z BIEN TIMB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CABULARIO ESME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627280" y="1989000"/>
            <a:ext cx="5905440" cy="1008720"/>
            <a:chOff x="2627280" y="1989000"/>
            <a:chExt cx="5905440" cy="1008720"/>
          </a:xfrm>
        </p:grpSpPr>
        <p:sp>
          <p:nvSpPr>
            <p:cNvPr id="76" name=""/>
            <p:cNvSpPr/>
            <p:nvPr/>
          </p:nvSpPr>
          <p:spPr>
            <a:xfrm>
              <a:off x="2627280" y="19890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27280" y="1989000"/>
              <a:ext cx="5905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N LOS QUE NECESITAN UN "AHA..."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"MMM...", ES DECIR, UNA COMPROBACIÓN AUDITIV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800600" y="12952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echnical"/>
              </a:rPr>
              <a:t>LOS AUDI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1847880" cy="28195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627280" y="3068640"/>
            <a:ext cx="54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STURA MAS SER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Reconocer a los auditivos"/>
          <p:cNvPicPr/>
          <p:nvPr/>
        </p:nvPicPr>
        <p:blipFill>
          <a:blip r:embed="rId1"/>
          <a:stretch/>
        </p:blipFill>
        <p:spPr>
          <a:xfrm>
            <a:off x="0" y="704880"/>
            <a:ext cx="914400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835280" y="3141720"/>
            <a:ext cx="6857640" cy="398880"/>
            <a:chOff x="1835280" y="3141720"/>
            <a:chExt cx="6857640" cy="398880"/>
          </a:xfrm>
        </p:grpSpPr>
        <p:sp>
          <p:nvSpPr>
            <p:cNvPr id="83" name=""/>
            <p:cNvSpPr/>
            <p:nvPr/>
          </p:nvSpPr>
          <p:spPr>
            <a:xfrm>
              <a:off x="1835280" y="31417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835280" y="3141720"/>
              <a:ext cx="685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ENEN MUCHA CAPACIDAD DE CONCENTR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1908000" y="3716280"/>
            <a:ext cx="6858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AN PALABRAS COMO "ME SIENTO DE TAL MANERA..."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"ME PUSO LA PIEL DE GALLINA TAL COSA..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Z BAJA, RITMO LENTO, CON MUCHAS PAU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STURA MUY TRANQU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VIMIENTOS MAS L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68480" y="2577960"/>
            <a:ext cx="662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DO ES A TRAVÉS DE SENS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52360" y="404640"/>
            <a:ext cx="8891640" cy="3657960"/>
            <a:chOff x="252360" y="404640"/>
            <a:chExt cx="8891640" cy="3657960"/>
          </a:xfrm>
        </p:grpSpPr>
        <p:sp>
          <p:nvSpPr>
            <p:cNvPr id="88" name=""/>
            <p:cNvSpPr/>
            <p:nvPr/>
          </p:nvSpPr>
          <p:spPr>
            <a:xfrm>
              <a:off x="252360" y="404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52360" y="404640"/>
              <a:ext cx="8891640" cy="365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" descr="kinestesico"/>
          <p:cNvPicPr/>
          <p:nvPr/>
        </p:nvPicPr>
        <p:blipFill>
          <a:blip r:embed="rId1"/>
          <a:stretch/>
        </p:blipFill>
        <p:spPr>
          <a:xfrm>
            <a:off x="1739880" y="749160"/>
            <a:ext cx="3124080" cy="1239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97480" y="12826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echnical"/>
              </a:rPr>
              <a:t>LOS</a:t>
            </a:r>
            <a:r>
              <a:rPr b="0" lang="es-ES" sz="2400" spc="-1" strike="noStrike">
                <a:solidFill>
                  <a:srgbClr val="000000"/>
                </a:solidFill>
                <a:latin typeface="Technic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echnical"/>
              </a:rPr>
              <a:t>KINESTES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Reconocer a los kinestésicos"/>
          <p:cNvPicPr/>
          <p:nvPr/>
        </p:nvPicPr>
        <p:blipFill>
          <a:blip r:embed="rId1"/>
          <a:stretch/>
        </p:blipFill>
        <p:spPr>
          <a:xfrm>
            <a:off x="0" y="63504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Veamos cuanto aprendimos?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Quién es Kinestésico, Auditivo  y Visu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Prueba Psicológica"/>
          <p:cNvPicPr/>
          <p:nvPr/>
        </p:nvPicPr>
        <p:blipFill>
          <a:blip r:embed="rId1"/>
          <a:stretch/>
        </p:blipFill>
        <p:spPr>
          <a:xfrm>
            <a:off x="324000" y="1268280"/>
            <a:ext cx="882000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test de inteligencia"/>
          <p:cNvPicPr/>
          <p:nvPr/>
        </p:nvPicPr>
        <p:blipFill>
          <a:blip r:embed="rId1"/>
          <a:stretch/>
        </p:blipFill>
        <p:spPr>
          <a:xfrm>
            <a:off x="250920" y="1197000"/>
            <a:ext cx="889308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uando hablamos lo hacemos desde  asociaciones de nuestro m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terpretación personal           ju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 haciendo descripciones sensor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n generalizaciones, ni ju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71640" y="2852640"/>
            <a:ext cx="1008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4360" y="342900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71640" y="515772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419640" y="476280"/>
            <a:ext cx="158112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8920" y="83664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¿Qué pasa cuando las palabras nos inva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3240360" cy="1481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940360" y="260280"/>
            <a:ext cx="2494080" cy="2162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547640" y="4869000"/>
            <a:ext cx="2673360" cy="971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804000" y="3827520"/>
            <a:ext cx="1495440" cy="1208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6084720" y="5373720"/>
            <a:ext cx="149400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ccesos ocular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11280" y="1341360"/>
            <a:ext cx="7993080" cy="49006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89280" y="1773360"/>
            <a:ext cx="7233840" cy="38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Verdana"/>
              </a:rPr>
              <a:t>Cuando haces a tu cerebro una pregun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Verdana"/>
              </a:rPr>
              <a:t>o necesitas encontrar un dato, tu cereb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Verdana"/>
              </a:rPr>
              <a:t>inicia una búsqueda. Tus ojos se moverá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Verdana"/>
              </a:rPr>
              <a:t>en distintas direcciones dependiendo 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Verdana"/>
              </a:rPr>
              <a:t>tipo de búsqueda que inicien. E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Verdana"/>
              </a:rPr>
              <a:t>búsqueda es lo que podríamos llamar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Verdana"/>
              </a:rPr>
              <a:t>proceso del pensamiento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Arial"/>
              </a:rPr>
              <a:t>Cada uno de nosotros tien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0099"/>
                </a:solidFill>
                <a:latin typeface="Arial"/>
              </a:rPr>
              <a:t>en su mente, el mundo representado según sus propias experiencias y sensaciones, percibidas a través de los diferentes sentidos. Una presuposición de la neurolingüistica  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s-ES_tradnl" sz="3600" spc="-1" strike="noStrike">
                <a:solidFill>
                  <a:srgbClr val="003399"/>
                </a:solidFill>
                <a:latin typeface="Arial"/>
              </a:rPr>
              <a:t>El mapa no es el territo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1739880" cy="1392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95280" y="4076640"/>
            <a:ext cx="230364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971640" y="1700280"/>
            <a:ext cx="7345440" cy="4170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03280" y="1916280"/>
            <a:ext cx="698508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Verdana"/>
              </a:rPr>
              <a:t>Las claves son: si sus ojos se dirigen hacia arriba a la izquierda está visualizando un recuerdo y si lo hace hacia la derecha está construyendo visualmente una ima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42920" y="160200"/>
            <a:ext cx="720108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26920" y="836640"/>
            <a:ext cx="7632720" cy="5092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042920" y="981000"/>
            <a:ext cx="748980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Si sus ojos miran rectos hacia la izquierda está recordando un sonido y creándolo si mira hacia la derech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Y si mira hacia abajo a la izquierda está metido en su "rollo interior" y si mira hacia abajo a la derecha está teniendo acceso al sistema kinestésico y/o sentimient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00000" y="27000"/>
            <a:ext cx="741708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99"/>
                </a:solidFill>
                <a:latin typeface="Arial"/>
              </a:rPr>
              <a:t>Frase acuñada por Korzybsky (Science and Sanity, 1933) tratando de explicar como las personas usan el lenguaje para representar la realidad que perci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99"/>
                </a:solidFill>
                <a:latin typeface="Arial"/>
              </a:rPr>
              <a:t>Bandler y Grinder: La realidad pasa por diversos filtros antes de ser percibida por nosotros: limitantes neurológicos, sociales e individu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99"/>
                </a:solidFill>
                <a:latin typeface="Arial"/>
              </a:rPr>
              <a:t>Gregory Bateson: Vida y mente son procesos sisté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40000" y="4365720"/>
            <a:ext cx="651672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635280" y="692280"/>
            <a:ext cx="1739880" cy="1312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4000" y="4941720"/>
            <a:ext cx="1985760" cy="157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411280" y="3532320"/>
            <a:ext cx="2089440" cy="1558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012000" y="4941720"/>
            <a:ext cx="1320840" cy="1366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516720" y="2708280"/>
            <a:ext cx="1828800" cy="1841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6516720" y="476280"/>
            <a:ext cx="1565280" cy="1832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826920" y="260280"/>
            <a:ext cx="2264040" cy="2852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0920" y="3284640"/>
            <a:ext cx="432108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867280" y="2492280"/>
            <a:ext cx="2521080" cy="388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9850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63640" y="1628640"/>
            <a:ext cx="597708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 mapa no es el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erritorio que represent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ero si es correcto, tendrá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a estructura semejante 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erritorio, lo cual da cuenta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u utilidad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71640" y="1799640"/>
            <a:ext cx="7345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Las personas nos ponemos en comunicación con el mundo a través de los sentidos y es también a través de los sentidos como establecemos la comunicación con noso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mism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708600" y="4221000"/>
            <a:ext cx="18846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Arial"/>
              </a:rPr>
              <a:t>Visu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Arial"/>
              </a:rPr>
              <a:t>Audi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Arial"/>
              </a:rPr>
              <a:t>Kinestés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95640" y="765000"/>
            <a:ext cx="144648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780000" y="2205000"/>
            <a:ext cx="1812600" cy="1455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635280" y="3789360"/>
            <a:ext cx="1749600" cy="1765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7236000" y="4149720"/>
            <a:ext cx="1096920" cy="1512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5508720" y="5445000"/>
            <a:ext cx="157644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visual"/>
          <p:cNvPicPr/>
          <p:nvPr/>
        </p:nvPicPr>
        <p:blipFill>
          <a:blip r:embed="rId1"/>
          <a:stretch/>
        </p:blipFill>
        <p:spPr>
          <a:xfrm>
            <a:off x="1066680" y="380880"/>
            <a:ext cx="3146400" cy="1143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34120" y="685800"/>
            <a:ext cx="2743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echnical"/>
              </a:rPr>
              <a:t>LOS VISU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2362320"/>
            <a:ext cx="77691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CESIT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R MIRAD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ENEN QUE 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QUE SE LES ESTÁ PRESTANDO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EN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CEN COSAS COMO "MIRA...", "NECESITO QUE ME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LARES TU ENFOQUE SOBRE...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ABLAN MÁS RÁPIDO, CON RITMO ENTRECORTA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ENEN UN VOLUMEN MÁS ALT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IENSAN EN IMÁGENES Y MUCHAS COSAS AL MISMO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EMPO, HACEN  GESTOS HACIA ARRI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LMENTE EMPIEZAN UNA FRASE Y ANTES D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RMINARLA PASAN A OTR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MANTIENEN RECTO….. Y ….  A  MAYOR DIST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1828800"/>
            <a:ext cx="5486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REFERENCIAN LO QUE SE 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Reconocer a los visuales 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04:38:55Z</dcterms:created>
  <dc:creator>Mamá</dc:creator>
  <dc:description/>
  <dc:language>en-US</dc:language>
  <cp:lastModifiedBy>Fac. de Medicina</cp:lastModifiedBy>
  <dcterms:modified xsi:type="dcterms:W3CDTF">2008-01-29T17:54:14Z</dcterms:modified>
  <cp:revision>10</cp:revision>
  <dc:subject/>
  <dc:title>Diapositiva 1</dc:title>
</cp:coreProperties>
</file>