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1DB-939A-43FC-8C77-2EB1634E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190-A9DD-4F21-B105-1D494FCA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C9E-52B4-47F0-B212-C148C6F6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4C5-E6FA-4868-9145-9CE16CCB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3E8-29E9-4596-B78A-1DF16C83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857-8D07-4E9C-812D-15D50ADE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D33-FCF5-494E-90A2-D2E0032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DCA-84AE-4B75-AC50-5FB4C255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148-4028-4509-8E53-11C9C516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CE7-D075-4D6B-8695-94847621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0A34-FE92-42A7-8B39-54D86BF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4FD-706D-476A-832A-45E0524A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7610-999A-4CBF-9DD9-814CAF03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onografias.com/trabajos15/direccion/direccion.shtml" TargetMode="External"/><Relationship Id="rId3" Type="http://schemas.openxmlformats.org/officeDocument/2006/relationships/hyperlink" Target="http://www.monografias.com/trabajos7/mafu/mafu.shtml" TargetMode="External"/><Relationship Id="rId4" Type="http://schemas.openxmlformats.org/officeDocument/2006/relationships/hyperlink" Target="http://www.monografias.com/trabajos16/objetivos-educacion/objetivos-educacion.shtml" TargetMode="External"/><Relationship Id="rId5" Type="http://schemas.openxmlformats.org/officeDocument/2006/relationships/hyperlink" Target="http://www.monografias.com/trabajos14/dinamica-grupos/dinamica-grupos.shtml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iderazgo situacion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f. Asistente Gloria Contreras J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2852640"/>
            <a:ext cx="2447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 debe considerar tanto el área de decisión (condiciones físicas del trabajo y condiciones ambientales tales como el ruido, ambientación...) y el contexto (factores sociales tales como la relación interpersonal que se da entre los trabajadores, el "clima" organizacional,...) para afrontar el problema de liderazgo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l líder debe mejorar su habilidad para diagnosticar una situación y su flexibilidad personal para desempeñar cualquier función de liderazgo que se necesite en una situación determinada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o surge la teorí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La teoría de liderazgo situacional, surge a partir del estudio de la conducta de los lideres en situaciones muy diversa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Esta teoría se basa en dos variables 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cantidad de dirección (conducta de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tarea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cantidad de apoyo socioemocional (conducta de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lación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El líder lo debe proporcionar en una situación determinada según el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"nivel de madurez”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de sus subordinado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Modelo de liderazgo  situacional de</a:t>
            </a:r>
            <a:br>
              <a:rPr sz="2800"/>
            </a:br>
            <a:r>
              <a:rPr b="1" lang="es-ES" sz="2800" spc="-1" strike="noStrike">
                <a:solidFill>
                  <a:srgbClr val="000099"/>
                </a:solidFill>
                <a:latin typeface="Arial"/>
              </a:rPr>
              <a:t>Hersey y Blanchard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916280"/>
            <a:ext cx="5183280" cy="381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484280"/>
            <a:ext cx="2195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5445000"/>
            <a:ext cx="2195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445000"/>
            <a:ext cx="2195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13000"/>
            <a:ext cx="2195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773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ticip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1628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ua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7340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leg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573408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 órd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89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393372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332000" y="2636640"/>
            <a:ext cx="0" cy="266508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6021360"/>
            <a:ext cx="37450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611280" y="2565360"/>
            <a:ext cx="454680" cy="27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ONDUCTA DE A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1640" y="616572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</a:rPr>
              <a:t>CONDUCTA DIRE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205000"/>
            <a:ext cx="17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POCO ACENTO EN LA T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13372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FUERTE ACENTO EN LA T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2708280"/>
            <a:ext cx="2519280" cy="2233440"/>
          </a:xfrm>
          <a:prstGeom prst="ellipse">
            <a:avLst/>
          </a:prstGeom>
          <a:noFill/>
          <a:ln w="1260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3933720"/>
            <a:ext cx="1440000" cy="122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005360"/>
            <a:ext cx="1297080" cy="107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4005360"/>
            <a:ext cx="1512720" cy="1008000"/>
          </a:xfrm>
          <a:custGeom>
            <a:avLst/>
            <a:gdLst/>
            <a:ahLst/>
            <a:rect l="l" t="t" r="r" b="b"/>
            <a:pathLst>
              <a:path w="953" h="635">
                <a:moveTo>
                  <a:pt x="136" y="0"/>
                </a:moveTo>
                <a:cubicBezTo>
                  <a:pt x="68" y="196"/>
                  <a:pt x="0" y="393"/>
                  <a:pt x="136" y="499"/>
                </a:cubicBezTo>
                <a:cubicBezTo>
                  <a:pt x="272" y="605"/>
                  <a:pt x="817" y="612"/>
                  <a:pt x="953" y="635"/>
                </a:cubicBezTo>
              </a:path>
            </a:pathLst>
          </a:custGeom>
          <a:noFill/>
          <a:ln w="1260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3933720"/>
            <a:ext cx="1596960" cy="1008000"/>
          </a:xfrm>
          <a:custGeom>
            <a:avLst/>
            <a:gdLst/>
            <a:ahLst/>
            <a:rect l="l" t="t" r="r" b="b"/>
            <a:pathLst>
              <a:path w="1006" h="635">
                <a:moveTo>
                  <a:pt x="862" y="0"/>
                </a:moveTo>
                <a:cubicBezTo>
                  <a:pt x="934" y="196"/>
                  <a:pt x="1006" y="392"/>
                  <a:pt x="862" y="498"/>
                </a:cubicBezTo>
                <a:cubicBezTo>
                  <a:pt x="718" y="604"/>
                  <a:pt x="143" y="612"/>
                  <a:pt x="0" y="635"/>
                </a:cubicBezTo>
              </a:path>
            </a:pathLst>
          </a:custGeom>
          <a:noFill/>
          <a:ln w="1260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4211640" y="2420640"/>
            <a:ext cx="3934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Verdana"/>
              </a:rPr>
              <a:t>RE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16360" y="357336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Verdana"/>
              </a:rPr>
              <a:t>T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3141720"/>
            <a:ext cx="14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Fuerte acento en la re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2781360"/>
            <a:ext cx="15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Fuerte acento en la re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15772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POCO ACENTO EN LA T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5157720"/>
            <a:ext cx="2089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Verdana"/>
              </a:rPr>
              <a:t>FUERTE ACENTO EN LA T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4005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Poco acento en la re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00720" y="4365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Poco acento en la re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 entendemos por madurez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durez: capacidad de formular metas altas pero alcanzable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 variable de madurez debe ser considerada en relación a una tarea especifica que ha de ser ejecutada. El individuo no es maduro o inmaduro en sentido total. Su madurez depende de la tarea especific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366840"/>
            <a:ext cx="9144000" cy="6124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03280" y="5734080"/>
            <a:ext cx="6193080" cy="216000"/>
          </a:xfrm>
          <a:prstGeom prst="leftArrow">
            <a:avLst>
              <a:gd name="adj1" fmla="val 50000"/>
              <a:gd name="adj2" fmla="val 716792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¿Cual estilo es mejor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No hay un estilo de liderazgo mejor que otro, depende de la situación.</a:t>
            </a:r>
            <a:br>
              <a:rPr sz="2800"/>
            </a:b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La teoría del liderazgo situacional esta basada en la interacción ent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La cantidad de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rección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(conducta de tarea) que ofrece un líd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La cantidad de apoyo socioemocional (conducta de relación) que proporciona 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el nivel de madurez que demuestran los seguidores de una tarea,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unción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u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bjetivo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 especifico que el líder intenta realizar a través de un individuo o 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rupo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Los lideres efectivos deben conocer a su personal lo suficientemente bien para dar respuestas apropiadas a las demandas que las habilidades siempre cambiantes de sus colaboradores exigen en todo momento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l líder debe recordar que los seguidores como individuos y como grupos desarrollan sus propios patrones de conducta y formas de operar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uede que con frecuencia el líder tenga que comportarse de modo diferente con cada uno de sus hombres, porque están en diferentes niveles de madurez.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5:32:21Z</dcterms:created>
  <dc:creator>Fac. de Medicina</dc:creator>
  <dc:description/>
  <dc:language>en-US</dc:language>
  <cp:lastModifiedBy>Fac. de Medicina</cp:lastModifiedBy>
  <dcterms:modified xsi:type="dcterms:W3CDTF">2008-08-19T17:10:13Z</dcterms:modified>
  <cp:revision>5</cp:revision>
  <dc:subject/>
  <dc:title>Diapositiva 1</dc:title>
</cp:coreProperties>
</file>