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2D6-234B-419D-A3FD-76DB3FEE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3AF-6B0B-4D26-8B98-91D1B60C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1E5-6717-431C-8659-A83D549C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6D6-5198-4BA3-B5E6-1F62F033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7CBD-50F4-46B7-9DAE-43F29A5E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89D3-0DFE-45FB-B5BB-CAB6E304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7B35-C5B7-4CC7-A442-AB0FA6AC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2EB7-FDE3-4E15-BC69-813E46D7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59EA-CD77-4922-B45C-2E87BC7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B07C-B113-41F3-888A-FB66AEE9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B1B2-B0C3-46F7-A700-25DA7B67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9DB-772B-4E18-BEBB-4350917F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3291-1DB6-4CEC-8483-56356FDF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A5D1-74F9-427C-8BB8-36C14B69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5BFE-8EF1-4E38-A270-4A2DC244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D8ED-24B4-4388-A324-88DEF6A0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E968-426F-4A3A-82AC-A21EAA30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F68-7E16-43E2-8A69-76E78447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F5F-21A6-4790-B0BE-39DFBDF0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2F0-3EE1-4C78-A06A-A1C05928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177-6990-46ED-A921-F6C79BA6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3C6-CD59-46DF-A432-583B3EA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3A0-DA73-463F-A5C0-19AE8CDF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DA8-2797-482A-A8B6-1BBAB0F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9DD9-01BC-4A7D-8EAA-B9601EF68BF5}" type="datetime">
              <a:rPr b="0" lang="es-ES" sz="1400" spc="-1" strike="noStrike">
                <a:solidFill>
                  <a:srgbClr val="003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32D1-698A-4E9B-AB91-21EE7914854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33CF-7BD5-499F-BA75-7FE755A50CF9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7E7-CD40-4199-91CC-11038B1E4FB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ASERTIVIDA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4572000" cy="1219320"/>
          </a:xfrm>
          <a:prstGeom prst="rect">
            <a:avLst/>
          </a:prstGeom>
          <a:solidFill>
            <a:srgbClr val="99cc99"/>
          </a:solidFill>
          <a:ln w="9360">
            <a:solidFill>
              <a:srgbClr val="99cc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Prof. Gloria Contreras Jar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Escuela de Obstetrici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02256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6595-2A7D-4BBD-813B-35665E5F86F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06E95E6-AE19-4CAF-BB15-8E191FAF6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33300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99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écn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62064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1628640"/>
            <a:ext cx="60962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anco de Niebla: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nsiste en reconocer que, e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o en todo, nuestro interlocutor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tener razón, pero que solo nosotros somos nuestros propios juec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ta técnica tiene matic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- Convenir en la verdad: “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Si, tiene Ud. razón..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- Convenir en la posibilidad: “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Si, es posible que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..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- Convenir en principio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Lo mejor que puede Ud. hacer es lo que yo le digo, cualquier otra cosa es una tontería, hágame caso que yo soy un experto..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Ya se que es perfecto lo que me dice, pero creo que es mejor que lo intente y con mi experiencia y mis medios”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220824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5F6-2418-4590-A7FF-2EDEA7B6328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43793-3E8D-4527-B157-AEE34B72D9FC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71640" y="47628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écnic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234936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co rayado: Técnica que, mediante la repetición serena de las palabras que expresan nuestros deseos, una y otra vez, enseña la virtud de la persistencia, sin tener que ensayar argumentos o sentimientos de ira de antemano, con el objeto de «calentarse» con miras al enfrentamiento con los demás. Es seguir con el mismo argumento desde</a:t>
            </a: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principio, sin variarlo. </a:t>
            </a: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ente a un vendedor: No me interesa, muchas graci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2700360" cy="23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A53-FCC9-4783-8A92-9F7465E7202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84616-49D0-4260-9367-7C2D0FD827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92240" y="549360"/>
            <a:ext cx="715176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xisten una serie de manipulaciones si decimos que no.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nte la negativa se suelen producir las siguientes manipulaciones: 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 Halag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Yo siempre creí que eras un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so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na generosa... </a:t>
            </a:r>
            <a:br>
              <a:rPr sz="2000"/>
            </a:b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• Critic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Pero, siempre tienes algún problema para... </a:t>
            </a:r>
            <a:br>
              <a:rPr sz="2000"/>
            </a:b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• Provocar pen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Sabes que no te lo pediría si no estuviera en las últimas... </a:t>
            </a:r>
            <a:br>
              <a:rPr sz="2000"/>
            </a:b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• Excepción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Nunca te había pedido nada hasta ahora... ni te lo volveré a pedir jamás. </a:t>
            </a:r>
            <a:br>
              <a:rPr sz="2000"/>
            </a:b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• Última vez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Te prometo que ésta es la última vez que te lo pido. </a:t>
            </a:r>
            <a:br>
              <a:rPr sz="2000"/>
            </a:b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• Inducción de culp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Sinceramente me dejas muy mal si te niegas a... 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¿Qué técnica usaría usted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1662120" cy="1865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628640"/>
            <a:ext cx="6095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5AB-DA00-4B42-B582-09BF47EE441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47F8A-140D-43B2-A9D5-E3ED3C91FD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99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Arial"/>
              </a:rPr>
              <a:t>ESTRATE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Tener buen concepto de si mis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Planificar los mensaj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Ser educ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Guardar las disculpas para cuando sean necesar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Nunca recurrir a las amenaz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Aceptar la derrota cuando sea neces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981840" y="0"/>
            <a:ext cx="216216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408-471E-441D-8A9C-2582049841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1424E-B0DC-4D60-813E-DB0867EBE3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99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Consejos para un mensaje asertiv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 primera perso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untar al senti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pecífico a la situación, aquí y aho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orrar de nuestro repertorio las palabras nunca, siempre, ninguno, nadie, jamá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 acusar, sin ese “tú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46880" y="0"/>
            <a:ext cx="179712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318-033C-4CF9-BD9D-3664361804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A71A0-8FB9-4464-8DE1-AEB36973A6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248520" y="4267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993366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C86-EBF0-4399-876F-8907FCCA62AB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A1AC2-9E78-4556-9A39-B49B02A382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609480"/>
            <a:ext cx="75438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5050"/>
                </a:solidFill>
                <a:latin typeface="Verdana"/>
              </a:rPr>
              <a:t>Y AHORA ......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cc3300"/>
                </a:solidFill>
                <a:latin typeface="Verdana"/>
              </a:rPr>
              <a:t>         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cc3300"/>
                </a:solidFill>
                <a:latin typeface="Verdana"/>
              </a:rPr>
              <a:t>          </a:t>
            </a:r>
            <a:r>
              <a:rPr b="1" lang="es-ES_tradnl" sz="4800" spc="-1" strike="noStrike">
                <a:solidFill>
                  <a:srgbClr val="ffffff"/>
                </a:solidFill>
                <a:latin typeface="Verdana"/>
              </a:rPr>
              <a:t>¡A PRACTICAR¡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DFD-78E7-4DD3-9989-2B8009E8BBC4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DC2DE-3642-49E7-BECD-C4F3063AC6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35049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99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CONCEP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PRINCIPIOS Y DERECH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ODELO DE VIDA</a:t>
            </a: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                                                  </a:t>
            </a: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ÉXITO E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                                             </a:t>
            </a: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LA COMUNICACIÓN HUMA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HABILIDA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PARA TRANSMITIR Y RECIBIR MENSAJ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EN FORMA HONES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RELACION EN UN CONTACTO POSI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362320"/>
            <a:ext cx="12952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65560"/>
            <a:ext cx="182880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170-A677-4214-B258-876B29886D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2D484-D29B-46F1-AF8D-35205033707D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26920" y="22050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delo de efec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Profundo respeto del y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Satisfacción 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2735280" cy="2982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484360" y="6381720"/>
            <a:ext cx="28958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979-3BA1-4099-B113-86038E3970A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41949-56AB-42D4-A10F-B3A22D61D278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Principios 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52680" y="19051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petarse a si mis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A los dem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Ser dir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Hone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Apropi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Control Emoci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Saber dec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Saber Escuch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Ser posi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6699"/>
                </a:solidFill>
                <a:latin typeface="Arial"/>
              </a:rPr>
              <a:t>Lenguaje no verb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274320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890-94B3-4836-8ECA-3456E719CA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DDEB8-3B6F-4FBC-945D-80C35CB2A163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DERECHOS ASER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Puntos a hacer valer          ante los demá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            </a:t>
            </a: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a sostener               ante nosot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Respetar nuestros propios derech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Observar los principios como modelo 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efec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Aguilar Kubli               Derechos Asertivos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1844640"/>
            <a:ext cx="533520" cy="7621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4886280"/>
            <a:ext cx="1231920" cy="1971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356000" y="5229360"/>
            <a:ext cx="701640" cy="287280"/>
          </a:xfrm>
          <a:prstGeom prst="rightArrow">
            <a:avLst>
              <a:gd name="adj1" fmla="val 50000"/>
              <a:gd name="adj2" fmla="val 61059"/>
            </a:avLst>
          </a:pr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1DE-F935-4E4E-A308-EEE9AAF4CA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5BF7C-1DDC-4317-805A-EBAB9046F60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666520" y="9144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SER TRATADO CON RESPETO Y DIGN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TENER OPINIONES PROPIAS Y EXPRESAR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SER ESCUCHADO Y TOMADO EN SERI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JUZGAR MIS NECESIDADES, ESTABLECER MIS PRIORIDADES Y TOMAR MIS PROPIAS DECIS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A DECIR </a:t>
            </a:r>
            <a:r>
              <a:rPr b="1" lang="es-ES" sz="2000" spc="-1" strike="noStrike">
                <a:solidFill>
                  <a:srgbClr val="666699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 Y A NO SENTIR CULP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PEDIR LOS QUE QUIERO, SABIENDO QUE EL OTRO PUEDE DECIR N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A CAMBI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A COMETER ERRO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A PEDIR INFORMACION Y A SER INFORM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OBTENER AQUELLO POR LO QUE PAGUÉ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A DECIDIR NO SER ASERTIV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A SER INDEPENDI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1752480" cy="360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30520" y="269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9C8-A08D-496D-92A8-AA39E5EAE0E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3AA6D-1243-4CCC-9767-F04AE68792A7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6699"/>
                </a:solidFill>
                <a:latin typeface="Arial"/>
              </a:rPr>
              <a:t>DECIDIR QUE HACER CON MIS PROPIEDADES, CUERPO,TIEMPO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6699"/>
                </a:solidFill>
                <a:latin typeface="Arial"/>
              </a:rPr>
              <a:t>A TENER ÉXI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6699"/>
                </a:solidFill>
                <a:latin typeface="Arial"/>
              </a:rPr>
              <a:t>A GOZAR Y DISFRUT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6699"/>
                </a:solidFill>
                <a:latin typeface="Arial"/>
              </a:rPr>
              <a:t>A MI DESCANSO, AISLAMIENTO, SIENDO ASER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6699"/>
                </a:solidFill>
                <a:latin typeface="Arial"/>
              </a:rPr>
              <a:t>EL DERECHO A SUPERARME, AUN SUPERANDO A LOS DE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1C6-E119-4146-ACE5-BECA3BDA019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C40FA-3BCA-4C1E-B25D-A48C9C017E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58760" y="761760"/>
            <a:ext cx="6043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99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Tipos de conducta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Socialmente hábil: </a:t>
            </a: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Reconocer responsabilidad. Consecuencia de expresar los sent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Agresiva : </a:t>
            </a: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Yo debo ganar para estar bien. Si no soy fuerte, no quiero ser escuchado. Comprometerse es perder. Yo estoy bien y los demás n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Pasiva: </a:t>
            </a: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Incapacidad de expresar. Peligro de        “estalla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913120"/>
            <a:ext cx="213372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1FF-2D68-47C0-91D2-FDB81FA35D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DC9A2-2342-4D17-87C2-7AD06A4164EB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OMPORTAMIENTO ASERTIV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Tipo de habilidad soc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Comportamiento donde se puede expresar lo que se necesita, siente o cre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Sin ofen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Abriendo posibilidades de diálogo y amistad con los demá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105732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AE8-0388-425F-8D33-97796E6695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D76D6-8F9B-45DD-B790-CA92DED8D590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. de Medicina</cp:lastModifiedBy>
  <dcterms:modified xsi:type="dcterms:W3CDTF">2008-08-12T17:39:18Z</dcterms:modified>
  <cp:revision>10</cp:revision>
  <dc:subject/>
  <dc:title>Presentación de PowerPoint</dc:title>
</cp:coreProperties>
</file>