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21.jpeg" ContentType="image/jpeg"/>
  <Override PartName="/ppt/media/image15.wmf" ContentType="image/x-wmf"/>
  <Override PartName="/ppt/media/image19.png" ContentType="image/png"/>
  <Override PartName="/ppt/media/image1.png" ContentType="image/png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3.wmf" ContentType="image/x-wmf"/>
  <Override PartName="/ppt/media/image7.gif" ContentType="image/gif"/>
  <Override PartName="/ppt/media/image20.wmf" ContentType="image/x-wmf"/>
  <Override PartName="/ppt/media/image4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164-9669-4768-A0AA-C31EEABA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762A-CD19-4C97-94C5-F8EEF4D6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30ED-B349-404C-BB09-DDE99CD5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A8F-5FC7-44B1-BC96-B515A199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3130-7E82-4F32-ADA1-D3CD9B8C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DAF1-3467-4702-9E89-4E7633F6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B57-209A-436E-86D5-74F5043B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74D-F19B-46E7-A962-6551BD9C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970-17AC-4F7D-99A8-54427F9E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9B3A-205D-4C33-BBA7-C7C5EAD3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5648-E0CA-4926-B252-7EA4255B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673-46E7-4B14-A1AD-CE68F849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AC51-8F4D-410B-B32B-21A25352AA32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5805000"/>
            <a:ext cx="640080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PROF ASISTENTE GLORIA CONTRERAS 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763640" y="765000"/>
            <a:ext cx="5113440" cy="4583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93800" y="2708280"/>
            <a:ext cx="53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TIPOS DE PO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092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oder exper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 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 basa en el respeto que tiene la persona que obedece con respecto a los conocimientos y experiencia del que manda, el cual puede actuar de consejero. Todos nos fiamos de lo que dicen los expertos en economía, informática, deportes y otras materias cuando salen en los medios de comunicación, y puede que muchos se equivoquen, pero en teoría no debería ser as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16000" y="260280"/>
            <a:ext cx="15685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oder afectiv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tá fundamentado en la relación personal y emocional de vinculación. Es la capacidad de compromiso con la persona por los vínculos afectivos que puedan unir a las par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l amor y el respeto juegan un papel importa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588000" y="404640"/>
            <a:ext cx="178596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03280" y="836280"/>
            <a:ext cx="68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oder de relacion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 un poder indirecto; no se basa en las habilidades y capacidades de quienes las utilizan, sino en su conexión, en sus contactos. </a:t>
            </a:r>
            <a:r>
              <a:rPr b="0" i="1" lang="en-US" sz="3200" spc="-1" strike="noStrike">
                <a:solidFill>
                  <a:srgbClr val="000099"/>
                </a:solidFill>
                <a:latin typeface="Arial"/>
              </a:rPr>
              <a:t>“No lo puedo, pero se quién lo puede”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. Se puede confundir con el poder de la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51000" y="0"/>
            <a:ext cx="20890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Otros tipos de po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517840" y="1701720"/>
            <a:ext cx="41068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er legíti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sulta de la investidura de alguien en autoridad, por lo cual los subordinados están obligados a obedecerle. Es distinto en esencia de los otros tipos de poder, ya que esta fuerza sólo la pueden ejercer quienes tengan un cargo o posición social definida. En la empresa, el poder de legitimidad lo tiene la jerarquía de trabajadores. El gerente manda sobre el subgerente y así  sucesivamente. Este poder puede ser ejercido hasta d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 permite la especificación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ue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659640" y="4797360"/>
            <a:ext cx="176364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765000"/>
            <a:ext cx="58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oder econó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deroso caballero es don diner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 tanta su majestad,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unque son sus duelos hartos,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ue aun con estar hecho cuartos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 pierde su calidad.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ero pues da autoridad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 gañán y al jornaler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ancisco de Quevedo y Villeg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26920" y="5589720"/>
            <a:ext cx="1073160" cy="10731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804000" y="333360"/>
            <a:ext cx="208764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6985080" cy="5318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58920" y="54936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Poder                 Autor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56844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4400" spc="-1" strike="noStrike">
                <a:solidFill>
                  <a:srgbClr val="c6d308"/>
                </a:solidFill>
                <a:latin typeface="Arial"/>
              </a:rPr>
              <a:t>PODER             AUTORIDAD</a:t>
            </a: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916280"/>
            <a:ext cx="437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Arial"/>
              </a:rPr>
              <a:t>Es la capacidad de forzar a alguien para que este haga tu voluntad debido a tu posición o a tu fuer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Arial"/>
              </a:rPr>
              <a:t>Capacidad que no exige inteligencia ni v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67120" y="1989000"/>
            <a:ext cx="437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960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800" spc="-1" strike="noStrike">
                <a:solidFill>
                  <a:srgbClr val="000066"/>
                </a:solidFill>
                <a:latin typeface="Arial"/>
              </a:rPr>
              <a:t>Es el arte de   conseguir que la gente haga voluntariamente lo que tu quieres debido a tu influencia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960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Arial"/>
              </a:rPr>
              <a:t>Es un 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140360" y="4653000"/>
            <a:ext cx="13032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51879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156360" y="299736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F I 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Diccionario de la Real Academ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Española, PODER, proviene  de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latín </a:t>
            </a:r>
            <a:r>
              <a:rPr b="0" i="1" lang="es-ES_tradnl" sz="2800" spc="-1" strike="noStrike">
                <a:solidFill>
                  <a:srgbClr val="000099"/>
                </a:solidFill>
                <a:latin typeface="Arial"/>
              </a:rPr>
              <a:t>*potēre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P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tr. Tener expedita la facultad o potencia de hacer al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m. Dominio, imperio, facultad y jurisdicción que alguien tiene para mandar o ejecutar al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 psicología. Oportunidad o posibilidad existente en una relación social que permite a un individuo cumplir su propia voluntad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77080" y="836640"/>
            <a:ext cx="204480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76000" y="1844640"/>
            <a:ext cx="65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s-ES_tradnl" sz="3200" spc="-1" strike="noStrike">
                <a:solidFill>
                  <a:srgbClr val="000066"/>
                </a:solidFill>
                <a:latin typeface="Arial"/>
              </a:rPr>
              <a:t>"Todos lo buscan, pocos llegan a tenerlo, muchos abusan de este y nadie quiere dejarlo"</a:t>
            </a:r>
            <a:r>
              <a:rPr b="0" i="1" lang="es-ES_tradnl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5050"/>
                </a:solidFill>
                <a:latin typeface="Arial"/>
              </a:rPr>
              <a:t>Ernesto Yturral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82296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64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oder de informac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La información es poder”.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Quien la tiene, mantiene las bases para los cambios. El tener acceso a las fuentes de información, confiere el poder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ólo si sabemos que hacer con la inform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24720" y="4797360"/>
            <a:ext cx="1054080" cy="1811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4360" y="757080"/>
            <a:ext cx="15573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oder carismático.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o referent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ste poder tiene mucho que ver con la comunicación. Surge de la admiración de otro y del deseo de ser como esa persona. La persona con la cual te identificas se denomina "carismática". Si admiras a alguien hasta el punto de moldear tu comportamiento o actitudes, él posee poder referente sobre ti. Podemos encontrarnos a políticos, empresarios o deportistas, entre otros, que poseen ésta cualidad mediante la cual nos hacen creer ciegamente en lo que dic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308720" y="189000"/>
            <a:ext cx="14940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oder norm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 aquel que se acepta como norma, como una legalidad no escrita y aceptada, usualmente influido por el microentorno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 el poder de la capacidad de generar normas en determinados espacios.  Ej.:Panadería , determinada consul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be distinguirse del poder experto, ya que una muy frágil línea puede separarlo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126200" y="0"/>
            <a:ext cx="20178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oder de castigar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o coercitivo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200320" y="1622520"/>
            <a:ext cx="4743360" cy="3612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00000" y="2276640"/>
            <a:ext cx="7777440" cy="37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der sobre la otra parte que le permite ser amenazador, punitivo, coercitivo, a través de sanciones, reprimendas, multas, acciones legales, ruptura de relaciones, entre otros factores similares. El poder basado en la fuer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oder de premiar o recompens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 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"A" cambia su conducta si ve que al realizar este cambio conseguirá de B algo que desea, un premio o recompensa. Esta relación de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ependencia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sca ante todo la gratificación de diferentes formas: dinero, promoción laboral, reconocimiento público, etc. Si el trabajador obedece al jefe, puede que consiga un aumento de sueldo, un ascenso o alguna otra cosa positi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“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 te portas bien te querré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04000" y="5157720"/>
            <a:ext cx="162864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21:05:20Z</dcterms:created>
  <dc:creator>Mamá</dc:creator>
  <dc:description/>
  <dc:language>en-US</dc:language>
  <cp:lastModifiedBy>Fac. de Medicina</cp:lastModifiedBy>
  <dcterms:modified xsi:type="dcterms:W3CDTF">2007-05-30T15:39:30Z</dcterms:modified>
  <cp:revision>8</cp:revision>
  <dc:subject/>
  <dc:title>Diapositiva 1</dc:title>
</cp:coreProperties>
</file>