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6B97-D0FA-4A10-BB89-70A6714B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A484-46E9-4A77-AEFD-D9E9F520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881A-0040-43DB-B9C3-B784F9BB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9B6C-E8E9-4724-B476-83BF91C9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112E-8575-45D6-9639-04FE659A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87C1-EB77-4EEB-B844-F0F302E0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591A-EB51-4953-95A8-218C9FC2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600B-972E-4795-A8C9-CF4E935E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04C4-8A92-4303-BD0B-DF9F1DA8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0FDA-C1EC-4E8E-84D3-E037E336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92FD-EBBA-4354-8F15-B5FB0464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5B99-B1A1-48DF-889D-9B63293B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EB97-0068-43E0-A085-C70E3E39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D3F9-2F19-42FE-9397-EE76F72C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A50E-5461-4848-BB87-5D3754BC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C457-EF86-46C9-BCD0-71F5046C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202D-BD4F-466E-B55A-7A079040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C203-0C26-482B-94B4-1B77F9A6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66E2-38E1-454F-8EDC-19E73BAA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997D-38B4-4EA3-80F1-3756F80A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9503-1D2A-490E-B2C4-0795DCC3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3477-8427-4643-B316-0D0C69DD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AC81-EC35-4640-80A4-B3B6F03A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D961-D23D-4B8D-A522-F206084F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3481-5114-42D4-B720-58A693A8EDAE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46E9-777B-4F46-ACA7-10DA2234BC24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Frontisuchile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hyperlink" Target="http://putu.dcc.uchile.cl/mambo/images/logo_uchile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coma.es/?PHPSESSID=0b23539f544c3dd0230301b71d5c6d1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8214-E681-4977-B851-082DA1DAC8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Dimensiones de la calida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2492280"/>
            <a:ext cx="853272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Comodidades o confort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se refiere a todos aquellos aspecto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que no inciden directamente vinculados a la atención de salud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pero que inciden en sus calidad, en el grado de satisfacció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del usuario y su adhesividad al sistema (imagen, valor agregado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3789360"/>
            <a:ext cx="853272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Privacidad 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se refiere a la condición que garantiza un lugar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xclusivo y condiciones para la entrega de un servicio en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cualquier lugar de la institución (no interrupción, lugar par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Desvestirse, cubrir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5157720"/>
            <a:ext cx="853272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Confidencialidad 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se refiere a guardar sin divulgar a tercero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lo que el usuario entrega de información general o en la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prestaciones de salu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3860640"/>
            <a:ext cx="480960" cy="505080"/>
          </a:xfrm>
          <a:custGeom>
            <a:avLst/>
            <a:gdLst>
              <a:gd name="textAreaLeft" fmla="*/ 212040 w 480960"/>
              <a:gd name="textAreaRight" fmla="*/ 268920 w 480960"/>
              <a:gd name="textAreaTop" fmla="*/ 222480 h 505080"/>
              <a:gd name="textAreaBottom" fmla="*/ 2826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521" y="9521"/>
                </a:lnTo>
                <a:lnTo>
                  <a:pt x="10800" y="0"/>
                </a:lnTo>
                <a:lnTo>
                  <a:pt x="12079" y="9521"/>
                </a:lnTo>
                <a:lnTo>
                  <a:pt x="21600" y="10800"/>
                </a:lnTo>
                <a:lnTo>
                  <a:pt x="12079" y="12079"/>
                </a:lnTo>
                <a:lnTo>
                  <a:pt x="10800" y="21600"/>
                </a:lnTo>
                <a:lnTo>
                  <a:pt x="9521" y="12079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5300640"/>
            <a:ext cx="480960" cy="504720"/>
          </a:xfrm>
          <a:custGeom>
            <a:avLst/>
            <a:gdLst>
              <a:gd name="textAreaLeft" fmla="*/ 212040 w 480960"/>
              <a:gd name="textAreaRight" fmla="*/ 268920 w 480960"/>
              <a:gd name="textAreaTop" fmla="*/ 222480 h 504720"/>
              <a:gd name="textAreaBottom" fmla="*/ 2822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521" y="9521"/>
                </a:lnTo>
                <a:lnTo>
                  <a:pt x="10800" y="0"/>
                </a:lnTo>
                <a:lnTo>
                  <a:pt x="12079" y="9521"/>
                </a:lnTo>
                <a:lnTo>
                  <a:pt x="21600" y="10800"/>
                </a:lnTo>
                <a:lnTo>
                  <a:pt x="12079" y="12079"/>
                </a:lnTo>
                <a:lnTo>
                  <a:pt x="10800" y="21600"/>
                </a:lnTo>
                <a:lnTo>
                  <a:pt x="9521" y="12079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5121-9710-42EC-A461-EBEC5EB77B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Ciclo de evaluación y mejoramiento de la calida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2349360"/>
            <a:ext cx="2448000" cy="762120"/>
          </a:xfrm>
          <a:prstGeom prst="rect">
            <a:avLst/>
          </a:prstGeom>
          <a:solidFill>
            <a:srgbClr val="00ff00">
              <a:alpha val="2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Definición 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priorización d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problem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35640" y="2276640"/>
            <a:ext cx="244944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Oportunidad d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mejor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2924280"/>
            <a:ext cx="2667240" cy="504720"/>
          </a:xfrm>
          <a:prstGeom prst="rect">
            <a:avLst/>
          </a:prstGeom>
          <a:solidFill>
            <a:srgbClr val="00ff00">
              <a:alpha val="2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Análisis de problem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84720" y="3500280"/>
            <a:ext cx="2664000" cy="533520"/>
          </a:xfrm>
          <a:prstGeom prst="rect">
            <a:avLst/>
          </a:prstGeom>
          <a:solidFill>
            <a:srgbClr val="00ff00">
              <a:alpha val="2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Fijación de criterios 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stándar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4221000"/>
            <a:ext cx="2664000" cy="605160"/>
          </a:xfrm>
          <a:prstGeom prst="rect">
            <a:avLst/>
          </a:prstGeom>
          <a:solidFill>
            <a:srgbClr val="00ff00">
              <a:alpha val="2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Definir indicador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Diseñar instrument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84720" y="5084640"/>
            <a:ext cx="2664000" cy="457200"/>
          </a:xfrm>
          <a:prstGeom prst="rect">
            <a:avLst/>
          </a:prstGeom>
          <a:solidFill>
            <a:srgbClr val="00ff00">
              <a:alpha val="2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Definir la muestr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76720" y="5734080"/>
            <a:ext cx="2819520" cy="380880"/>
          </a:xfrm>
          <a:prstGeom prst="rect">
            <a:avLst/>
          </a:prstGeom>
          <a:solidFill>
            <a:srgbClr val="00ff00">
              <a:alpha val="2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Recolectar los dat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5734080"/>
            <a:ext cx="2286000" cy="533520"/>
          </a:xfrm>
          <a:prstGeom prst="rect">
            <a:avLst/>
          </a:prstGeom>
          <a:solidFill>
            <a:srgbClr val="00ff00">
              <a:alpha val="2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Diseñar y aplica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solucion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2519280" cy="1676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55640" y="4797360"/>
            <a:ext cx="2590920" cy="457200"/>
          </a:xfrm>
          <a:prstGeom prst="rect">
            <a:avLst/>
          </a:prstGeom>
          <a:solidFill>
            <a:srgbClr val="00ff00">
              <a:alpha val="2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Reevaluar 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Monitorea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2565360"/>
            <a:ext cx="20890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2781360"/>
            <a:ext cx="266364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93080" y="407664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64360" y="4869000"/>
            <a:ext cx="0" cy="215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435640" y="5229360"/>
            <a:ext cx="457200" cy="380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200040" y="5805360"/>
            <a:ext cx="1731960" cy="61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828800" y="533412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348000" y="4723920"/>
            <a:ext cx="2376360" cy="3351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CB9C-9321-4347-8FD6-AF7B7CCB44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Verdana"/>
              </a:rPr>
              <a:t>Problemas de calida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3500280"/>
            <a:ext cx="1727280" cy="7495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definirl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4437000"/>
            <a:ext cx="1816200" cy="792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identificarl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5373720"/>
            <a:ext cx="1895400" cy="865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priorizarl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5157720"/>
            <a:ext cx="2895480" cy="9144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Diagrama de Paret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24360" y="4076640"/>
            <a:ext cx="2895840" cy="990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Matriz decisiona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24360" y="2997360"/>
            <a:ext cx="2895840" cy="9144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Técnicas de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grupo nomina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2349360"/>
            <a:ext cx="2209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Se necesit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2421000"/>
            <a:ext cx="30243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Se usan técnicas d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692360" y="2997360"/>
            <a:ext cx="1079280" cy="4824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123640" y="2997360"/>
            <a:ext cx="647640" cy="2438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907640" y="2997360"/>
            <a:ext cx="863640" cy="14634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334120" y="1981080"/>
            <a:ext cx="304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64000" y="3500280"/>
            <a:ext cx="0" cy="2233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64000" y="3500280"/>
            <a:ext cx="381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64000" y="458136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64000" y="5734080"/>
            <a:ext cx="533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32000" y="2421000"/>
            <a:ext cx="198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Se clasifican 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24360" y="2852640"/>
            <a:ext cx="0" cy="576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3500280"/>
            <a:ext cx="2664000" cy="25416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Estructur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Organizació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Asistencial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Mixt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F8EF-FA49-4CFF-8100-C1DBCA6CB7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Técnica de Grupo nomina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5640" y="26370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Permite definir e  identificar los problem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2997360"/>
            <a:ext cx="831708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Constituir grupo de 8 integrantes ( máximo 10 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3500280"/>
            <a:ext cx="8317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2.   Cada miembro debe presentarse y hace una reseña de su lugar d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trabajo y funcion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6920" y="4076640"/>
            <a:ext cx="8317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3.   Nombrar un moderador, un secretario y un presentado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6920" y="4653000"/>
            <a:ext cx="8317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4.   Se plantea la siguiente pregunta: ¿ Cuales son a su juicio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los tres principales problemas de calidad en su nivel de atención?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5445000"/>
            <a:ext cx="8317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5.   Cada miembro escribe en silencio los problemas que considere má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importan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3302-4073-4A19-A8F4-DFA154B49B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826920" y="2492280"/>
            <a:ext cx="83170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6.   El moderador recoge los problemas y los anota, luego por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consenso se eligen todos los seleccionad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6920" y="3141720"/>
            <a:ext cx="8317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7.   Se clasifican si son de estructura, de organización, asistenciales o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mixto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6920" y="3645000"/>
            <a:ext cx="8317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8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.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Se ponderan individualmente de 1 a 5 (excepto los de estructura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26920" y="4221000"/>
            <a:ext cx="83170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9</a:t>
            </a: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.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l moderador pregunta los puntajes, los que originan los 5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problemas con mayor puntuació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Verdana"/>
              </a:rPr>
              <a:t>Técnica de Grupo nomi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DEB0-2BA1-4EFC-B11C-034F4BE73B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Matriz decisiona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6920" y="2421000"/>
            <a:ext cx="8317080" cy="52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Permite la priorización de los problem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3141720"/>
            <a:ext cx="82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Los problemas definidos anteriormente son anotados en la matriz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decisiona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00000" y="3789360"/>
            <a:ext cx="82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Se califican por : magnitud, trascendencia, vulnerabilidad y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factibilidad económic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00000" y="4508640"/>
            <a:ext cx="82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Todos los problemas deben ser analizados en forma vertical para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definir el peso relativo que tienen entre sí horizontalment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E98-AAE1-42EE-94C6-B56A4319B2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Matriz decisiona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2708280"/>
            <a:ext cx="8458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Magnitud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: cantidad, frecuencia, tamaño del problem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00000" y="3357720"/>
            <a:ext cx="8458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Trascendencia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: impacto en la salud de la població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00000" y="393372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Vulnerabilidad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: posibilidad de resolución del problema por el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quipo de salu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4653000"/>
            <a:ext cx="928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Factibilidad económica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: posibilidad de resolución en relación al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costo, más barato , mayor es el puntaj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01E3-D401-4E1B-8BDF-B422529804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Diagrama de Paret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2565360"/>
            <a:ext cx="6858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Permite determinar el peso relativo de los problem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26920" y="3357720"/>
            <a:ext cx="8317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l puntaje total de los 5 problemas será igual a 100 %.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n función a esto se calculará la distribución  porcentual de cada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uno en relación al tota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4149720"/>
            <a:ext cx="83170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Los porcentajes de cada problema escritos en orden jerárquico,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así como los porcentajes acumulados se anotan en la tabla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6920" y="4869000"/>
            <a:ext cx="83170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l secretario (a) traspasa a una transparencia: el listado de problema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del grupo ( de estructura, organización,asistenciales o mixtos 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F0A4-680E-4FA9-949A-82DFD38EBA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Técnica de construcción de Causa- Efect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6920" y="2637000"/>
            <a:ext cx="83170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1.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Anote el problema en el diagram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3213000"/>
            <a:ext cx="8317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Mediante lluvia de ideas ( no discusión de grupo), genere la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causas que el grupo estima estarían produciendo el problema.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No se debe criticar, sólo aclarar , sí es necesari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6920" y="4005360"/>
            <a:ext cx="8317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3.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Anote las ideas a medida que se van señalando en el papelógraf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4508640"/>
            <a:ext cx="8317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Con la ayuda del monitor, categorice las causas, es decir,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agrúpelas las de un mismo origen. Recuerde que una causa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puede estar en más de una categorí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5373720"/>
            <a:ext cx="831708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5.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Anote las categorías definidas por el grupo en los rectángulo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paralelos a la flecha central del diagram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33D2-0934-4266-81C3-9EB84FFE59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Verdana"/>
              </a:rPr>
              <a:t>Técnica de construcción de Causa- Efect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6920" y="2997360"/>
            <a:ext cx="8317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6.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Por acuerdo se traspasan las causas señaladas en la lluvia d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ideas, asumiendo que son mayores. Sí el análisis determina qu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son causas menores se borran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6920" y="3789360"/>
            <a:ext cx="83170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7.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Revise la redacción de las causas anotadas;recuerde que la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causas son problemas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6920" y="4508640"/>
            <a:ext cx="8317080" cy="6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8.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Finalmente y por consenso del grupo, marque con un asterisco la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causas modificables, porque sobre la base de ellas, se construirán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los criterios y estándares de evaluación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B776-07CE-465F-8D1F-A258980DF4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" descr="Casa Central Universidad de Chi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D93D-A0AB-43BB-81E4-EC9BDF7E58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Diagrama causa efecto de ISHIKAWA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5640" y="2492280"/>
            <a:ext cx="1828800" cy="60984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accesibilida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43280" y="2492280"/>
            <a:ext cx="2057400" cy="6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equida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92720" y="2492280"/>
            <a:ext cx="1828800" cy="649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Satisfacció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usuari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42920" y="5013360"/>
            <a:ext cx="1828800" cy="576360"/>
          </a:xfrm>
          <a:prstGeom prst="rect">
            <a:avLst/>
          </a:prstGeom>
          <a:solidFill>
            <a:srgbClr val="ff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confor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48000" y="5013360"/>
            <a:ext cx="1905120" cy="609480"/>
          </a:xfrm>
          <a:prstGeom prst="rect">
            <a:avLst/>
          </a:prstGeom>
          <a:solidFill>
            <a:srgbClr val="ff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cc"/>
                </a:solidFill>
                <a:latin typeface="Verdana"/>
              </a:rPr>
              <a:t>efectivida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508720" y="5013360"/>
            <a:ext cx="17524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cc"/>
                </a:solidFill>
                <a:latin typeface="Verdana"/>
              </a:rPr>
              <a:t>eficienci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956720" y="2565360"/>
            <a:ext cx="914400" cy="3024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P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00000" y="4076640"/>
            <a:ext cx="70311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35280" y="3213000"/>
            <a:ext cx="1274760" cy="7066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51280" y="3213000"/>
            <a:ext cx="1351080" cy="63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56360" y="3284640"/>
            <a:ext cx="1371600" cy="7063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476360" y="4149720"/>
            <a:ext cx="1146240" cy="719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492360" y="4149720"/>
            <a:ext cx="1222560" cy="719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724360" y="4149720"/>
            <a:ext cx="1152720" cy="719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BF4A-1FA7-406E-9B60-FEB5ED6946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Dimensiones de la calidad a incluir en una definició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150920" y="1868400"/>
          <a:ext cx="6667560" cy="10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1868400"/>
                    <a:ext cx="66675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900000" y="2565360"/>
            <a:ext cx="769644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DIMENSIÓ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Accesibilida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quida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Satisfacción usuari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fectivida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ficaci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ficienci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Segurida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Oportunida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Continuida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Comodidad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Privacida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Confidencialida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00720" y="2708280"/>
            <a:ext cx="9144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si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35640" y="2708280"/>
            <a:ext cx="865080" cy="380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n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00720" y="2708280"/>
            <a:ext cx="1900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porqu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00720" y="2708280"/>
            <a:ext cx="0" cy="37101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35640" y="2708280"/>
            <a:ext cx="0" cy="3673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00720" y="2708280"/>
            <a:ext cx="0" cy="3673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172360" y="2708280"/>
            <a:ext cx="0" cy="3673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00000" y="6381720"/>
            <a:ext cx="7272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5640" y="335772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5640" y="357336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3789360"/>
            <a:ext cx="7345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5640" y="407664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429264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640" y="450864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5640" y="472428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5640" y="501336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530064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5640" y="551664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5640" y="573408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5640" y="602136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17080" y="0"/>
            <a:ext cx="47592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8200-6ED1-4F1F-BDD5-6C26177C82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¿ Para qué se mide la calidad de atención 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55640" y="2708280"/>
            <a:ext cx="8001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Para determinar dónde están los problema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5640" y="3357720"/>
            <a:ext cx="80010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Para determinar dónde y cómo interveni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5640" y="4076640"/>
            <a:ext cx="80010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Para implementar soluciones a los problemas detectad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5640" y="479736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Para reforzar, mantener e incentivar aquellos aspectos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  </a:t>
            </a: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positiv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E607-EB79-4900-8152-358F2F6145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Verdana"/>
              </a:rPr>
              <a:t>Criterios de evaluació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inguna evaluación de calidad de los servicios sería posible sin la existencia de criterios y estándare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r. Avedis Donabedi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5244-08D8-4496-9F9D-1B16CC60F9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¿</a:t>
            </a:r>
            <a:r>
              <a:rPr b="1" lang="es-ES" sz="2800" spc="-1" strike="noStrike">
                <a:solidFill>
                  <a:srgbClr val="000066"/>
                </a:solidFill>
                <a:latin typeface="Verdana"/>
              </a:rPr>
              <a:t>Qué son los criterios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6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Son elementos predeterminados de la atención, que sirven para medir y comparar importantes aspectos de la calidad de un servicio. Son las herramientas con que se evalúa la calidad y en la práctica, son los requisitos de calidad que se establecen para los productos de un determinado proceso y que deben cumplirse necesariamente para que haya calidad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Se incorporan </a:t>
            </a:r>
            <a:r>
              <a:rPr b="1" lang="es-ES" sz="1800" spc="-1" strike="noStrike">
                <a:solidFill>
                  <a:srgbClr val="003366"/>
                </a:solidFill>
                <a:latin typeface="Verdana"/>
              </a:rPr>
              <a:t>conceptos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de :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cc3300"/>
                </a:solidFill>
                <a:latin typeface="Verdana"/>
              </a:rPr>
              <a:t>Criterio de evalu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cc3300"/>
                </a:solidFill>
                <a:latin typeface="Verdana"/>
              </a:rPr>
              <a:t>Produc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cc3300"/>
                </a:solidFill>
                <a:latin typeface="Verdana"/>
              </a:rPr>
              <a:t>Requisito de calid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cc3300"/>
                </a:solidFill>
                <a:latin typeface="Verdana"/>
              </a:rPr>
              <a:t>Estánd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D946-4C97-420D-8202-71B690C78F1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Verdana"/>
              </a:rPr>
              <a:t>Clasificación de los criterio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2492280"/>
            <a:ext cx="158436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Verdana"/>
              </a:rPr>
              <a:t>Implícit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00000" y="3716280"/>
            <a:ext cx="16560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Verdana"/>
              </a:rPr>
              <a:t>Explícit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556000" y="2997360"/>
            <a:ext cx="1368360" cy="1008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4360" y="2421000"/>
            <a:ext cx="45352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3300"/>
                </a:solidFill>
                <a:uFillTx/>
                <a:latin typeface="Verdana"/>
              </a:rPr>
              <a:t>Empíricos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: basados en la práctica,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toma como bueno lo más frecuent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56000" y="4221000"/>
            <a:ext cx="93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92360" y="3500280"/>
            <a:ext cx="4967280" cy="1441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3300"/>
                </a:solidFill>
                <a:uFillTx/>
                <a:latin typeface="Verdana"/>
              </a:rPr>
              <a:t>Normativos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: según conocimiento científico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y experiencia profesional.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Lo que debe hacerse, existir ou ocurri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3276360" y="4724280"/>
            <a:ext cx="863640" cy="505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5640" y="5229360"/>
            <a:ext cx="3887640" cy="1079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3300"/>
                </a:solidFill>
                <a:uFillTx/>
                <a:latin typeface="Verdana"/>
              </a:rPr>
              <a:t>Transversales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: se evalúan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Independientemente unos de otr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80360" y="4869000"/>
            <a:ext cx="57636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88000" y="5157720"/>
            <a:ext cx="4105080" cy="1079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3300"/>
                </a:solidFill>
                <a:uFillTx/>
                <a:latin typeface="Verdana"/>
              </a:rPr>
              <a:t>Longitudinales o secuenciales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Son listas de criterio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encadenados entre si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8E90-DD44-42F2-9482-4A5B8983394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Verdana"/>
              </a:rPr>
              <a:t>¿Cómo construir criterios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1.      En el contexto de un </a:t>
            </a:r>
            <a:r>
              <a:rPr b="0" lang="es-ES" sz="1800" spc="-1" strike="noStrike" u="sng">
                <a:solidFill>
                  <a:srgbClr val="003366"/>
                </a:solidFill>
                <a:uFillTx/>
                <a:latin typeface="Arial"/>
              </a:rPr>
              <a:t>proyecto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orientado a resolver un problema específ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Se elabora un criterio, o criterios para las diferentes causas relacionadas como modificables en el proyect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2.       En relación a los </a:t>
            </a:r>
            <a:r>
              <a:rPr b="0" lang="es-ES" sz="1800" spc="-1" strike="noStrike" u="sng">
                <a:solidFill>
                  <a:srgbClr val="003366"/>
                </a:solidFill>
                <a:uFillTx/>
                <a:latin typeface="Arial"/>
              </a:rPr>
              <a:t>productos esperados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de nuestra actividad Significa que se debe cambiar de actividad a produc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Control de embarazo                                   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Embarazada controla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Visita domiciliaria                                         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Familia visitada en domicil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Supervisión al Equipo                                  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Equipo supervisa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03640" y="4724280"/>
            <a:ext cx="165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3640" y="5084640"/>
            <a:ext cx="165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03640" y="5373720"/>
            <a:ext cx="165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0133-33D2-4D58-9712-652EFE10678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Verdana"/>
              </a:rPr>
              <a:t>Consideraciones en la elaboración de un criteri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2349360"/>
            <a:ext cx="540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Verdana"/>
              </a:rPr>
              <a:t>El responsable: directivo, equipo de salu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5640" y="3284640"/>
            <a:ext cx="540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Verdana"/>
              </a:rPr>
              <a:t>Lo que se quiere logra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5640" y="4221000"/>
            <a:ext cx="540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Verdana"/>
              </a:rPr>
              <a:t>El tiempo: ….a partir de tal fecha, o …..a tal fech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44000" y="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0F20-7670-41A0-B559-983CF55915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Verdana"/>
              </a:rPr>
              <a:t>Consideraciones en la determinación de un Estánda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La relevancia del proble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La gravedad del proble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Los recursos disponib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Estándar es el grado de cumplimiento del criterio que se exige al equipo y se expresa en </a:t>
            </a: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%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El estándar se puede definir por etapas, por ejempl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El primer año será el 70%, para el segundo el 80% y así sucesivamente………….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6154-B124-4BBD-A8EC-A5E4F19E7EF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66"/>
                </a:solidFill>
                <a:latin typeface="Verdana"/>
              </a:rPr>
              <a:t>Indicadores de Calida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116000" y="2349000"/>
            <a:ext cx="7415280" cy="37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Es una medida cuantitativa que sirve para: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Medi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Valor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Compar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Control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¿ Qué?...........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   </a:t>
            </a: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Actividades de gest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   </a:t>
            </a: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Prestación de servicios direct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   </a:t>
            </a: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De los sistemas de apoy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27640" y="4076640"/>
            <a:ext cx="0" cy="5745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18900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FA65-40A2-4FB1-972E-E01EC686536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70F-694F-4780-80B9-A404270D98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Tipos de indicador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6920" y="2492280"/>
            <a:ext cx="810288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     </a:t>
            </a: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Verdana"/>
              </a:rPr>
              <a:t>Centinela</a:t>
            </a:r>
            <a:r>
              <a:rPr b="1" lang="es-ES_tradnl" sz="1800" spc="-1" strike="noStrike">
                <a:solidFill>
                  <a:srgbClr val="660066"/>
                </a:solidFill>
                <a:latin typeface="Verdana"/>
              </a:rPr>
              <a:t>:</a:t>
            </a: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miden, identifican situaciones, hechos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           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graves no deseables o que nunca deberían ocurri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Ej: Muerte matern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Muerte Infanti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Caso de cóler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Caso de infección por Clostridium Welchii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Caso de infección a Perfingen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usuarios hospitalizados que sufren caíd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niños hospitalizados que sufren quemadur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usuarios que fallecen por entrega de medicamento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equivocad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usuarios de U.C.I que se autoextub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usuarios que reciben transfusión incompatibl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90BC-3B41-4E5B-BC97-CA5B6115976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Tipos de indicador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1989000"/>
            <a:ext cx="815328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Indicadores de estructura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Miden cómo el sistema está organizado y equipad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Permiten saber, sí los recursos están disponibles y organizados d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tal manera que faciliten la atención del usuario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Permiten Monitorear la estructur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Ej: </a:t>
            </a: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Recurs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humano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materi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tecnologí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insum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recursos financier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0" y="4437000"/>
            <a:ext cx="457200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Estructura Organizaciona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Organigram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program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Manual de organizació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Manual de procedimient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Norm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Flujogram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59160" y="2444760"/>
            <a:ext cx="45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2.     </a:t>
            </a: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Verdana"/>
              </a:rPr>
              <a:t>Indicadores tipo Tasa o Índic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639E-22FD-4B77-B926-0825079E116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55400" y="549360"/>
            <a:ext cx="6737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Tipos de indicador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6920" y="2349360"/>
            <a:ext cx="79930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Indicadores de Proceso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: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Focalizan en el cómo la atención es prestad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Miden los pasos de un proceso de atención a un usuari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Miden si la atención que se otorgó fue apropiad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j: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66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usuarias del programa maternal que recibió buen trat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fichas clínicas que consta de ..............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prescripciones médicas de un programa,completas , d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acuerdo a la norm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usuarios hospitalizados en  UCI a los que se les realizó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diariamente prevención de escar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usuarios a ser intervenidos que conocen su diagnóstico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y tipo de intervención a que serán sometid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95E5-168D-4F84-9CEE-69544DF0A31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826920" y="2421000"/>
            <a:ext cx="861084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Verdana"/>
              </a:rPr>
              <a:t>Indicadores de resultado</a:t>
            </a: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Miden la efectividad de la atención, el grado en que la atención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otorgado al usuario produjo el efecto desead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Pueden reflejar resultados deseados o advers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Son los indicadores más utilizados en el sistema tradiciona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Ej 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Tasa de infecciones intrahospitalari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cobertura del programa X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rechazos de consulta tipo 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muestras de Papanicolau rechazad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Interconsultas cursadas de acuerdo a la norm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Exámenes de laboratorio mal rotulad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-282600"/>
            <a:ext cx="9144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00000" y="134136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Tipos de indicado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E0AC-6E45-4805-9677-0AD8100433D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dicado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26920" y="2565360"/>
            <a:ext cx="76932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Se pueden expresar e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66"/>
                </a:solidFill>
                <a:uFillTx/>
                <a:latin typeface="Arial"/>
              </a:rPr>
              <a:t>Números absolutos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: Nº de X profesi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66"/>
                </a:solidFill>
                <a:uFillTx/>
                <a:latin typeface="Arial"/>
              </a:rPr>
              <a:t>Razones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: Nº camas/10.000 habita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66"/>
                </a:solidFill>
                <a:uFillTx/>
                <a:latin typeface="Arial"/>
              </a:rPr>
              <a:t>Porcentajes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: % de camas en us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66"/>
                </a:solidFill>
                <a:uFillTx/>
                <a:latin typeface="Arial"/>
              </a:rPr>
              <a:t>Dicotómicos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: Si - 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64FF-AA62-49C0-8D6C-293B9EA8F9E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Verdana"/>
              </a:rPr>
              <a:t>Elaboración de criterios para un product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826920" y="3068640"/>
          <a:ext cx="7693200" cy="3303720"/>
        </p:xfrm>
        <a:graphic>
          <a:graphicData uri="http://schemas.openxmlformats.org/drawingml/2006/table">
            <a:tbl>
              <a:tblPr/>
              <a:tblGrid>
                <a:gridCol w="1651320"/>
                <a:gridCol w="1509480"/>
                <a:gridCol w="1511280"/>
                <a:gridCol w="1511280"/>
                <a:gridCol w="15098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a) Proveedor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b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Producto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c) Requisitos de calida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d) Criterios evaluació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e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Estánda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Matron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Embarazada atendid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Buen trato a la embarazad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A toda embarazada atendida se le habrá dado buen trat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00%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f) Tipo de dat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g) Excepcion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h) Aclaracion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i) Indicador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resultad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No ha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Se entiende por buen trato a………………….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% de embarazadas que recibió buen trat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"/>
          <p:cNvSpPr/>
          <p:nvPr/>
        </p:nvSpPr>
        <p:spPr>
          <a:xfrm>
            <a:off x="755640" y="2349360"/>
            <a:ext cx="7777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ograma , Unidad o Servicio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………………………………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E4CB-A019-4768-92C5-131800DF29C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  <p:grpSp>
        <p:nvGrpSpPr>
          <p:cNvPr id="332" name=""/>
          <p:cNvGrpSpPr/>
          <p:nvPr/>
        </p:nvGrpSpPr>
        <p:grpSpPr>
          <a:xfrm>
            <a:off x="2163600" y="834840"/>
            <a:ext cx="5166000" cy="2752560"/>
            <a:chOff x="2163600" y="834840"/>
            <a:chExt cx="5166000" cy="2752560"/>
          </a:xfrm>
        </p:grpSpPr>
        <p:sp>
          <p:nvSpPr>
            <p:cNvPr id="333" name="_s119816"/>
            <p:cNvSpPr/>
            <p:nvPr/>
          </p:nvSpPr>
          <p:spPr>
            <a:xfrm>
              <a:off x="4048200" y="1323720"/>
              <a:ext cx="1396800" cy="139680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4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4" name="_s119817"/>
            <p:cNvSpPr/>
            <p:nvPr/>
          </p:nvSpPr>
          <p:spPr>
            <a:xfrm>
              <a:off x="4048200" y="834840"/>
              <a:ext cx="139680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5" name="_s119818"/>
            <p:cNvSpPr/>
            <p:nvPr/>
          </p:nvSpPr>
          <p:spPr>
            <a:xfrm>
              <a:off x="4508640" y="2120760"/>
              <a:ext cx="1396800" cy="1396800"/>
            </a:xfrm>
            <a:prstGeom prst="ellipse">
              <a:avLst/>
            </a:prstGeom>
            <a:solidFill>
              <a:srgbClr val="0000ff">
                <a:alpha val="70000"/>
              </a:srgbClr>
            </a:solidFill>
            <a:ln w="46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6" name="_s119819"/>
            <p:cNvSpPr/>
            <p:nvPr/>
          </p:nvSpPr>
          <p:spPr>
            <a:xfrm>
              <a:off x="5932440" y="3238560"/>
              <a:ext cx="13971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7" name="_s119820"/>
            <p:cNvSpPr/>
            <p:nvPr/>
          </p:nvSpPr>
          <p:spPr>
            <a:xfrm>
              <a:off x="3587760" y="2120760"/>
              <a:ext cx="1396800" cy="1396800"/>
            </a:xfrm>
            <a:prstGeom prst="ellipse">
              <a:avLst/>
            </a:prstGeom>
            <a:solidFill>
              <a:srgbClr val="ff6600">
                <a:alpha val="71000"/>
              </a:srgbClr>
            </a:solidFill>
            <a:ln w="468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8" name="_s119821"/>
            <p:cNvSpPr/>
            <p:nvPr/>
          </p:nvSpPr>
          <p:spPr>
            <a:xfrm>
              <a:off x="2163600" y="3238560"/>
              <a:ext cx="13971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8477-584B-4AA1-B2DB-F547DABB7C5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66"/>
                </a:solidFill>
                <a:latin typeface="Verdana"/>
              </a:rPr>
              <a:t>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71640" y="2492280"/>
          <a:ext cx="3192480" cy="37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492280"/>
                    <a:ext cx="319248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835280" y="4221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ISO 9000:20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C86F-402F-43DB-B31E-8F63D5E81C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Verdana"/>
              </a:rPr>
              <a:t>¿ Qué es la calidad de la atención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 la provisión de Servicios </a:t>
            </a:r>
            <a:r>
              <a:rPr b="0" lang="es-ES" sz="2800" spc="-1" strike="noStrike" u="sng">
                <a:solidFill>
                  <a:srgbClr val="003366"/>
                </a:solidFill>
                <a:uFillTx/>
                <a:latin typeface="Arial"/>
              </a:rPr>
              <a:t>Accesible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3366"/>
                </a:solidFill>
                <a:uFillTx/>
                <a:latin typeface="Arial"/>
              </a:rPr>
              <a:t>Equitativo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con un </a:t>
            </a:r>
            <a:r>
              <a:rPr b="0" lang="es-ES" sz="2800" spc="-1" strike="noStrike" u="sng">
                <a:solidFill>
                  <a:srgbClr val="003366"/>
                </a:solidFill>
                <a:uFillTx/>
                <a:latin typeface="Arial"/>
              </a:rPr>
              <a:t>nivel profesional óptimo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, con los </a:t>
            </a:r>
            <a:r>
              <a:rPr b="0" lang="es-ES" sz="2800" spc="-1" strike="noStrike" u="sng">
                <a:solidFill>
                  <a:srgbClr val="003366"/>
                </a:solidFill>
                <a:uFillTx/>
                <a:latin typeface="Arial"/>
              </a:rPr>
              <a:t>recursos disponible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, logrando la </a:t>
            </a:r>
            <a:r>
              <a:rPr b="0" lang="es-ES" sz="2800" spc="-1" strike="noStrike" u="sng">
                <a:solidFill>
                  <a:srgbClr val="003366"/>
                </a:solidFill>
                <a:uFillTx/>
                <a:latin typeface="Arial"/>
              </a:rPr>
              <a:t>adhesión y satisfacción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del usuar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ra Healther Palm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D734-5767-413A-80E8-534CD4D5DD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Modelo Europeo: Excelenc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ormas ISO (Organización Internacional de estandarización) 9000:20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3429000"/>
            <a:ext cx="374508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Criterios como </a:t>
            </a:r>
            <a:r>
              <a:rPr b="0" lang="es-ES" sz="1800" spc="-1" strike="noStrike" u="sng">
                <a:solidFill>
                  <a:srgbClr val="cc3300"/>
                </a:solidFill>
                <a:uFillTx/>
                <a:latin typeface="Arial"/>
              </a:rPr>
              <a:t>agent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Liderazgo 100 punt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ersonas  90 punt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olítica y Estrategia  80 punt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Alianzas y Recursos  90 punt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rocesos  140 punt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03640" y="3429000"/>
            <a:ext cx="36720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Criterios como </a:t>
            </a:r>
            <a:r>
              <a:rPr b="0" lang="es-ES" sz="1800" spc="-1" strike="noStrike" u="sng">
                <a:solidFill>
                  <a:srgbClr val="cc3300"/>
                </a:solidFill>
                <a:uFillTx/>
                <a:latin typeface="Arial"/>
              </a:rPr>
              <a:t>resultad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Resultados en las personas 90 p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Resultados en los clientes 200 p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Resultados en la sociedad 60 p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Resultados clave de la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organización  50 p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435F-863B-4127-9AF5-E7F31BB90B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Dimensiones de la calida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2276640"/>
            <a:ext cx="83883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Accesibilidad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s la facilidad con la cual el usuario extern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(cliente) obtiene los servicios que le ofrece el Sistema de Salu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3141720"/>
            <a:ext cx="83883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Equidad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s la entrega de Servicios de Salud a la comunida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Considerando los desequilibrios de necesidades entr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Usuarios del Sistem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4149720"/>
            <a:ext cx="838836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Competencia profesional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s la capacidad de los integrante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del Equipo de Salud para utilizar sus conocimientos, habilidades,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destrezas y su juicio para dar salud y satisfacción al usuari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5229360"/>
            <a:ext cx="83883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Satisfacción Usuaria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s el cumplimiento o no cumplimiento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por parte del Sistema de Salud respecto de las expectativ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del usuari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D11B-5C99-401D-B12F-567F418501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Dimensiones de la calida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2565360"/>
            <a:ext cx="7853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Efectividad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: es lograr el mejor resultado con los recursos de lo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que se dispon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357336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Eficiencia</a:t>
            </a: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: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otorgar el mayor beneficio posible,al menor cost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razonabl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4653000"/>
            <a:ext cx="792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Eficacia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 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s la medida en que una determinada atención mejora el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stado de salud del que la recibe en condiciones ideales de uso d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tecnología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A33C-C979-4E72-ACE7-2B5A3CFDDC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Dimensiones de la calida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2492280"/>
            <a:ext cx="853272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Seguridad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s la eliminación o reducción de riesgos, acciden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Infecciones y, o efectos perjudiciales vinculados a l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Prestación de Servicios de Salud, tanto para el usuario com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Para el proveedo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3645000"/>
            <a:ext cx="85327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Oportunidad 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s la prestación de Servicios, en condicione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Adecuadas, cuando el usuario lo requiera y no cuando e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quipo quiera o pued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4508640"/>
            <a:ext cx="8532720" cy="16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Continuidad 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s la atención del usuario como un todo en un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Sistema integrado, en la dimensión de la calidad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científico-técnica (atención permanente, sin interrupcion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Dentro del sistema y a lo largo del ciclo de vida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13AD-AB2F-4B3A-9B34-FCDB7F720E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9T18:52:11Z</dcterms:created>
  <dc:creator>sandra</dc:creator>
  <dc:description/>
  <dc:language>en-US</dc:language>
  <cp:lastModifiedBy>Fac. de Medicina</cp:lastModifiedBy>
  <dcterms:modified xsi:type="dcterms:W3CDTF">2007-07-26T21:23:07Z</dcterms:modified>
  <cp:revision>25</cp:revision>
  <dc:subject/>
  <dc:title>Problemas de calidad</dc:title>
</cp:coreProperties>
</file>