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D80-02C1-4198-892E-FE877DFE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98B-E7F3-496A-B147-58CAB3F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496-0C8E-4582-87C8-92BDAB7E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D2B-D531-4639-96D2-2A5BD54E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EF11-A93F-45CB-9342-D9C6D165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8451-FCC3-4CBC-8ACF-8B4AD9A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22A7-565E-42FE-AAE5-20C77401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CDBD-6D96-42E8-BCB0-0CFDFFD8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A4E8-8476-44BA-997C-20C2149F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29D9-A82B-41AB-9242-5A861A86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C124-0AB9-41F9-BC95-C6C92D6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949-39D1-4D6F-99A2-EC9AE036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BB91-13F6-444E-A07E-AD3C9FA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EBF9-B12D-404B-9589-BFCBBDC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67D-520C-4844-820F-13B90B46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8389-3561-4B73-929B-6AEAFB9F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5AAD-72D7-49ED-BA7E-2B04AF2E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4B6-C316-4B09-B46B-A23EDB75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42E-15C8-43EE-B771-131D6074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130-A7A3-4767-94F1-832D37B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32A-53D0-45A0-819F-0027F4E9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1A3-85E0-4924-A258-592AD21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561-5A7C-4DA2-AF88-6ABAD6B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A23-7AEA-4F4C-AF99-83A1700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E529-A09D-42B0-9958-74BE0198D19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F6A-39E0-496B-96D3-82AEE2E5930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ontisuchile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putu.dcc.uchile.cl/mambo/images/logo_uchi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oma.es/?PHPSESSID=0b23539f544c3dd0230301b71d5c6d1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20A-6E0E-4C15-A903-91B0AA5AB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492280"/>
            <a:ext cx="853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modidades o confort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todos aquellos aspect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que no inciden directamente vinculados a la atención de salud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o que inciden en sus calidad, en el grado de satisfac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usuario y su adhesividad al sistema (imagen, valor agregado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789360"/>
            <a:ext cx="85327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rivac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la condición que garantiza un luga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xclusivo y condiciones para la entrega de un servicio e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ualquier lugar de la institución (no interrupción, lugar pa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svestirse, cubri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157720"/>
            <a:ext cx="8532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nfidencial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guardar sin divulgar a tercer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lo que el usuario entrega de información general o en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estaciones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860640"/>
            <a:ext cx="480960" cy="505080"/>
          </a:xfrm>
          <a:custGeom>
            <a:avLst/>
            <a:gdLst>
              <a:gd name="textAreaLeft" fmla="*/ 212040 w 480960"/>
              <a:gd name="textAreaRight" fmla="*/ 268920 w 480960"/>
              <a:gd name="textAreaTop" fmla="*/ 222480 h 505080"/>
              <a:gd name="textAreaBottom" fmla="*/ 2826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1" y="9521"/>
                </a:lnTo>
                <a:lnTo>
                  <a:pt x="10800" y="0"/>
                </a:lnTo>
                <a:lnTo>
                  <a:pt x="12079" y="9521"/>
                </a:lnTo>
                <a:lnTo>
                  <a:pt x="21600" y="10800"/>
                </a:lnTo>
                <a:lnTo>
                  <a:pt x="12079" y="12079"/>
                </a:lnTo>
                <a:lnTo>
                  <a:pt x="10800" y="21600"/>
                </a:lnTo>
                <a:lnTo>
                  <a:pt x="9521" y="12079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300640"/>
            <a:ext cx="480960" cy="504720"/>
          </a:xfrm>
          <a:custGeom>
            <a:avLst/>
            <a:gdLst>
              <a:gd name="textAreaLeft" fmla="*/ 212040 w 480960"/>
              <a:gd name="textAreaRight" fmla="*/ 268920 w 480960"/>
              <a:gd name="textAreaTop" fmla="*/ 222480 h 504720"/>
              <a:gd name="textAreaBottom" fmla="*/ 2822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1" y="9521"/>
                </a:lnTo>
                <a:lnTo>
                  <a:pt x="10800" y="0"/>
                </a:lnTo>
                <a:lnTo>
                  <a:pt x="12079" y="9521"/>
                </a:lnTo>
                <a:lnTo>
                  <a:pt x="21600" y="10800"/>
                </a:lnTo>
                <a:lnTo>
                  <a:pt x="12079" y="12079"/>
                </a:lnTo>
                <a:lnTo>
                  <a:pt x="10800" y="21600"/>
                </a:lnTo>
                <a:lnTo>
                  <a:pt x="9521" y="12079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33D-777A-4A49-B33E-9F960983E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Ciclo de evaluación y mejoramiento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349360"/>
            <a:ext cx="2448000" cy="7621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ción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iorización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oble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2276640"/>
            <a:ext cx="24494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portunidad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ejor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2924280"/>
            <a:ext cx="2667240" cy="5047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álisis de proble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3500280"/>
            <a:ext cx="2664000" cy="5335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ijación de criterios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stánda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221000"/>
            <a:ext cx="2664000" cy="60516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indicado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señar instrumen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5084640"/>
            <a:ext cx="2664000" cy="45720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la muest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5734080"/>
            <a:ext cx="2819520" cy="38088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colectar los da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734080"/>
            <a:ext cx="2286000" cy="5335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señar y aplic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olu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2519280" cy="1676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5640" y="4797360"/>
            <a:ext cx="2590920" cy="45720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evaluar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onitore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2565360"/>
            <a:ext cx="2089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781360"/>
            <a:ext cx="2663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4076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4869000"/>
            <a:ext cx="0" cy="21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35640" y="5229360"/>
            <a:ext cx="4572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00040" y="5805360"/>
            <a:ext cx="1731960" cy="61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828800" y="5334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348000" y="4723920"/>
            <a:ext cx="2376360" cy="335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120-2B6F-4D8A-B541-4B6D295EF9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Problemas de cali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500280"/>
            <a:ext cx="1727280" cy="749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defini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437000"/>
            <a:ext cx="181620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identifica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73720"/>
            <a:ext cx="1895400" cy="86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prioriza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5157720"/>
            <a:ext cx="289548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Diagrama de Paret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4076640"/>
            <a:ext cx="289584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atriz decis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97360"/>
            <a:ext cx="28958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Técnicas d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grupo nomi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220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necesi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421000"/>
            <a:ext cx="302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usan técnicas 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92360" y="2997360"/>
            <a:ext cx="1079280" cy="482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23640" y="2997360"/>
            <a:ext cx="647640" cy="2438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7640" y="2997360"/>
            <a:ext cx="863640" cy="1463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4120" y="198108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500280"/>
            <a:ext cx="0" cy="22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5002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4581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73408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421000"/>
            <a:ext cx="198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clasifican 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2852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3500280"/>
            <a:ext cx="2664000" cy="25416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structu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Organiza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Asistencia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ix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09D-7CED-4C1F-912B-DDA400F29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écnica de Grupo nomi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6370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definir e  identificar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997360"/>
            <a:ext cx="83170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stituir grupo de 8 integrantes ( máximo 1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50028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2.   Cada miembro debe presentarse y hace una reseña de su lugar 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trabajo y fun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76640"/>
            <a:ext cx="831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3.   Nombrar un moderador, un secretario y un presenta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65300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4.   Se plantea la siguiente pregunta: ¿ Cuales son a su juici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tres principales problemas de calidad en su nivel de atención?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544500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5.   Cada miembro escribe en silencio los problemas que considere má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importan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976-2A55-4C6C-B455-D932C075EF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26920" y="2492280"/>
            <a:ext cx="831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6.   El moderador recoge los problemas y los anota, luego p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senso se eligen todos los selecciona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14172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7.   Se clasifican si son de estructura, de organización, asistenciales 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ixt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645000"/>
            <a:ext cx="8317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8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ponderan individualmente de 1 a 5 (excepto los de estructura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4221000"/>
            <a:ext cx="831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.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moderador pregunta los puntajes, los que originan los 5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oblemas con mayor puntu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Técnica de Grupo nom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18B-31F9-4C53-B45A-CA485E7C83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Matriz decisio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421000"/>
            <a:ext cx="8317080" cy="5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la priorización de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141720"/>
            <a:ext cx="82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problemas definidos anteriormente son anotados en la matriz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cision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3789360"/>
            <a:ext cx="82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califican por : magnitud, trascendencia, vulnerabilidad y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actibilidad económ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508640"/>
            <a:ext cx="82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Todos los problemas deben ser analizados en forma vertical par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el peso relativo que tienen entre sí horizontalmen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EB6-A906-4238-9BED-3E68B87E1C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Matriz decisio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270828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Magnitu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cantidad, frecuencia, tamaño del proble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35772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Trascendencia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impacto en la salud de la pobl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93372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Vulnerabilida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posibilidad de resolución del problema por 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quipo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4653000"/>
            <a:ext cx="928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Factibilidad económica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posibilidad de resolución en relación a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sto, más barato , mayor es el puntaj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1DA-9C55-4914-BA2E-724AD40CAA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agrama de Pare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565360"/>
            <a:ext cx="6858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determinar el peso relativo de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335772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puntaje total de los 5 problemas será igual a 100 %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n función a esto se calculará la distribución  porcentual de cad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uno en relación al tot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414972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porcentajes de cada problema escritos en orden jerárquico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sí como los porcentajes acumulados se anotan en la tabl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486900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secretario (a) traspasa a una transparencia: el listado de problem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l grupo ( de estructura, organización,asistenciales o mixtos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9D3-F81E-4124-ABA3-D5555C3468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écnica de construcción de Causa- Efec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637000"/>
            <a:ext cx="8317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1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el problema en el diagra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21300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ediante lluvia de ideas ( no discusión de grupo), genere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que el grupo estima estarían produciendo el problema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No se debe criticar, sólo aclarar , sí es neces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400536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las ideas a medida que se van señalando en el papelógraf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50864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 la ayuda del monitor, categorice las causas, es decir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grúpelas las de un mismo origen. Recuerde que una caus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uede estar en más de una categorí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5373720"/>
            <a:ext cx="831708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5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las categorías definidas por el grupo en los rectángul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ralelos a la flecha central del diagra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EB2-C80B-40F6-BE60-0D26022FC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Técnica de construcción de Causa- Efec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99736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6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or acuerdo se traspasan las causas señaladas en la lluvia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ideas, asumiendo que son mayores. Sí el análisis determina qu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on causas menores se borran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378936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7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vise la redacción de las causas anotadas;recuerde que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son problemas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4508640"/>
            <a:ext cx="831708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8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inalmente y por consenso del grupo, marque con un asterisco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modificables, porque sobre la base de ellas, se construirá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criterios y estándares de evalu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D85-BD3D-43B8-82EF-2DEFB821CA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Casa Central Universidad de Ch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670-B37A-45BF-858D-BF8575333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agrama causa efecto de ISHIKAW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492280"/>
            <a:ext cx="1828800" cy="609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accesibil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2492280"/>
            <a:ext cx="2057400" cy="6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equ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492280"/>
            <a:ext cx="18288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Satisfa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usuari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5013360"/>
            <a:ext cx="18288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0" y="5013360"/>
            <a:ext cx="190512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Verdana"/>
              </a:rPr>
              <a:t>efectiv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5013360"/>
            <a:ext cx="17524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Verdana"/>
              </a:rPr>
              <a:t>eficie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720" y="2565360"/>
            <a:ext cx="914400" cy="3024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4076640"/>
            <a:ext cx="7031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213000"/>
            <a:ext cx="1274760" cy="70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213000"/>
            <a:ext cx="1351080" cy="63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3284640"/>
            <a:ext cx="1371600" cy="70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476360" y="4149720"/>
            <a:ext cx="114624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92360" y="4149720"/>
            <a:ext cx="122256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4149720"/>
            <a:ext cx="115272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FC0-D5FE-4C42-BDCB-1A85766B4C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 a incluir en una defini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50920" y="1868400"/>
          <a:ext cx="6667560" cy="10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868400"/>
                    <a:ext cx="6667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900000" y="2565360"/>
            <a:ext cx="769644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MENS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qu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atisfacción usuar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ectiv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icac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icienc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gur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portun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tinu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modidad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ivac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fidencial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2708280"/>
            <a:ext cx="914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708280"/>
            <a:ext cx="86508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2708280"/>
            <a:ext cx="1900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por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2708280"/>
            <a:ext cx="0" cy="3710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7236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6381720"/>
            <a:ext cx="7272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335772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3573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89360"/>
            <a:ext cx="734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4076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4292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4508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72428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5013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300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5516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573408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6021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17080" y="0"/>
            <a:ext cx="47592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83C-049B-4AC6-9D59-EB6C33DD2A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¿ Para qué se mide la calidad de atención 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2708280"/>
            <a:ext cx="8001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determinar dónde están los problem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357720"/>
            <a:ext cx="800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determinar dónde y cómo interveni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4076640"/>
            <a:ext cx="800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implementar soluciones a los problemas detec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79736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reforzar, mantener e incentivar aquellos aspect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ositiv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770-AC76-46CE-BE8E-994AD5D362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riterios de evalua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nguna evaluación de calidad de los servicios sería posible sin la existencia de criterios y estándar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r. Avedis Donabedi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461-2398-4862-A505-B5B05890C0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</a:t>
            </a: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Qué son los criterio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Son elementos predeterminados de la atención, que sirven para medir y comparar importantes aspectos de la calidad de un servicio. Son las herramientas con que se evalúa la calidad y en la práctica, son los requisitos de calidad que se establecen para los productos de un determinado proceso y que deben cumplirse necesariamente para que haya calidad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Se incorporan </a:t>
            </a: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concept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de :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Criterio de evalu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Requisito de ca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Estánd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9D8-14E7-469C-A67C-6C14E9AAA0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lasificación de los criterio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2492280"/>
            <a:ext cx="15843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Implíci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3716280"/>
            <a:ext cx="1656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xplíci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56000" y="2997360"/>
            <a:ext cx="136836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4360" y="2421000"/>
            <a:ext cx="45352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Empíric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basados en la práctica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toma como bueno lo más frecuen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422100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3500280"/>
            <a:ext cx="4967280" cy="1441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Normativ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según conocimiento científic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y experiencia profesional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Lo que debe hacerse, existir ou ocurri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76360" y="4724280"/>
            <a:ext cx="86364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5229360"/>
            <a:ext cx="3887640" cy="10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Transversale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se evalúa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Independientemente unos de otr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80360" y="4869000"/>
            <a:ext cx="576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5157720"/>
            <a:ext cx="4105080" cy="10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Longitudinales o secuenciale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Son listas de criter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encadenados entre s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4E6-4854-49DD-B70C-7CEDD72073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¿Cómo construir criterio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.      En el contexto de un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proyec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orientado a resolver un problema específ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e elabora un criterio, o criterios para las diferentes causas relacionadas como modificables en el proy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.       En relación a lo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productos esperado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de nuestra actividad Significa que se debe cambiar de actividad a produc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trol de embarazo 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Embarazada control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isita domiciliaria       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Familia visitada en domicil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ervisión al Equipo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Equipo supervis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724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508464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3640" y="537372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F4D-6425-436C-B084-A6DBFE6A12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onsideraciones en la elaboración de un criter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234936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l responsable: directivo, equipo de salu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328464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Lo que se quiere logra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22100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l tiempo: ….a partir de tal fecha, o …..a tal fech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235-B087-454B-9496-BCB1AAFA01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Verdana"/>
              </a:rPr>
              <a:t>Consideraciones en la determinación de un Estánd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a relevancia d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a gravedad d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os recursos dispon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Estándar es el grado de cumplimiento del criterio que se exige al equipo y se expresa en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l estándar se puede definir por etapas, por ejemp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l primer año será el 70%, para el segundo el 80% y así sucesivamente………….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139-2012-46F2-A38B-0CD9DE6E67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Verdana"/>
              </a:rPr>
              <a:t>Indicadores de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116000" y="2349000"/>
            <a:ext cx="74152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s una medida cuantitativa que sirve para: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Me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Valo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Compa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Contro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¿ Qué?.......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Actividades de gest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Prestación de servicios direc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De los sistemas de apoy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4076640"/>
            <a:ext cx="0" cy="57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18900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65A-76A5-4CAE-941A-2116B58426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202-4C70-49CA-8D16-455ABF697E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2492280"/>
            <a:ext cx="810288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Verdana"/>
              </a:rPr>
              <a:t>Centinela</a:t>
            </a:r>
            <a:r>
              <a:rPr b="1" lang="es-ES_tradnl" sz="1800" spc="-1" strike="noStrike">
                <a:solidFill>
                  <a:srgbClr val="660066"/>
                </a:solidFill>
                <a:latin typeface="Verdana"/>
              </a:rPr>
              <a:t>: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miden, identifican situaciones, hech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graves no deseables o que nunca deberían ocurri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j: Muerte matern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Muerte Infanti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cóle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infección por Clostridium Welchi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infección a Perfingen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hospitalizados que sufren caí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niños hospitalizados que sufren quemad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que fallecen por entrega de medicament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quivoc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de U.C.I que se autoextub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que reciben transfusión incompati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7B5-07E6-401A-AC01-A83C326F10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1989000"/>
            <a:ext cx="81532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Indicadores de estructura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cómo el sistema está organizado y equip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miten saber, sí los recursos están disponibles y organizados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al manera que faciliten la atención del usuario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miten Monitorear la 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Ej: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Recur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human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te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ecnologí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insum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recursos financier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437000"/>
            <a:ext cx="4572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structura Organizac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Organi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o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nual de organiz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nual de procedimien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Nor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Flujo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59160" y="2444760"/>
            <a:ext cx="45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2.   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Verdana"/>
              </a:rPr>
              <a:t>Indicadores tipo Tasa o Índi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F55-1416-4300-A417-EE2DDCB593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55400" y="549360"/>
            <a:ext cx="67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349360"/>
            <a:ext cx="7993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Indicadores de Proceso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Focalizan en el cómo la atención es prest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los pasos de un proceso de atención a un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si la atención que se otorgó fue apropi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j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as del programa maternal que recibió buen tra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fichas clínicas que consta de ............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prescripciones médicas de un programa,completas ,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acuerdo a la nor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hospitalizados en  UCI a los que se les realizó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diariamente prevención de escar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a ser intervenidos que conocen su diagnóstic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y tipo de intervención a que serán someti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CA0-0C6C-433E-A5D9-6678438511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26920" y="2421000"/>
            <a:ext cx="8610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Verdana"/>
              </a:rPr>
              <a:t>Indicadores de resultado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la efectividad de la atención, el grado en que la aten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otorgado al usuario produjo el efecto dese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ueden reflejar resultados deseados o advers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on los indicadores más utilizados en el sistema tradicion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j 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Tasa de infecciones intrahospitalari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cobertura del programa X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rechazos de consulta tipo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muestras de Papanicolau rechazad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Interconsultas cursadas de acuerdo a la nor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Exámenes de laboratorio mal rotula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8260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134136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A8E-DAA0-4122-891F-F711743D4B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dicad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26920" y="2565360"/>
            <a:ext cx="76932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Se pueden expresar 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Números absoluto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Nº de X profes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Razone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Nº camas/10.000 habita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Porcentaje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% de camas en u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Dicotómico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Si - 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B4A-04C6-4730-83A4-EC2172D884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Elaboración de criterios para un produc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3068640"/>
          <a:ext cx="7693200" cy="3303720"/>
        </p:xfrm>
        <a:graphic>
          <a:graphicData uri="http://schemas.openxmlformats.org/drawingml/2006/table">
            <a:tbl>
              <a:tblPr/>
              <a:tblGrid>
                <a:gridCol w="1651320"/>
                <a:gridCol w="1509480"/>
                <a:gridCol w="1511280"/>
                <a:gridCol w="1511280"/>
                <a:gridCol w="1509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) Proveedo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) Requisitos de calid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d) Criterios evaluació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stánd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Matron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mbarazada atendi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uen trato a la embaraza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 toda embarazada atendida se le habrá dado buen 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0%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f) Tipo de dat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g) Excepci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h) Aclaraci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i) Indicado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sultad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o ha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e entiende por buen trato a…………………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% de embarazadas que recibió buen 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755640" y="2349360"/>
            <a:ext cx="7777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grama , Unidad o Servicio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………………………………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98E-552B-4527-BAC1-F599751FFD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163600" y="834840"/>
            <a:ext cx="5166000" cy="2752560"/>
            <a:chOff x="2163600" y="834840"/>
            <a:chExt cx="5166000" cy="2752560"/>
          </a:xfrm>
        </p:grpSpPr>
        <p:sp>
          <p:nvSpPr>
            <p:cNvPr id="333" name="_s119816"/>
            <p:cNvSpPr/>
            <p:nvPr/>
          </p:nvSpPr>
          <p:spPr>
            <a:xfrm>
              <a:off x="4048200" y="1323720"/>
              <a:ext cx="1396800" cy="13968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_s119817"/>
            <p:cNvSpPr/>
            <p:nvPr/>
          </p:nvSpPr>
          <p:spPr>
            <a:xfrm>
              <a:off x="4048200" y="834840"/>
              <a:ext cx="1396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_s119818"/>
            <p:cNvSpPr/>
            <p:nvPr/>
          </p:nvSpPr>
          <p:spPr>
            <a:xfrm>
              <a:off x="4508640" y="2120760"/>
              <a:ext cx="1396800" cy="1396800"/>
            </a:xfrm>
            <a:prstGeom prst="ellipse">
              <a:avLst/>
            </a:prstGeom>
            <a:solidFill>
              <a:srgbClr val="0000ff">
                <a:alpha val="7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_s119819"/>
            <p:cNvSpPr/>
            <p:nvPr/>
          </p:nvSpPr>
          <p:spPr>
            <a:xfrm>
              <a:off x="5932440" y="3238560"/>
              <a:ext cx="139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_s119820"/>
            <p:cNvSpPr/>
            <p:nvPr/>
          </p:nvSpPr>
          <p:spPr>
            <a:xfrm>
              <a:off x="3587760" y="2120760"/>
              <a:ext cx="1396800" cy="1396800"/>
            </a:xfrm>
            <a:prstGeom prst="ellipse">
              <a:avLst/>
            </a:prstGeom>
            <a:solidFill>
              <a:srgbClr val="ff6600">
                <a:alpha val="71000"/>
              </a:srgbClr>
            </a:soli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_s119821"/>
            <p:cNvSpPr/>
            <p:nvPr/>
          </p:nvSpPr>
          <p:spPr>
            <a:xfrm>
              <a:off x="2163600" y="3238560"/>
              <a:ext cx="139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278-7A97-4216-B5A7-7F74435B28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71640" y="2492280"/>
          <a:ext cx="3192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3192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835280" y="422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ISO 9000:20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658-647E-4FEF-A504-3ABC3F0AA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¿ Qué es la calidad de la atención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la provisión de Servicios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Accesib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Equitativ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con un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nivel profesional óptim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on los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recursos disponib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logrando la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adhesión y satisfacció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l usu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ra Healther Pal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005-2A12-485F-B81C-386FAEE36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Modelo Europeo: Excel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rmas ISO (Organización Internacional de estandarización) 9000: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429000"/>
            <a:ext cx="374508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Criterios como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age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iderazgo 10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ersonas  9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lítica y Estrategia  8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lianzas y Recursos  9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cesos  14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3429000"/>
            <a:ext cx="36720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Criterios como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resul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as personas 9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os clientes 20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a sociedad 6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clave de la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rganización  5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612-EA19-488B-B22D-91788D9FD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7664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Accesibil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facilidad con la cual el usuario exter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(cliente) obtiene los servicios que le ofrece el Sistema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14172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qu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entrega de Servicios de Salud a la comun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onsiderando los desequilibrios de necesidades entr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Usuarios del Siste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149720"/>
            <a:ext cx="8388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mpetencia profesional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capacidad de los integrant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Equipo de Salud para utilizar sus conocimientos, habilidades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strezas y su juicio para dar salud y satisfacción al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22936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Satisfacción Usuaria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el cumplimiento o no cumplimient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or parte del Sistema de Salud respecto de las expectativ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08B-F1FC-4863-BF5F-801DC0069D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565360"/>
            <a:ext cx="7853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ectivida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es lograr el mejor resultado con los recursos de l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que se dispon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57336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iciencia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torgar el mayor beneficio posible,al menor cos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azona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6530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icacia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medida en que una determinada atención mejora 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tado de salud del que la recibe en condiciones ideales de uso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ecnologí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EB5-FF7C-4A1B-BBC9-FDCFB0172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492280"/>
            <a:ext cx="853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Segur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eliminación o reducción de riesgos, acciden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Infecciones y, o efectos perjudiciales vinculados a l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estación de Servicios de Salud, tanto para el usuario com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ara el provee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645000"/>
            <a:ext cx="8532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Oportun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prestación de Servicios, en condicion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Adecuadas, cuando el usuario lo requiera y no cuando 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quipo quiera o pue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508640"/>
            <a:ext cx="85327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ntinu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atención del usuario como un todo en u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istema integrado, en la dimensión de la calidad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ientífico-técnica (atención permanente, sin interrup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ntro del sistema y a lo largo del ciclo de vida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5B1-8910-47AE-BB0D-9873852F36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18:52:11Z</dcterms:created>
  <dc:creator>sandra</dc:creator>
  <dc:description/>
  <dc:language>en-US</dc:language>
  <cp:lastModifiedBy>Fac. de Medicina</cp:lastModifiedBy>
  <dcterms:modified xsi:type="dcterms:W3CDTF">2007-07-26T21:23:07Z</dcterms:modified>
  <cp:revision>25</cp:revision>
  <dc:subject/>
  <dc:title>Problemas de calidad</dc:title>
</cp:coreProperties>
</file>